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8903-B7EE-4DCC-9E2E-49F4EB3D8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BF10-FC87-4541-B31E-7C157FC6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6E5B-E7FD-42B1-9DEE-3D62E18DD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97CD-DCF0-4C48-9C6F-68A3CBDCA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3341-93CB-49C7-883B-DCBCAE5F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C423-8635-4105-957D-4AE344D0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AF05-56A1-45AE-A6BB-8D79C5F3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AC8D-98EA-48BA-8B63-A8913FC8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C507-28C0-4DF2-8BD6-CD2D24B9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190B-CDF3-4B0D-B23B-2D02369C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6AD2-7FAB-45CB-87CC-BD963FC5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3DE2-FCAD-40A0-8670-F824130A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FC8F-1282-425C-9FE8-2C3003DA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56E2-8A8E-4635-AA79-7F244DB5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A418-0853-47A6-BF82-3A8D8483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B744-394B-4437-8134-3DACCC978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4FA8-20A3-45DC-AAEE-CCF9034DF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84C5-7120-486A-A7EB-1CFB4A22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D16F-7CBA-4E3A-808D-433E0031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892B-1525-43C0-8F78-0F216397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9DE9-CE19-4116-9869-3DAC4031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988A-7CBC-47A6-8AB8-1690F721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1162-C5F4-431A-8FF6-5D550366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DB23-651D-42A7-B5AE-E3D7148B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04AF-4BD6-4B82-AB71-8F6F3BDDF787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CCC5-E175-4044-93A0-DE799498A44B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7d47d"/>
                </a:solidFill>
                <a:latin typeface="Arial"/>
              </a:rPr>
              <a:t>Золотая осень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36360"/>
            <a:ext cx="3276720" cy="2457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195640" y="1844640"/>
            <a:ext cx="3671640" cy="34066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5943600" y="2590920"/>
            <a:ext cx="3200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00400" cy="42670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203640" y="2401920"/>
            <a:ext cx="59403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8920" cy="3375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635280" y="2727360"/>
            <a:ext cx="550872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407880"/>
            <a:ext cx="3203640" cy="24447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0" y="3213000"/>
            <a:ext cx="4716360" cy="3537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5025960" y="836640"/>
            <a:ext cx="411804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84560" cy="5445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446720" y="765000"/>
            <a:ext cx="433368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4T15:25:00Z</dcterms:created>
  <dc:creator>User</dc:creator>
  <dc:description/>
  <dc:language>en-US</dc:language>
  <cp:lastModifiedBy>User</cp:lastModifiedBy>
  <dcterms:modified xsi:type="dcterms:W3CDTF">2015-01-04T15:27:37Z</dcterms:modified>
  <cp:revision>1</cp:revision>
  <dc:subject/>
  <dc:title>Золотая осень </dc:title>
</cp:coreProperties>
</file>