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811D-BC53-462F-90ED-18BE46448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E07D-C79C-45F1-8006-4FA6D43AB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B656-BCF0-44D1-AE6B-C5E4521F8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26C3-9A43-47AC-A896-D806736E4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6B95A-DD4E-49D8-A973-9D5FE686D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F3F36-EA44-41E0-91D3-B721EA92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18EEB-D781-4BE3-B5C6-A5EEDB1DD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C353B-3750-4229-B88C-B97E83809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5C548-94F5-4AA4-9FE7-2D1A446BE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D2D36-3481-4379-93EE-F01C72FF7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B17AD-8508-4E89-A3A5-7B2A90F9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9E44-0717-4A7C-8693-93FE0E5CC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AA7C9-6B08-44BE-8C5D-FB549983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870F2-06AD-4B24-9E0B-CFB2EE67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83B3F-B484-4FF7-AE40-3478C4544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FB835-6F10-4193-A8E9-EC306DF75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74C97-9CBD-42C8-8D40-537CD32A6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90E4-8430-438E-B57B-C1A41DA3B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9601-AB8D-4EC5-BE72-8F7C9CBA4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A6A9-BBCA-4D27-BB7A-EFA5B2E29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DC89-AE2A-48AD-8F11-B4A42B913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EC0D-AE2C-4F1C-92C7-E5D07D18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CC93-0A6C-41B6-823B-1AB4E756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5A1A-D13E-4E10-84C7-43439812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AFE53-B42D-4298-AB7F-C34950F532FA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CC9CB-0C25-4BF7-9CAF-E8F23DFB4782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7d47d"/>
                </a:solidFill>
                <a:latin typeface="Arial"/>
              </a:rPr>
              <a:t>Золотая осень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36360"/>
            <a:ext cx="3276720" cy="24577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195640" y="1844640"/>
            <a:ext cx="3671640" cy="34066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5943600" y="2590920"/>
            <a:ext cx="32004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200400" cy="42670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3203640" y="2401920"/>
            <a:ext cx="594036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98920" cy="3375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3635280" y="2727360"/>
            <a:ext cx="550872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407880"/>
            <a:ext cx="3203640" cy="24447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0" y="3213000"/>
            <a:ext cx="4716360" cy="35370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5025960" y="836640"/>
            <a:ext cx="4118040" cy="54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84560" cy="54450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4446720" y="765000"/>
            <a:ext cx="4333680" cy="57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4T15:25:00Z</dcterms:created>
  <dc:creator>User</dc:creator>
  <dc:description/>
  <dc:language>en-US</dc:language>
  <cp:lastModifiedBy>User</cp:lastModifiedBy>
  <dcterms:modified xsi:type="dcterms:W3CDTF">2015-01-04T15:27:37Z</dcterms:modified>
  <cp:revision>1</cp:revision>
  <dc:subject/>
  <dc:title>Золотая осень </dc:title>
</cp:coreProperties>
</file>