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9.png" ContentType="image/png"/>
  <Override PartName="/ppt/media/image18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34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23.gif" ContentType="image/gif"/>
  <Override PartName="/ppt/media/image16.png" ContentType="image/png"/>
  <Override PartName="/ppt/media/image27.jpeg" ContentType="image/jpeg"/>
  <Override PartName="/ppt/media/image1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A55A-8860-4784-9372-406A3BA303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3775-B836-4088-810D-B969FC3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A962-5434-4ABF-8BCC-E4246DC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B3D9-FC7E-4022-AEEB-E54B57BFE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B70B-2FDD-478A-AA3A-C87CCAB97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E2F61-49B2-460F-8E4A-0246191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6A4F-7E5B-4151-B1A8-BE77F0F2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7A2FC-C465-4BD8-9DC6-6B45E1D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499F4-DBC3-4752-BB20-28F85E5E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A915-B2DD-4F25-8275-19616779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6B3C9-C2D9-428F-9028-50C7F9FC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FBD8-6EBD-4360-9629-A2F8722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CB4EA-6E4B-401C-BAD9-256384F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9129A-5DF2-4992-8C7F-84802B4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0ADB4-E8A3-42A2-8543-62CC8C4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1325-B3EF-411C-987C-3F045D49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2B290-B165-45DD-8089-AD7BE664D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E632-CF8F-47D1-B853-2425D3180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CBB-2C3B-44BF-B580-DCE877C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C800-0850-4160-AE8E-A355EAD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9852-7865-498A-8771-D89DE7E3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8C36-F09D-4CE0-9E95-00F23ED0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E219-D9E4-4DE1-AA1D-3B6FCC0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CE93-6A9D-4985-AAF8-B5FA6ED1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AE7-B043-42A0-B333-3CCD9A6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CA95-CEDE-4A77-89FD-BB3944FA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CCA-17DC-442F-9F42-BFA6CD1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17CA-2B6E-4B5C-9949-3292EC5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BF4-81DD-405A-9AA2-64EF024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7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18840" y="42984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8C4E-E4F3-42A8-8B49-292B7C7F9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2E4C-BB37-4097-B9D2-FEB39BE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256A-CF7D-4401-9B0C-684618F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5DBB-2ABB-43C0-8484-CD842C91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FA44-D80D-46A2-AFE6-14F16CC8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984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03C7-05E5-4CC9-B693-770713A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984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FC21-2EB8-4C15-BD6E-622AB1A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8FD10F1-A999-407F-9D48-2EF857AE8328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00CCB8-260D-4D3D-80D1-83314FC7DF2D}" type="slidenum">
              <a:rPr b="0" lang="ru-RU" sz="1200" spc="-1" strike="noStrike">
                <a:solidFill>
                  <a:srgbClr val="d1eaee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 rot="420000">
            <a:off x="3164040" y="110556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-9000" y="58122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81560" y="62157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B1377-6846-482B-9917-0117784E74BC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857680"/>
            <a:ext cx="3000240" cy="4000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86080" y="3286080"/>
            <a:ext cx="58579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Выполнили: учащиеся  8-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Шевченко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Ивашкин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Лое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Руководитель: Селезнёва Г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00680" y="5929200"/>
            <a:ext cx="4687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ТОГБОУ «Инжавинская специальная (коррекционная) общеобразовательная школа -интерн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79640" y="588960"/>
            <a:ext cx="6119640" cy="2290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Inverted">
              <a:avLst>
                <a:gd name="adj" fmla="val 6869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Winterfeste in Deutschland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040" y="0"/>
            <a:ext cx="86439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4617b"/>
                </a:solidFill>
                <a:latin typeface="Calibri"/>
                <a:ea typeface="Arial Unicode MS"/>
              </a:rPr>
              <a:t>Christus Geb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2857320" cy="32288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896560" y="797040"/>
            <a:ext cx="6258960" cy="4917960"/>
            <a:chOff x="2896560" y="797040"/>
            <a:chExt cx="6258960" cy="491796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133800" y="1133640"/>
              <a:ext cx="5784840" cy="42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420000">
              <a:off x="3133440" y="1133640"/>
              <a:ext cx="5784840" cy="42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85840" y="5643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eses christliche Fest gefeiert wir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                                                  24, 25. und 26. Dez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8cab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00720" y="704880"/>
            <a:ext cx="4186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04617b"/>
                </a:solidFill>
                <a:latin typeface="Calibri"/>
                <a:ea typeface="Arial Unicode MS"/>
              </a:rPr>
              <a:t>Erscheinen der ersten Weihnachtsbäume gekleidet war im Jahr 1605 aufgenom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4286160" cy="6143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357720" y="357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601 -0.00347 L 0.54601 -0.00347 E">
                                      <p:cBhvr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00040" y="26352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Das Neujah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120" y="1071720"/>
            <a:ext cx="8229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ben in Deutschland das neue Jahr feiern - Familien und Freunden feiern, Feste und Nacht feyver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72040" y="2357280"/>
            <a:ext cx="3809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8cab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57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Ihre schönsten Silvester in Deutschland - ist natürlich, Berl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00040" y="1571760"/>
            <a:ext cx="7929720" cy="4929120"/>
            <a:chOff x="500040" y="1571760"/>
            <a:chExt cx="7929720" cy="492912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929720" cy="49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1571760"/>
              <a:ext cx="792972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4500720" cy="4071960"/>
            <a:chOff x="0" y="0"/>
            <a:chExt cx="4500720" cy="407196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7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0"/>
              <a:ext cx="450072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4214880" cy="4000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28760" y="5348160"/>
            <a:ext cx="84294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53880" y="-6480"/>
            <a:ext cx="8313840" cy="1298880"/>
            <a:chOff x="353880" y="-6480"/>
            <a:chExt cx="8313840" cy="12988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313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53880" y="-6480"/>
              <a:ext cx="831384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500880" y="21430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6215040" cy="5143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643800" y="2286000"/>
            <a:ext cx="214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Baden-Württemberg und Bayern,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 6. Januar gefeiert wir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raykenigstag-Drei Kön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-6480" y="-122400"/>
            <a:ext cx="9156960" cy="1554480"/>
            <a:chOff x="-6480" y="-122400"/>
            <a:chExt cx="9156960" cy="15544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-6480" y="-122400"/>
              <a:ext cx="915696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-6480" y="-122400"/>
              <a:ext cx="9156960" cy="15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125960" cy="4091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0" y="2214720"/>
            <a:ext cx="4286160" cy="43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1680" y="535788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5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6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9fa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428920"/>
            <a:ext cx="4857840" cy="4000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713120" y="1357200"/>
            <a:ext cx="4430880" cy="4000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004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ganz Deutschland sind Winterfest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egen Sie links in den großen Städten 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    massive Karne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39680" y="281160"/>
            <a:ext cx="4335480" cy="2011320"/>
            <a:chOff x="139680" y="281160"/>
            <a:chExt cx="4335480" cy="20113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139680" y="281160"/>
              <a:ext cx="4335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9680" y="281160"/>
              <a:ext cx="43354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2657520"/>
            <a:ext cx="5715000" cy="4200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6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929200" y="3786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198 0.70787 C 0.75052 0.74236 0.93021 0.85347 0.92378 0.86991 C 0.91736 0.88634 0.69601 0.79838 0.67378 0.80625 C 0.65156 0.81412 0.75347 0.89676 0.79045 0.91736 C 0.82743 0.93796 0.87274 0.92847 0.89531 0.93009 C 0.91788 0.93171 0.92188 0.97894 0.92622 0.92708 C 0.93056 0.87523 0.95833 0.66343 0.92135 0.61898 C 0.88438 0.57454 0.74323 0.66157 0.70469 0.66042 C 0.66615 0.65926 0.69236 0.61227 0.69045 0.61273 C 0.68854 0.61319 0.69045 0.64907 0.69288 0.66343 C 0.69531 0.67778 0.67344 0.67338 0.71198 0.70787 Z">
                                      <p:cBhvr>
                                        <p:cTn id="7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79 E">
                                      <p:cBhvr>
                                        <p:cTn id="7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04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86000" y="571500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28920" y="1071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Unterkünfte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uch in Deutschland, der Liebe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als wir h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e3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Цели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20" y="2143080"/>
            <a:ext cx="850104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Формирование ключевых компетенций (знание и умения мобилизовать их в необходимой ситу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познавательного 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Воспитание интереса к стране изучаемого языка, праздникам Германии, обычаям  и традициям их празд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25 E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Проблемы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935000"/>
            <a:ext cx="9144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оект направлен на сбор информации с целью ее анализа,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Сбор дополнительной информации о зимних праздниках Герм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оект нацелен на расширение язык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Мотивация к работе основывалась на интересе к данной теме, возможности больше узнать об обычаях немецкого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2303e"/>
                </a:solidFill>
                <a:latin typeface="Calibri"/>
                <a:ea typeface="Arial Unicode MS"/>
              </a:rPr>
              <a:t>Задачи проект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35000"/>
            <a:ext cx="9144000" cy="438948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Самостоятельное приобретение н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умений формулировать мысль на немецком языке, грамматически правильно оформля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Приобщение  к полез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Развитие творческих  способностей, эстетического вкуса, познавательного интер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8760" y="571680"/>
            <a:ext cx="8229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Arial Unicode MS"/>
              </a:rPr>
              <a:t>Die fünfte Jahreszeit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4960" y="2143080"/>
            <a:ext cx="34718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11 Anzahl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  11 Monat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11.00 11 Minuten in Deutschland kommt die Saison der Weihnacht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786560" cy="464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4400" y="7308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 </a:t>
            </a: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Und Bettag Da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m Jahre 1532 den Ausbruch des Krieges mit der Türkei in Straßburg evangelischen Kirchen haben am ersten Tag des Gebetes und der Buße gemacht.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eitdem alle Protestanten an diesem Tag - denkwürdiger Tag, dass am ersten Mittwoch fällt nach 08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561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700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Arial Unicode MS"/>
              </a:rPr>
              <a:t>Weihnachtsmarkt in Nürnber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Fair arbeitet seit fast einem Monat - vom 28. November bis 24. Dez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4040" y="2787480"/>
            <a:ext cx="4286520" cy="378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86200" y="2786040"/>
            <a:ext cx="4000680" cy="3786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1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5840" y="557280"/>
            <a:ext cx="27860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4617b"/>
                </a:solidFill>
                <a:latin typeface="Calibri"/>
                <a:ea typeface="Arial Unicode MS"/>
              </a:rPr>
              <a:t>St. Nikolaus Tag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806920" y="674640"/>
            <a:ext cx="6100560" cy="5159520"/>
            <a:chOff x="2806920" y="674640"/>
            <a:chExt cx="6100560" cy="5159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060720" y="998640"/>
              <a:ext cx="559260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420000">
              <a:off x="3060720" y="998280"/>
              <a:ext cx="5592600" cy="45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86120" y="5715000"/>
            <a:ext cx="561960" cy="85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143080"/>
            <a:ext cx="2928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nkt Nikolaus - Patron der Kinder und Studenten. Day St. Nikolaus traditionell am 6. Dezember gefe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5f8"/>
            </a:gs>
            <a:gs pos="100000">
              <a:srgbClr val="c8e3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8760" y="244440"/>
            <a:ext cx="42577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72428"/>
                </a:solidFill>
                <a:latin typeface="Calibri"/>
                <a:ea typeface="Arial Unicode MS"/>
              </a:rPr>
              <a:t>In Sapozhok der Nacht vor dem Tag des St. Nikolaus Beutel Leckerei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1680" y="3143160"/>
            <a:ext cx="4038480" cy="3422880"/>
            <a:chOff x="571680" y="3143160"/>
            <a:chExt cx="4038480" cy="3422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71680" y="3143160"/>
              <a:ext cx="403848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1680" y="3143160"/>
              <a:ext cx="4038480" cy="34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7840" y="285840"/>
            <a:ext cx="4000320" cy="4214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15040" y="5286240"/>
            <a:ext cx="5619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0:36:41Z</dcterms:created>
  <dc:creator>Admin</dc:creator>
  <dc:description/>
  <dc:language>en-US</dc:language>
  <cp:lastModifiedBy/>
  <dcterms:modified xsi:type="dcterms:W3CDTF">2015-02-09T12:04:27Z</dcterms:modified>
  <cp:revision>30</cp:revision>
  <dc:subject/>
  <dc:title>МОУ СОШ № 31 Проектно-исследовательская работа по теме  «Die Winterfeste in Deutschland» </dc:title>
</cp:coreProperties>
</file>