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9.png" ContentType="image/png"/>
  <Override PartName="/ppt/media/image18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34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23.gif" ContentType="image/gif"/>
  <Override PartName="/ppt/media/image16.png" ContentType="image/png"/>
  <Override PartName="/ppt/media/image27.jpeg" ContentType="image/jpeg"/>
  <Override PartName="/ppt/media/image1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AFC1-89B0-408C-8CBA-4B7562AC6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EFC8-1C13-4FFF-B72D-CE061C1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DB75-BC44-44E5-BCBA-DBA966E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E99F-461B-4571-9009-D1EF6E993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70624-1D65-4790-B3CE-C9FBBC96D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21F8C-10CA-4F69-A7F9-8627AC82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66DA-A556-41EE-A5F9-6F2220C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A124-6A24-46D7-B690-05D5663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35C8D-3EF8-42FE-BBE5-A28C9235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5257D-D2DA-4FE9-B580-6FE0C9D3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80EF7-6B2E-432A-96A3-41AF2C6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C47C-B00D-4E8E-A675-56A084D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2E69-9F42-4134-B7A6-28E6D7FA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25CE-3E3F-44F9-B6FC-A134813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4B6A8-4E63-4521-B911-D04A9CC8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40067-C139-481A-9C3A-D721A61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97B41-7CE4-42B5-AE6F-FD1CDF881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5A1-F330-48C0-9FEB-075B19796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B91E-C808-4672-8AE1-BF1891B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64F-9EE1-425E-9AC9-21CE6ED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12B-B48F-40E1-9726-CDD6838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BDA-844C-415F-979B-D1EEAE1C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D9F0-E21C-41C5-88BA-8A057DC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A01F-BBCE-4DEC-A9F0-15FD4F88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7C3-C051-4B22-8B38-EAFAF496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CD6-7CC1-4EEF-BB78-5C5CD50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ADBA-19BC-418E-83D2-8F6566A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4795-49D2-49E0-82F7-10BE860E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97A6-9E4A-48D4-8CDC-6802A76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70E1-22B1-41CB-BA11-3479BD7B6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289C-D15D-479E-868B-4CA690B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5CB5-4B5A-4C79-8EB7-40C9946B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714F-8BFD-474E-8FF5-14761326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33F3-9DD6-4B0C-BD1C-808F78AC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5977-FEFA-455C-9D93-6DD0943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0A3C-3F6F-44E0-A51E-A69668D1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7E2A12-A6B0-4A0D-ADD7-CCE886A59B3E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903D6B5-2E57-4B48-8914-AAA62F6BF059}" type="slidenum"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 rot="420000">
            <a:off x="3164040" y="110556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-9000" y="58122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81560" y="62157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05B5B1-AFE2-4C7F-9C27-A95867A6A253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857680"/>
            <a:ext cx="3000240" cy="4000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86080" y="3286080"/>
            <a:ext cx="58579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Выполнили: учащиеся  8-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Шевченко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Ивашкин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Лое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Руководитель: Селезнёва Г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00680" y="5929200"/>
            <a:ext cx="4687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ТОГБОУ «Инжавинская специальная (коррекционная) общеобразовательная школа -интерн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79640" y="588960"/>
            <a:ext cx="6119640" cy="2290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6869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Winterfeste in Deutschland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040" y="0"/>
            <a:ext cx="86439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4617b"/>
                </a:solidFill>
                <a:latin typeface="Calibri"/>
                <a:ea typeface="Arial Unicode MS"/>
              </a:rPr>
              <a:t>Christus Geb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2857320" cy="32288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896560" y="797040"/>
            <a:ext cx="6258960" cy="4917960"/>
            <a:chOff x="2896560" y="797040"/>
            <a:chExt cx="6258960" cy="491796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133800" y="1133640"/>
              <a:ext cx="5784840" cy="42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420000">
              <a:off x="3133440" y="1133640"/>
              <a:ext cx="5784840" cy="42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85840" y="5643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eses christliche Fest gefeiert wir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                                                  24, 25. und 26. Dez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8cab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00720" y="704880"/>
            <a:ext cx="4186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  <a:ea typeface="Arial Unicode MS"/>
              </a:rPr>
              <a:t>Erscheinen der ersten Weihnachtsbäume gekleidet war im Jahr 1605 aufgen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4286160" cy="6143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357720" y="357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601 -0.00347 L 0.54601 -0.00347 E">
                                      <p:cBhvr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00040" y="26352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Das Neujah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120" y="1071720"/>
            <a:ext cx="8229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ben in Deutschland das neue Jahr feiern - Familien und Freunden feiern, Feste und Nacht feyver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72040" y="2357280"/>
            <a:ext cx="3809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8cab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57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Ihre schönsten Silvester in Deutschland - ist natürlich, Ber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00040" y="1571760"/>
            <a:ext cx="7929720" cy="4929120"/>
            <a:chOff x="500040" y="1571760"/>
            <a:chExt cx="7929720" cy="492912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929720" cy="49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1571760"/>
              <a:ext cx="792972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4500720" cy="4071960"/>
            <a:chOff x="0" y="0"/>
            <a:chExt cx="4500720" cy="407196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7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0"/>
              <a:ext cx="450072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4214880" cy="4000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28760" y="5348160"/>
            <a:ext cx="84294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53880" y="-6480"/>
            <a:ext cx="8313840" cy="1298880"/>
            <a:chOff x="353880" y="-6480"/>
            <a:chExt cx="8313840" cy="12988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313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3880" y="-6480"/>
              <a:ext cx="831384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500880" y="21430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6215040" cy="5143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643800" y="2286000"/>
            <a:ext cx="214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Baden-Württemberg und Bayern,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 6. Januar gefeiert wir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raykenigstag-Drei Kön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-6480" y="-122400"/>
            <a:ext cx="9156960" cy="1554480"/>
            <a:chOff x="-6480" y="-122400"/>
            <a:chExt cx="9156960" cy="15544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-6480" y="-122400"/>
              <a:ext cx="915696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-6480" y="-122400"/>
              <a:ext cx="9156960" cy="15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125960" cy="4091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0" y="2214720"/>
            <a:ext cx="4286160" cy="43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1680" y="535788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5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6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428920"/>
            <a:ext cx="4857840" cy="4000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713120" y="1357200"/>
            <a:ext cx="4430880" cy="4000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004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ganz Deutschland sind Winterfest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egen Sie links in den großen Städten 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    massive Karne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39680" y="281160"/>
            <a:ext cx="4335480" cy="2011320"/>
            <a:chOff x="139680" y="281160"/>
            <a:chExt cx="4335480" cy="20113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39680" y="281160"/>
              <a:ext cx="4335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9680" y="281160"/>
              <a:ext cx="43354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2657520"/>
            <a:ext cx="5715000" cy="4200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929200" y="3786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198 0.70787 C 0.75052 0.74236 0.93021 0.85347 0.92378 0.86991 C 0.91736 0.88634 0.69601 0.79838 0.67378 0.80625 C 0.65156 0.81412 0.75347 0.89676 0.79045 0.91736 C 0.82743 0.93796 0.87274 0.92847 0.89531 0.93009 C 0.91788 0.93171 0.92188 0.97894 0.92622 0.92708 C 0.93056 0.87523 0.95833 0.66343 0.92135 0.61898 C 0.88438 0.57454 0.74323 0.66157 0.70469 0.66042 C 0.66615 0.65926 0.69236 0.61227 0.69045 0.61273 C 0.68854 0.61319 0.69045 0.64907 0.69288 0.66343 C 0.69531 0.67778 0.67344 0.67338 0.71198 0.70787 Z">
                                      <p:cBhvr>
                                        <p:cTn id="7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79 E">
                                      <p:cBhvr>
                                        <p:cTn id="7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86000" y="571500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28920" y="1071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Unterkünfte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uch in Deutschland, der Liebe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ls wir h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e3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Цели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20" y="2143080"/>
            <a:ext cx="850104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Формирование ключевых компетенций (знание и умения мобилизовать их в необходимой ситу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познавательного 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Воспитание интереса к стране изучаемого языка, праздникам Германии, обычаям  и традициям их празд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25 E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Проблемы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935000"/>
            <a:ext cx="9144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оект направлен на сбор информации с целью ее анализа,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Сбор дополнительной информации о зимних праздниках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оект нацелен на расширение язык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Мотивация к работе основывалась на интересе к данной теме, возможности больше узнать об обычаях немецко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2303e"/>
                </a:solidFill>
                <a:latin typeface="Calibri"/>
                <a:ea typeface="Arial Unicode MS"/>
              </a:rPr>
              <a:t>Задачи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35000"/>
            <a:ext cx="9144000" cy="438948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Самостоятельное приобретение н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умений формулировать мысль на немецком языке, грамматически правильно оформля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иобщение  к полез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творческих  способностей, эстетического вкуса, познавательного 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8760" y="571680"/>
            <a:ext cx="82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Die fünfte Jahreszeit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4960" y="2143080"/>
            <a:ext cx="34718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11 Anzahl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  11 Monat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11.00 11 Minuten in Deutschland kommt die Saison der Weihnacht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786560" cy="464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7308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 </a:t>
            </a: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Und Bettag Da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m Jahre 1532 den Ausbruch des Krieges mit der Türkei in Straßburg evangelischen Kirchen haben am ersten Tag des Gebetes und der Buße gemacht.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eitdem alle Protestanten an diesem Tag - denkwürdiger Tag, dass am ersten Mittwoch fällt nach 08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700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Weihnachtsmarkt in Nürnber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Fair arbeitet seit fast einem Monat - vom 28. November bis 24. Dez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4040" y="2787480"/>
            <a:ext cx="4286520" cy="378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86200" y="2786040"/>
            <a:ext cx="4000680" cy="3786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5840" y="557280"/>
            <a:ext cx="2786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4617b"/>
                </a:solidFill>
                <a:latin typeface="Calibri"/>
                <a:ea typeface="Arial Unicode MS"/>
              </a:rPr>
              <a:t>St. Nikolaus Tag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06920" y="674640"/>
            <a:ext cx="6100560" cy="5159520"/>
            <a:chOff x="2806920" y="674640"/>
            <a:chExt cx="6100560" cy="5159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060720" y="998640"/>
              <a:ext cx="559260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420000">
              <a:off x="3060720" y="998280"/>
              <a:ext cx="5592600" cy="45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86120" y="571500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143080"/>
            <a:ext cx="2928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nkt Nikolaus - Patron der Kinder und Studenten. Day St. Nikolaus traditionell am 6. Dezember gefe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8760" y="244440"/>
            <a:ext cx="42577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72428"/>
                </a:solidFill>
                <a:latin typeface="Calibri"/>
                <a:ea typeface="Arial Unicode MS"/>
              </a:rPr>
              <a:t>In Sapozhok der Nacht vor dem Tag des St. Nikolaus Beutel Leckerei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1680" y="3143160"/>
            <a:ext cx="4038480" cy="3422880"/>
            <a:chOff x="571680" y="3143160"/>
            <a:chExt cx="4038480" cy="3422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71680" y="3143160"/>
              <a:ext cx="403848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1680" y="3143160"/>
              <a:ext cx="4038480" cy="34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7840" y="285840"/>
            <a:ext cx="4000320" cy="4214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15040" y="5286240"/>
            <a:ext cx="5619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0:36:41Z</dcterms:created>
  <dc:creator>Admin</dc:creator>
  <dc:description/>
  <dc:language>en-US</dc:language>
  <cp:lastModifiedBy/>
  <dcterms:modified xsi:type="dcterms:W3CDTF">2015-02-09T12:04:27Z</dcterms:modified>
  <cp:revision>30</cp:revision>
  <dc:subject/>
  <dc:title>МОУ СОШ № 31 Проектно-исследовательская работа по теме  «Die Winterfeste in Deutschland» </dc:title>
</cp:coreProperties>
</file>