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move the slide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F40B-A1C6-48B8-84DE-79295C7F40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Ребенок имеет право на жизнь и охрану здоровья (Статья 6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A86F-3365-4E6B-9368-585E0C1874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Ребенок имеет право на выражение своего мнения, на свободу мысл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82F1-95E4-4C56-BCBD-AFBCB82124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ся с Конвенцией о правах ребе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торить и выделить особенности былин как вида эпической поэ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обрать художественные приёмы для создания стилизованного былинного сти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ть мини-проекты, отражающие основные положения Конвенции о правах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ть проект «И льется звонко, величаво былинный стих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DA05-72EB-4DFA-AB64-4E54A19570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4699-5A12-4AC7-B04B-EDD465C48B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Ребенок имеет право на отдых (Статья 22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3582-3C56-432F-A6E1-9F79253D5F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63280" y="549360"/>
            <a:ext cx="6769080" cy="57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оект по русской словесности (творческий)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Выполнили: </a:t>
            </a: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Зиновьева Кристина, Калинина Лиза,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Кукленкова Варя, Михалёва Арина,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Бедарёва Даша, Огнева Полина,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Грязова Лиза, Яшина Полина,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Васильев Вадим, Сергеев Миш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   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Руководитель курса по выбору: </a:t>
            </a: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С. А. Алыпов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5" name="Picture 8" descr="j0157995"/>
          <p:cNvPicPr/>
          <p:nvPr/>
        </p:nvPicPr>
        <p:blipFill>
          <a:blip r:embed="rId1"/>
          <a:stretch/>
        </p:blipFill>
        <p:spPr>
          <a:xfrm rot="5400000">
            <a:off x="-1583640" y="2817000"/>
            <a:ext cx="56163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539640" y="1268280"/>
            <a:ext cx="78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Ребенок имеет право на жизнь и охрану здоровья (Статья 6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:\Проект по словесности Законы 2014-2015 2\словесность 3\c808509e55d8389a607e8ae67559abb4.jpg"/>
          <p:cNvPicPr/>
          <p:nvPr/>
        </p:nvPicPr>
        <p:blipFill>
          <a:blip r:embed="rId1"/>
          <a:stretch/>
        </p:blipFill>
        <p:spPr>
          <a:xfrm>
            <a:off x="2627280" y="2838600"/>
            <a:ext cx="338472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Стих  третий</a:t>
            </a:r>
            <a:endParaRPr b="0" lang="en-US" sz="44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000" y="1328760"/>
            <a:ext cx="3809880" cy="47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Как ребятки наши бравые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Все-то молодцы удалые!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Все-то молодцы удалые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Со здоровьицем-то дружатся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О болезнях и не тужатся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Как по улице резвятся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А по школе как помчатся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Все тут сразу разбегаются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Разбегаются да прячутся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Ай, вы ,молодцы, да сильные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Вы, ребятушки, да крепкие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Не кручиньтесь, не печальтеся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Коли худо с настроеньицем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68480" y="1325520"/>
            <a:ext cx="380988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Что-то взор ваш затуманился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Бегать, прыгать расхотелося –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Помяните слово доброе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Слово доброе да нужное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На Руси, на нашей матушке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Есть закон один – закон правильный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Коли трудности со здоровьицем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Вы идите к школьну медику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Занимайтесь вы гимнастикой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А питайтеся вы правильно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И дышите свежим воздухом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Вы запомните, ребятушки удалые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Право есть у вас, право верное :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Сохранить свое здоровьице –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дело чести, дело совести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2" name="Picture 5" descr="H:\Проект по словесности Законы 2014-2015 2\словесность 3\i (3).jpg"/>
          <p:cNvPicPr/>
          <p:nvPr/>
        </p:nvPicPr>
        <p:blipFill>
          <a:blip r:embed="rId1"/>
          <a:stretch/>
        </p:blipFill>
        <p:spPr>
          <a:xfrm>
            <a:off x="539640" y="5583240"/>
            <a:ext cx="1368360" cy="714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H:\Проект по словесности Законы 2014-2015 2\словесность 3\i (6).jpg"/>
          <p:cNvPicPr/>
          <p:nvPr/>
        </p:nvPicPr>
        <p:blipFill>
          <a:blip r:embed="rId2"/>
          <a:stretch/>
        </p:blipFill>
        <p:spPr>
          <a:xfrm>
            <a:off x="7985160" y="4869000"/>
            <a:ext cx="10857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468360" y="1197000"/>
            <a:ext cx="799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Ребенок имеет право на выражение своего мнения, на свободу  мыс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:\Проект по словесности Законы 2014-2015 2\словесность 3\post53906_img1_5.jpg"/>
          <p:cNvPicPr/>
          <p:nvPr/>
        </p:nvPicPr>
        <p:blipFill>
          <a:blip r:embed="rId1"/>
          <a:stretch/>
        </p:blipFill>
        <p:spPr>
          <a:xfrm>
            <a:off x="5003640" y="3357720"/>
            <a:ext cx="3600720" cy="2947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H:\Проект по словесности Законы 2014-2015 2\словесность 3\post53906_img1_5.jpg"/>
          <p:cNvPicPr/>
          <p:nvPr/>
        </p:nvPicPr>
        <p:blipFill>
          <a:blip r:embed="rId2"/>
          <a:stretch/>
        </p:blipFill>
        <p:spPr>
          <a:xfrm>
            <a:off x="468360" y="3357720"/>
            <a:ext cx="3456000" cy="29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Стих четвертый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000" y="1413000"/>
            <a:ext cx="402732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Вы послушайте, ребятушки удалые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Что ещё теперь мы скажем вам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Коли вдруг в семье родименькой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Разны случаи случаются 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Спорить с матушкой и батюшкой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Вам приходится частенечко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Постарайтесь вы, ребятушки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К слову нужному родителей прислушаться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И исполнить волю добрую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Если ж мнения не сходятся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Не печальтесь, не кручиньтеся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Не ругайтесь вы ни с матушкой, ни с батюшкой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413000"/>
            <a:ext cx="38098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Объясните им тихонечко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Объясните им доходчиво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Право есть у вас, право верное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Ваше слово, ваше мнение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Пусть родителями понимается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Понимается да принимается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0" name="Picture 2" descr="H:\Проект по словесности Законы 2014-2015 2\словесность 3\0_5a291_19058876_XL.jpg"/>
          <p:cNvPicPr/>
          <p:nvPr/>
        </p:nvPicPr>
        <p:blipFill>
          <a:blip r:embed="rId1"/>
          <a:stretch/>
        </p:blipFill>
        <p:spPr>
          <a:xfrm>
            <a:off x="5508720" y="3429000"/>
            <a:ext cx="3095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Концовк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39280" y="1700280"/>
            <a:ext cx="7161480" cy="33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Хорошо нам всем по закону жить,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По закону жить, жить да не тужить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А закон-то наш всем даёт права,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Права разные, да очень важные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И о них сейчас  рассказали вам,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Рассказали вам, а вы послушали ,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Вы послушали  и все запомнили,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Все запомнили, как было надобно!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3" name="Picture 2" descr="H:\Проект по словесности Законы 2014-2015 2\словесность 3\1a1698c30d3e.jpg"/>
          <p:cNvPicPr/>
          <p:nvPr/>
        </p:nvPicPr>
        <p:blipFill>
          <a:blip r:embed="rId1"/>
          <a:stretch/>
        </p:blipFill>
        <p:spPr>
          <a:xfrm>
            <a:off x="5796000" y="1484280"/>
            <a:ext cx="3168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95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Спасибо за внимание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pic>
        <p:nvPicPr>
          <p:cNvPr id="105" name="Picture 3" descr="ml_objects17"/>
          <p:cNvPicPr/>
          <p:nvPr/>
        </p:nvPicPr>
        <p:blipFill>
          <a:blip r:embed="rId1"/>
          <a:stretch/>
        </p:blipFill>
        <p:spPr>
          <a:xfrm>
            <a:off x="2124000" y="2708280"/>
            <a:ext cx="4896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380880" y="609480"/>
            <a:ext cx="5943600" cy="556272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«И льётся звонк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величав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былинный стих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(Модуль «Я – граждан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России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ml_objects17"/>
          <p:cNvPicPr/>
          <p:nvPr/>
        </p:nvPicPr>
        <p:blipFill>
          <a:blip r:embed="rId2"/>
          <a:stretch/>
        </p:blipFill>
        <p:spPr>
          <a:xfrm>
            <a:off x="5591160" y="2189160"/>
            <a:ext cx="278928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Monotype Corsiva"/>
              </a:rPr>
              <a:t>Актуальность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50021"/>
                </a:solidFill>
                <a:latin typeface="Monotype Corsiva"/>
              </a:rPr>
              <a:t>Мы все граждане одного государства и имеем одинаковые права. И права детей являются не менее важными и обязательными, чем права взрослых людей. Чтобы пользоваться этими правами, нам хорошо надо знать их.  Мы разработали творческий проект об основных правах детей, который в доступной и интересной форме поможет ученикам начальной школы и младшего среднего звена (5 – 6 классов)  узнать более подробно о своих правах , которые закреплены в Конвенции о правах ребенка.</a:t>
            </a:r>
            <a:endParaRPr b="0" lang="en-US" sz="25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Цель:  </a:t>
            </a:r>
            <a:r>
              <a:rPr b="1" i="1" lang="ru-RU" sz="3200" spc="-1" strike="noStrike">
                <a:solidFill>
                  <a:srgbClr val="c00000"/>
                </a:solidFill>
                <a:latin typeface="Monotype Corsiva"/>
              </a:rPr>
              <a:t>создание стилизованного былинного стиха в рамках модуля «Я – гражданин России»</a:t>
            </a:r>
            <a:endParaRPr b="0" lang="en-US" sz="32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826920" y="1628640"/>
            <a:ext cx="7705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Познакомиться с Конвенцией о правах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Повторить и выделить особенности былины как вида эпической поэз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Отобрать художественные приёмы для создания стилизованного былинного сти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Разработать мини-проекты, отражающие основные положения Конвенции о правах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Создать проект «И льется звонко, величаво былинный стих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Зачин 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3954600" cy="525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Как  во граде, во сибирском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Нефтеюганском прозывающемся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Собирались добры молодцы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Добры молодцы да красны девицы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Красны девицы – все шестиклассницы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Собиралися да сговаривалися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О правах детишек малыих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Детишек малыцих да удалыих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Выступал удалый добрый молодец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Шестиклассничек по имени Вадимушка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И держал тут слово молодецкое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Слово доброе и твёрдое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И сказал он всем таковы слова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«Хорошо нам всем по закону жить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По закону жить, жить да не тужить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А закон-то наш всем даёт права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Права разные, да очень важные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И о них сейчас мы расскажем вам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Мы расскажем вам, а вы послушайте»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4" name="Picture 16" descr="C:\Users\1\Desktop\Проект по словесности Законы 2014-2015\словесность 3\4588960_1257285446_16.gif"/>
          <p:cNvPicPr/>
          <p:nvPr/>
        </p:nvPicPr>
        <p:blipFill>
          <a:blip r:embed="rId1"/>
          <a:stretch/>
        </p:blipFill>
        <p:spPr>
          <a:xfrm>
            <a:off x="4356000" y="1052640"/>
            <a:ext cx="4248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539640" y="1409760"/>
            <a:ext cx="79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Ребенок имеет право жить и воспитываться в семье  (Статья 1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H:\Проект по словесности Законы 2014-2015 2\словесность 3\58188178_p376_post254061178993164.gif"/>
          <p:cNvPicPr/>
          <p:nvPr/>
        </p:nvPicPr>
        <p:blipFill>
          <a:blip r:embed="rId1"/>
          <a:stretch/>
        </p:blipFill>
        <p:spPr>
          <a:xfrm>
            <a:off x="2482920" y="3213000"/>
            <a:ext cx="38098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Стих  первый</a:t>
            </a:r>
            <a:endParaRPr b="0" lang="en-US" sz="2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4030560" cy="518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Monotype Corsiva"/>
              </a:rPr>
              <a:t>На земле на нашей русской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Monotype Corsiva"/>
              </a:rPr>
              <a:t>Есть закон один, закон праведный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Monotype Corsiva"/>
              </a:rPr>
              <a:t>Наши детушки да наши лапушки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Monotype Corsiva"/>
              </a:rPr>
              <a:t>Во семье должны расти да во внимании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Monotype Corsiva"/>
              </a:rPr>
              <a:t>Во любви родительской да в понимании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Monotype Corsiva"/>
              </a:rPr>
              <a:t>Как закон-то этот выполняется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Monotype Corsiva"/>
              </a:rPr>
              <a:t>Так родители детишками уважаются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Monotype Corsiva"/>
              </a:rPr>
              <a:t>Уважаются они, живут в почести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Monotype Corsiva"/>
              </a:rPr>
              <a:t>Ну а детушки-ребятушки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Monotype Corsiva"/>
              </a:rPr>
              <a:t>Вырастают в добры молодцы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Monotype Corsiva"/>
              </a:rPr>
              <a:t>В добры молодцы да в красны девицы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Monotype Corsiva"/>
              </a:rPr>
              <a:t>Помните, ребятушки удалые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Право есть у вас, право верное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Во семье расти в любви да во внимании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Во внимании родительском да в понимании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9" name="Picture 2" descr="C:\Users\1\Desktop\Проект по словесности Законы 2014-2015\словесность 3\1a1698c30d3e.jpg"/>
          <p:cNvPicPr/>
          <p:nvPr/>
        </p:nvPicPr>
        <p:blipFill>
          <a:blip r:embed="rId1"/>
          <a:stretch/>
        </p:blipFill>
        <p:spPr>
          <a:xfrm>
            <a:off x="4648320" y="981000"/>
            <a:ext cx="38098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971640" y="119700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Ребенок имеет право на отдых (Статья 2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:\Проект по словесности Законы 2014-2015 2\словесность 3\b634000fb3233da4c415f62320f7d712.jpg"/>
          <p:cNvPicPr/>
          <p:nvPr/>
        </p:nvPicPr>
        <p:blipFill>
          <a:blip r:embed="rId1"/>
          <a:stretch/>
        </p:blipFill>
        <p:spPr>
          <a:xfrm>
            <a:off x="5364000" y="2760840"/>
            <a:ext cx="3168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Стих второй</a:t>
            </a:r>
            <a:endParaRPr b="0" lang="en-US" sz="36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0920" y="1197000"/>
            <a:ext cx="3809880" cy="51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Ай, ребята все бывалые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Ай, ребята все удалые!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Потрудиться ведь за почесть нам,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Потрудиться – дело верное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Как походим мы во школу ту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Как откроем мы учебнички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И попишем мы в тетрадочках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Порешаем мы примерчики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Поработаем по картам мы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И походим мы на секции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И придем мы поздним вечером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Поздним вечером ко милой матушке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Ко милой матушке да добру батюшк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7960" y="1268280"/>
            <a:ext cx="380988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Взговорят-то они да таковы слов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Таковы слова – сердцу милые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«Ай, вы, детушки, ребятушки!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Потрудились вы на славушку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Потрудились вы на радость нам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Ай, теперь пришла пора, пора отдыха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Занимайтесь вы, чем вам нравится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Чем вам нравится позабавиться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Хорошо отдохнуть постарайтеся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Новой силушки набирайтеся!»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Вы запомните, ребятушки удалые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Право есть у вас, право верное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Хорошенечко поработавши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Отдыхайте вы преспокойненько!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5" name="Picture 5" descr="C:\Users\1\Desktop\Проект по словесности Законы 2014-2015\словесность 3\i (1).jpg"/>
          <p:cNvPicPr/>
          <p:nvPr/>
        </p:nvPicPr>
        <p:blipFill>
          <a:blip r:embed="rId1"/>
          <a:stretch/>
        </p:blipFill>
        <p:spPr>
          <a:xfrm>
            <a:off x="6300720" y="476280"/>
            <a:ext cx="2374920" cy="79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H:\Проект по словесности Законы 2014-2015 2\словесность 3\i (7).jpg"/>
          <p:cNvPicPr/>
          <p:nvPr/>
        </p:nvPicPr>
        <p:blipFill>
          <a:blip r:embed="rId2"/>
          <a:stretch/>
        </p:blipFill>
        <p:spPr>
          <a:xfrm>
            <a:off x="468360" y="5445000"/>
            <a:ext cx="180000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евгений</cp:lastModifiedBy>
  <dcterms:modified xsi:type="dcterms:W3CDTF">2015-02-09T16:46:06Z</dcterms:modified>
  <cp:revision>56</cp:revision>
  <dc:subject/>
  <dc:title>PowerPoint Presentation</dc:title>
</cp:coreProperties>
</file>