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42D4-584C-41EF-9901-12C30A9BC1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ебенок имеет право на жизнь и охрану здоровья (Статья 6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D8CB-D403-4C39-8AE8-D3CCD0E23A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ебенок имеет право на выражение своего мнения, на свободу мысл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55D3-0B8C-40F1-881D-B3CCA19699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ся с Конвенцией о правах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и выделить особенности былин как вида эпическ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ть художественные приёмы для создания стилизованного былинного сти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мини-проекты, отражающие основные положения Конвенции о правах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ть проект «И льется звонко, величаво былинный стих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2DBF-376E-43D1-BBCA-B5A3D9DA17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B0FC-DE34-47AB-8F15-37788650E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onotype Corsiva"/>
              </a:rPr>
              <a:t>Ребенок имеет право на отдых (Статья 22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AD38-139E-4A14-812D-739ACE7E9A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cc"/>
              </a:solidFill>
              <a:ln cap="sq" w="572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76765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763280" y="549360"/>
            <a:ext cx="676908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роект по русской словесности (творческий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Выполнили: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Зиновьева Кристина, Калинина Лиза,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Кукленкова Варя, Михалёва Арина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Бедарёва Даша, Огнева Полина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Грязова Лиза, Яшина Полина,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Васильев Вадим, Сергеев Миш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        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Monotype Corsiva"/>
              </a:rPr>
              <a:t>Руководитель курса по выбору: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. А. Алыпова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Picture 8" descr="j0157995"/>
          <p:cNvPicPr/>
          <p:nvPr/>
        </p:nvPicPr>
        <p:blipFill>
          <a:blip r:embed="rId1"/>
          <a:stretch/>
        </p:blipFill>
        <p:spPr>
          <a:xfrm rot="5400000">
            <a:off x="-1583640" y="2817000"/>
            <a:ext cx="56163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39640" y="126828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Ребенок имеет право на жизнь и охрану здоровья (Статья 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H:\Проект по словесности Законы 2014-2015 2\словесность 3\c808509e55d8389a607e8ae67559abb4.jpg"/>
          <p:cNvPicPr/>
          <p:nvPr/>
        </p:nvPicPr>
        <p:blipFill>
          <a:blip r:embed="rId1"/>
          <a:stretch/>
        </p:blipFill>
        <p:spPr>
          <a:xfrm>
            <a:off x="2627280" y="2838600"/>
            <a:ext cx="338472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Стих  третий</a:t>
            </a:r>
            <a:endParaRPr b="0" lang="en-US" sz="44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328760"/>
            <a:ext cx="3809880" cy="47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ак ребятки наши брав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се-то молодцы удалые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се-то молодцы удалы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Со здоровьицем-то дружа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О болезнях и не тужатс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ак по улице резвя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 по школе как помча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се тут сразу разбегаю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Разбегаются да прячутс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й, вы ,молодцы, да сильн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, ребятушки, да крепки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е кручиньтесь, не печальте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оли худо с настроеньице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68480" y="1325520"/>
            <a:ext cx="38098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Что-то взор ваш затуманил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Бегать, прыгать расхотелося –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мяните слово добро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Слово доброе да нужно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а Руси, на нашей матушк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Есть закон один – закон правильный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оли трудности со здоровьицем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 идите к школьну медику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Занимайтесь вы гимнастикой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 питайтеся вы правильно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дышите свежим воздухо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 запомните, ребятушки уд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раво есть у вас, право верное 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Сохранить свое здоровьице –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дело чести, дело совест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2" name="Picture 5" descr="H:\Проект по словесности Законы 2014-2015 2\словесность 3\i (3).jpg"/>
          <p:cNvPicPr/>
          <p:nvPr/>
        </p:nvPicPr>
        <p:blipFill>
          <a:blip r:embed="rId1"/>
          <a:stretch/>
        </p:blipFill>
        <p:spPr>
          <a:xfrm>
            <a:off x="539640" y="5583240"/>
            <a:ext cx="1368360" cy="714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H:\Проект по словесности Законы 2014-2015 2\словесность 3\i (6).jpg"/>
          <p:cNvPicPr/>
          <p:nvPr/>
        </p:nvPicPr>
        <p:blipFill>
          <a:blip r:embed="rId2"/>
          <a:stretch/>
        </p:blipFill>
        <p:spPr>
          <a:xfrm>
            <a:off x="7985160" y="4869000"/>
            <a:ext cx="1085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468360" y="1197000"/>
            <a:ext cx="7991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Ребенок имеет право на выражение своего мнения, на свободу  мыс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:\Проект по словесности Законы 2014-2015 2\словесность 3\post53906_img1_5.jpg"/>
          <p:cNvPicPr/>
          <p:nvPr/>
        </p:nvPicPr>
        <p:blipFill>
          <a:blip r:embed="rId1"/>
          <a:stretch/>
        </p:blipFill>
        <p:spPr>
          <a:xfrm>
            <a:off x="5003640" y="3357720"/>
            <a:ext cx="3600720" cy="2947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H:\Проект по словесности Законы 2014-2015 2\словесность 3\post53906_img1_5.jpg"/>
          <p:cNvPicPr/>
          <p:nvPr/>
        </p:nvPicPr>
        <p:blipFill>
          <a:blip r:embed="rId2"/>
          <a:stretch/>
        </p:blipFill>
        <p:spPr>
          <a:xfrm>
            <a:off x="468360" y="3357720"/>
            <a:ext cx="345600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Стих четвертый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1413000"/>
            <a:ext cx="402732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 послушайте, ребятушки уд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Что ещё теперь мы скажем вам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оли вдруг в семье родименько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Разны случаи случаются 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Спорить с матушкой и батюшкой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ам приходится частенечко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старайтесь вы, ребятушки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 слову нужному родителей прислушатьс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исполнить волю добрую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Если ж мнения не сходя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е печальтесь, не кручиньте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е ругайтесь вы ни с матушкой, ни с батюшкой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41300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Объясните им тихонечко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Объясните им доходчиво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раво есть у вас, право верно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Ваше слово, ваше мнение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усть родителями понимае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онимается да принимаетс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Picture 2" descr="H:\Проект по словесности Законы 2014-2015 2\словесность 3\0_5a291_19058876_XL.jpg"/>
          <p:cNvPicPr/>
          <p:nvPr/>
        </p:nvPicPr>
        <p:blipFill>
          <a:blip r:embed="rId1"/>
          <a:stretch/>
        </p:blipFill>
        <p:spPr>
          <a:xfrm>
            <a:off x="5508720" y="3429000"/>
            <a:ext cx="3095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Концовка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539280" y="1700280"/>
            <a:ext cx="7161480" cy="33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Хорошо нам всем по закону жить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По закону жить, жить да не тужить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А закон-то наш всем даёт права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Права разные, да очень важные.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 о них сейчас  рассказали вам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Рассказали вам, а вы послушали 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Вы послушали  и все запомнили,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Все запомнили, как было надобно!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3" name="Picture 2" descr="H:\Проект по словесности Законы 2014-2015 2\словесность 3\1a1698c30d3e.jpg"/>
          <p:cNvPicPr/>
          <p:nvPr/>
        </p:nvPicPr>
        <p:blipFill>
          <a:blip r:embed="rId1"/>
          <a:stretch/>
        </p:blipFill>
        <p:spPr>
          <a:xfrm>
            <a:off x="5796000" y="1484280"/>
            <a:ext cx="316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95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Спасибо за внимание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pic>
        <p:nvPicPr>
          <p:cNvPr id="105" name="Picture 3" descr="ml_objects17"/>
          <p:cNvPicPr/>
          <p:nvPr/>
        </p:nvPicPr>
        <p:blipFill>
          <a:blip r:embed="rId1"/>
          <a:stretch/>
        </p:blipFill>
        <p:spPr>
          <a:xfrm>
            <a:off x="2124000" y="2708280"/>
            <a:ext cx="4896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2"/>
          <p:cNvSpPr/>
          <p:nvPr/>
        </p:nvSpPr>
        <p:spPr>
          <a:xfrm>
            <a:off x="380880" y="609480"/>
            <a:ext cx="5943600" cy="556272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«И льётся звонк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велича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былинный стих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(Модуль «Я – граждан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Monotype Corsiva"/>
              </a:rPr>
              <a:t>России»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ml_objects17"/>
          <p:cNvPicPr/>
          <p:nvPr/>
        </p:nvPicPr>
        <p:blipFill>
          <a:blip r:embed="rId2"/>
          <a:stretch/>
        </p:blipFill>
        <p:spPr>
          <a:xfrm>
            <a:off x="5591160" y="2189160"/>
            <a:ext cx="278928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a50021"/>
                </a:solidFill>
                <a:latin typeface="Monotype Corsiva"/>
              </a:rPr>
              <a:t>Актуальность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a50021"/>
                </a:solidFill>
                <a:latin typeface="Monotype Corsiva"/>
              </a:rPr>
              <a:t>Мы все граждане одного государства и имеем одинаковые права. И права детей являются не менее важными и обязательными, чем права взрослых людей. Чтобы пользоваться этими правами, нам хорошо надо знать их.  Мы разработали творческий проект об основных правах детей, который в доступной и интересной форме поможет ученикам начальной школы и младшего среднего звена (5 – 6 классов)  узнать более подробно о своих правах , которые закреплены в Конвенции о правах ребенка.</a:t>
            </a:r>
            <a:endParaRPr b="0" lang="en-US" sz="25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Цель: 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</a:rPr>
              <a:t>создание стилизованного былинного стиха в рамках модуля «Я – гражданин России»</a:t>
            </a:r>
            <a:endParaRPr b="0" lang="en-US" sz="32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826920" y="1628640"/>
            <a:ext cx="77058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Monotype Corsiva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ознакомиться с Конвенцией о правах ребен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Повторить и выделить особенности былины как вида эпической поэ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Отобрать художественные приёмы для создания стилизованного былинного сти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азработать мини-проекты, отражающие основные положения Конвенции о правах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Создать проект «И льется звонко, величаво былинный стих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Зачин </a:t>
            </a:r>
            <a:endParaRPr b="0" lang="en-US" sz="4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052280"/>
            <a:ext cx="39546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Как  во граде, во сибирском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Нефтеюганском прозывающем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Собирались добры молодцы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Добры молодцы да красны девицы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Красны девицы – все шестиклассницы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Собиралися да сговаривалися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О правах детишек малыих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Детишек малыцих да удалыих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Выступал удалый добрый молодец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Шестиклассничек по имени Вадимушк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 держал тут слово молодецко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Слово доброе и твёрдо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 сказал он всем таковы слова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«Хорошо нам всем по закону жить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По закону жить, жить да не тужить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А закон-то наш всем даёт права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Права разные, да очень важны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И о них сейчас мы расскажем вам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Мы расскажем вам, а вы послушайт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16" descr="C:\Users\1\Desktop\Проект по словесности Законы 2014-2015\словесность 3\4588960_1257285446_16.gif"/>
          <p:cNvPicPr/>
          <p:nvPr/>
        </p:nvPicPr>
        <p:blipFill>
          <a:blip r:embed="rId1"/>
          <a:stretch/>
        </p:blipFill>
        <p:spPr>
          <a:xfrm>
            <a:off x="4356000" y="1052640"/>
            <a:ext cx="4248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539640" y="140976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Ребенок имеет право жить и воспитываться в семье  (Статья 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H:\Проект по словесности Законы 2014-2015 2\словесность 3\58188178_p376_post254061178993164.gif"/>
          <p:cNvPicPr/>
          <p:nvPr/>
        </p:nvPicPr>
        <p:blipFill>
          <a:blip r:embed="rId1"/>
          <a:stretch/>
        </p:blipFill>
        <p:spPr>
          <a:xfrm>
            <a:off x="2482920" y="3213000"/>
            <a:ext cx="3809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Стих  первый</a:t>
            </a:r>
            <a:endParaRPr b="0" lang="en-US" sz="28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4030560" cy="518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На земле на нашей русско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Есть закон один, закон праведный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Наши детушки да наши лапушк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Во семье должны расти да во внимани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Во любви родительской да в пониман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Как закон-то этот выполняе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Так родители детишками уважаю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Уважаются они, живут в почест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Ну а детушки-ребятушки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Вырастают в добры молодцы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В добры молодцы да в красны девицы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Monotype Corsiva"/>
              </a:rPr>
              <a:t>Помните, ребятушки уд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раво есть у вас, право верно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Во семье расти в любви да во внимани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Во внимании родительском да в понимании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Picture 2" descr="C:\Users\1\Desktop\Проект по словесности Законы 2014-2015\словесность 3\1a1698c30d3e.jpg"/>
          <p:cNvPicPr/>
          <p:nvPr/>
        </p:nvPicPr>
        <p:blipFill>
          <a:blip r:embed="rId1"/>
          <a:stretch/>
        </p:blipFill>
        <p:spPr>
          <a:xfrm>
            <a:off x="4648320" y="981000"/>
            <a:ext cx="38098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971640" y="119700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Ребенок имеет право на отдых (Статья 2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H:\Проект по словесности Законы 2014-2015 2\словесность 3\b634000fb3233da4c415f62320f7d712.jpg"/>
          <p:cNvPicPr/>
          <p:nvPr/>
        </p:nvPicPr>
        <p:blipFill>
          <a:blip r:embed="rId1"/>
          <a:stretch/>
        </p:blipFill>
        <p:spPr>
          <a:xfrm>
            <a:off x="5364000" y="2760840"/>
            <a:ext cx="316872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Стих второй</a:t>
            </a:r>
            <a:endParaRPr b="0" lang="en-US" sz="3600" spc="-1" strike="noStrike">
              <a:solidFill>
                <a:srgbClr val="3333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1197000"/>
            <a:ext cx="3809880" cy="512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й, ребята все быв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й, ребята все удалые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трудиться ведь за почесть нам,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трудиться – дело верное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ак походим мы во школу ту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ак откроем мы учебничк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попишем мы в тетрадочках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решаем мы примерчик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работаем по картам мы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походим мы на секци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И придем мы поздним вечером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здним вечером ко милой матушк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Ко милой матушке да добру батюшк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7960" y="1268280"/>
            <a:ext cx="380988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зговорят-то они да таковы слова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Таковы слова – сердцу милы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«Ай, вы, детушки, ребятушки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трудились вы на славушку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Потрудились вы на радость нам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Ай, теперь пришла пора, пора отдыха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Занимайтесь вы, чем вам нравит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Чем вам нравится позабавиться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Хорошо отдохнуть постарайтеся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Новой силушки набирайтеся!»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Monotype Corsiva"/>
              </a:rPr>
              <a:t>Вы запомните, ребятушки удалые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Право есть у вас, право верное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Хорошенечко поработавши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Monotype Corsiva"/>
              </a:rPr>
              <a:t>Отдыхайте вы преспокойненько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5" name="Picture 5" descr="C:\Users\1\Desktop\Проект по словесности Законы 2014-2015\словесность 3\i (1).jpg"/>
          <p:cNvPicPr/>
          <p:nvPr/>
        </p:nvPicPr>
        <p:blipFill>
          <a:blip r:embed="rId1"/>
          <a:stretch/>
        </p:blipFill>
        <p:spPr>
          <a:xfrm>
            <a:off x="6300720" y="476280"/>
            <a:ext cx="237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H:\Проект по словесности Законы 2014-2015 2\словесность 3\i (7).jpg"/>
          <p:cNvPicPr/>
          <p:nvPr/>
        </p:nvPicPr>
        <p:blipFill>
          <a:blip r:embed="rId2"/>
          <a:stretch/>
        </p:blipFill>
        <p:spPr>
          <a:xfrm>
            <a:off x="468360" y="5445000"/>
            <a:ext cx="180000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евгений</cp:lastModifiedBy>
  <dcterms:modified xsi:type="dcterms:W3CDTF">2015-02-09T16:46:06Z</dcterms:modified>
  <cp:revision>56</cp:revision>
  <dc:subject/>
  <dc:title>PowerPoint Presentation</dc:title>
</cp:coreProperties>
</file>