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F3CB-17C2-467F-BFD2-4F4ADB37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040-339D-4F4A-A57F-ECF84438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DC2-7948-457F-A44F-1837D4C0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7DC-04B6-4AC4-90A7-B0F95509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222B-7FC8-4E36-BE64-B23FA43E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AB68-5E7F-4F71-A317-5358C245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6F0F-AD9E-4A62-9979-E2C61F2B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30DE-2E63-4CF5-BE40-1A8EC617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7042-AA7A-47AA-A2EC-141EC8D9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EF82-0C54-4092-A2C3-0501494A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34E8-C626-4E22-BEB9-81DD8D49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280-42C8-4751-8C26-5A356698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56F8-2B49-491D-9CD8-CE783297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0ACB-CC74-4F9E-BAD6-B668EEDD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EAF5-5EC9-4561-9AE1-7D313191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8720-5546-419F-9161-27B9F986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F909-D04A-413B-BB90-DA01BCEE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FC3-3E8F-43AF-8BF3-D3B1D1BB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B80-C513-4BD6-A4AC-E616EE23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0970-210B-4374-889E-49FCD0B4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F9F-8A46-4055-83C2-AB03115A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9EC9-596F-452D-9186-70C7F248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61B1-908E-42E2-94D5-88C336AD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62E-616F-43B4-8C73-C148ACDD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060B-53E5-4E03-81DB-21425D88B1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1576-B7AD-4D9D-A61C-2891333C65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nashidetki.uz/foto/7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тат.jpg"/>
          <p:cNvPicPr/>
          <p:nvPr/>
        </p:nvPicPr>
        <p:blipFill>
          <a:blip r:embed="rId1"/>
          <a:stretch/>
        </p:blipFill>
        <p:spPr>
          <a:xfrm>
            <a:off x="160200" y="142920"/>
            <a:ext cx="8769600" cy="65325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чеб3.gif"/>
          <p:cNvPicPr/>
          <p:nvPr/>
        </p:nvPicPr>
        <p:blipFill>
          <a:blip r:embed="rId2"/>
          <a:stretch/>
        </p:blipFill>
        <p:spPr>
          <a:xfrm>
            <a:off x="857160" y="500040"/>
            <a:ext cx="771552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тат.jpg"/>
          <p:cNvPicPr/>
          <p:nvPr/>
        </p:nvPicPr>
        <p:blipFill>
          <a:blip r:embed="rId1"/>
          <a:stretch/>
        </p:blipFill>
        <p:spPr>
          <a:xfrm>
            <a:off x="160200" y="142920"/>
            <a:ext cx="8769600" cy="65325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чеб4.gif"/>
          <p:cNvPicPr/>
          <p:nvPr/>
        </p:nvPicPr>
        <p:blipFill>
          <a:blip r:embed="rId2"/>
          <a:stretch/>
        </p:blipFill>
        <p:spPr>
          <a:xfrm>
            <a:off x="428760" y="357120"/>
            <a:ext cx="8086680" cy="53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Kate: Hello, Tom! 1)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 you like your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Tom: Oh, yes, I do. It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s very interesting to go to my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Kate: How many subjects are there 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on your timetabl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Tom: N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Kate: What about English less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Tom: I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ve got English five times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Kate: 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is your favourite su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Tom: My favourite subject is Maths because I am good at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Kate: But I have some problems with Maths. 4)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Can you help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Tom: Of course, I can. See you l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Kate: Bye and 5)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thanks a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0" y="189000"/>
            <a:ext cx="11275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Отвечать на вопросы учителя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answer the teacher’s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Переводить с</a:t>
            </a: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 – translate from/i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Читать тексты</a:t>
            </a: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- read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Разговаривать по-английски</a:t>
            </a: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speak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Петь песни</a:t>
            </a: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 – sing so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Задавать вопросы</a:t>
            </a: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 –ask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Учить наизусть</a:t>
            </a: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 – learn by  he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Arial"/>
              </a:rPr>
              <a:t>Писать слова</a:t>
            </a:r>
            <a:r>
              <a:rPr b="1" lang="en-US" sz="4000" spc="-1" strike="noStrike">
                <a:solidFill>
                  <a:srgbClr val="632523"/>
                </a:solidFill>
                <a:latin typeface="Arial"/>
              </a:rPr>
              <a:t> – write the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1" descr=""/>
          <p:cNvPicPr/>
          <p:nvPr/>
        </p:nvPicPr>
        <p:blipFill>
          <a:blip r:embed="rId1"/>
          <a:stretch/>
        </p:blipFill>
        <p:spPr>
          <a:xfrm>
            <a:off x="719280" y="407880"/>
            <a:ext cx="7991280" cy="36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4" descr="чебурашка.jpg"/>
          <p:cNvPicPr/>
          <p:nvPr/>
        </p:nvPicPr>
        <p:blipFill>
          <a:blip r:embed="rId1"/>
          <a:stretch/>
        </p:blipFill>
        <p:spPr>
          <a:xfrm>
            <a:off x="0" y="260280"/>
            <a:ext cx="1873080" cy="1575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2484360" y="0"/>
            <a:ext cx="5832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glis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ysical educatio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ad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th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ussi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ture Stu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3" descr="тат.jpg"/>
          <p:cNvPicPr/>
          <p:nvPr/>
        </p:nvPicPr>
        <p:blipFill>
          <a:blip r:embed="rId1"/>
          <a:stretch/>
        </p:blipFill>
        <p:spPr>
          <a:xfrm>
            <a:off x="160200" y="142920"/>
            <a:ext cx="8769600" cy="65325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чебурашка.jpg"/>
          <p:cNvPicPr/>
          <p:nvPr/>
        </p:nvPicPr>
        <p:blipFill>
          <a:blip r:embed="rId2"/>
          <a:stretch/>
        </p:blipFill>
        <p:spPr>
          <a:xfrm>
            <a:off x="2357280" y="2286000"/>
            <a:ext cx="4524480" cy="3805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1658160" y="1500120"/>
            <a:ext cx="58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бурашка  делает заряд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01 Дорожка 1.wma" descr=""/>
          <p:cNvPicPr/>
          <p:nvPr/>
        </p:nvPicPr>
        <p:blipFill>
          <a:blip r:embed="rId3"/>
          <a:stretch/>
        </p:blipFill>
        <p:spPr>
          <a:xfrm>
            <a:off x="845964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тат.jpg"/>
          <p:cNvPicPr/>
          <p:nvPr/>
        </p:nvPicPr>
        <p:blipFill>
          <a:blip r:embed="rId1"/>
          <a:stretch/>
        </p:blipFill>
        <p:spPr>
          <a:xfrm>
            <a:off x="160200" y="142920"/>
            <a:ext cx="8769600" cy="65325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чеб7.gif"/>
          <p:cNvPicPr/>
          <p:nvPr/>
        </p:nvPicPr>
        <p:blipFill>
          <a:blip r:embed="rId2"/>
          <a:stretch/>
        </p:blipFill>
        <p:spPr>
          <a:xfrm>
            <a:off x="271440" y="642960"/>
            <a:ext cx="835812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тат.jpg"/>
          <p:cNvPicPr/>
          <p:nvPr/>
        </p:nvPicPr>
        <p:blipFill>
          <a:blip r:embed="rId1"/>
          <a:stretch/>
        </p:blipFill>
        <p:spPr>
          <a:xfrm>
            <a:off x="160200" y="142920"/>
            <a:ext cx="8769600" cy="65325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чеб9.gif"/>
          <p:cNvPicPr/>
          <p:nvPr/>
        </p:nvPicPr>
        <p:blipFill>
          <a:blip r:embed="rId2"/>
          <a:stretch/>
        </p:blipFill>
        <p:spPr>
          <a:xfrm>
            <a:off x="857160" y="785880"/>
            <a:ext cx="7932960" cy="52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тат.jpg"/>
          <p:cNvPicPr/>
          <p:nvPr/>
        </p:nvPicPr>
        <p:blipFill>
          <a:blip r:embed="rId1"/>
          <a:stretch/>
        </p:blipFill>
        <p:spPr>
          <a:xfrm>
            <a:off x="160200" y="142920"/>
            <a:ext cx="8769600" cy="65325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чеб 10.gif"/>
          <p:cNvPicPr/>
          <p:nvPr/>
        </p:nvPicPr>
        <p:blipFill>
          <a:blip r:embed="rId2"/>
          <a:stretch/>
        </p:blipFill>
        <p:spPr>
          <a:xfrm>
            <a:off x="428760" y="714240"/>
            <a:ext cx="8358120" cy="557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тат.jpg"/>
          <p:cNvPicPr/>
          <p:nvPr/>
        </p:nvPicPr>
        <p:blipFill>
          <a:blip r:embed="rId1"/>
          <a:stretch/>
        </p:blipFill>
        <p:spPr>
          <a:xfrm>
            <a:off x="160200" y="142920"/>
            <a:ext cx="8769600" cy="65325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чеб2.gif"/>
          <p:cNvPicPr/>
          <p:nvPr/>
        </p:nvPicPr>
        <p:blipFill>
          <a:blip r:embed="rId2"/>
          <a:stretch/>
        </p:blipFill>
        <p:spPr>
          <a:xfrm>
            <a:off x="714240" y="1000080"/>
            <a:ext cx="750096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тат.jpg"/>
          <p:cNvPicPr/>
          <p:nvPr/>
        </p:nvPicPr>
        <p:blipFill>
          <a:blip r:embed="rId1"/>
          <a:stretch/>
        </p:blipFill>
        <p:spPr>
          <a:xfrm>
            <a:off x="160200" y="142920"/>
            <a:ext cx="8769600" cy="65325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чеб 1.gif"/>
          <p:cNvPicPr/>
          <p:nvPr/>
        </p:nvPicPr>
        <p:blipFill>
          <a:blip r:embed="rId2"/>
          <a:stretch/>
        </p:blipFill>
        <p:spPr>
          <a:xfrm>
            <a:off x="571680" y="500040"/>
            <a:ext cx="792936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тат.jpg"/>
          <p:cNvPicPr/>
          <p:nvPr/>
        </p:nvPicPr>
        <p:blipFill>
          <a:blip r:embed="rId1"/>
          <a:stretch/>
        </p:blipFill>
        <p:spPr>
          <a:xfrm>
            <a:off x="160200" y="142920"/>
            <a:ext cx="8769600" cy="65325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" descr="чеб6.gif"/>
          <p:cNvPicPr/>
          <p:nvPr/>
        </p:nvPicPr>
        <p:blipFill>
          <a:blip r:embed="rId2"/>
          <a:stretch/>
        </p:blipFill>
        <p:spPr>
          <a:xfrm>
            <a:off x="752400" y="500040"/>
            <a:ext cx="7715160" cy="514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0:32:29Z</dcterms:created>
  <dc:creator>РУСТЕМКА</dc:creator>
  <dc:description/>
  <dc:language>en-US</dc:language>
  <cp:lastModifiedBy>Вадим</cp:lastModifiedBy>
  <dcterms:modified xsi:type="dcterms:W3CDTF">2014-05-15T23:25:25Z</dcterms:modified>
  <cp:revision>16</cp:revision>
  <dc:subject/>
  <dc:title>Слайд 1</dc:title>
</cp:coreProperties>
</file>