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089-7F27-4B8D-A133-55494674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A80-4F83-41D3-9956-55BBB70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704-C532-40BE-B830-82DFB19F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B84-EA70-4038-AB0C-FB48366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EA6-5AE3-453E-B03E-D29294AF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6DF1-B161-4071-AE26-223967C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3B8-C0A0-489F-AE0E-6E18FF7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431-AB24-49A8-AA46-CBFC6C42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FC1B-67B2-4B9A-868A-1CCDF93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5BC-BE55-4681-A797-34C48B1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3E1-3810-4FE7-863A-74D2068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BD5-8957-422A-A088-D4700A5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8DC-EAB0-4B0F-9391-F3A18E0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B6FC-0C8A-465B-950F-A0B4C0C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99B-DB35-4418-A737-C5B1633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57A8-2FCF-4CE0-8FFC-FC66877E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7BB3-3E8C-47FE-9503-25387FC6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48C87-F2F9-47EB-978B-DC1D583D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54EA5-8D1A-449F-91AA-28B5C1C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7C336-971C-46C5-87C2-1591C5A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D29CB-9E35-4A5D-88BA-47D49CA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A18FF-9E9A-4B9D-86B6-BD5EB6F6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590-433D-4060-8AD4-AB0F31A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D0DE7-880D-4CB9-AC37-362CD1C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789E9-8EEB-4D36-BB8D-0BE3847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55D33-6431-4EB8-AFB5-DD4C539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A683E-6B89-4789-A1EC-94D0B46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A7584-4244-4141-9994-E4673E8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DE7D3-4084-4900-942D-A4F9387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65858-22BA-4A36-A557-5D9CA9B0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FF426-E6D8-4F5A-BDC7-ED0E0732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59468-A00B-4450-B3F3-C886A958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55286-5D11-41CC-81A9-A2950499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938-461B-4CED-9509-09FFC2C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C4EEA-7184-4417-B0F5-BE49A68F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CD65D-DF0F-4699-A166-88AD82D1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9DA10-C555-4309-861B-6904964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53E0A-47EF-46A5-8986-BCA9A6A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2A565-2F30-46C6-8AE5-72FBC26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22A8E-1179-4440-B9B1-0E4C759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983C7-BFFD-47D8-9ADB-A4A93CC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E2CD9-A54F-4C1A-85ED-8B285AC3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D33B4-DAB5-4BF2-AA1E-14DDBF6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188B9-8425-439E-89DE-F54E658E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635-910D-4CAF-B4CA-C0A7380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6C365-DF9E-4B6B-8BAC-ED965DA1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931C9-D71C-4F2A-B08D-FC83358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BCA49-0658-4850-BD2E-5E60CBF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043C3-1759-4906-B59C-EFACF648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1E38C-216C-4BC3-91DB-55697F5F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2AD04-F7DE-4BB9-B453-4E2B3FF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16D04-7854-4D0A-B4AD-FD9C17F5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B951C-A1A5-4A7E-BE93-1398942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EFDE8-7C88-478F-A5CE-E6C4C42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48ED7-4120-4FA3-B1F1-C4B2AFB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6D3-EF10-415E-82D3-60E9932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98CA7-8067-48EC-BD04-F6F79F45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DC96-B0D7-4EC7-9907-92BFFE45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3BA8-7E1F-428A-B5E1-8E88933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08DC-9AE6-4A40-B98A-0B9C26C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99882-E51A-4ED7-9A41-B7B171A4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5EE9-6691-497F-B25B-EFFCA717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937EE-FFAA-494A-9EDA-7BC9C49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6ED0F-5F56-44B5-9AB3-A1DE3BB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52512-52B5-4B63-88BA-CAC939C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C7FC-8DAE-4ADD-8EDB-E04D727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CBF-3A80-452E-A8AA-C43D20B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6D0B-AD4F-4D87-AC56-A9B057E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1D56-B020-4F30-825C-DE70FB9E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1BD6-9AC9-42D8-92E6-5E91472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62016-14A8-4EC1-87F1-BE1308B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D6094-7E02-4B2F-9871-5E8628D3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12069-C91A-48F5-9A8E-B086F06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109DE-3D7C-4563-ABA1-09D7173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79F0F-2250-41FB-843B-F5A50BD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8428D-01FA-4470-9AD5-C4DD98A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7D307-381D-4FE7-98C4-B16898E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C72-C94C-43BC-8C4C-6410084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AC46E-3DFB-45B9-84E1-98DBBE0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CD296-0B8C-4E24-9063-89521F8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B54B5-3CA6-4ADA-BA14-0CBD666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1619E-CD59-42FA-B4BB-71143EB8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A8AEC-791A-4155-84FA-A3B75292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E4D9B-FE68-48A9-A66B-F693DD06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5A25-81B1-4C44-8C79-2E1A4DC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3B26-6DB0-46BD-974D-9F67A27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88BB-6212-4AAC-B8EE-3823A12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B7700-5667-4D98-9923-BDBE207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31A-A33B-4D41-B7FF-93F60D92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5680-AD01-4A73-BFD3-22A1B9A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6926-9679-4832-9C79-1E48D07B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E7947-205B-4FCD-BAFF-BA5B77A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15967-D82E-4B8C-928F-773ECA8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8A2C-ECA1-449E-8D2C-BF5B2736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F0ADC-7F0C-4F7B-BD40-8FAE10B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03C2-23AA-4419-B138-1C7C2AE0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314-6E62-4E44-9944-B891CB3F7C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442-D454-424E-A41C-6A40ED15640B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2D8-ECCD-4B6F-AED5-CAD93FA5C86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435-004C-401C-9C5F-3194B85383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4FF-BF02-47F8-B641-4A6550BD24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D71-EE29-4A5A-87C7-D42FAD96952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344-DF27-40B2-989C-48C8C7595ADF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AF7-6DB1-464A-89DB-E2AD498A0C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-kopilka.ru/shkolnye-prazdniki/den-svjatogo-valentina/krasivye-valentinki-i-pozdravlenija-s-dnem-svjatogo-valentina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ДЕНЬ СВЯТОГО ВАЛЕНТИНА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42892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манда «Везунчики» 11 «В» класса МОУ «СОШ № 3 города Ершова Саратовской области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уководитель: Т.Н. Громадюк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Рисунок 3" descr="2845098.jpg"/>
          <p:cNvPicPr/>
          <p:nvPr/>
        </p:nvPicPr>
        <p:blipFill>
          <a:blip r:embed="rId1"/>
          <a:stretch/>
        </p:blipFill>
        <p:spPr>
          <a:xfrm>
            <a:off x="3071880" y="1928880"/>
            <a:ext cx="23572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Любви все возрасты покорн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4" name="Рисунок 6" descr="VipTalisman3.jpg"/>
          <p:cNvPicPr/>
          <p:nvPr/>
        </p:nvPicPr>
        <p:blipFill>
          <a:blip r:embed="rId1"/>
          <a:stretch/>
        </p:blipFill>
        <p:spPr>
          <a:xfrm>
            <a:off x="1214280" y="1714680"/>
            <a:ext cx="70725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б истории праздник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нь святого Валентина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самый романтичный праздник! Во всем мире его отмечают как день любви: мальчики и девочки, мужчины и женщины обмениваются</a:t>
            </a:r>
            <a:r>
              <a:rPr b="0" lang="ru-RU" sz="1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валентинка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поздравительными открытками в форме сердечек. Эта традиция появилась очень давно, еще в VII веке. А вот как именно она появилас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ет множество легенд. Валентин, по версии католической церкви, действительно исцелил слепую девочку — дочь сановника Астерия. Астерий уверовал во Христа и принял крещение. Клавдий после этого приказал казнить Валентина. То есть Валентин пострадал за веру, а потому и был причислен к лику свят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романтична другая легенда. В 269 году римский император Клавдий II запретил своим легионерам жениться, чтобы семья не отвлекала их от военных дел. Но нашелся единственный во всем Риме христианский проповедник Валентин, который сочувствовал влюбленным и старался им помочь. Он мирил поссорившихся возлюбленных, сочинял для них письма с признаниями в любви, дарил цветы молодым супругам и тайно венчал легионеров — вопреки закону импера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вдий II, узнав об этом, велел схватить священника и бросить его в тюрьму. Но и там Валентин продолжал творить добрые дела. Он влюбился в слепую дочь своего палача и исцелил ее. А произошло это так: перед казнью молодой священник написал девушке прощальную записку с объяснением в любви, подписанную: «От Валентина». Получив эту весточку, дочь тюремщика прозрела. Валентина казнили 14 февраля 269 года. С этих пор люди отмечают этот день как праздник влюблен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Как в разных странах празднуют День святого Валентина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о всех странах в День святого Валентина принято дарить любимым подарки и валентинки. А еще в этот день любят устраивать свадьбы и венчаться. Но нужно отметить, что День святого Валентина популярен все-таки не везде. Например, в Саудовской Аравии этот праздник вообще запрещен. В стране даже существует специальная комиссия, которая строго следит за тем, чтобы День влюбленных никто не отмеча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IX века у американцев появился обычай — в День святого Валентина дарить возлюбленным фигурки из марципана. А марципаны в те времена считались большой роскошью! И еще у американских детей в этот день принято дарить подарки больным и одиноким людя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ии раньше вырезали деревянные «ложки любви» и дарили их своим любимым. Их украшали сердечками, ключами и замочными скважинами, что символизировало: путь к сердцу откры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чень красивая легенда о том, как Афродита наступила на куст белых роз и обагрила розы своей кровью. Так появились красные розы. Считается, что родоначальником традиции дарить возлюбленным именно красные розы выступил Людовик XVI, который преподнес такой букет Марии-Антуанет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Англии есть поверье — первый мужчина, которого увидишь в этот день, и есть твой суженый. Поэтому незамужние девушки встают в этот день пораньше и бегут к окну — высматривать суженог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влюбленных французы проводят различные романтические конкурсы. Например, очень популярен конкурс на самую длинную серенаду — песню о любви. А еще именно во Франции впервые было написано послание-четверостишие. И конечно, принято дарить в этот день драгоцен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аздник в Японии празднуется с 30-х гг. прошлого века. Интересно, что в Японии День святого Валентина считается исключительно мужским праздником, поэтому подарки на этот праздник дарят в основном мужчинам, как правило, шоколад (в основном в виде фигурки святого Валентина), а также всевозможные одеколоны, бритвы и т. п. И если женщина подарила мужчине такую шоколадку, то ровно через месяц, 14 марта, он преподносит ей ответный подарок — белый шоколад. Так что 14 марта у японцев снова наступает праздник, который называется «Белый день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японцы проводят конкурс на самое громкое и яркое любовное послание. Юноши и девушки взбираются на помост и кричат оттуда о своей любв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тихи о любви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ександр Бл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агословляю все, что было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лучшей доли не иск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, сердце, сколько ты любило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, разум, сколько ты пылал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скай и счастие и мук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ой горький положили след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 в страстной буре, в долгой скук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не утратил прежний св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ты, кого терзал я новым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сти меня. Нам быть — вдвое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 то, чего не скажешь словом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знал я в облике твое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лядят внимательные оч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сердце бьет, волнуясь, в грудь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холодном мраке снежной но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ой верный продолжая пут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Рисунок 3" descr="35306.jpg"/>
          <p:cNvPicPr/>
          <p:nvPr/>
        </p:nvPicPr>
        <p:blipFill>
          <a:blip r:embed="rId1"/>
          <a:stretch/>
        </p:blipFill>
        <p:spPr>
          <a:xfrm>
            <a:off x="4071960" y="1857240"/>
            <a:ext cx="4854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татус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Содержимое 3" descr="0_72873_f164d85e_XL.jpg"/>
          <p:cNvPicPr/>
          <p:nvPr/>
        </p:nvPicPr>
        <p:blipFill>
          <a:blip r:embed="rId1"/>
          <a:stretch/>
        </p:blipFill>
        <p:spPr>
          <a:xfrm>
            <a:off x="693720" y="1600200"/>
            <a:ext cx="7991640" cy="449568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328608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вь - не сумма обещаний дешёвых и трёпа это когда в сердце твоём чувства минимум до гроб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alibri"/>
              </a:rPr>
              <a:t>Люблю Просто смотреть, как ты смеешься.. люблю называть тебя своим солнцем.. люблю просто смотреть в твои глаза.. и лишь тебе могу сказать Я люблю тебя!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6" name="Содержимое 3" descr="3402383-14.jpg"/>
          <p:cNvPicPr/>
          <p:nvPr/>
        </p:nvPicPr>
        <p:blipFill>
          <a:blip r:embed="rId1"/>
          <a:stretch/>
        </p:blipFill>
        <p:spPr>
          <a:xfrm>
            <a:off x="1262160" y="1785960"/>
            <a:ext cx="6595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9:32:35Z</dcterms:created>
  <dc:creator>Zalman</dc:creator>
  <dc:description/>
  <dc:language>en-US</dc:language>
  <cp:lastModifiedBy>Zalman</cp:lastModifiedBy>
  <dcterms:modified xsi:type="dcterms:W3CDTF">2015-02-09T20:07:54Z</dcterms:modified>
  <cp:revision>4</cp:revision>
  <dc:subject/>
  <dc:title>День Святого Валентина</dc:title>
</cp:coreProperties>
</file>