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87B-CFA3-4999-93E0-0094F1D5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390-04FE-4BA7-B630-CDFFD2F2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E2F-F690-4271-B22C-5ACB807C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6C3-0ED9-4389-8C05-F58EE467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4401-06CA-43D1-A15F-45FF8525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1B72-DB7A-4FF3-9294-371E038D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78E0-F50B-42D6-B92B-975DDABB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CA1-FB82-495E-B08B-5ED3123D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A6FA-5A1D-4C05-BC7A-A85B5D6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7F82-04EC-48F2-A840-6DAE50E0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DBC7-36D4-42B2-B122-0AABFC9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30D-C594-4723-90B9-BCF64B5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2EAD-3475-45D0-B7B8-769D64D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289-8F6F-40FD-8AFD-7231E40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5583-8575-44DF-AD8F-EFA0A1B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AF08-E034-480C-8635-8B813A1E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B0CC-E13E-454D-83ED-215F60C0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80B9A-C300-4A32-9B73-928D66CA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D5C9A-F59E-4D9B-8056-0D2F9677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5D963-7C14-4D95-BE29-4EDD1BB0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B5EBE-4907-45B8-8711-92F1CBC7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5A216-7229-4FA3-8E05-B9F7C59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A76-7DEE-4143-8EEA-0BE5BCC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E8410-87CA-4B15-9379-7AA8FEC8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9E264-1488-4CF0-9303-28B53E9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6269B-89E1-4C89-B5E7-BBECF9F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F780E-2077-4144-8F26-C1686F6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2A2DD-DEF7-4637-B92C-6731FAB9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89E3F-368A-446C-9EFD-D4CF099C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D614B-9902-42E7-8872-0C57372C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96CCB-9184-4F1B-8F5E-B34837D9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D23EC-73A0-4436-A7BC-03E6E347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E8989-A83E-4C39-86BC-36632020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FA1-A7AF-4126-8F4E-C07B4B43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79E81-2A83-445E-9010-47F4094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0DBE4-BC93-4D1D-9B1F-AF630CC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96B42-6B82-4098-AA60-6E0AC970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B6091-CD32-41C1-9636-3E38F74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3EDC7-D6C9-437D-8E00-916A524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CED69-80FD-41BA-B697-0E8CC51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A7B87-8301-4962-A06D-2027C91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507A1-C128-4FC1-A034-9371D777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BE15A-523F-45FA-A98F-50D37E50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E8492-015A-4C53-8F19-9E6BB29A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A9F-764E-4DF9-87B1-31E0B0D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C183A-4030-4230-9A54-0B949776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7D056-6163-4F69-8D0B-28C6B373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CACBD-57CC-4BAE-AD00-1710E44A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BBB50-5F3A-4888-AFB9-0105B95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934DA-42B7-4B20-A57C-BB3C38AA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36459-CD00-42C3-ABF5-87CAF5A4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A1630-4464-410E-9DDE-9701D5A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924B8-FDF7-45FF-9087-42162F9B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9802D-6D81-4C84-9AEF-0AF1ED4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18A34-A852-4908-AA27-4AAA785E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A59-419A-4466-9AFE-D08DB45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5B898-0B6D-4F85-B3F1-CA045474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85C3-A640-41B6-AA7B-864F41B4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B310-71D5-481C-8658-CA5C6899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2AA2D-7CEE-4D30-ABBF-2546FFB3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A540-10D7-4F81-A8C8-F46926C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0109-312A-4721-BADF-B4C5B3A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9B421-AE75-4DD0-B12F-848367FA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4683-054B-419C-A1FA-832D170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0B079-3E3D-4598-8664-E28AF26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CEAB-C36A-42E4-BC0B-B79302B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604-5A3B-4CEB-9E4F-B37B0F9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31564-EFA2-4A31-9DB3-D1036D43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C6C9-7898-4560-B9A2-DF24A342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1509B-2CB3-476A-AF63-1A566734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3AC54-30A0-4C05-8987-90534C49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BA94F-CBAD-4579-B7E2-818BAEEF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E65CD-3242-4EB7-B0E6-B55FA02A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36D14-CA4A-4789-A9D9-1AFB541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77E3C-9620-4D96-BAE9-0B59F01A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ACC6E-76CA-4B3E-AD40-9952D6B1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4FEB0-86D9-4A97-B5E4-10DFCE9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53F-6700-44E4-842F-C09B7D0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250B6-0807-4E1E-B540-64E52FE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022FF-28F8-40A5-B616-1BF9EEA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22619-D2FA-4E65-A68D-333CDA01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767B8-894F-4AF2-A241-05A6C987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B34C2-7129-4671-BEF2-027FDF92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4BB6-6647-4043-9671-36416B31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6B09-3841-4124-955B-9592FEBF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E6FE7-43E5-47ED-A1AB-5532EF94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1CE40-BAA4-4400-9128-BA21C2A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E54E5-AE78-40BF-B9A5-FB2BAEE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EF6-2F84-4AC5-9A03-5E261D2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64A3-615E-4CA7-8AF3-B33D079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86E17-232E-4ED9-B9CC-2793CE4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DF56-237A-45C9-93E4-2665F2A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2A2F-8DC1-4925-91C4-FB88DDF5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EADA0-588B-49CC-8D86-2607C31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F5F8-31AE-408F-AADC-8C9D8DED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0D026-944B-484B-AA57-7560C3D6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1E49-4759-4304-9276-DFA941D206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B959-E68E-4DBA-851F-7833FD020E5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5A5-7A4E-4ACC-88EC-8A71F2FF35D3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A83-99C1-4965-B1DE-4D0BCECD41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BD85-2E2A-4683-8ED8-561666AB42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FCC8-4461-42CF-89DB-EDD959AA1B15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F01E-EF8C-43E5-AA03-7BA9E6D7EE7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C216-3E1D-4B06-9D35-19A395E254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-kopilka.ru/shkolnye-prazdniki/den-svjatogo-valentina/krasivye-valentinki-i-pozdravlenija-s-dnem-svjatogo-valentina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ДЕНЬ СВЯТОГО ВАЛЕНТИНА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42892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манда «Везунчики» 11 «В» класса МОУ «СОШ № 3 города Ершова Саратовской области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уководитель: Т.Н. Громадюк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Рисунок 3" descr="2845098.jpg"/>
          <p:cNvPicPr/>
          <p:nvPr/>
        </p:nvPicPr>
        <p:blipFill>
          <a:blip r:embed="rId1"/>
          <a:stretch/>
        </p:blipFill>
        <p:spPr>
          <a:xfrm>
            <a:off x="3071880" y="1928880"/>
            <a:ext cx="23572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Любви все возрасты покорн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4" name="Рисунок 6" descr="VipTalisman3.jpg"/>
          <p:cNvPicPr/>
          <p:nvPr/>
        </p:nvPicPr>
        <p:blipFill>
          <a:blip r:embed="rId1"/>
          <a:stretch/>
        </p:blipFill>
        <p:spPr>
          <a:xfrm>
            <a:off x="1214280" y="1714680"/>
            <a:ext cx="70725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Об истории праздник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нь святого Валентина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самый романтичный праздник! Во всем мире его отмечают как день любви: мальчики и девочки, мужчины и женщины обмениваются</a:t>
            </a:r>
            <a:r>
              <a:rPr b="0" lang="ru-RU" sz="1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валентинка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поздравительными открытками в форме сердечек. Эта традиция появилась очень давно, еще в VII веке. А вот как именно она появилас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ет множество легенд. Валентин, по версии католической церкви, действительно исцелил слепую девочку — дочь сановника Астерия. Астерий уверовал во Христа и принял крещение. Клавдий после этого приказал казнить Валентина. То есть Валентин пострадал за веру, а потому и был причислен к лику свят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романтична другая легенда. В 269 году римский император Клавдий II запретил своим легионерам жениться, чтобы семья не отвлекала их от военных дел. Но нашелся единственный во всем Риме христианский проповедник Валентин, который сочувствовал влюбленным и старался им помочь. Он мирил поссорившихся возлюбленных, сочинял для них письма с признаниями в любви, дарил цветы молодым супругам и тайно венчал легионеров — вопреки закону импера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вдий II, узнав об этом, велел схватить священника и бросить его в тюрьму. Но и там Валентин продолжал творить добрые дела. Он влюбился в слепую дочь своего палача и исцелил ее. А произошло это так: перед казнью молодой священник написал девушке прощальную записку с объяснением в любви, подписанную: «От Валентина». Получив эту весточку, дочь тюремщика прозрела. Валентина казнили 14 февраля 269 года. С этих пор люди отмечают этот день как праздник влюбленн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Как в разных странах празднуют День святого Валентина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о всех странах в День святого Валентина принято дарить любимым подарки и валентинки. А еще в этот день любят устраивать свадьбы и венчаться. Но нужно отметить, что День святого Валентина популярен все-таки не везде. Например, в Саудовской Аравии этот праздник вообще запрещен. В стране даже существует специальная комиссия, которая строго следит за тем, чтобы День влюбленных никто не отмеча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IX века у американцев появился обычай — в День святого Валентина дарить возлюбленным фигурки из марципана. А марципаны в те времена считались большой роскошью! И еще у американских детей в этот день принято дарить подарки больным и одиноким людя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ии раньше вырезали деревянные «ложки любви» и дарили их своим любимым. Их украшали сердечками, ключами и замочными скважинами, что символизировало: путь к сердцу откры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очень красивая легенда о том, как Афродита наступила на куст белых роз и обагрила розы своей кровью. Так появились красные розы. Считается, что родоначальником традиции дарить возлюбленным именно красные розы выступил Людовик XVI, который преподнес такой букет Марии-Антуанет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 Англии есть поверье — первый мужчина, которого увидишь в этот день, и есть твой суженый. Поэтому незамужние девушки встают в этот день пораньше и бегут к окну — высматривать суженог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влюбленных французы проводят различные романтические конкурсы. Например, очень популярен конкурс на самую длинную серенаду — песню о любви. А еще именно во Франции впервые было написано послание-четверостишие. И конечно, принято дарить в этот день драгоцен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аздник в Японии празднуется с 30-х гг. прошлого века. Интересно, что в Японии День святого Валентина считается исключительно мужским праздником, поэтому подарки на этот праздник дарят в основном мужчинам, как правило, шоколад (в основном в виде фигурки святого Валентина), а также всевозможные одеколоны, бритвы и т. п. И если женщина подарила мужчине такую шоколадку, то ровно через месяц, 14 марта, он преподносит ей ответный подарок — белый шоколад. Так что 14 марта у японцев снова наступает праздник, который называется «Белый день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японцы проводят конкурс на самое громкое и яркое любовное послание. Юноши и девушки взбираются на помост и кричат оттуда о своей любв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тихи о любви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лександр Бл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агословляю все, что было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Я лучшей доли не иск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, сердце, сколько ты любило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, разум, сколько ты пылал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скай и счастие и мук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ой горький положили след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 в страстной буре, в долгой скук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Я не утратил прежний св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ты, кого терзал я новым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сти меня. Нам быть — вдвое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 то, чего не скажешь словом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знал я в облике твое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лядят внимательные оч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сердце бьет, волнуясь, в грудь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холодном мраке снежной ноч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ой верный продолжая пут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Рисунок 3" descr="35306.jpg"/>
          <p:cNvPicPr/>
          <p:nvPr/>
        </p:nvPicPr>
        <p:blipFill>
          <a:blip r:embed="rId1"/>
          <a:stretch/>
        </p:blipFill>
        <p:spPr>
          <a:xfrm>
            <a:off x="4071960" y="1857240"/>
            <a:ext cx="4854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татус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Содержимое 3" descr="0_72873_f164d85e_XL.jpg"/>
          <p:cNvPicPr/>
          <p:nvPr/>
        </p:nvPicPr>
        <p:blipFill>
          <a:blip r:embed="rId1"/>
          <a:stretch/>
        </p:blipFill>
        <p:spPr>
          <a:xfrm>
            <a:off x="693720" y="1600200"/>
            <a:ext cx="7991640" cy="449568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328608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овь - не сумма обещаний дешёвых и трёпа это когда в сердце твоём чувства минимум до гроб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alibri"/>
              </a:rPr>
              <a:t>Люблю Просто смотреть, как ты смеешься.. люблю называть тебя своим солнцем.. люблю просто смотреть в твои глаза.. и лишь тебе могу сказать Я люблю тебя!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6" name="Содержимое 3" descr="3402383-14.jpg"/>
          <p:cNvPicPr/>
          <p:nvPr/>
        </p:nvPicPr>
        <p:blipFill>
          <a:blip r:embed="rId1"/>
          <a:stretch/>
        </p:blipFill>
        <p:spPr>
          <a:xfrm>
            <a:off x="1262160" y="1785960"/>
            <a:ext cx="6595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9:32:35Z</dcterms:created>
  <dc:creator>Zalman</dc:creator>
  <dc:description/>
  <dc:language>en-US</dc:language>
  <cp:lastModifiedBy>Zalman</cp:lastModifiedBy>
  <dcterms:modified xsi:type="dcterms:W3CDTF">2015-02-09T20:07:54Z</dcterms:modified>
  <cp:revision>4</cp:revision>
  <dc:subject/>
  <dc:title>День Святого Валентина</dc:title>
</cp:coreProperties>
</file>