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216-CBF1-4EC9-AD08-37193DE7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137-3C3F-46CF-860F-66EABEC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510-439F-4A38-B075-CCE8C8F4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363-4E60-442D-A68B-95C952A1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DB6-992C-4B4B-A1DB-6D731DAA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AFF-F110-489B-8D13-328F8780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DA9-2881-4037-9118-E648D985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CCA-E274-4C32-91BE-74AE7F3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E0C-AB5E-4D50-BCDC-5015391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EEC-79D5-4BB2-9AAB-F915BC5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381-DB31-4D35-A5D6-BD4B004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B73-9511-4BA9-8284-1AB7728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7F12-8A3C-4742-9306-AAC9402F6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8120" y="3313080"/>
          <a:ext cx="3047760" cy="23184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318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9" descr=""/>
          <p:cNvPicPr/>
          <p:nvPr/>
        </p:nvPicPr>
        <p:blipFill>
          <a:blip r:embed="rId1"/>
          <a:stretch/>
        </p:blipFill>
        <p:spPr>
          <a:xfrm>
            <a:off x="2011320" y="-19080"/>
            <a:ext cx="5853240" cy="800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Вертикальный свиток 2"/>
          <p:cNvSpPr/>
          <p:nvPr/>
        </p:nvSpPr>
        <p:spPr>
          <a:xfrm>
            <a:off x="1857240" y="1857240"/>
            <a:ext cx="5072040" cy="31435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286000" y="221472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середине между двумя… бук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а конце слова посл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ягкий знак, обозначающий мягк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Вертикальный свиток 2"/>
          <p:cNvSpPr/>
          <p:nvPr/>
        </p:nvSpPr>
        <p:spPr>
          <a:xfrm>
            <a:off x="1857240" y="171468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зделительный мягки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корне слова после соглас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д глас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…, …, …, 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зделительный мягкий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Вертикальный свиток 2"/>
          <p:cNvSpPr/>
          <p:nvPr/>
        </p:nvSpPr>
        <p:spPr>
          <a:xfrm>
            <a:off x="1857240" y="171468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зделительный твёрдый 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и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сле …, оканчивающихся н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д глас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…, …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зделительный твёрдый  зн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езударные гласные в корне изменяй так, чтобы безударный гласн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гласные в корне, проверяемые удар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рны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-…, в-…, г…, д…, ж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мен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, чтобы по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оя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арные звонкие и глухие согласные на конц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рные соглас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-…, в-…, г…, д…, ж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змен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ак, чтобы по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тоя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арные звонкие и глухие согласные в середи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Вертикальный свиток 2"/>
          <p:cNvSpPr/>
          <p:nvPr/>
        </p:nvSpPr>
        <p:spPr>
          <a:xfrm>
            <a:off x="1928880" y="1785960"/>
            <a:ext cx="5072040" cy="414324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ва с сочет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Дн, сТн, зДн, лНц,В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ужно изменить так, чтобы  согласная слышала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произносимые согл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ертикальный свиток 2"/>
          <p:cNvSpPr/>
          <p:nvPr/>
        </p:nvSpPr>
        <p:spPr>
          <a:xfrm>
            <a:off x="2017800" y="1785960"/>
            <a:ext cx="5072040" cy="29289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с,лл,рр,нн,вв,пп,жж,б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Удвоенные согл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редлог со словом п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едлог со сло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конце имён существительных… рода после шипящих… пишется мягки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она, мо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ягкий знак после шипящих на конце имён существительных женского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Вертикальный свиток 2"/>
          <p:cNvSpPr/>
          <p:nvPr/>
        </p:nvSpPr>
        <p:spPr>
          <a:xfrm>
            <a:off x="1857240" y="1785960"/>
            <a:ext cx="528660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428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ервое слово в пред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ишется с … бу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8120" y="3313080"/>
          <a:ext cx="3047760" cy="23184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32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войная волна 7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 с глаг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 с глаго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Вертикальный свиток 2"/>
          <p:cNvSpPr/>
          <p:nvPr/>
        </p:nvSpPr>
        <p:spPr>
          <a:xfrm>
            <a:off x="1928880" y="1785960"/>
            <a:ext cx="5072040" cy="32148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едлог с местоим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едлог с местоим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ложные слова состоят из… корней и соединяются  соединительными гласны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Слож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конце глаголов 2 лица, ед. числа настоящего и будущего времени пиш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ФОГРАММА №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ягкий знак на конце глаголов 2 лица, ед числа, настоящего и будущ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Вертикальный свиток 2"/>
          <p:cNvSpPr/>
          <p:nvPr/>
        </p:nvSpPr>
        <p:spPr>
          <a:xfrm>
            <a:off x="1928880" y="1643040"/>
            <a:ext cx="5072040" cy="33577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арные и безударные падежные окончания у слов одного склонения в одной и той же форме пишу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ова-помощники 1 скл. …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скл….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кл….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 падежные окончания имён существ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Вертикальный свиток 2"/>
          <p:cNvSpPr/>
          <p:nvPr/>
        </p:nvSpPr>
        <p:spPr>
          <a:xfrm>
            <a:off x="1928880" y="1643040"/>
            <a:ext cx="5429160" cy="442908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Найти в предложении имя сущ. к которому относится имя при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Определить…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Вспомнить… прилаг. в этом пад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Сравнить окончание прилаг, и … вопроса, на который оно отве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падежные окончания имён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Вертикальный свиток 2"/>
          <p:cNvSpPr/>
          <p:nvPr/>
        </p:nvSpPr>
        <p:spPr>
          <a:xfrm>
            <a:off x="1428840" y="1714680"/>
            <a:ext cx="6143400" cy="485748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хожу глагол с безударным личным оконч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тавлю в…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3.Определяю…, если  неопределённая форма оканчивается на -…, …спряжение ,пиш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если  на -…, … спряжение, пиш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войная волна 6"/>
          <p:cNvSpPr/>
          <p:nvPr/>
        </p:nvSpPr>
        <p:spPr>
          <a:xfrm>
            <a:off x="1714680" y="35712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езударные личные окончания глаг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2286000" y="15717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857240" y="928800"/>
            <a:ext cx="56437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спользова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Т.Г. Рамзаева Учебник русск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1 класс, 2 класс, 3 класс,4 класс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2"/>
          <p:cNvSpPr/>
          <p:nvPr/>
        </p:nvSpPr>
        <p:spPr>
          <a:xfrm>
            <a:off x="1857240" y="1785960"/>
            <a:ext cx="528660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2286000" y="2428920"/>
            <a:ext cx="428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лова из одной строчки на другую переносятся п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льзя при перено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оставля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при переносе буквы й не отделяется 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нельзя переносить 2 одинаковы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Большая буква в начал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 flipH="1">
            <a:off x="-714960" y="84240"/>
            <a:ext cx="2854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Двойная волна 7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еренос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ертикальный свиток 2"/>
          <p:cNvSpPr/>
          <p:nvPr/>
        </p:nvSpPr>
        <p:spPr>
          <a:xfrm>
            <a:off x="1785960" y="1643040"/>
            <a:ext cx="507204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Ж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сегда твёрды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ЖИ и 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Двойная волна 6"/>
          <p:cNvSpPr/>
          <p:nvPr/>
        </p:nvSpPr>
        <p:spPr>
          <a:xfrm>
            <a:off x="164304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Ж и 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Вертикальный свиток 2"/>
          <p:cNvSpPr/>
          <p:nvPr/>
        </p:nvSpPr>
        <p:spPr>
          <a:xfrm>
            <a:off x="1785960" y="1643040"/>
            <a:ext cx="5072040" cy="38577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 и 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Ч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Вертикальный свиток 2"/>
          <p:cNvSpPr/>
          <p:nvPr/>
        </p:nvSpPr>
        <p:spPr>
          <a:xfrm>
            <a:off x="1785960" y="1571760"/>
            <a:ext cx="5072040" cy="38574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 и 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с букв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Гласные после шипящих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Ч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Вертикальный свиток 2"/>
          <p:cNvSpPr/>
          <p:nvPr/>
        </p:nvSpPr>
        <p:spPr>
          <a:xfrm>
            <a:off x="1785960" y="1643040"/>
            <a:ext cx="5072040" cy="385776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286000" y="2214720"/>
            <a:ext cx="42148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… зв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четани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к,чн,щ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ши без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ФОГРАММА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четания чк, чн,щ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Вертикальный свиток 2"/>
          <p:cNvSpPr/>
          <p:nvPr/>
        </p:nvSpPr>
        <p:spPr>
          <a:xfrm>
            <a:off x="1785960" y="1714680"/>
            <a:ext cx="5072040" cy="37861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286000" y="221472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амилии, имена, отчеств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клички животных пишутс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Заглавная буква в фамилиях, именах, отчествах людей и кличках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Вертикальный свиток 2"/>
          <p:cNvSpPr/>
          <p:nvPr/>
        </p:nvSpPr>
        <p:spPr>
          <a:xfrm>
            <a:off x="1857240" y="1857240"/>
            <a:ext cx="5072040" cy="31435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86000" y="2214720"/>
            <a:ext cx="4071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графические названия пишутс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войная волна 6"/>
          <p:cNvSpPr/>
          <p:nvPr/>
        </p:nvSpPr>
        <p:spPr>
          <a:xfrm>
            <a:off x="1714680" y="285840"/>
            <a:ext cx="5715000" cy="1271520"/>
          </a:xfrm>
          <a:custGeom>
            <a:avLst/>
            <a:gdLst>
              <a:gd name="textAreaLeft" fmla="*/ 0 w 5715000"/>
              <a:gd name="textAreaRight" fmla="*/ 5715360 w 5715000"/>
              <a:gd name="textAreaTop" fmla="*/ 158760 h 1271520"/>
              <a:gd name="textAreaBottom" fmla="*/ 1112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381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ММА №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Заглавная буква в  географических наз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7:57:43Z</dcterms:created>
  <dc:creator>User</dc:creator>
  <dc:description/>
  <dc:language>en-US</dc:language>
  <cp:lastModifiedBy>77005</cp:lastModifiedBy>
  <dcterms:modified xsi:type="dcterms:W3CDTF">2013-10-17T10:50:31Z</dcterms:modified>
  <cp:revision>59</cp:revision>
  <dc:subject/>
  <dc:title>Слайд 1</dc:title>
</cp:coreProperties>
</file>