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4268-C155-4DCA-9A94-AC200550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EBC3-34F5-41B2-BF08-8A393781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5B20-14D8-4DEF-9BDC-7127DDC5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CF79-2970-4E66-B61C-EC9A161A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AD5A-EEA1-45AE-B472-57B660E7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B257-18A3-492E-9474-CDE51F3B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8AE6-A23A-4684-A5BF-D9A3077B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019F-FBC8-410C-B1C9-BC1A3BFB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8C3F-03DC-44B1-A86C-ED7763BB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351A-CA93-4CE4-BECD-FD3D336C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BF9C-5C42-4039-8177-60BA3C50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6E6F-747C-4E69-B272-63875832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B19A-FBB2-404B-BB41-6E1D994BBA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048120" y="3313080"/>
          <a:ext cx="3047760" cy="23184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2318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Rectangle 5"/>
          <p:cNvSpPr/>
          <p:nvPr/>
        </p:nvSpPr>
        <p:spPr>
          <a:xfrm flipH="1">
            <a:off x="-714960" y="84240"/>
            <a:ext cx="2854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9" descr=""/>
          <p:cNvPicPr/>
          <p:nvPr/>
        </p:nvPicPr>
        <p:blipFill>
          <a:blip r:embed="rId1"/>
          <a:stretch/>
        </p:blipFill>
        <p:spPr>
          <a:xfrm>
            <a:off x="2011320" y="-19080"/>
            <a:ext cx="5853240" cy="800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Вертикальный свиток 2"/>
          <p:cNvSpPr/>
          <p:nvPr/>
        </p:nvSpPr>
        <p:spPr>
          <a:xfrm>
            <a:off x="1857240" y="1857240"/>
            <a:ext cx="5072040" cy="314352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"/>
          <p:cNvSpPr/>
          <p:nvPr/>
        </p:nvSpPr>
        <p:spPr>
          <a:xfrm>
            <a:off x="2286000" y="2214720"/>
            <a:ext cx="4071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иш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В середине между двумя… бук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На конце слова посл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Двойная волна 6"/>
          <p:cNvSpPr/>
          <p:nvPr/>
        </p:nvSpPr>
        <p:spPr>
          <a:xfrm>
            <a:off x="1714680" y="28584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Мягкий знак, обозначающий мягк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Вертикальный свиток 2"/>
          <p:cNvSpPr/>
          <p:nvPr/>
        </p:nvSpPr>
        <p:spPr>
          <a:xfrm>
            <a:off x="1857240" y="1714680"/>
            <a:ext cx="5072040" cy="414324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азделительный мягкий зн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иш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 корне слова после соглас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еред глас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…, …, …, …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"/>
          <p:cNvSpPr/>
          <p:nvPr/>
        </p:nvSpPr>
        <p:spPr>
          <a:xfrm>
            <a:off x="2286000" y="1571760"/>
            <a:ext cx="4071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Двойная волна 6"/>
          <p:cNvSpPr/>
          <p:nvPr/>
        </p:nvSpPr>
        <p:spPr>
          <a:xfrm>
            <a:off x="1714680" y="28584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Разделительный мягкий зн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Вертикальный свиток 2"/>
          <p:cNvSpPr/>
          <p:nvPr/>
        </p:nvSpPr>
        <p:spPr>
          <a:xfrm>
            <a:off x="1857240" y="1714680"/>
            <a:ext cx="5072040" cy="414324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азделительный твёрдый зн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иш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осле …, оканчивающихся на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еред глас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…, …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2286000" y="1571760"/>
            <a:ext cx="4071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Двойная волна 6"/>
          <p:cNvSpPr/>
          <p:nvPr/>
        </p:nvSpPr>
        <p:spPr>
          <a:xfrm>
            <a:off x="1714680" y="28584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Разделительный твёрдый  зн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Вертикальный свиток 2"/>
          <p:cNvSpPr/>
          <p:nvPr/>
        </p:nvSpPr>
        <p:spPr>
          <a:xfrm>
            <a:off x="1928880" y="1785960"/>
            <a:ext cx="5072040" cy="414324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Безударные гласные в корне изменяй так, чтобы безударный гласны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4"/>
          <p:cNvSpPr/>
          <p:nvPr/>
        </p:nvSpPr>
        <p:spPr>
          <a:xfrm>
            <a:off x="2286000" y="1571760"/>
            <a:ext cx="4071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Двойная волна 6"/>
          <p:cNvSpPr/>
          <p:nvPr/>
        </p:nvSpPr>
        <p:spPr>
          <a:xfrm>
            <a:off x="1714680" y="35712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Безударные гласные в корне, проверяемые ударе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Вертикальный свиток 2"/>
          <p:cNvSpPr/>
          <p:nvPr/>
        </p:nvSpPr>
        <p:spPr>
          <a:xfrm>
            <a:off x="1928880" y="1785960"/>
            <a:ext cx="5072040" cy="414324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арные согласн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б-…, в-…, г…, д…, ж…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з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Измени 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так, чтобы пос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тоя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4"/>
          <p:cNvSpPr/>
          <p:nvPr/>
        </p:nvSpPr>
        <p:spPr>
          <a:xfrm>
            <a:off x="2286000" y="1571760"/>
            <a:ext cx="4071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Двойная волна 6"/>
          <p:cNvSpPr/>
          <p:nvPr/>
        </p:nvSpPr>
        <p:spPr>
          <a:xfrm>
            <a:off x="1714680" y="35712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Парные звонкие и глухие согласные на конце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Вертикальный свиток 2"/>
          <p:cNvSpPr/>
          <p:nvPr/>
        </p:nvSpPr>
        <p:spPr>
          <a:xfrm>
            <a:off x="1928880" y="1785960"/>
            <a:ext cx="5072040" cy="414324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арные согласн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б-…, в-…, г…, д…, ж…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з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Измени 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так, чтобы пос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тоя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2286000" y="1571760"/>
            <a:ext cx="4071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Двойная волна 6"/>
          <p:cNvSpPr/>
          <p:nvPr/>
        </p:nvSpPr>
        <p:spPr>
          <a:xfrm>
            <a:off x="1714680" y="35712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Парные звонкие и глухие согласные в середине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Вертикальный свиток 2"/>
          <p:cNvSpPr/>
          <p:nvPr/>
        </p:nvSpPr>
        <p:spPr>
          <a:xfrm>
            <a:off x="1928880" y="1785960"/>
            <a:ext cx="5072040" cy="414324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лова с сочета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рДн, сТн, зДн, лНц,В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ужно изменить так, чтобы  согласная слышалас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2286000" y="1571760"/>
            <a:ext cx="4071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Двойная волна 6"/>
          <p:cNvSpPr/>
          <p:nvPr/>
        </p:nvSpPr>
        <p:spPr>
          <a:xfrm>
            <a:off x="1714680" y="35712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Непроизносимые согла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Вертикальный свиток 2"/>
          <p:cNvSpPr/>
          <p:nvPr/>
        </p:nvSpPr>
        <p:spPr>
          <a:xfrm>
            <a:off x="2017800" y="1785960"/>
            <a:ext cx="5072040" cy="292896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с,лл,рр,нн,вв,пп,жж,б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2286000" y="1571760"/>
            <a:ext cx="4071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Двойная волна 6"/>
          <p:cNvSpPr/>
          <p:nvPr/>
        </p:nvSpPr>
        <p:spPr>
          <a:xfrm>
            <a:off x="1714680" y="35712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Удвоенные согла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Вертикальный свиток 2"/>
          <p:cNvSpPr/>
          <p:nvPr/>
        </p:nvSpPr>
        <p:spPr>
          <a:xfrm>
            <a:off x="1928880" y="1785960"/>
            <a:ext cx="5072040" cy="321480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Предлог со словом пи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2286000" y="1571760"/>
            <a:ext cx="4071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Двойная волна 6"/>
          <p:cNvSpPr/>
          <p:nvPr/>
        </p:nvSpPr>
        <p:spPr>
          <a:xfrm>
            <a:off x="1714680" y="35712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Предлог со слов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Вертикальный свиток 2"/>
          <p:cNvSpPr/>
          <p:nvPr/>
        </p:nvSpPr>
        <p:spPr>
          <a:xfrm>
            <a:off x="1928880" y="1785960"/>
            <a:ext cx="5072040" cy="321480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а конце имён существительных… рода после шипящих… пишется мягкий зн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апример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(она, мо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4"/>
          <p:cNvSpPr/>
          <p:nvPr/>
        </p:nvSpPr>
        <p:spPr>
          <a:xfrm>
            <a:off x="2286000" y="1571760"/>
            <a:ext cx="4071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Двойная волна 6"/>
          <p:cNvSpPr/>
          <p:nvPr/>
        </p:nvSpPr>
        <p:spPr>
          <a:xfrm>
            <a:off x="1714680" y="35712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Мягкий знак после шипящих на конце имён существительных женского 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Вертикальный свиток 2"/>
          <p:cNvSpPr/>
          <p:nvPr/>
        </p:nvSpPr>
        <p:spPr>
          <a:xfrm>
            <a:off x="1857240" y="1785960"/>
            <a:ext cx="5286600" cy="378612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2286000" y="242892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ервое слово в предлож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ишется с … бук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Двойная волна 6"/>
          <p:cNvSpPr/>
          <p:nvPr/>
        </p:nvSpPr>
        <p:spPr>
          <a:xfrm>
            <a:off x="1643040" y="28584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Большая буква в начале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048120" y="3313080"/>
          <a:ext cx="3047760" cy="23184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23256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Rectangle 5"/>
          <p:cNvSpPr/>
          <p:nvPr/>
        </p:nvSpPr>
        <p:spPr>
          <a:xfrm flipH="1">
            <a:off x="-714960" y="84240"/>
            <a:ext cx="2854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Двойная волна 7"/>
          <p:cNvSpPr/>
          <p:nvPr/>
        </p:nvSpPr>
        <p:spPr>
          <a:xfrm>
            <a:off x="1643040" y="28584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Большая буква в начале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Вертикальный свиток 2"/>
          <p:cNvSpPr/>
          <p:nvPr/>
        </p:nvSpPr>
        <p:spPr>
          <a:xfrm>
            <a:off x="1928880" y="1785960"/>
            <a:ext cx="5072040" cy="321480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е с глагол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иш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2286000" y="1571760"/>
            <a:ext cx="4071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Двойная волна 6"/>
          <p:cNvSpPr/>
          <p:nvPr/>
        </p:nvSpPr>
        <p:spPr>
          <a:xfrm>
            <a:off x="1714680" y="35712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Не с глаго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Вертикальный свиток 2"/>
          <p:cNvSpPr/>
          <p:nvPr/>
        </p:nvSpPr>
        <p:spPr>
          <a:xfrm>
            <a:off x="1928880" y="1785960"/>
            <a:ext cx="5072040" cy="321480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редлог с местоим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иш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4"/>
          <p:cNvSpPr/>
          <p:nvPr/>
        </p:nvSpPr>
        <p:spPr>
          <a:xfrm>
            <a:off x="2286000" y="1571760"/>
            <a:ext cx="4071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Двойная волна 6"/>
          <p:cNvSpPr/>
          <p:nvPr/>
        </p:nvSpPr>
        <p:spPr>
          <a:xfrm>
            <a:off x="1714680" y="35712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Предлог с местоим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Вертикальный свиток 2"/>
          <p:cNvSpPr/>
          <p:nvPr/>
        </p:nvSpPr>
        <p:spPr>
          <a:xfrm>
            <a:off x="1928880" y="1643040"/>
            <a:ext cx="5072040" cy="335772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ложные слова состоят из… корней и соединяются  соединительными гласным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2286000" y="1571760"/>
            <a:ext cx="4071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Двойная волна 6"/>
          <p:cNvSpPr/>
          <p:nvPr/>
        </p:nvSpPr>
        <p:spPr>
          <a:xfrm>
            <a:off x="1714680" y="35712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Сложные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Вертикальный свиток 2"/>
          <p:cNvSpPr/>
          <p:nvPr/>
        </p:nvSpPr>
        <p:spPr>
          <a:xfrm>
            <a:off x="1928880" y="1643040"/>
            <a:ext cx="5072040" cy="335772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а конце глаголов 2 лица, ед. числа настоящего и будущего времени пишет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4"/>
          <p:cNvSpPr/>
          <p:nvPr/>
        </p:nvSpPr>
        <p:spPr>
          <a:xfrm>
            <a:off x="2286000" y="1571760"/>
            <a:ext cx="4071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Двойная волна 6"/>
          <p:cNvSpPr/>
          <p:nvPr/>
        </p:nvSpPr>
        <p:spPr>
          <a:xfrm>
            <a:off x="1714680" y="35712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РФОГРАММА № 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Мягкий знак на конце глаголов 2 лица, ед числа, настоящего и будущего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Вертикальный свиток 2"/>
          <p:cNvSpPr/>
          <p:nvPr/>
        </p:nvSpPr>
        <p:spPr>
          <a:xfrm>
            <a:off x="1928880" y="1643040"/>
            <a:ext cx="5072040" cy="335772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дарные и безударные падежные окончания у слов одного склонения в одной и той же форме пишутс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лова-помощники 1 скл. …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 скл….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 скл….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4"/>
          <p:cNvSpPr/>
          <p:nvPr/>
        </p:nvSpPr>
        <p:spPr>
          <a:xfrm>
            <a:off x="2286000" y="1571760"/>
            <a:ext cx="4071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Двойная волна 6"/>
          <p:cNvSpPr/>
          <p:nvPr/>
        </p:nvSpPr>
        <p:spPr>
          <a:xfrm>
            <a:off x="1714680" y="35712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Безударные  падежные окончания имён существите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Вертикальный свиток 2"/>
          <p:cNvSpPr/>
          <p:nvPr/>
        </p:nvSpPr>
        <p:spPr>
          <a:xfrm>
            <a:off x="1928880" y="1643040"/>
            <a:ext cx="5429160" cy="442908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1.Найти в предложении имя сущ. к которому относится имя прил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2. Определить…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3. Вспомнить… прилаг. в этом паде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4. Сравнить окончание прилаг, и … вопроса, на который оно отвеч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4"/>
          <p:cNvSpPr/>
          <p:nvPr/>
        </p:nvSpPr>
        <p:spPr>
          <a:xfrm>
            <a:off x="2286000" y="1571760"/>
            <a:ext cx="4071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Двойная волна 6"/>
          <p:cNvSpPr/>
          <p:nvPr/>
        </p:nvSpPr>
        <p:spPr>
          <a:xfrm>
            <a:off x="1714680" y="35712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Безударные падежные окончания имён прилагате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Вертикальный свиток 2"/>
          <p:cNvSpPr/>
          <p:nvPr/>
        </p:nvSpPr>
        <p:spPr>
          <a:xfrm>
            <a:off x="1428840" y="1714680"/>
            <a:ext cx="6143400" cy="485748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Нахожу глагол с безударным личным оконча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Ставлю в… фор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3.Определяю…, если  неопределённая форма оканчивается на -…, …спряжение ,пиш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если  на -…, … спряжение, пишу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4"/>
          <p:cNvSpPr/>
          <p:nvPr/>
        </p:nvSpPr>
        <p:spPr>
          <a:xfrm>
            <a:off x="2286000" y="1571760"/>
            <a:ext cx="4071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Двойная волна 6"/>
          <p:cNvSpPr/>
          <p:nvPr/>
        </p:nvSpPr>
        <p:spPr>
          <a:xfrm>
            <a:off x="1714680" y="35712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Безударные личные окончания глаго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4"/>
          <p:cNvSpPr/>
          <p:nvPr/>
        </p:nvSpPr>
        <p:spPr>
          <a:xfrm>
            <a:off x="2286000" y="1571760"/>
            <a:ext cx="4071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1857240" y="928800"/>
            <a:ext cx="564372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Использованная 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Т.Г. Рамзаева Учебник русского язы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1 класс, 2 класс, 3 класс,4 класс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Вертикальный свиток 2"/>
          <p:cNvSpPr/>
          <p:nvPr/>
        </p:nvSpPr>
        <p:spPr>
          <a:xfrm>
            <a:off x="1857240" y="1785960"/>
            <a:ext cx="5286600" cy="378612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2286000" y="2428920"/>
            <a:ext cx="4286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лова из одной строчки на другую переносятся по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Нельзя при перенос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оставлят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при переносе буквы й не отделяется о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нельзя переносить 2 одинаковы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Двойная волна 6"/>
          <p:cNvSpPr/>
          <p:nvPr/>
        </p:nvSpPr>
        <p:spPr>
          <a:xfrm>
            <a:off x="1643040" y="28584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Большая буква в начале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 flipH="1">
            <a:off x="-714960" y="84240"/>
            <a:ext cx="2854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Двойная волна 7"/>
          <p:cNvSpPr/>
          <p:nvPr/>
        </p:nvSpPr>
        <p:spPr>
          <a:xfrm>
            <a:off x="1643040" y="28584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Перенос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Вертикальный свиток 2"/>
          <p:cNvSpPr/>
          <p:nvPr/>
        </p:nvSpPr>
        <p:spPr>
          <a:xfrm>
            <a:off x="1785960" y="1643040"/>
            <a:ext cx="5072040" cy="378612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2286000" y="2214720"/>
            <a:ext cx="421488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Ж </a:t>
            </a:r>
            <a:r>
              <a:rPr b="1" i="1" lang="en-US" sz="5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сегда твёрдые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ЖИ и 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иши с букво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Двойная волна 6"/>
          <p:cNvSpPr/>
          <p:nvPr/>
        </p:nvSpPr>
        <p:spPr>
          <a:xfrm>
            <a:off x="1643040" y="28584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Гласные после шипящих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Ж и 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Вертикальный свиток 2"/>
          <p:cNvSpPr/>
          <p:nvPr/>
        </p:nvSpPr>
        <p:spPr>
          <a:xfrm>
            <a:off x="1785960" y="1643040"/>
            <a:ext cx="5072040" cy="385776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4"/>
          <p:cNvSpPr/>
          <p:nvPr/>
        </p:nvSpPr>
        <p:spPr>
          <a:xfrm>
            <a:off x="2286000" y="2214720"/>
            <a:ext cx="421488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Ч 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сегда … зв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у и щ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иши с букво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Двойная волна 6"/>
          <p:cNvSpPr/>
          <p:nvPr/>
        </p:nvSpPr>
        <p:spPr>
          <a:xfrm>
            <a:off x="1714680" y="28584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Гласные после шипящих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Ч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и 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Вертикальный свиток 2"/>
          <p:cNvSpPr/>
          <p:nvPr/>
        </p:nvSpPr>
        <p:spPr>
          <a:xfrm>
            <a:off x="1785960" y="1571760"/>
            <a:ext cx="5072040" cy="385740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2286000" y="2214720"/>
            <a:ext cx="421488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Ч 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сегда … зв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а и щ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иши с букво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Двойная волна 6"/>
          <p:cNvSpPr/>
          <p:nvPr/>
        </p:nvSpPr>
        <p:spPr>
          <a:xfrm>
            <a:off x="1714680" y="28584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Гласные после шипящих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Ч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и 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Вертикальный свиток 2"/>
          <p:cNvSpPr/>
          <p:nvPr/>
        </p:nvSpPr>
        <p:spPr>
          <a:xfrm>
            <a:off x="1785960" y="1643040"/>
            <a:ext cx="5072040" cy="385776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2286000" y="2214720"/>
            <a:ext cx="421488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Ч 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сегда … зв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четания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чк,чн,щ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иши без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Двойная волна 6"/>
          <p:cNvSpPr/>
          <p:nvPr/>
        </p:nvSpPr>
        <p:spPr>
          <a:xfrm>
            <a:off x="1714680" y="28584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РФОГРАММА №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очетания чк, чн,щ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Вертикальный свиток 2"/>
          <p:cNvSpPr/>
          <p:nvPr/>
        </p:nvSpPr>
        <p:spPr>
          <a:xfrm>
            <a:off x="1785960" y="1714680"/>
            <a:ext cx="5072040" cy="378612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2286000" y="2214720"/>
            <a:ext cx="407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Фамилии, имена, отчества 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и клички животных пишутся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бу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Двойная волна 6"/>
          <p:cNvSpPr/>
          <p:nvPr/>
        </p:nvSpPr>
        <p:spPr>
          <a:xfrm>
            <a:off x="1714680" y="28584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Заглавная буква в фамилиях, именах, отчествах людей и кличках живот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Вертикальный свиток 2"/>
          <p:cNvSpPr/>
          <p:nvPr/>
        </p:nvSpPr>
        <p:spPr>
          <a:xfrm>
            <a:off x="1857240" y="1857240"/>
            <a:ext cx="5072040" cy="314352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2286000" y="2214720"/>
            <a:ext cx="40719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Географические названия пишутся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бук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Двойная волна 6"/>
          <p:cNvSpPr/>
          <p:nvPr/>
        </p:nvSpPr>
        <p:spPr>
          <a:xfrm>
            <a:off x="1714680" y="28584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Заглавная буква в  географических назва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17:57:43Z</dcterms:created>
  <dc:creator>User</dc:creator>
  <dc:description/>
  <dc:language>en-US</dc:language>
  <cp:lastModifiedBy>77005</cp:lastModifiedBy>
  <dcterms:modified xsi:type="dcterms:W3CDTF">2013-10-17T10:50:31Z</dcterms:modified>
  <cp:revision>59</cp:revision>
  <dc:subject/>
  <dc:title>Слайд 1</dc:title>
</cp:coreProperties>
</file>