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211-B3AC-4598-80B5-DA1DE8A8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04B4-9423-4E03-AC84-8E12A730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1619-3A21-4B66-A428-375FD143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0035-2C67-4530-90BA-AC1D1105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FEB3-776E-4E58-B7F1-E3F805AF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1533-822E-4010-BDA8-3DA21F62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E94-A624-4AE9-AD37-7F348941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E98C-96E8-430A-B338-FD7B3354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2CB-48F8-45A1-B327-6CE30653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8ED-D687-439F-9400-417221F5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5687-233D-45F0-8FF2-A1875340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25F7-F6C8-44CE-8CE0-23ACC647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60E3-13C3-472C-9D29-8D0C20ADC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1806480"/>
            <a:ext cx="3606840" cy="3245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924360" y="260280"/>
            <a:ext cx="2590920" cy="3902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867280" y="3860640"/>
            <a:ext cx="280692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07:00:36Z</dcterms:created>
  <dc:creator>comp</dc:creator>
  <dc:description/>
  <dc:language>en-US</dc:language>
  <cp:lastModifiedBy>comp</cp:lastModifiedBy>
  <dcterms:modified xsi:type="dcterms:W3CDTF">2013-01-22T07:03:05Z</dcterms:modified>
  <cp:revision>1</cp:revision>
  <dc:subject/>
  <dc:title>Слайд 1</dc:title>
</cp:coreProperties>
</file>