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DAC-9C98-404F-83E6-BF1938AF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B90-5622-400B-AEFB-D72981CE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183-DA51-4AE3-B4CC-60CA2580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D50-09E9-4764-93A8-753B6198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4FB-254D-4EBC-B78E-5170038C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227-C29C-4110-B8B0-0EBD50FE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2DC-973D-4012-973E-005E39CF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0F1-AAAD-4939-80EC-60D4AC38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89D-C31E-4761-9903-13BBAD80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018-48C3-4FB5-902B-3F88DE86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435-8CDC-4D15-8CF7-BA26CDB1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013-C570-4B40-878A-32649982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5F7A-7B17-48AB-B115-61AAE189F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806480"/>
            <a:ext cx="3606840" cy="3245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24360" y="260280"/>
            <a:ext cx="2590920" cy="3902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867280" y="3860640"/>
            <a:ext cx="28069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07:00:36Z</dcterms:created>
  <dc:creator>comp</dc:creator>
  <dc:description/>
  <dc:language>en-US</dc:language>
  <cp:lastModifiedBy>comp</cp:lastModifiedBy>
  <dcterms:modified xsi:type="dcterms:W3CDTF">2013-01-22T07:03:05Z</dcterms:modified>
  <cp:revision>1</cp:revision>
  <dc:subject/>
  <dc:title>Слайд 1</dc:title>
</cp:coreProperties>
</file>