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6A4-EB8B-4BC2-B1E8-483917BC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64B-18BA-4D2F-B4E4-F5CAD24B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CD1-EE2A-4DA5-A135-199177F4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F7D-BEFB-424B-AC09-1B730555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E472-93A6-4DE5-8709-58AB83D0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1EB8-3D28-4FC0-BCDD-1A768747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7704-ECEF-4E04-9975-5B6718FC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DBC5-B005-4FC2-98BA-1556CD70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CC07-F644-4D4B-BB80-6AB3B759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C764-E033-4503-A2D3-99447E2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117A-847C-48B9-B0C4-DF824B63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EEA-5377-46B4-AFD8-4825495D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EB1-2AAA-4305-9C42-E9B18823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0CF7-D70F-4AF1-A21A-B6E0CAF1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FE75-B29E-4CF2-9F40-D01C1422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E12E-05CB-436E-92F6-976999A1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EB3F-FABB-4DF6-9D19-2D13887D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0535-9305-4994-9B83-CBFD8D73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E3D9-5B22-4E56-B19D-9C02F8D3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011A-E78F-4A46-953A-1318F5F1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5C09-18AE-4844-8D32-11A20FB7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EF83-A93B-43A9-A026-DBC46895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5FB-2370-4845-8A3F-668BA85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8F76-2180-4B8A-83FA-603CE997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6A32-1B81-42B9-B3E6-643549AE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AB75-A183-4A05-8704-DDF0E774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2431-5A37-4A78-BB1A-7EFCC46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4063-2B56-4E18-8BD5-2279D632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E34A-58C5-456F-8923-95EB543A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9471-0E6B-4033-AC98-CABAE277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734-1E7D-49CF-A1C0-51B0452D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1CD-DA0B-4AF2-9C81-60F2E4E6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EDB-E2BC-4A3A-B5E0-6C0C7607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922-8145-43DF-BA2F-F92D507B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AAB-91E3-44DD-BF3B-C8440D7A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FA3-161C-45A4-86BA-EF22A6F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6638-DED3-49C1-87EB-BC69A594DA86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CF91-D415-4983-BECC-DF1844E7A88E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D556-37E2-4689-9E71-E22F27B7BCE2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271080"/>
            <a:ext cx="52563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 Black"/>
              </a:rPr>
              <a:t>ГОСУДАРСТВЕННАЯ ПОЛИТИКА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 Black"/>
              </a:rPr>
              <a:t>В СФЕРЕ ПАТРИОТИЧЕСКОГО ВОСПИТАНИЯ: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 Black"/>
              </a:rPr>
              <a:t>ПРИОРИТЕТЫ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Arial Black"/>
              </a:rPr>
              <a:t>И ПРОЕКТЫ </a:t>
            </a: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240"/>
            <a:ext cx="483552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СМАРЦЕВ МИХАИЛ БОРИСОВИЧ, ЧЛЕН НАУЧНО-ЭКСПЕРТНОГО СОВЕТА ПО ПАТРИОТИЧЕСКОМУ ВОСПИТАНИЮ РОССИЙСКОГО ГОСУДАРСТВЕННОГО ВОЕННОГО ИСТОРИКО-КУЛЬТУРНОГО ЦЕНТР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И ПРАВИТЕЛЬСТВЕ РФ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C:\Users\pojarskay\Папки ПК\Desktop\1.jpg"/>
          <p:cNvPicPr/>
          <p:nvPr/>
        </p:nvPicPr>
        <p:blipFill>
          <a:blip r:embed="rId1"/>
          <a:stretch/>
        </p:blipFill>
        <p:spPr>
          <a:xfrm>
            <a:off x="5162400" y="260280"/>
            <a:ext cx="3740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561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ЛОГИКА ГОСУДАРСТВЕННОЙ</a:t>
            </a:r>
            <a:br>
              <a:rPr sz="2200"/>
            </a:b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ПОЛИТИКИ В СФЕРЕ ПАТРИОТИЧЕСКОГО ВОСПИТАНИЯ И ЕЁ ВЫРАЖЕНИЕ В ПЕРЕЧНЕ МЕРОПРИЯТИЙ ГОСПРОГРАММЫ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4360" y="2349360"/>
            <a:ext cx="799128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патриотического воспитания граждан РФ представляет собой разноуровневое (федеральный уровень, региональный уровень, муниципальный уровень, институциональный уровень), взаимодействие его основных субъектов, имеющее устойчивые связи                   и отношения, построенные на принципах социального партнёрства и общественно-государственного управл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579096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ЛОГИК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280" y="1752120"/>
            <a:ext cx="820908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бъектам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патриотического воспитания в данной программе выступают органы государственного управления, учреждения образования, культуры, молодёжной политики, общественные организац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57913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ЛОГИК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55280" y="1483920"/>
            <a:ext cx="7777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атриотического воспитания выступают различные возрастные категории населения Российской Федерации, учебные, производственные коллективы, творческие союзы, общественные организации и т. 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57913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ЦЕЛЬ ПРОГРАММЫ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141300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новной целью Программы является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оздание условий для дальнейшего развития патриотического воспитания граждан Российской Федерации, обеспечение соответствия его содержания новым историческим реалиям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азовой направленностью Программы является личность гражданина и патриота России. Данная направленность осуществляется через процесс формирования  потребности граждан России                 в ценностях патриотизма, что выступает основополагающим условием воспроизводства          у современных поколений мотивов и смыслов защиты и созидания Отечест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115920"/>
            <a:ext cx="57913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ЗАДАЧ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71280" y="981000"/>
            <a:ext cx="705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достижения этой цели необходимо  решать следующие задачи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устойчивого и поступательного развития федеральной системы патриотического воспитания на основе внедрения научно обоснованных моделей, проектов, программ           и технологий воспитания патриотизма                       в современных условия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нормативно-правового, организационно-методического, информационного обеспечения функционирования системы патриотического воспитания на федеральном, региональном, муниципальн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институциональном уровн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354816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ЗАДАЧ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71640" y="1341360"/>
            <a:ext cx="6480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условий интеграции ресурсов патриотического воспитания учреждений образования, культуры, молодёжной политики, воинских и трудовых коллективов, общественных организаций и взаимообразного распоряжения данными ресурса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подсистемы военно-патриотического воспитания граждан, как составной части системы патриотического воспитания для повышения престижа военной и правоохранительной  служ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579132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ЗАДАЧ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крепление материально-технической базы патриотического воспитания в образовательных, трудовых, творческих, воинских и служебных коллективах и общественных объединения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существление наступательного характера информационного обеспечения патриотического воспитания граждан в условиях идеологического противобор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040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26920" y="1052640"/>
            <a:ext cx="7058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оретическая и методическая база патриотического воспитания с учётом инновационных технологий и механизмов воспитания патриотизма в современных условия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направление предполагает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должение исследований в сфере сложившейся  системы патриотического воспитания и использование их результатов в практической деятельности по внедрению в воспитательный процесс инновационных технологи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азработку Стратегии развития системы патриотического воспитания граждан Российской Федерации до 2025 г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0042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71640" y="1267920"/>
            <a:ext cx="691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разработку учебно-методических пособий, рекомендаций в области  патриотического воспитания с научным обоснованием применения в современных условиях инновационных методов работы с каждой категорией российских граждан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разработку и внедрение комплекса учебных, специальных программ и методик развития  инновационных форм и методов патриотической работы с молодёжью;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исследование и использование наиболее эффективных форм и методов всего многообразия педагогических средств и подходов к патриотическому воспитанию различных категорий граждан с учётом специфики сфер их жизни и деятельност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147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00000" y="980640"/>
            <a:ext cx="70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ведение экспертизы проектов патриотической направленности с целью выявления уровня                            и результатов формирования патриотизма                            у различных категорий граждан РФ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вершенствование системы подготовки специалистов и повышения их квалификации                в области патриотического воспита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зучение и обобщение передового опыта в области патриотического воспитания с целью его внедрения        в практику этой деятельност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азработка нормативно-правовой основы воспитания   в системе образования и дошкольных учреждениях, учреждениях культуры, спорта, туризма, книгоиздательства, рекламы с учётом изменившихся условий и их специфи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52280"/>
            <a:ext cx="7272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АК ВСЁ НАЧИНАЛОСЬ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0920" y="119700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военцентр образован постановлением Правительства РФ от 14 марта 1997 г. №31 и функционирует в соответствии с решениями Правительства и Аппарата Правительства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освоенцентр Правительством Российской Федерации возложена важнейшая функция координации деятельности федеральных и региональных структур по реализации пятилетних государственных программ патриотического воспитания граждан Российской Фед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981000"/>
            <a:ext cx="77756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патриотического мировоззрения через развитие патриотически-ориентированных исторических знаний граждан РФ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ой мер по формированию патриотического мировоззрения граждан предусматриваетс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активизация интереса к изучению истории Отечества        и формирование чувства уважения к героическому прошлому нашей страны, сохранение памяти о великих исторических подвигах защитников Отечеств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глубление знаний о событиях, ставших основой государственных праздников Росси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вышение интереса российских граждан к военной истории Отечества в ходе подготовки и празднования         75-летия Победы советского народа в Великой Отечественной войне 1941-1945 год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147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1052640"/>
            <a:ext cx="76327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хранение исторической памяти и развитие интереса    к отечественной науке и её видным деятелям – патриотам России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вышение качества работы образовательных организаций по профессиональной ориентации учащихся для службы Отечеству и их патриотическому воспитанию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тимулирование и поддержка творческой активности деятелей искусства и литературы по созданию произведений патриотической направленност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ведение всероссийских конкурсов, семинаров, конференций, выставок и экспозиций, посвященных славным историческим событиям и знаменательным датам Росс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90792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ышение роли образовательных организаций, учреждений культуры и средств массовой информации в патриотическом воспитании граждан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ой мер по информационному обеспечению                   в области патриотического воспитания предусматриваетс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вершенствование форм и механизмов  социального партнёрства образовательных организаций, учреждений культуры, молодёжной политики, общественных объединений в пропаганде патриотизм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бновление баз данных, мониторинг интернет-сайтов           и блогосферы, информационно–аналитических материалов патриотической направленности в электронном                                                       пространстве, в том числе,  образовательных организаций,  учреждений  культуры и книгоиздатель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024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052640"/>
            <a:ext cx="74170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использование элементов патриотического воспитания в средствах массовой информации, преодоление при этом сложившихся подходов, стереотипов и механизмов негативного плана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тиводействие всем попыткам принижения роли, места, значения, дискредитации, девальвации                             и деформации патриотических ценностей в средствах массовой информации, литературе, искусстве, спорте, книгоиздательстве, рекламе и др.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действие всемерному развитию и расширению патриотической тематики телевизионных программ, периодической печати, издаваемой литера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07408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9280" y="1341360"/>
            <a:ext cx="7620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активизация творческих усилий журналистов, писателей, деятелей науки и культуры, представителей интеллигенции в области патриотического воспита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здание и распространение литературы, развитие электронных и печатных средств массовой информации, специализирующейся на патриотической темати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8598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Е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о-патриотическое воспитание граждан РФ, формирование у молодёжи положительной мотивации к прохождению военной служб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направление предполагает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формирование у молодёжи допризывного возраста моральной и психологической готовности к защите Отечества, верности конституционному и воинскому долгу      в условиях мирного и военного времени, высокой гражданской ответственност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азвитие у подрастающего поколения гордости, глубокого уважения и почитания символов государства – Герба, Флага, Гимна Российской Федерации, другой российской, особенно воинской символики и исторических святынь Отеч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68680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105264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условий для комплектования Вооруженных Сил Российской Федерации, других войск, воинских формирований и органов морально, психологически                 и физически подготовленными гражданами,  обладающими высокой мотивацией к прохождению военной                          и государственной служб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условий для повышения эффективности деятельности ДОСААФ России как основного субъекта военно-патриотического воспитания и подготовки молодёжи  к военной и государственной служб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условий, в том числе нормативных и правовых, для обеспечения координации и взаимодействия военно-патриотических объединений (клубов) по различным направлениям и формам профильной деятельности            в целях повышения эффективности формирования                  у молодёжи готовности к защите Отечества и военной служб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8680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НАПРАВЛЕНИЯ РЕАЛИЗАЦ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4920" y="1031760"/>
            <a:ext cx="82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вышение степени участия Православия и традиционных для России религиозных конфессий в формировании                      у граждан потребности служения Родине, её защиты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зучение и внедрение передового опыта в практику военно-патриотического воспитания молодежи, формирование позитивного отношения к военной и государственной служб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здание военно-патриотических игровых и медиа- программ, активное использование возможностей «Интернета» для работы с молодёжной аудиторие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бновление соответствующей нормативной и правовой базы заинтересованных силовых министерств для решения вопросов активизации военно-шефской работы, создания механизмов постоянного взаимодействия с общественно-государственными организациями, объединениями патриотической направленности по выполнению задач военно-патриотического воспитания и подготовки молодёжи   к защите Отеч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ИСТОР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1773360"/>
            <a:ext cx="71280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ая – создание государственной системы на федеральном, региональном, муниципальном        и институциональном уровня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–  развитие основных субъектов реализации патриотического воспит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тья – особенности работы с различными категориями граждан Р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579132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ОНЦЕПЦ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26920" y="981000"/>
            <a:ext cx="7490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триотизм - это любовь к Родине, преданность своему Отечеству, стремление служить его интересам, готовность, вплоть до самопожертвования, к его защит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личностном уровне патриотизм выступает как важнейшая устойчивая характеристика человека, выражающаяся в его мировоззрении, нравственных идеалах, нормах повед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макроуровне патриотизм представляет собой значимую часть общественного сознания, проявляющуюся в коллективных настроениях, чувствах, оценках, в отношении к своему народу, его образу жизни, истории, культуре, государству, системе основополагающих ценност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БОРЬБА МНЕН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15640" y="1752120"/>
            <a:ext cx="648036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и ведомственные программ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програм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гоград – площадка апробации региональной стратегии патриотического воспит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8785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d1282e"/>
                </a:solidFill>
                <a:latin typeface="Arial Black"/>
              </a:rPr>
              <a:t>СТРАТЕГИЯ ИННОВАЦИОННОГО РАЗВИТИЯ СИСТЕМЫ ПАТРИОТИЧЕСКОГО ВОСПИТАНИЯ ДЕТЕЙ И МОЛОДЁЖИ ВОЛГОГРАДСКОЙ ОБЛАСТИ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000" y="2133360"/>
            <a:ext cx="77756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идеей Стратегии является рассмотрение патриотического воспитания как процесса формирования новых поколений Победителей, духовных наследников истории страны и творцов её будущего, защитников, созидателей основ своего бытия в национальной истории России, востребованных развитием и состоянием современного российского обществ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d1282e"/>
                </a:solidFill>
                <a:latin typeface="Arial Black"/>
              </a:rPr>
              <a:t>СТРАТЕГИЧЕСКИЕ ОРИЕНТИРЫ ИННОВАЦИОННОГО РАЗВИТИЯ </a:t>
            </a:r>
            <a:br>
              <a:rPr sz="2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71280" y="2637000"/>
            <a:ext cx="705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овым вектором Программы является направленность на процессы интеграции различных институтов социализации в патриотическом воспитании граждан РФ и её новизна заключается              в том, что она закладывает основы взаимодействия государственных структур,  гражданского общ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ПОНЯТ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1699920"/>
            <a:ext cx="7274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триотизм - базовая направленность социального поведения граждан, выражающей высший смысл жизни и деятельности личности, проявления долга       и ответственности перед обществом, формирующей понимание гражданином России приоритета общественных интересов над индивидуальными вплоть до самопожертвования, пренебрежения опасностью для личной жизни и здоровья при защите интересов Отеч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ПОНЯТИЯ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1773360"/>
            <a:ext cx="80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триотическое воспитание выступает основополагающим социальным фактором укрепления российской государственности, консолидации российского общества, обеспечения национальной безопасности, достижения российской гражданской идентичности населением страны, что определяет стратегию инновационного  развития Росс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598320" y="407664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деалы, ценности и смыслы российского патриотизма составляют основу разработки современных моделей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механизмов формирования у современных поколений граждан России опыта служения Отечеству и, прежде всего, готовности к его защ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5:07:28Z</dcterms:created>
  <dc:creator>Пожарская Ольга Викторовна</dc:creator>
  <dc:description/>
  <dc:language>en-US</dc:language>
  <cp:lastModifiedBy>Пожарская Ольга Викторовна</cp:lastModifiedBy>
  <dcterms:modified xsi:type="dcterms:W3CDTF">2015-01-27T11:12:29Z</dcterms:modified>
  <cp:revision>42</cp:revision>
  <dc:subject/>
  <dc:title>Государственная политика  в сфере патриотического воспитания:  приоритеты и проекты</dc:title>
</cp:coreProperties>
</file>