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9.png" ContentType="image/png"/>
  <Override PartName="/ppt/media/image4.png" ContentType="image/pn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635-DEA2-40B5-82FE-7C78F36F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36D-8674-4901-A90F-55035B2E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569-5CFF-4F7C-8A34-1A83EF07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312-D48F-4010-ABD1-CC0F7DFA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D24-32C7-4C6E-8DAE-7ED0830E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37E-3780-4BB7-A623-FF0BB8C6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860-C5B4-4591-94E7-9302E575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E51-B882-427E-8387-05A28073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F5B-01D3-4927-B79C-51273AE2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17A-29EA-4010-8317-4199E39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3F2-3214-46A7-B884-35FCC95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420-16B8-4201-BD9B-60622109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41D0-979B-48CD-A489-1A104C770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yandex.ru/images/search?text=&#1082;&#1072;&#1088;&#1090;&#1080;&#1085;&#1082;&#1072;%20&#1075;&#1086;&#1083;&#1091;&#1073;&#1080;&#1082;&#1072;&amp;stype=image&amp;lr=39&amp;noreask=1&amp;source=wiz&amp;uinfo=sw-1600-sh-900-ww-1600-wh-773-pd-1-wp-16x9_1600x900-lt-216" TargetMode="External"/><Relationship Id="rId3" Type="http://schemas.openxmlformats.org/officeDocument/2006/relationships/hyperlink" Target="http://gotowall.ru/wallpaper/podberezoviki_tri_trava_zemlya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96840" y="0"/>
            <a:ext cx="12095280" cy="68500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>
            <a:off x="8958240" y="2881440"/>
            <a:ext cx="2173320" cy="30812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3"/>
          <a:stretch/>
        </p:blipFill>
        <p:spPr>
          <a:xfrm>
            <a:off x="2620800" y="1285920"/>
            <a:ext cx="8205840" cy="1938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4329000" y="679320"/>
            <a:ext cx="68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ошахтинская школа-интернат №33, Ростов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813040" y="480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ньшиков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 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1" descr=""/>
          <p:cNvPicPr/>
          <p:nvPr/>
        </p:nvPicPr>
        <p:blipFill>
          <a:blip r:embed="rId4"/>
          <a:stretch/>
        </p:blipFill>
        <p:spPr>
          <a:xfrm>
            <a:off x="5553000" y="3121200"/>
            <a:ext cx="1768680" cy="71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Выноска-облако 2"/>
          <p:cNvSpPr/>
          <p:nvPr/>
        </p:nvSpPr>
        <p:spPr>
          <a:xfrm>
            <a:off x="407880" y="141120"/>
            <a:ext cx="10620360" cy="6147000"/>
          </a:xfrm>
          <a:prstGeom prst="cloudCallout">
            <a:avLst>
              <a:gd name="adj1" fmla="val 44560"/>
              <a:gd name="adj2" fmla="val 22398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6"/>
          <p:cNvSpPr/>
          <p:nvPr/>
        </p:nvSpPr>
        <p:spPr>
          <a:xfrm>
            <a:off x="2628360" y="1170000"/>
            <a:ext cx="556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Ельник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–еловый ле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2"/>
          <a:stretch/>
        </p:blipFill>
        <p:spPr>
          <a:xfrm>
            <a:off x="2668680" y="2332080"/>
            <a:ext cx="4787640" cy="3209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407880" y="5683320"/>
            <a:ext cx="39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устой ель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Выноска-облако 2"/>
          <p:cNvSpPr/>
          <p:nvPr/>
        </p:nvSpPr>
        <p:spPr>
          <a:xfrm>
            <a:off x="407880" y="141120"/>
            <a:ext cx="10620360" cy="6147000"/>
          </a:xfrm>
          <a:prstGeom prst="cloudCallout">
            <a:avLst>
              <a:gd name="adj1" fmla="val 44560"/>
              <a:gd name="adj2" fmla="val 22398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2611440" y="117000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олубика–кустарник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ягоды которого голубы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2"/>
          <a:stretch/>
        </p:blipFill>
        <p:spPr>
          <a:xfrm>
            <a:off x="3317760" y="2739960"/>
            <a:ext cx="3691080" cy="2905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830160" y="589284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рская голуб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Выноска-облако 2"/>
          <p:cNvSpPr/>
          <p:nvPr/>
        </p:nvSpPr>
        <p:spPr>
          <a:xfrm>
            <a:off x="168120" y="0"/>
            <a:ext cx="10622160" cy="6146640"/>
          </a:xfrm>
          <a:prstGeom prst="cloudCallout">
            <a:avLst>
              <a:gd name="adj1" fmla="val 44560"/>
              <a:gd name="adj2" fmla="val 22398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1900080" y="790560"/>
            <a:ext cx="873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роконожка–наземное живот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червеобразным телом и  большим числом ножек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3216240" y="2652840"/>
            <a:ext cx="3424320" cy="25686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831960" y="6019920"/>
            <a:ext cx="47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шная сороконож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777960" y="1547640"/>
            <a:ext cx="978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4000" spc="-1" strike="noStrike">
                <a:solidFill>
                  <a:srgbClr val="385723"/>
                </a:solidFill>
                <a:latin typeface="Calibri"/>
              </a:rPr>
              <a:t>Чему научились сегодн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e79"/>
                </a:solidFill>
                <a:latin typeface="Calibri"/>
              </a:rPr>
              <a:t>- Чем занималис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- Что понравилось больше всег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Покажите с помощью смайлика свое настроение от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2624040" y="398520"/>
            <a:ext cx="63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Итог урока. Рефлекс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6991200" y="4408560"/>
            <a:ext cx="35737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1530360" y="115920"/>
            <a:ext cx="8607240" cy="920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776160" y="1036800"/>
            <a:ext cx="10114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Картинка подснежник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F%D0%BE%D0%B4%D1%81%D0%BD%D0%B5%D0%B6%D0%BD%D0%B8%D0%BA%D0%B0&amp;stype=image&amp;lr=39&amp;noreask=1&amp;source=wiz&amp;uinfo=sw-1600-sh-900-ww-1600-wh-773-pd-1-wp-16x9_1600x900-lt-2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Картинка подсвечник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F%D0%BE%D0%B4%D1%81%D0%B2%D0%B5%D1%87%D0%BD%D0%B8%D0%BA&amp;stype=image&amp;lr=39&amp;noreask=1&amp;source=wiz&amp;uinfo=sw-1600-sh-900-ww-1600-wh-773-pd-1-wp-16x9_1600x900-lt-2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Картинка голубика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yandex.ru/images/search?text=%D0%BA%D0%B0%D1%80%D1%82%D0%B8%D0%BD%D0%BA%D0%B0%20%D0%B3%D0%BE%D0%BB%D1%83%D0%B1%D0%B8%D0%BA%D0%B0&amp;stype=image&amp;lr=39&amp;noreask=1&amp;source=wiz&amp;uinfo=sw-1600-sh-900-ww-1600-wh-773-pd-1-wp-16x9_1600x900-lt-2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Картинка сороконож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1%81%D0%BE%D1%80%D0%BE%D0%BA%D0%BE%D0%BD%D0%BE%D0%B6%D0%BA%D0%B0%20%D0%B4%D0%BB%D1%8F%20%D0%B4%D0%B5%D1%82%D0%B5%D0%B9&amp;stype=image&amp;lr=39&amp;noreask=1&amp;source=wiz&amp;uinfo=sw-1600-sh-900-ww-1600-wh-773-pd-1-wp-16x9_1600x900-lt-1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Подберёзовик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gotowall.ru/wallpaper/podberezoviki_tri_trava_zemly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066680" y="598320"/>
            <a:ext cx="9671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)Картинка ельни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5%D0%BB%D1%8C%D0%BD%D0%B8%D0%BA&amp;stype=image&amp;lr=39&amp;noreask=1&amp;source=wiz&amp;uinfo=sw-1600-sh-900-ww-1600-wh-773-pd-1-wp-16x9_1600x900-lt-1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Картинка подосиновик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F%D0%BE%D0%B4%D0%BE%D1%81%D0%B8%D0%BD%D0%BE%D0%B2%D0%B8%D0%BA%20%D0%B4%D0%BB%D1%8F%20%D0%B4%D0%B5%D1%82%D0%B5%D0%B9&amp;stype=image&amp;lr=39&amp;noreask=1&amp;source=wiz&amp;uinfo=sw-1600-sh-900-ww-1600-wh-773-pd-1-wp-16x9_1600x900-lt-1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)Картинка дет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4%D0%B5%D1%82%D0%B8&amp;stype=image&amp;lr=39&amp;noreask=1&amp;source=wiz&amp;uinfo=sw-1600-sh-900-ww-1600-wh-773-pd-1-wp-16x9_1600x900-lt-24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)Картинка миш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C%D0%B8%D1%88%D0%BA%D0%B0%20%D0%B4%D0%BB%D1%8F%20%D0%B4%D0%B5%D1%82%D0%B5%D0%B9&amp;stype=image&amp;lr=39&amp;noreask=1&amp;source=wiz&amp;uinfo=sw-1600-sh-900-ww-1600-wh-773-pd-1-wp-16x9_1600x900-lt-2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)Фон -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Выноска-облако 3"/>
          <p:cNvSpPr/>
          <p:nvPr/>
        </p:nvSpPr>
        <p:spPr>
          <a:xfrm>
            <a:off x="0" y="1033560"/>
            <a:ext cx="6818400" cy="3662280"/>
          </a:xfrm>
          <a:prstGeom prst="cloudCallout">
            <a:avLst>
              <a:gd name="adj1" fmla="val -18958"/>
              <a:gd name="adj2" fmla="val 68578"/>
            </a:avLst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636480" y="4695840"/>
            <a:ext cx="1341720" cy="1951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2"/>
          <a:stretch/>
        </p:blipFill>
        <p:spPr>
          <a:xfrm>
            <a:off x="9387000" y="4316400"/>
            <a:ext cx="2382840" cy="2330640"/>
          </a:xfrm>
          <a:prstGeom prst="rect">
            <a:avLst/>
          </a:prstGeom>
          <a:ln w="0">
            <a:noFill/>
          </a:ln>
        </p:spPr>
      </p:pic>
      <p:sp>
        <p:nvSpPr>
          <p:cNvPr id="50" name="Выноска-облако 4"/>
          <p:cNvSpPr/>
          <p:nvPr/>
        </p:nvSpPr>
        <p:spPr>
          <a:xfrm>
            <a:off x="5318280" y="387360"/>
            <a:ext cx="7032600" cy="3662280"/>
          </a:xfrm>
          <a:prstGeom prst="cloudCallout">
            <a:avLst>
              <a:gd name="adj1" fmla="val 13337"/>
              <a:gd name="adj2" fmla="val 6354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Прямоугольник 8" descr=""/>
          <p:cNvPicPr/>
          <p:nvPr/>
        </p:nvPicPr>
        <p:blipFill>
          <a:blip r:embed="rId3"/>
          <a:stretch/>
        </p:blipFill>
        <p:spPr>
          <a:xfrm>
            <a:off x="1670040" y="1036800"/>
            <a:ext cx="3481560" cy="34128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9" descr=""/>
          <p:cNvPicPr/>
          <p:nvPr/>
        </p:nvPicPr>
        <p:blipFill>
          <a:blip r:embed="rId4"/>
          <a:stretch/>
        </p:blipFill>
        <p:spPr>
          <a:xfrm>
            <a:off x="6986520" y="512640"/>
            <a:ext cx="4052880" cy="34131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0" descr=""/>
          <p:cNvPicPr/>
          <p:nvPr/>
        </p:nvPicPr>
        <p:blipFill>
          <a:blip r:embed="rId5"/>
          <a:stretch/>
        </p:blipFill>
        <p:spPr>
          <a:xfrm>
            <a:off x="1768320" y="-158760"/>
            <a:ext cx="9528480" cy="712800"/>
          </a:xfrm>
          <a:prstGeom prst="rect">
            <a:avLst/>
          </a:prstGeom>
          <a:ln w="0">
            <a:noFill/>
          </a:ln>
        </p:spPr>
      </p:pic>
      <p:cxnSp>
        <p:nvCxnSpPr>
          <p:cNvPr id="54" name="Прямая со стрелкой 12"/>
          <p:cNvCxnSpPr/>
          <p:nvPr/>
        </p:nvCxnSpPr>
        <p:spPr>
          <a:xfrm flipV="1">
            <a:off x="5317920" y="1252440"/>
            <a:ext cx="1856520" cy="295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Прямая со стрелкой 14"/>
          <p:cNvCxnSpPr/>
          <p:nvPr/>
        </p:nvCxnSpPr>
        <p:spPr>
          <a:xfrm flipV="1">
            <a:off x="5149800" y="2068200"/>
            <a:ext cx="1837440" cy="267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149440" y="2869560"/>
            <a:ext cx="2025000" cy="84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Прямая со стрелкой 18"/>
          <p:cNvCxnSpPr/>
          <p:nvPr/>
        </p:nvCxnSpPr>
        <p:spPr>
          <a:xfrm>
            <a:off x="5149440" y="3530520"/>
            <a:ext cx="1669320" cy="99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8763120" y="2817720"/>
            <a:ext cx="2685960" cy="3810240"/>
          </a:xfrm>
          <a:prstGeom prst="rect">
            <a:avLst/>
          </a:prstGeom>
          <a:ln w="0">
            <a:noFill/>
          </a:ln>
        </p:spPr>
      </p:pic>
      <p:sp>
        <p:nvSpPr>
          <p:cNvPr id="59" name="Выноска-облако 4"/>
          <p:cNvSpPr/>
          <p:nvPr/>
        </p:nvSpPr>
        <p:spPr>
          <a:xfrm>
            <a:off x="1096920" y="844560"/>
            <a:ext cx="8258040" cy="2714760"/>
          </a:xfrm>
          <a:prstGeom prst="cloudCallout">
            <a:avLst>
              <a:gd name="adj1" fmla="val 52763"/>
              <a:gd name="adj2" fmla="val 58356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ты не знаешь значение слова, посмотри в толковый словар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5" descr=""/>
          <p:cNvPicPr/>
          <p:nvPr/>
        </p:nvPicPr>
        <p:blipFill>
          <a:blip r:embed="rId2"/>
          <a:stretch/>
        </p:blipFill>
        <p:spPr>
          <a:xfrm>
            <a:off x="501480" y="3846600"/>
            <a:ext cx="1843200" cy="2581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"/>
          <p:cNvPicPr/>
          <p:nvPr/>
        </p:nvPicPr>
        <p:blipFill>
          <a:blip r:embed="rId3"/>
          <a:stretch/>
        </p:blipFill>
        <p:spPr>
          <a:xfrm>
            <a:off x="2716200" y="3846600"/>
            <a:ext cx="1996920" cy="2581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"/>
          <p:cNvPicPr/>
          <p:nvPr/>
        </p:nvPicPr>
        <p:blipFill>
          <a:blip r:embed="rId4"/>
          <a:stretch/>
        </p:blipFill>
        <p:spPr>
          <a:xfrm>
            <a:off x="5084640" y="3895560"/>
            <a:ext cx="18511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487440" y="4037040"/>
            <a:ext cx="224928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Выноска-облако 2" descr=""/>
          <p:cNvPicPr/>
          <p:nvPr/>
        </p:nvPicPr>
        <p:blipFill>
          <a:blip r:embed="rId2"/>
          <a:stretch/>
        </p:blipFill>
        <p:spPr>
          <a:xfrm>
            <a:off x="2189160" y="493560"/>
            <a:ext cx="8667720" cy="4023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3"/>
          <a:stretch/>
        </p:blipFill>
        <p:spPr>
          <a:xfrm>
            <a:off x="9496440" y="3524400"/>
            <a:ext cx="2247840" cy="3187440"/>
          </a:xfrm>
          <a:prstGeom prst="rect">
            <a:avLst/>
          </a:prstGeom>
          <a:ln w="0">
            <a:noFill/>
          </a:ln>
        </p:spPr>
      </p:pic>
      <p:sp>
        <p:nvSpPr>
          <p:cNvPr id="66" name="Выноска-облако 4"/>
          <p:cNvSpPr/>
          <p:nvPr/>
        </p:nvSpPr>
        <p:spPr>
          <a:xfrm>
            <a:off x="1519200" y="379440"/>
            <a:ext cx="9326520" cy="4051440"/>
          </a:xfrm>
          <a:prstGeom prst="cloudCallout">
            <a:avLst>
              <a:gd name="adj1" fmla="val 43097"/>
              <a:gd name="adj2" fmla="val 52217"/>
            </a:avLst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Определять  значения сл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Наблюдать за сочетанием  сло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8791560" y="2646360"/>
            <a:ext cx="253368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Выноска-облако 2"/>
          <p:cNvSpPr/>
          <p:nvPr/>
        </p:nvSpPr>
        <p:spPr>
          <a:xfrm>
            <a:off x="885960" y="225360"/>
            <a:ext cx="8018280" cy="2757600"/>
          </a:xfrm>
          <a:prstGeom prst="cloudCallout">
            <a:avLst>
              <a:gd name="adj1" fmla="val 49518"/>
              <a:gd name="adj2" fmla="val 7697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полни упражнение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 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Выноска-облако 2"/>
          <p:cNvSpPr/>
          <p:nvPr/>
        </p:nvSpPr>
        <p:spPr>
          <a:xfrm>
            <a:off x="1055520" y="0"/>
            <a:ext cx="8018640" cy="5613480"/>
          </a:xfrm>
          <a:prstGeom prst="cloudCallout">
            <a:avLst>
              <a:gd name="adj1" fmla="val 64430"/>
              <a:gd name="adj2" fmla="val 14412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2103480" y="2527200"/>
            <a:ext cx="5662440" cy="19036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9658440" y="2422440"/>
            <a:ext cx="2533680" cy="35989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2228400" y="1082520"/>
            <a:ext cx="640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одснежник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веты, котор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являются сразу из-под сне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87320" y="5613480"/>
            <a:ext cx="45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ные подснеж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Выноска-облако 2"/>
          <p:cNvSpPr/>
          <p:nvPr/>
        </p:nvSpPr>
        <p:spPr>
          <a:xfrm>
            <a:off x="168120" y="0"/>
            <a:ext cx="9749160" cy="5627520"/>
          </a:xfrm>
          <a:prstGeom prst="cloudCallout">
            <a:avLst>
              <a:gd name="adj1" fmla="val 47601"/>
              <a:gd name="adj2" fmla="val 35337"/>
            </a:avLst>
          </a:pr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2"/>
          <a:stretch/>
        </p:blipFill>
        <p:spPr>
          <a:xfrm>
            <a:off x="3333600" y="2201760"/>
            <a:ext cx="3243240" cy="26211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6"/>
          <p:cNvSpPr/>
          <p:nvPr/>
        </p:nvSpPr>
        <p:spPr>
          <a:xfrm>
            <a:off x="1515600" y="915840"/>
            <a:ext cx="747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дсвечни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подставка для св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 нескольких свеч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703440" y="5810400"/>
            <a:ext cx="51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душный подсвеч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Выноска-облако 2"/>
          <p:cNvSpPr/>
          <p:nvPr/>
        </p:nvSpPr>
        <p:spPr>
          <a:xfrm>
            <a:off x="168120" y="0"/>
            <a:ext cx="9749160" cy="5599080"/>
          </a:xfrm>
          <a:prstGeom prst="cloudCallout">
            <a:avLst>
              <a:gd name="adj1" fmla="val 51097"/>
              <a:gd name="adj2" fmla="val 31611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2"/>
          <a:stretch/>
        </p:blipFill>
        <p:spPr>
          <a:xfrm>
            <a:off x="3052800" y="2502000"/>
            <a:ext cx="3405240" cy="26748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1829880" y="1054080"/>
            <a:ext cx="746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дберёзов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гриб, растущ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ще всего под берёз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77720" y="583092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ыкновенный подберёзов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Выноска-облако 2"/>
          <p:cNvSpPr/>
          <p:nvPr/>
        </p:nvSpPr>
        <p:spPr>
          <a:xfrm>
            <a:off x="407880" y="141120"/>
            <a:ext cx="10620360" cy="6147000"/>
          </a:xfrm>
          <a:prstGeom prst="cloudCallout">
            <a:avLst>
              <a:gd name="adj1" fmla="val 44560"/>
              <a:gd name="adj2" fmla="val 22398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"/>
          <p:cNvPicPr/>
          <p:nvPr/>
        </p:nvPicPr>
        <p:blipFill>
          <a:blip r:embed="rId2"/>
          <a:stretch/>
        </p:blipFill>
        <p:spPr>
          <a:xfrm>
            <a:off x="3193920" y="2300400"/>
            <a:ext cx="4270680" cy="32004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2198520" y="976320"/>
            <a:ext cx="801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досиновик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гриб, растущий чащ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его под оси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942840" y="60260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ревянный подосинов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6:43:09Z</dcterms:created>
  <dc:creator>Светлана Меньшикова</dc:creator>
  <dc:description/>
  <dc:language>en-US</dc:language>
  <cp:lastModifiedBy>Светлана Меньшикова</cp:lastModifiedBy>
  <dcterms:modified xsi:type="dcterms:W3CDTF">2015-01-29T18:51:27Z</dcterms:modified>
  <cp:revision>16</cp:revision>
  <dc:subject/>
  <dc:title>Презентация PowerPoint</dc:title>
</cp:coreProperties>
</file>