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applause.wav" ContentType="audio/x-wav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B69-1A6D-4580-BA73-CAC0B36A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942-86C9-424F-9910-3AF3F988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8CA-E589-410F-8CF0-FBC23E23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690-810F-4905-A668-81343F0F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834E-BD96-47EE-96E0-10155664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FBE-A022-44D2-A3DD-F26D3144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F3F-DA1D-45EE-A408-BA08E116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685-7E6C-42BE-AEE4-BE21D487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628-D48E-43B4-B186-16AA5BEE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23C-EE19-40E8-8A26-10039EF9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030-AE9D-4E76-82BA-A514DA51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9C3-0FF1-497A-B24B-5C0173E9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4217-D95B-4FE8-902C-27BA262C8D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Comic Sans MS"/>
              </a:rPr>
              <a:t>Ребенок в семь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68360" y="1905120"/>
            <a:ext cx="657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Дети - это чудо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Я увидел это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И причислил чудо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к самым чудным чуд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Мы пред будущим в отве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Наша радость, боль и гру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Наше будущее - де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Трудно с ними, ну и пу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baby01"/>
          <p:cNvPicPr/>
          <p:nvPr/>
        </p:nvPicPr>
        <p:blipFill>
          <a:blip r:embed="rId1"/>
          <a:stretch/>
        </p:blipFill>
        <p:spPr>
          <a:xfrm>
            <a:off x="539640" y="4581360"/>
            <a:ext cx="1582920" cy="18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79280" y="21337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одителями быть нелегк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Но плох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если нелегко от этого нашим дет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j0292086[1]"/>
          <p:cNvPicPr/>
          <p:nvPr/>
        </p:nvPicPr>
        <p:blipFill>
          <a:blip r:embed="rId1"/>
          <a:stretch/>
        </p:blipFill>
        <p:spPr>
          <a:xfrm>
            <a:off x="6372360" y="4797360"/>
            <a:ext cx="1819080" cy="1562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0191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826920" y="1599840"/>
            <a:ext cx="734544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45252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1966"/>
                </a:solidFill>
                <a:latin typeface="Times New Roman"/>
              </a:rPr>
              <a:t>Единственная известная мне роскошь – это роскошь человеческого общен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45252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4525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91966"/>
                </a:solidFill>
                <a:latin typeface="Times New Roman"/>
              </a:rPr>
              <a:t>Антуан де Сент-Экзюпер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rcRect l="40593" t="49021" r="48340" b="29331"/>
          <a:stretch/>
        </p:blipFill>
        <p:spPr>
          <a:xfrm>
            <a:off x="1763640" y="1076400"/>
            <a:ext cx="5256360" cy="57816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5" descr=""/>
          <p:cNvPicPr/>
          <p:nvPr/>
        </p:nvPicPr>
        <p:blipFill>
          <a:blip r:embed="rId2"/>
          <a:stretch/>
        </p:blipFill>
        <p:spPr>
          <a:xfrm>
            <a:off x="822240" y="146160"/>
            <a:ext cx="76453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rcRect l="40593" t="49021" r="48340" b="29331"/>
          <a:stretch/>
        </p:blipFill>
        <p:spPr>
          <a:xfrm>
            <a:off x="1763640" y="1076400"/>
            <a:ext cx="5256360" cy="57816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401760" y="146160"/>
            <a:ext cx="84866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16080"/>
            <a:ext cx="8893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Comic Sans MS"/>
              </a:rPr>
              <a:t>Наши автоматические реа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66"/>
                </a:solidFill>
                <a:latin typeface="Comic Sans MS"/>
              </a:rPr>
              <a:t>Типы традиционных родительских высказываний – настоящих помех на пути активного слушания ребенка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Приказы, команд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Предупреждение, предостережения, угроз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Мораль, нравоучения, проповед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Советы, готовые решени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Доказательство, логические выводы, нотаци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Критика, выговоры, обвинени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Позвал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Обзывания, высмеивани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Догадки, интерпретаци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Выспрашивание, расследовани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Сочувствие на словах, уговоры, увещевани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Отшучивание, уход от разговор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00040" y="428400"/>
            <a:ext cx="4100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х ты, девочка чумаза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ты так вся  измазалась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http://www.machaon.net/img/book/big/978-5-88215-338-7.jpg"/>
          <p:cNvPicPr/>
          <p:nvPr/>
        </p:nvPicPr>
        <p:blipFill>
          <a:blip r:embed="rId1"/>
          <a:srcRect l="13392" t="24524" r="11994" b="6251"/>
          <a:stretch/>
        </p:blipFill>
        <p:spPr>
          <a:xfrm>
            <a:off x="3286080" y="1428840"/>
            <a:ext cx="40626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ff"/>
                </a:solidFill>
                <a:latin typeface="Comic Sans MS"/>
              </a:rPr>
              <a:t>Активное слуш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Причины трудности ребенка часто бывают спрятаны в сфере его чувств, в таких случаях  лучше всего его послушать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ag00315_"/>
          <p:cNvPicPr/>
          <p:nvPr/>
        </p:nvPicPr>
        <p:blipFill>
          <a:blip r:embed="rId1"/>
          <a:stretch/>
        </p:blipFill>
        <p:spPr>
          <a:xfrm>
            <a:off x="5796000" y="4149720"/>
            <a:ext cx="2168640" cy="244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ag00317_"/>
          <p:cNvPicPr/>
          <p:nvPr/>
        </p:nvPicPr>
        <p:blipFill>
          <a:blip r:embed="rId2"/>
          <a:stretch/>
        </p:blipFill>
        <p:spPr>
          <a:xfrm>
            <a:off x="1547640" y="3860640"/>
            <a:ext cx="20736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Активное слуша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95280" y="206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179280" y="1557360"/>
            <a:ext cx="4175280" cy="18003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Это не способ доби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от ребенка т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что вы от него хот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4718160" y="1557360"/>
            <a:ext cx="4246560" cy="180036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Это путь устано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лучшего конт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с ребен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"/>
          <p:cNvSpPr/>
          <p:nvPr/>
        </p:nvSpPr>
        <p:spPr>
          <a:xfrm>
            <a:off x="2484360" y="3860640"/>
            <a:ext cx="4318200" cy="230364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cc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Это способ показать, что 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безусловно 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принимаете со все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бедами, отказам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пережива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659800" cy="528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-</a:t>
            </a: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Повернись к ребенку лицом;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- Ваши ответы желательно, </a:t>
            </a: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чтобы звучали в </a:t>
            </a: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утвердительной форме;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- Важно в беседе держать паузу;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- Повторите, что вы поняли </a:t>
            </a: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ребенка, а потом обозначьте </a:t>
            </a: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800080"/>
                </a:solidFill>
                <a:latin typeface="Comic Sans MS"/>
              </a:rPr>
              <a:t>его чувств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260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Особенности беседы по способу активного слуш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1383840"/>
            <a:ext cx="8748720" cy="49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-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становление контакта с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ребенком;</a:t>
            </a:r>
            <a:br>
              <a:rPr sz="4400"/>
            </a:b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- Улучшение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взаимопонимания с ним;</a:t>
            </a:r>
            <a:br>
              <a:rPr sz="4400"/>
            </a:b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- Помощь ему в обретении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амостоятельности и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ответственности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27"/>
          <p:cNvSpPr/>
          <p:nvPr/>
        </p:nvSpPr>
        <p:spPr>
          <a:xfrm>
            <a:off x="468360" y="476280"/>
            <a:ext cx="73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Я – сообщ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нципы эффективного общ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ть Я - сообщ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ворить о ситуации, а не о лич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ние должно иметь положительный эмоциональный тон. Чаще улыбайтесь ребёнку в процессе общения с ни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ёнок постоянно должен чувствовать любовь близких к себ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имать ребёнка следует таким, какой он есть, со всеми его особенност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ужно ласкать де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мечайте успех и достижения ребёнка, радуйтесь вместе с ни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20:36:09Z</dcterms:created>
  <dc:creator>Лариса</dc:creator>
  <dc:description/>
  <dc:language>en-US</dc:language>
  <cp:lastModifiedBy>Лариса</cp:lastModifiedBy>
  <dcterms:modified xsi:type="dcterms:W3CDTF">2014-01-23T16:16:08Z</dcterms:modified>
  <cp:revision>6</cp:revision>
  <dc:subject/>
  <dc:title>Каждый день с ребенком начинать радостью, заканчивать миром</dc:title>
</cp:coreProperties>
</file>