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applause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828-C049-4BA0-8DFA-2458ACB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974-E9D9-4834-96FC-8DCB875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639-3034-4708-A714-C7D792B9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E7F-0A15-464E-8E83-6DFAD084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F97-271D-4F94-979F-0A4B521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187-B968-41DB-A62B-F571705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867-A2EF-4349-BE48-B2FE6D57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9B7-146D-450A-9C45-0DD9D33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FAC-3D09-4BD6-925E-B242BD4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9B3-A500-4EAA-AD35-459D038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A36-0FA2-4081-88DF-F188055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BB-A790-4FA6-9A34-050662C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189-A51B-4A3E-A5F8-94B2C8590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mic Sans MS"/>
              </a:rPr>
              <a:t>Ребенок в семь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68360" y="1905120"/>
            <a:ext cx="657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Дети - это чудо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Я увидел эт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И причислил чудо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к самым чудным чуд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Мы пред будущим в отв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ша радость, боль и гру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ше будущее - де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Трудно с ними, ну и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aby01"/>
          <p:cNvPicPr/>
          <p:nvPr/>
        </p:nvPicPr>
        <p:blipFill>
          <a:blip r:embed="rId1"/>
          <a:stretch/>
        </p:blipFill>
        <p:spPr>
          <a:xfrm>
            <a:off x="539640" y="4581360"/>
            <a:ext cx="158292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213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одителями быть нелег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о плох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если нелегко от этого нашим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92086[1]"/>
          <p:cNvPicPr/>
          <p:nvPr/>
        </p:nvPicPr>
        <p:blipFill>
          <a:blip r:embed="rId1"/>
          <a:stretch/>
        </p:blipFill>
        <p:spPr>
          <a:xfrm>
            <a:off x="6372360" y="4797360"/>
            <a:ext cx="1819080" cy="156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0191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26920" y="1599840"/>
            <a:ext cx="73454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45252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</a:rPr>
              <a:t>Единственная известная мне роскошь – это роскошь человеческого общ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45252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452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66"/>
                </a:solidFill>
                <a:latin typeface="Times New Roman"/>
              </a:rPr>
              <a:t>Антуан де Сент-Экзюп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rcRect l="40593" t="49021" r="48340" b="29331"/>
          <a:stretch/>
        </p:blipFill>
        <p:spPr>
          <a:xfrm>
            <a:off x="1763640" y="1076400"/>
            <a:ext cx="5256360" cy="57816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146160"/>
            <a:ext cx="76453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40593" t="49021" r="48340" b="29331"/>
          <a:stretch/>
        </p:blipFill>
        <p:spPr>
          <a:xfrm>
            <a:off x="1763640" y="1076400"/>
            <a:ext cx="5256360" cy="5781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8486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mic Sans MS"/>
              </a:rPr>
              <a:t>Наши автоматические реа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Comic Sans MS"/>
              </a:rPr>
              <a:t>Типы традиционных родительских высказываний – настоящих помех на пути активного слушания ребенка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иказы, команд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едупреждение, предостережения, угроз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Мораль, нравоучения, проповед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Советы, готовые реше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Доказательство, логические выводы, но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ритика, выговоры, обвине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озва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Обзывания, высмеи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Догадки, интерпре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Выспрашивание, расследо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Сочувствие на словах, уговоры, увеще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Отшучивание, уход от разговор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428400"/>
            <a:ext cx="4100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 ты, девочка чумаз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ты так вся  измазалас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www.machaon.net/img/book/big/978-5-88215-338-7.jpg"/>
          <p:cNvPicPr/>
          <p:nvPr/>
        </p:nvPicPr>
        <p:blipFill>
          <a:blip r:embed="rId1"/>
          <a:srcRect l="13392" t="24524" r="11994" b="6251"/>
          <a:stretch/>
        </p:blipFill>
        <p:spPr>
          <a:xfrm>
            <a:off x="3286080" y="1428840"/>
            <a:ext cx="40626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Comic Sans MS"/>
              </a:rPr>
              <a:t>Активное слуш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Причины трудности ребенка часто бывают спрятаны в сфере его чувств, в таких случаях  лучше всего его послуш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ag00315_"/>
          <p:cNvPicPr/>
          <p:nvPr/>
        </p:nvPicPr>
        <p:blipFill>
          <a:blip r:embed="rId1"/>
          <a:stretch/>
        </p:blipFill>
        <p:spPr>
          <a:xfrm>
            <a:off x="5796000" y="4149720"/>
            <a:ext cx="216864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g00317_"/>
          <p:cNvPicPr/>
          <p:nvPr/>
        </p:nvPicPr>
        <p:blipFill>
          <a:blip r:embed="rId2"/>
          <a:stretch/>
        </p:blipFill>
        <p:spPr>
          <a:xfrm>
            <a:off x="1547640" y="3860640"/>
            <a:ext cx="2073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ктивное слуш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9528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179280" y="1557360"/>
            <a:ext cx="4175280" cy="1800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не способ доб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т ребенка 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что вы от него хо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718160" y="1557360"/>
            <a:ext cx="4246560" cy="1800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путь устано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лучшего конт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 ребе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2484360" y="3860640"/>
            <a:ext cx="4318200" cy="2303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Это способ показать, что 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зусловно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инимаете со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дами, отказа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ережи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659800" cy="52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Повернись к ребенку лицом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Ваши ответы желательно,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чтобы звучали в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утвердительной форме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Важно в беседе держать паузу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Повторите, что вы поняли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ребенка, а потом обозначьте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его чув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Особенности беседы по способу активного слуш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383840"/>
            <a:ext cx="8748720" cy="49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-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ановление контакта с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ебенком;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- Улучшени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взаимопонимания с ним;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- Помощь ему в обретении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стоятельности и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ответственно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468360" y="47628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Я – сообщ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ы эффективного об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Я - со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ворить о ситуации, а не о ли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должно иметь положительный эмоциональный тон. Чаще улыбайтесь ребёнку в процессе общения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ёнок постоянно должен чувствовать любовь близких к себ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ть ребёнка следует таким, какой он есть, со всеми его особеннос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жно ласкать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чайте успех и достижения ребёнка, радуйтесь вместе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20:36:09Z</dcterms:created>
  <dc:creator>Лариса</dc:creator>
  <dc:description/>
  <dc:language>en-US</dc:language>
  <cp:lastModifiedBy>Лариса</cp:lastModifiedBy>
  <dcterms:modified xsi:type="dcterms:W3CDTF">2014-01-23T16:16:08Z</dcterms:modified>
  <cp:revision>6</cp:revision>
  <dc:subject/>
  <dc:title>Каждый день с ребенком начинать радостью, заканчивать миром</dc:title>
</cp:coreProperties>
</file>