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871-6184-4525-8C4A-112FF2C2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D2C-5F6A-4C55-8EE0-5EEE9CC4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494-7B0C-4E70-A2EF-676D1946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9E3-B389-4C90-B211-7FA03FF3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5847-BA58-4280-BE70-B9490B9F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B181-CBD3-4C6D-8FD7-8D89B655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FCCC-7F7C-491F-9096-0287C2D7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B44D-3A28-4904-95FA-9715A2AD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857C-1814-44D9-AB82-96E56107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ED97-B31B-4F39-AC9A-C7CEF69F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D1F7-76C7-479D-8D7A-62EC2DA1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5C9-B61B-4FD3-BC49-8051C311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B171-BECE-4930-825F-629251A4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8BE9-5E03-42AF-82DE-5FE045DF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DF44-2C4C-45C1-B991-06C77351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202B-2C9A-40E7-8FD5-C084F91A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C00D-82B5-4697-83EC-8BB1ED2F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382-4F96-482D-AD19-FA4F21E2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521-C0B3-4EB2-A96B-4A2647E8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266-AFB1-4B89-874C-CCC33814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050-17E7-42FD-B4DB-BD8F7FBF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F28-3A8E-438D-8F18-B5F1014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DDC-F315-499E-8698-4370C7A5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30E-BD74-44FF-A04F-FDBDB3D5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2FEB-0C07-4F88-AD27-8B17AE36550F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485B-6598-490E-B026-DE9FC95C8257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Анализ анкетирования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6 «В» класс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216828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Опрошено 23 человек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из них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79640" y="2541600"/>
          <a:ext cx="64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41600"/>
                    <a:ext cx="64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2.Вы когда-нибудь пробовали курить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55640" y="2155680"/>
          <a:ext cx="6661440" cy="444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155680"/>
                    <a:ext cx="666144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3. В настоящий момент: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916280"/>
          <a:ext cx="6572160" cy="43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16280"/>
                    <a:ext cx="6572160" cy="43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4. Мама и папа курят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22200" y="1700280"/>
          <a:ext cx="745344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700280"/>
                    <a:ext cx="7453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5. Ваше отношение к курению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7080" y="1917720"/>
          <a:ext cx="752292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917720"/>
                    <a:ext cx="752292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23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6. Если бы вам предложили курить, предоставив возможность иметь бесплатно любые сигареты, вы бы предпочли: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11280" y="2252520"/>
          <a:ext cx="694836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252520"/>
                    <a:ext cx="694836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6:09:49Z</dcterms:created>
  <dc:creator>TKuzmina</dc:creator>
  <dc:description/>
  <dc:language>en-US</dc:language>
  <cp:lastModifiedBy>TKuzmina</cp:lastModifiedBy>
  <dcterms:modified xsi:type="dcterms:W3CDTF">2010-04-02T06:33:46Z</dcterms:modified>
  <cp:revision>2</cp:revision>
  <dc:subject/>
  <dc:title>Анализ анкетирования  6 «В» класса</dc:title>
</cp:coreProperties>
</file>