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624-748A-4D6D-B44A-04AC37C2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BE4-6A77-495E-A5A0-33BF65E3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8B9-0421-4B25-BAB2-5F718C97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FED-E05F-4DAD-8DF4-156C70C6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4150-D7AC-42AC-B3CA-A057F207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6FFB-1024-4CF1-A468-D4DCAA17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00DE-C83C-4C6D-8F78-B9B2AAF5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EE46-19B6-4AA3-8B84-A04D106F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9B21-AFF1-445F-A338-F212973E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9F21-139D-4B89-95EA-3D2E6C91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2A6D-CBEC-493C-9952-BB6288DC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D78-A74C-46CA-A0AF-5044787D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709B-8DE3-49EC-A3B9-029ED6E3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8304-704D-44DD-8E7F-FF49AD6D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BAD8-D5CF-4DB5-9386-C572FA94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CFBA-56F8-428F-BA79-7921AA00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DFDA-CD46-40E9-A9BB-8AE950B9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69C-8332-4D5C-8CDA-55E54273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9CC-4D0C-4A7A-AAB9-E28F669F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86B-1FB7-4957-AB10-579D8F09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1EF-C79E-4360-A5C1-920471F1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E11-D724-4D1F-BEFE-5825AEBC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155-E617-414D-8E36-6CB779D8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102-0B4E-416E-8261-D1AAD5DD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DAB2-7A7F-4762-9C92-B167976A68B9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9E60-A2E6-4BCE-9796-289148985BDD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Анализ анкетирования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6 «В» класс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216828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Опрошено 23 челове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из них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79640" y="2541600"/>
          <a:ext cx="64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41600"/>
                    <a:ext cx="64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2.Вы когда-нибудь пробовали курить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55640" y="2155680"/>
          <a:ext cx="6661440" cy="444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155680"/>
                    <a:ext cx="666144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3. В настоящий момент: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916280"/>
          <a:ext cx="6572160" cy="43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16280"/>
                    <a:ext cx="6572160" cy="43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4. Мама и папа куря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22200" y="1700280"/>
          <a:ext cx="745344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700280"/>
                    <a:ext cx="7453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5. Ваше отношение к курению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7080" y="1917720"/>
          <a:ext cx="752292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917720"/>
                    <a:ext cx="752292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23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6. Если бы вам предложили курить, предоставив возможность иметь бесплатно любые сигареты, вы бы предпочли: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11280" y="2252520"/>
          <a:ext cx="694836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252520"/>
                    <a:ext cx="694836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6:09:49Z</dcterms:created>
  <dc:creator>TKuzmina</dc:creator>
  <dc:description/>
  <dc:language>en-US</dc:language>
  <cp:lastModifiedBy>TKuzmina</cp:lastModifiedBy>
  <dcterms:modified xsi:type="dcterms:W3CDTF">2010-04-02T06:33:46Z</dcterms:modified>
  <cp:revision>2</cp:revision>
  <dc:subject/>
  <dc:title>Анализ анкетирования  6 «В» класса</dc:title>
</cp:coreProperties>
</file>