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png" ContentType="image/png"/>
  <Override PartName="/ppt/media/image24.wmf" ContentType="image/x-wmf"/>
  <Override PartName="/ppt/media/image23.wmf" ContentType="image/x-wmf"/>
  <Override PartName="/ppt/media/image27.gif" ContentType="image/gif"/>
  <Override PartName="/ppt/media/image28.jpeg" ContentType="image/jpeg"/>
  <Override PartName="/ppt/media/image21.png" ContentType="image/png"/>
  <Override PartName="/ppt/media/image22.png" ContentType="image/png"/>
  <Override PartName="/ppt/media/image17.gif" ContentType="image/gif"/>
  <Override PartName="/ppt/media/image14.gif" ContentType="image/gif"/>
  <Override PartName="/ppt/media/image31.jpeg" ContentType="image/jpeg"/>
  <Override PartName="/ppt/media/image1.jpeg" ContentType="image/jpeg"/>
  <Override PartName="/ppt/media/image10.png" ContentType="image/png"/>
  <Override PartName="/ppt/media/image16.png" ContentType="image/png"/>
  <Override PartName="/ppt/media/image13.gif" ContentType="image/gif"/>
  <Override PartName="/ppt/media/image8.gif" ContentType="image/gif"/>
  <Override PartName="/ppt/media/image18.jpeg" ContentType="image/jpeg"/>
  <Override PartName="/ppt/media/image12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40.gif" ContentType="image/gif"/>
  <Override PartName="/ppt/media/image11.png" ContentType="image/png"/>
  <Override PartName="/ppt/media/image19.jpeg" ContentType="image/jpeg"/>
  <Override PartName="/ppt/media/image20.wmf" ContentType="image/x-wmf"/>
  <Override PartName="/ppt/media/image35.png" ContentType="image/png"/>
  <Override PartName="/ppt/media/image42.gif" ContentType="image/gif"/>
  <Override PartName="/ppt/media/image6.jpeg" ContentType="image/jpeg"/>
  <Override PartName="/ppt/media/image39.gif" ContentType="image/gif"/>
  <Override PartName="/ppt/media/image38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9.wmf" ContentType="image/x-wmf"/>
  <Override PartName="/ppt/media/image41.gif" ContentType="image/gif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D77-C19A-44C3-BDBB-9391AE58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4C9-6C28-4DF8-98F6-8E23EDA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923-A00B-425C-BDF6-C5616042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EBD-BEAA-4E6C-98EA-288D90ED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2EDD-317E-4315-A789-2C3F4459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2ED4-3DE9-404D-97B4-A3A06970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0E3E-017D-4491-ABF1-022071E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610A-C6F7-4E57-A188-9FB14155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6EF-4234-4460-A52B-29CA758D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76C6-BABC-42A7-8E91-48F650B3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D0E-EC8E-4CC9-9C1A-8346636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B22-B153-42F6-831E-99B625A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A958-FBC5-4D25-ABC2-99D6AAF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43AE-AF9D-4DF2-A8EF-F6870B7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A29E-BF95-4B5E-98E2-845E736D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A4ED-040E-4097-A09B-3F5D9C37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606-9D55-4579-9EAA-1CF25C18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040-AD3B-4171-B883-9E645A52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3B5-1FAB-44A5-96E3-1DA6CB93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26C-729A-4A86-9F12-692D9CAD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714-20DF-4250-9464-761F139E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2CB-D8F1-4FC9-8F87-03D4AD1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EC4-DDF8-4A31-98AD-581106D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A18-B601-4EA4-A850-CE84AEF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C277-7EA3-49E5-92CD-80F373DF2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6B4D-6A02-424C-9443-1827DAAE5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4906-F9D0-4C50-85EE-48EFC5C58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3280" y="3357360"/>
            <a:ext cx="3241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дготовила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:     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Рязанова Анаста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еница 3в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БОУ СОШ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гт Уренг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ухорукова Э.Ю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84360" y="1268280"/>
            <a:ext cx="7775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ОМПЬЮТЕРНЫЕ ИГРЫ –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ХОРОШО ИЛИ ПЛОХО?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7" descr="DSC01829"/>
          <p:cNvPicPr/>
          <p:nvPr/>
        </p:nvPicPr>
        <p:blipFill>
          <a:blip r:embed="rId2"/>
          <a:stretch/>
        </p:blipFill>
        <p:spPr>
          <a:xfrm>
            <a:off x="6156360" y="3284640"/>
            <a:ext cx="2362320" cy="314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DSC01834"/>
          <p:cNvPicPr/>
          <p:nvPr/>
        </p:nvPicPr>
        <p:blipFill>
          <a:blip r:embed="rId3"/>
          <a:stretch/>
        </p:blipFill>
        <p:spPr>
          <a:xfrm>
            <a:off x="250920" y="3357720"/>
            <a:ext cx="262872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A9EB-65C0-4A48-BAB1-3320075DF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G:\Варсопко М. проект\компьютер\солнце в облаках.gif"/>
          <p:cNvPicPr/>
          <p:nvPr/>
        </p:nvPicPr>
        <p:blipFill>
          <a:blip r:embed="rId2"/>
          <a:stretch/>
        </p:blipFill>
        <p:spPr>
          <a:xfrm>
            <a:off x="0" y="0"/>
            <a:ext cx="1428840" cy="1170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4000680" y="22860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4073400" y="47862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K:\Варсопко М. проект\компьютер\18931945.gif"/>
          <p:cNvPicPr/>
          <p:nvPr/>
        </p:nvPicPr>
        <p:blipFill>
          <a:blip r:embed="rId3"/>
          <a:stretch/>
        </p:blipFill>
        <p:spPr>
          <a:xfrm>
            <a:off x="4143240" y="2840040"/>
            <a:ext cx="536760" cy="178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DSC01835"/>
          <p:cNvPicPr/>
          <p:nvPr/>
        </p:nvPicPr>
        <p:blipFill>
          <a:blip r:embed="rId4"/>
          <a:stretch/>
        </p:blipFill>
        <p:spPr>
          <a:xfrm>
            <a:off x="468360" y="126828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DSC01836"/>
          <p:cNvPicPr/>
          <p:nvPr/>
        </p:nvPicPr>
        <p:blipFill>
          <a:blip r:embed="rId5"/>
          <a:stretch/>
        </p:blipFill>
        <p:spPr>
          <a:xfrm>
            <a:off x="4859280" y="1268280"/>
            <a:ext cx="3851280" cy="262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DSC01841"/>
          <p:cNvPicPr/>
          <p:nvPr/>
        </p:nvPicPr>
        <p:blipFill>
          <a:blip r:embed="rId6"/>
          <a:stretch/>
        </p:blipFill>
        <p:spPr>
          <a:xfrm>
            <a:off x="4859280" y="3933720"/>
            <a:ext cx="3836880" cy="26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DSC01844"/>
          <p:cNvPicPr/>
          <p:nvPr/>
        </p:nvPicPr>
        <p:blipFill>
          <a:blip r:embed="rId7"/>
          <a:stretch/>
        </p:blipFill>
        <p:spPr>
          <a:xfrm>
            <a:off x="468360" y="3933720"/>
            <a:ext cx="35989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Елена\Рабочий стол\Рисунок1.png"/>
          <p:cNvPicPr/>
          <p:nvPr/>
        </p:nvPicPr>
        <p:blipFill>
          <a:blip r:embed="rId2"/>
          <a:stretch/>
        </p:blipFill>
        <p:spPr>
          <a:xfrm>
            <a:off x="133200" y="1474920"/>
            <a:ext cx="4395960" cy="3431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Елена\Рабочий стол\Рисунок2.png"/>
          <p:cNvPicPr/>
          <p:nvPr/>
        </p:nvPicPr>
        <p:blipFill>
          <a:blip r:embed="rId3"/>
          <a:stretch/>
        </p:blipFill>
        <p:spPr>
          <a:xfrm>
            <a:off x="4791240" y="1487520"/>
            <a:ext cx="4133520" cy="34322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1042920" y="203040"/>
            <a:ext cx="6446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70c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сравним Человека Разумного и Человека Играющего</a:t>
            </a:r>
            <a:endParaRPr b="0" lang="en-US" sz="1800" spc="1" strike="noStrike">
              <a:ln w="9360">
                <a:solidFill>
                  <a:srgbClr val="0070c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160200" y="5157720"/>
            <a:ext cx="87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Врачи говорят, что на коробках с играми давно пора ставить надпись наподобие этой: «КУРЕНИЕ УБИВАЕТ». Но даже это не поможет, пока сам человек не сделает выбор: хочет он настоящей полноценной жизни – или картинки на экране монитора, которая погаснет вместе с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EB57-666B-46D6-9BA8-779BFBE25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921240" y="473040"/>
            <a:ext cx="77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А чтобы было легче сделать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ВЫБОР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250920" y="1187280"/>
            <a:ext cx="3241440" cy="23162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60" name="Picture 6" descr="K:\Варсопко М. проект\Рисунок5.jpg"/>
          <p:cNvPicPr/>
          <p:nvPr/>
        </p:nvPicPr>
        <p:blipFill>
          <a:blip r:embed="rId3"/>
          <a:stretch/>
        </p:blipFill>
        <p:spPr>
          <a:xfrm>
            <a:off x="3649680" y="1787400"/>
            <a:ext cx="5378400" cy="402588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  <p:sp>
        <p:nvSpPr>
          <p:cNvPr id="161" name="Прямоугольник 11"/>
          <p:cNvSpPr/>
          <p:nvPr/>
        </p:nvSpPr>
        <p:spPr>
          <a:xfrm>
            <a:off x="3782880" y="234936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Чтобы не стать компьютерным рабом, соблюдайте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три простых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. Обязательно занимайтесь каким-нибудь активным видо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. Играйте по принципу «Поиграл и хватит» – не больше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одного часа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в день. Без тормозов даже на машине далеко не уеде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. Всегда помните мудрость: «Всё мне позволено, но не всё полезно». Конфету из мусорного ведра тоже можно достать – но станете ли вы её ес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332000" y="4653000"/>
            <a:ext cx="2251080" cy="168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79280" y="3716280"/>
            <a:ext cx="19274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68360" y="907920"/>
          <a:ext cx="8229600" cy="58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жи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Л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ЖЕЛАНИЕ ОБЩАТЬСЯ С ЛЮДЬМИ, ОТСУТСТВИЕ ДРУЗ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АДЕНИЕ УМСТВЕННЫХ СПОСО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ЕСТОКОСТЬ И НАСИЛ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ОСРЕДОТОЧ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СКРИВЛЕНИЕ ПОЗВОНОЧ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ЕЛКИХ МЫШЦ Р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РАВМА КИ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ДЕРЖКА ИНТЕРЕСА К УЧЁ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ОЛЕЗНИ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ОРМОЗИТ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ИЕ НАХОДИТЬ ЗАКОНОМЕР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ЕССОННИЦА И НОЧНЫЕ КОШМ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СОРЫ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ПАСНОСТЬ СЕТЕВ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«КОМПЬЮТЕРНАЯ ЗАВИС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3BD-F028-4A47-B334-C51513A4E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08320" y="2602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лияние компьютерных игр  на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3" descr="K:\Варсопко М. проект\komp\hw28.gif"/>
          <p:cNvPicPr/>
          <p:nvPr/>
        </p:nvPicPr>
        <p:blipFill>
          <a:blip r:embed="rId2"/>
          <a:stretch/>
        </p:blipFill>
        <p:spPr>
          <a:xfrm>
            <a:off x="7596360" y="907920"/>
            <a:ext cx="1160280" cy="746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4" descr="K:\Варсопко М. проект\komp\hw23.gif"/>
          <p:cNvPicPr/>
          <p:nvPr/>
        </p:nvPicPr>
        <p:blipFill>
          <a:blip r:embed="rId3"/>
          <a:stretch/>
        </p:blipFill>
        <p:spPr>
          <a:xfrm>
            <a:off x="468360" y="981000"/>
            <a:ext cx="11095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Мои предположения не подтвердились. Нельзя сказать, что компьютерные игры – это плохо, и надо отказаться от них. Как  нельзя сказать, что хорошо, и можно играть сколько хочется и в любые игры. Влияние компьютерных игр на  детей неоднозначно. Кто–то развивает логическое мышление, кто-то забывает про окружающий реальный мир.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Здесь нужно придерживаться главного принципа – не навреди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. Компьютер, как и всё, что окружает нас, может быть и полезным, и вред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A5C-B851-45CF-834A-6AF597D56E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4B87-6B99-4265-A6FB-9EDA588E3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1428840" y="214200"/>
            <a:ext cx="62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gradFill rotWithShape="0">
                  <a:gsLst>
                    <a:gs pos="0">
                      <a:srgbClr val="0070c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 моего исследования. 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gradFill rotWithShape="0">
                <a:gsLst>
                  <a:gs pos="0">
                    <a:srgbClr val="0070c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7" descr="K:\Варсопко М. проект\komp\komputeri-498.gif"/>
          <p:cNvPicPr/>
          <p:nvPr/>
        </p:nvPicPr>
        <p:blipFill>
          <a:blip r:embed="rId2"/>
          <a:stretch/>
        </p:blipFill>
        <p:spPr>
          <a:xfrm>
            <a:off x="179280" y="297000"/>
            <a:ext cx="1149480" cy="1282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K:\Варсопко М. проект\komp\komputeri-422.gif"/>
          <p:cNvPicPr/>
          <p:nvPr/>
        </p:nvPicPr>
        <p:blipFill>
          <a:blip r:embed="rId3"/>
          <a:stretch/>
        </p:blipFill>
        <p:spPr>
          <a:xfrm>
            <a:off x="7684920" y="297000"/>
            <a:ext cx="123372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B70-DD49-4A55-8F9E-CBE3B9A1B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F4C4-A687-4931-AC19-B7BF272F1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ordArt 6" descr=""/>
          <p:cNvPicPr/>
          <p:nvPr/>
        </p:nvPicPr>
        <p:blipFill>
          <a:blip r:embed="rId2"/>
          <a:stretch/>
        </p:blipFill>
        <p:spPr>
          <a:xfrm>
            <a:off x="822240" y="469800"/>
            <a:ext cx="7662960" cy="1303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293760" y="1636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Я выбрала эту тему потому, что меня заинтересовало,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ак же воздействуют компьютерные игры  на ребенка,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в какие игры можно играть, а в какие нельзя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G:\Варсопко М. проект\компьютер\Рисунок1.jpg"/>
          <p:cNvPicPr/>
          <p:nvPr/>
        </p:nvPicPr>
        <p:blipFill>
          <a:blip r:embed="rId3"/>
          <a:stretch/>
        </p:blipFill>
        <p:spPr>
          <a:xfrm>
            <a:off x="3348000" y="3444840"/>
            <a:ext cx="2592360" cy="296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:\Елена\анимашки\анимации новые\x_a89db78c.jpg"/>
          <p:cNvPicPr/>
          <p:nvPr/>
        </p:nvPicPr>
        <p:blipFill>
          <a:blip r:embed="rId4"/>
          <a:stretch/>
        </p:blipFill>
        <p:spPr>
          <a:xfrm>
            <a:off x="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K:\Варсопко М. проект\komp\Рисунокн.jpg"/>
          <p:cNvPicPr/>
          <p:nvPr/>
        </p:nvPicPr>
        <p:blipFill>
          <a:blip r:embed="rId5"/>
          <a:stretch/>
        </p:blipFill>
        <p:spPr>
          <a:xfrm>
            <a:off x="8064360" y="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G:\Варсопко М. проект\компьютер\Рисунок1.jpg"/>
          <p:cNvPicPr/>
          <p:nvPr/>
        </p:nvPicPr>
        <p:blipFill>
          <a:blip r:embed="rId6"/>
          <a:stretch/>
        </p:blipFill>
        <p:spPr>
          <a:xfrm>
            <a:off x="3348000" y="3429000"/>
            <a:ext cx="25923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356760"/>
            <a:ext cx="864396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оего исслед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снить положительные и отрица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ороны влияния компьютерных игр  на жизнь    школьник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 ответить н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вный вопрос: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грать в компьютерные игры – это хорошо или  плох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 меня возникло дв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полож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Предположим: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играть в компьютерные  игр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плохо, т.к. вредит здоровь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Возможно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,  играть в компьютерные игры 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хорошо, т.к. игра  развивает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A68F-F6E5-47C5-A326-D1FF73206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8BB9-B9B5-4C78-8C45-09C453BE5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G:\Варсопко М. проект\компьютер\anylizing_computer_10066WHT[1].gif"/>
          <p:cNvPicPr/>
          <p:nvPr/>
        </p:nvPicPr>
        <p:blipFill>
          <a:blip r:embed="rId2"/>
          <a:stretch/>
        </p:blipFill>
        <p:spPr>
          <a:xfrm>
            <a:off x="8101080" y="23760"/>
            <a:ext cx="904680" cy="111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K:\Варсопко М. проект\компьютер\j0404263.wmf"/>
          <p:cNvPicPr/>
          <p:nvPr/>
        </p:nvPicPr>
        <p:blipFill>
          <a:blip r:embed="rId3"/>
          <a:stretch/>
        </p:blipFill>
        <p:spPr>
          <a:xfrm>
            <a:off x="108000" y="4797360"/>
            <a:ext cx="1241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2760" y="1773360"/>
            <a:ext cx="840096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1.Узнать, какую пользу и какой вред несут для детей компьютерные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2. Узнать, как правильно организовать рабочее место за компьютером, какие правила безопасного поведения должны соблюда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3. Учиться работать в программах Microsoft Word, Microsoft Excel, Microsoft Power Point,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obe PhotoShop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C9F0-C0F0-4DC2-9D3B-A70A0CD7DD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9D9-6684-42A3-8506-CDC53FB6D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WordArt 3" descr=""/>
          <p:cNvPicPr/>
          <p:nvPr/>
        </p:nvPicPr>
        <p:blipFill>
          <a:blip r:embed="rId2"/>
          <a:stretch/>
        </p:blipFill>
        <p:spPr>
          <a:xfrm>
            <a:off x="2773440" y="0"/>
            <a:ext cx="32796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K:\Варсопко М. проект\Рисунок3.gif"/>
          <p:cNvPicPr/>
          <p:nvPr/>
        </p:nvPicPr>
        <p:blipFill>
          <a:blip r:embed="rId3"/>
          <a:stretch/>
        </p:blipFill>
        <p:spPr>
          <a:xfrm>
            <a:off x="539640" y="61920"/>
            <a:ext cx="1692360" cy="130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:\Варсопко М. проект\компьютер\Рисунок1.png"/>
          <p:cNvPicPr/>
          <p:nvPr/>
        </p:nvPicPr>
        <p:blipFill>
          <a:blip r:embed="rId4"/>
          <a:stretch/>
        </p:blipFill>
        <p:spPr>
          <a:xfrm>
            <a:off x="6659640" y="111240"/>
            <a:ext cx="1925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3600" y="1773000"/>
            <a:ext cx="842508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Найти и изучить  литературу  о влиянии  компьютерных игр на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ть существуют ли гигиенические требования, которые необходимо соблюдать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анкетирование у одноклассников, с целью узнать в каки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ят играть ученики и их отношение к компьютерным иг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собра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Выработать Памятку по безопасному пользованию иг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ть презентацию по собранн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Представить результат проектно-исследовательской работы на школьной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K:\Варсопко М. проект\компьютер\Изображение 142.gif"/>
          <p:cNvPicPr/>
          <p:nvPr/>
        </p:nvPicPr>
        <p:blipFill>
          <a:blip r:embed="rId2"/>
          <a:stretch/>
        </p:blipFill>
        <p:spPr>
          <a:xfrm>
            <a:off x="250920" y="404640"/>
            <a:ext cx="1216080" cy="72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K:\Варсопко М. проект\компьютер\компьютер.gif"/>
          <p:cNvPicPr/>
          <p:nvPr/>
        </p:nvPicPr>
        <p:blipFill>
          <a:blip r:embed="rId3"/>
          <a:stretch/>
        </p:blipFill>
        <p:spPr>
          <a:xfrm>
            <a:off x="7451640" y="4608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1857240" y="277920"/>
            <a:ext cx="54421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7030a0">
                        <a:alpha val="50196"/>
                      </a:srgbClr>
                    </a:gs>
                    <a:gs pos="100000">
                      <a:srgbClr val="00b0f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лан исследования.</a:t>
            </a:r>
            <a:endParaRPr b="0" lang="en-US" sz="3200" spc="1" strike="noStrike">
              <a:ln w="1260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7030a0">
                      <a:alpha val="50196"/>
                    </a:srgbClr>
                  </a:gs>
                  <a:gs pos="100000">
                    <a:srgbClr val="00b0f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оценивать полезность компьютерных иг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выбирать игры, развивающие мышление, логику, мелкие мышцы ру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выполнять гимнастику для мышц и глаз, следить за временем, проведенном у компьюте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рассказывать о необходимости соблюдения  правил безопасного поведения за компьютером   своим близким, знаком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629-D2AE-452E-A7FB-78FC3223B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EEB-BD97-46B3-A098-B94F77F09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03280" y="428760"/>
            <a:ext cx="58834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полагаемый результ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Picture 7" descr="G:\Варсопко М. проект\компьютер\komp35.gif"/>
          <p:cNvPicPr/>
          <p:nvPr/>
        </p:nvPicPr>
        <p:blipFill>
          <a:blip r:embed="rId2"/>
          <a:stretch/>
        </p:blipFill>
        <p:spPr>
          <a:xfrm>
            <a:off x="214200" y="214200"/>
            <a:ext cx="107172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G:\Варсопко М. проект\компьютер\ui7i.png"/>
          <p:cNvPicPr/>
          <p:nvPr/>
        </p:nvPicPr>
        <p:blipFill>
          <a:blip r:embed="rId3"/>
          <a:stretch/>
        </p:blipFill>
        <p:spPr>
          <a:xfrm>
            <a:off x="7215120" y="42876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В сети Интернет мы нашли нужную информацию и картинки, проанализировали собранную информац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Я училась вырезать картинки, копировать их и вставлять в презентацию, печатать текст, вставлять музыкальный фай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Вместе с Эллой Юрьевной мы придумали вопросы анкеты для ребят и провели анкетирование. 4. Провела  классный час для 3а и 3в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Училась обрабатывать полученные данные и делать диаграм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WordArt 2"/>
          <p:cNvSpPr txBox="1"/>
          <p:nvPr/>
        </p:nvSpPr>
        <p:spPr>
          <a:xfrm>
            <a:off x="1908000" y="333360"/>
            <a:ext cx="511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д работы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3" descr="K:\Варсопко М. проект\komp\1554a55bd8b9b4defeb301a1cbf9eea0.gif"/>
          <p:cNvPicPr/>
          <p:nvPr/>
        </p:nvPicPr>
        <p:blipFill>
          <a:blip r:embed="rId2"/>
          <a:stretch/>
        </p:blipFill>
        <p:spPr>
          <a:xfrm>
            <a:off x="7380360" y="109440"/>
            <a:ext cx="1457280" cy="123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Варсопко М. проект\komp\комп.jpg"/>
          <p:cNvPicPr/>
          <p:nvPr/>
        </p:nvPicPr>
        <p:blipFill>
          <a:blip r:embed="rId3"/>
          <a:stretch/>
        </p:blipFill>
        <p:spPr>
          <a:xfrm>
            <a:off x="195120" y="76320"/>
            <a:ext cx="11876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4A5-DC1B-4C75-825D-8F1F6B174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1116000" y="325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АНКЕТИРОВАНИЕ ОДНОКЛАСС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37640" y="893160"/>
            <a:ext cx="36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ИГРАЕШЬ ЛИ ТЫ В КОМПЬЮТЕРНЫЕ ИГР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1"/>
          <p:cNvGraphicFramePr/>
          <p:nvPr/>
        </p:nvGraphicFramePr>
        <p:xfrm>
          <a:off x="0" y="1125360"/>
          <a:ext cx="4067280" cy="23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4067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13"/>
          <p:cNvSpPr/>
          <p:nvPr/>
        </p:nvSpPr>
        <p:spPr>
          <a:xfrm>
            <a:off x="325800" y="3356640"/>
            <a:ext cx="37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КАКИМИ ПРОГРАММАМИ ТЫ ПОЛЬЗУЕШЬСЯ?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6" descr=""/>
          <p:cNvPicPr/>
          <p:nvPr/>
        </p:nvPicPr>
        <p:blipFill>
          <a:blip r:embed="rId4">
            <a:lum bright="-20000"/>
          </a:blip>
          <a:srcRect l="5244" t="13288" r="0" b="0"/>
          <a:stretch/>
        </p:blipFill>
        <p:spPr>
          <a:xfrm>
            <a:off x="357120" y="3643200"/>
            <a:ext cx="4357800" cy="2857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6"/>
          <p:cNvSpPr/>
          <p:nvPr/>
        </p:nvSpPr>
        <p:spPr>
          <a:xfrm>
            <a:off x="5509080" y="3428280"/>
            <a:ext cx="25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В КАКИЕ ИГРЫ ТЫ ИГРАЕ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Диаграмма 8" descr=""/>
          <p:cNvPicPr/>
          <p:nvPr/>
        </p:nvPicPr>
        <p:blipFill>
          <a:blip r:embed="rId5">
            <a:lum contrast="40000"/>
          </a:blip>
          <a:srcRect l="0" t="21576" r="0" b="9513"/>
          <a:stretch/>
        </p:blipFill>
        <p:spPr>
          <a:xfrm>
            <a:off x="4572000" y="3786120"/>
            <a:ext cx="4792680" cy="2784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8"/>
          <p:cNvSpPr/>
          <p:nvPr/>
        </p:nvSpPr>
        <p:spPr>
          <a:xfrm>
            <a:off x="4644720" y="907200"/>
            <a:ext cx="42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КОЛЬКО ВРЕМЕНИ В ДЕНЬ ТЫ ТРАТИШЬ НА ИГРУ?</a:t>
            </a:r>
            <a:r>
              <a:rPr b="1" lang="en-US" sz="1200" spc="-1" strike="noStrike">
                <a:solidFill>
                  <a:srgbClr val="00cc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2"/>
          <p:cNvGraphicFramePr/>
          <p:nvPr/>
        </p:nvGraphicFramePr>
        <p:xfrm>
          <a:off x="3995640" y="1252440"/>
          <a:ext cx="4654800" cy="230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252440"/>
                    <a:ext cx="465480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84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ЦЕЛЬ АНКЕТИРОВАНИЯ: </a:t>
            </a:r>
            <a:br>
              <a:rPr sz="28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выяснить,  в какие игры любят играть ученики и их отношение к компьютерным игр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539640" y="4508640"/>
            <a:ext cx="828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зультаты проведенного исследования показали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что все ребята в классе (20 чел.) имеют дома компьютер, учатся пользоваться разными программами, но большую часть времени проводят  за играми. Немногие задумываются о вреде и пользе этих игр, как и о том, сколько времени можно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50920" y="134064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С КАКОГО ВОЗРАСТА ТЫ ИГРАЕШЬ В ИГРЫ?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427640" y="134064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КОЛЬКО РАЗ В ДЕНЬ САДИШЬСЯ ЗА КОМПЬЮТЕ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341360"/>
          <a:ext cx="4557600" cy="30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55760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0"/>
          <p:cNvGraphicFramePr/>
          <p:nvPr/>
        </p:nvGraphicFramePr>
        <p:xfrm>
          <a:off x="4572000" y="1628640"/>
          <a:ext cx="4340160" cy="285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628640"/>
                    <a:ext cx="434016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1:25:19Z</dcterms:created>
  <dc:creator>Соломаха Е.И.</dc:creator>
  <dc:description>http://aida.ucoz.ru</dc:description>
  <dc:language>en-US</dc:language>
  <cp:lastModifiedBy>Элеонора</cp:lastModifiedBy>
  <dcterms:modified xsi:type="dcterms:W3CDTF">2015-02-09T15:57:00Z</dcterms:modified>
  <cp:revision>61</cp:revision>
  <dc:subject/>
  <dc:title>Слайд 1</dc:title>
</cp:coreProperties>
</file>