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png" ContentType="image/png"/>
  <Override PartName="/ppt/media/image24.wmf" ContentType="image/x-wmf"/>
  <Override PartName="/ppt/media/image23.wmf" ContentType="image/x-wmf"/>
  <Override PartName="/ppt/media/image27.gif" ContentType="image/gif"/>
  <Override PartName="/ppt/media/image28.jpeg" ContentType="image/jpeg"/>
  <Override PartName="/ppt/media/image21.png" ContentType="image/png"/>
  <Override PartName="/ppt/media/image22.png" ContentType="image/png"/>
  <Override PartName="/ppt/media/image17.gif" ContentType="image/gif"/>
  <Override PartName="/ppt/media/image14.gif" ContentType="image/gif"/>
  <Override PartName="/ppt/media/image31.jpeg" ContentType="image/jpeg"/>
  <Override PartName="/ppt/media/image1.jpeg" ContentType="image/jpeg"/>
  <Override PartName="/ppt/media/image10.png" ContentType="image/png"/>
  <Override PartName="/ppt/media/image16.png" ContentType="image/png"/>
  <Override PartName="/ppt/media/image13.gif" ContentType="image/gif"/>
  <Override PartName="/ppt/media/image8.gif" ContentType="image/gif"/>
  <Override PartName="/ppt/media/image18.jpeg" ContentType="image/jpeg"/>
  <Override PartName="/ppt/media/image12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40.gif" ContentType="image/gif"/>
  <Override PartName="/ppt/media/image11.png" ContentType="image/png"/>
  <Override PartName="/ppt/media/image19.jpeg" ContentType="image/jpeg"/>
  <Override PartName="/ppt/media/image20.wmf" ContentType="image/x-wmf"/>
  <Override PartName="/ppt/media/image35.png" ContentType="image/png"/>
  <Override PartName="/ppt/media/image42.gif" ContentType="image/gif"/>
  <Override PartName="/ppt/media/image6.jpeg" ContentType="image/jpeg"/>
  <Override PartName="/ppt/media/image39.gif" ContentType="image/gif"/>
  <Override PartName="/ppt/media/image38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9.wmf" ContentType="image/x-wmf"/>
  <Override PartName="/ppt/media/image41.gif" ContentType="image/gif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FCF-46B2-4A4E-8235-F0797AE5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637-35E1-4A1C-B12E-E741BDB4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0EE-C996-426A-90EE-5D71BAEC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8D9-F603-4F56-8E02-8D263DF1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6448-DAE5-4B72-A1C3-08B44579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AC13-7DF4-43AB-8942-88D15B78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EA1B-A884-4187-A91D-06187334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408F-3C2B-43F0-963B-172E0C28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723F-50DF-4B26-A152-00EFD153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B2C6-175E-40C9-901A-292285B5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D1E5-6E2A-4B62-BC5E-0E66E831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8F3-4259-45E8-A52F-6A173D37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985D-28EF-471A-A3A3-1950D1FD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F55F-9499-48E0-98ED-8B793A0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5055-BBB6-4F79-9027-6AA4EB80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1F9F-F6C5-477F-B2BF-0FB7A625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4386-4498-4F21-A324-C3BD8CE1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4A3-B5BE-4FFB-AF1D-77F7C0F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0B5-DAEB-4369-82A0-AAB12E7E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A98-D78C-40FB-AF97-7EC1F951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85A-4CAD-469E-A3FD-7F1FAEC1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8C6-4D2E-4F27-82B5-C98B2A95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FAC-B648-4D1F-A90D-23BC6DA7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00D-9AE6-4741-A110-69946C10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008B-E126-42F6-8AFA-22ECEE7DA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72EF-FAD1-4251-86F6-64AB9A5CB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7E4-F1D2-4F06-A886-9EA299FE4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43280" y="3357360"/>
            <a:ext cx="324144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дготовила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:      </a:t>
            </a: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Рязанова Анастас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ченица 3в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МБОУ СОШ №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гт Уренг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Сухорукова Э.Ю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читель начальных клас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84360" y="1268280"/>
            <a:ext cx="7775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КОМПЬЮТЕРНЫЕ ИГРЫ –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ХОРОШО ИЛИ ПЛОХО?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7" descr="DSC01829"/>
          <p:cNvPicPr/>
          <p:nvPr/>
        </p:nvPicPr>
        <p:blipFill>
          <a:blip r:embed="rId2"/>
          <a:stretch/>
        </p:blipFill>
        <p:spPr>
          <a:xfrm>
            <a:off x="6156360" y="3284640"/>
            <a:ext cx="2362320" cy="314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DSC01834"/>
          <p:cNvPicPr/>
          <p:nvPr/>
        </p:nvPicPr>
        <p:blipFill>
          <a:blip r:embed="rId3"/>
          <a:stretch/>
        </p:blipFill>
        <p:spPr>
          <a:xfrm>
            <a:off x="250920" y="3357720"/>
            <a:ext cx="262872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9261-4F41-42D5-A565-AEE0E7F7D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G:\Варсопко М. проект\компьютер\солнце в облаках.gif"/>
          <p:cNvPicPr/>
          <p:nvPr/>
        </p:nvPicPr>
        <p:blipFill>
          <a:blip r:embed="rId2"/>
          <a:stretch/>
        </p:blipFill>
        <p:spPr>
          <a:xfrm>
            <a:off x="0" y="0"/>
            <a:ext cx="1428840" cy="1170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1"/>
          <p:cNvSpPr/>
          <p:nvPr/>
        </p:nvSpPr>
        <p:spPr>
          <a:xfrm>
            <a:off x="4000680" y="22860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4073400" y="47862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K:\Варсопко М. проект\компьютер\18931945.gif"/>
          <p:cNvPicPr/>
          <p:nvPr/>
        </p:nvPicPr>
        <p:blipFill>
          <a:blip r:embed="rId3"/>
          <a:stretch/>
        </p:blipFill>
        <p:spPr>
          <a:xfrm>
            <a:off x="4143240" y="2840040"/>
            <a:ext cx="536760" cy="178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DSC01835"/>
          <p:cNvPicPr/>
          <p:nvPr/>
        </p:nvPicPr>
        <p:blipFill>
          <a:blip r:embed="rId4"/>
          <a:stretch/>
        </p:blipFill>
        <p:spPr>
          <a:xfrm>
            <a:off x="468360" y="1268280"/>
            <a:ext cx="352728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DSC01836"/>
          <p:cNvPicPr/>
          <p:nvPr/>
        </p:nvPicPr>
        <p:blipFill>
          <a:blip r:embed="rId5"/>
          <a:stretch/>
        </p:blipFill>
        <p:spPr>
          <a:xfrm>
            <a:off x="4859280" y="1268280"/>
            <a:ext cx="3851280" cy="262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DSC01841"/>
          <p:cNvPicPr/>
          <p:nvPr/>
        </p:nvPicPr>
        <p:blipFill>
          <a:blip r:embed="rId6"/>
          <a:stretch/>
        </p:blipFill>
        <p:spPr>
          <a:xfrm>
            <a:off x="4859280" y="3933720"/>
            <a:ext cx="3836880" cy="26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DSC01844"/>
          <p:cNvPicPr/>
          <p:nvPr/>
        </p:nvPicPr>
        <p:blipFill>
          <a:blip r:embed="rId7"/>
          <a:stretch/>
        </p:blipFill>
        <p:spPr>
          <a:xfrm>
            <a:off x="468360" y="3933720"/>
            <a:ext cx="35989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Елена\Рабочий стол\Рисунок1.png"/>
          <p:cNvPicPr/>
          <p:nvPr/>
        </p:nvPicPr>
        <p:blipFill>
          <a:blip r:embed="rId2"/>
          <a:stretch/>
        </p:blipFill>
        <p:spPr>
          <a:xfrm>
            <a:off x="133200" y="1474920"/>
            <a:ext cx="4395960" cy="3431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Documents and Settings\Елена\Рабочий стол\Рисунок2.png"/>
          <p:cNvPicPr/>
          <p:nvPr/>
        </p:nvPicPr>
        <p:blipFill>
          <a:blip r:embed="rId3"/>
          <a:stretch/>
        </p:blipFill>
        <p:spPr>
          <a:xfrm>
            <a:off x="4791240" y="1487520"/>
            <a:ext cx="4133520" cy="343224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1042920" y="203040"/>
            <a:ext cx="6446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70c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вайте сравним Человека Разумного и Человека Играющего</a:t>
            </a:r>
            <a:endParaRPr b="0" lang="en-US" sz="1800" spc="1" strike="noStrike">
              <a:ln w="9360">
                <a:solidFill>
                  <a:srgbClr val="0070c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160200" y="5157720"/>
            <a:ext cx="87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Врачи говорят, что на коробках с играми давно пора ставить надпись наподобие этой: «КУРЕНИЕ УБИВАЕТ». Но даже это не поможет, пока сам человек не сделает выбор: хочет он настоящей полноценной жизни – или картинки на экране монитора, которая погаснет вместе с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987C-1F6E-43D3-918C-750511F32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921240" y="473040"/>
            <a:ext cx="77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А чтобы было легче сделать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ВЫБОР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250920" y="1187280"/>
            <a:ext cx="3241440" cy="23162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60" name="Picture 6" descr="K:\Варсопко М. проект\Рисунок5.jpg"/>
          <p:cNvPicPr/>
          <p:nvPr/>
        </p:nvPicPr>
        <p:blipFill>
          <a:blip r:embed="rId3"/>
          <a:stretch/>
        </p:blipFill>
        <p:spPr>
          <a:xfrm>
            <a:off x="3649680" y="1787400"/>
            <a:ext cx="5378400" cy="402588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</p:spPr>
      </p:pic>
      <p:sp>
        <p:nvSpPr>
          <p:cNvPr id="161" name="Прямоугольник 11"/>
          <p:cNvSpPr/>
          <p:nvPr/>
        </p:nvSpPr>
        <p:spPr>
          <a:xfrm>
            <a:off x="3782880" y="2349360"/>
            <a:ext cx="511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Чтобы не стать компьютерным рабом, соблюдайте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три простых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. Обязательно занимайтесь каким-нибудь активным видом 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. Играйте по принципу «Поиграл и хватит» – не больше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одного часа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в день. Без тормозов даже на машине далеко не уеде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. Всегда помните мудрость: «Всё мне позволено, но не всё полезно». Конфету из мусорного ведра тоже можно достать – но станете ли вы её ес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332000" y="4653000"/>
            <a:ext cx="2251080" cy="1689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79280" y="3716280"/>
            <a:ext cx="19274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68360" y="907920"/>
          <a:ext cx="8229600" cy="5803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ожи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ЛОГ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ЖЕЛАНИЕ ОБЩАТЬСЯ С ЛЮДЬМИ, ОТСУТСТВИЕ ДРУЗ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ЫШ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АДЕНИЕ УМСТВЕННЫХ СПОСО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ЖЕСТОКОСТЬ И НАСИЛ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ОСРЕДОТОЧ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ИСКРИВЛЕНИЕ ПОЗВОНОЧ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ЕЛКИХ МЫШЦ РУ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РАВМА КИ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ДЕРЖКА ИНТЕРЕСА К УЧЁ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ОЛЕЗНИ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О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ОРМОЗИТ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МЕНИЕ НАХОДИТЬ ЗАКОНОМЕР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ЕССОННИЦА И НОЧНЫЕ КОШМ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СОРЫ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ПАСНОСТЬ СЕТЕВЫХ И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«КОМПЬЮТЕРНАЯ ЗАВИС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EC27-BF18-4EB2-A531-80DC74BD2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08320" y="260280"/>
            <a:ext cx="82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лияние компьютерных игр  на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3" descr="K:\Варсопко М. проект\komp\hw28.gif"/>
          <p:cNvPicPr/>
          <p:nvPr/>
        </p:nvPicPr>
        <p:blipFill>
          <a:blip r:embed="rId2"/>
          <a:stretch/>
        </p:blipFill>
        <p:spPr>
          <a:xfrm>
            <a:off x="7596360" y="907920"/>
            <a:ext cx="1160280" cy="746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4" descr="K:\Варсопко М. проект\komp\hw23.gif"/>
          <p:cNvPicPr/>
          <p:nvPr/>
        </p:nvPicPr>
        <p:blipFill>
          <a:blip r:embed="rId3"/>
          <a:stretch/>
        </p:blipFill>
        <p:spPr>
          <a:xfrm>
            <a:off x="468360" y="981000"/>
            <a:ext cx="11095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Мои предположения не подтвердились. Нельзя сказать, что компьютерные игры – это плохо, и надо отказаться от них. Как  нельзя сказать, что хорошо, и можно играть сколько хочется и в любые игры. Влияние компьютерных игр на  детей неоднозначно. Кто–то развивает логическое мышление, кто-то забывает про окружающий реальный мир.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Здесь нужно придерживаться главного принципа – не навреди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. Компьютер, как и всё, что окружает нас, может быть и полезным, и вред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13E9-8930-430E-8FB0-52CD68A957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51BC-DB18-4608-81CE-2739BE8A4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1428840" y="214200"/>
            <a:ext cx="621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gradFill rotWithShape="0">
                  <a:gsLst>
                    <a:gs pos="0">
                      <a:srgbClr val="0070c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 моего исследования. 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gradFill rotWithShape="0">
                <a:gsLst>
                  <a:gs pos="0">
                    <a:srgbClr val="0070c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Picture 7" descr="K:\Варсопко М. проект\komp\komputeri-498.gif"/>
          <p:cNvPicPr/>
          <p:nvPr/>
        </p:nvPicPr>
        <p:blipFill>
          <a:blip r:embed="rId2"/>
          <a:stretch/>
        </p:blipFill>
        <p:spPr>
          <a:xfrm>
            <a:off x="179280" y="297000"/>
            <a:ext cx="1149480" cy="1282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K:\Варсопко М. проект\komp\komputeri-422.gif"/>
          <p:cNvPicPr/>
          <p:nvPr/>
        </p:nvPicPr>
        <p:blipFill>
          <a:blip r:embed="rId3"/>
          <a:stretch/>
        </p:blipFill>
        <p:spPr>
          <a:xfrm>
            <a:off x="7684920" y="297000"/>
            <a:ext cx="123372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6030-9CBF-4AE7-92B3-0759F3A3F7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C880-C85C-4A85-9F4D-1565DA380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WordArt 6" descr=""/>
          <p:cNvPicPr/>
          <p:nvPr/>
        </p:nvPicPr>
        <p:blipFill>
          <a:blip r:embed="rId2"/>
          <a:stretch/>
        </p:blipFill>
        <p:spPr>
          <a:xfrm>
            <a:off x="822240" y="469800"/>
            <a:ext cx="7662960" cy="1303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293760" y="16365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Я выбрала эту тему потому, что меня заинтересовало,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ак же воздействуют компьютерные игры  на ребенка,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в какие игры можно играть, а в какие нельзя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G:\Варсопко М. проект\компьютер\Рисунок1.jpg"/>
          <p:cNvPicPr/>
          <p:nvPr/>
        </p:nvPicPr>
        <p:blipFill>
          <a:blip r:embed="rId3"/>
          <a:stretch/>
        </p:blipFill>
        <p:spPr>
          <a:xfrm>
            <a:off x="3348000" y="3444840"/>
            <a:ext cx="2592360" cy="2965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:\Елена\анимашки\анимации новые\x_a89db78c.jpg"/>
          <p:cNvPicPr/>
          <p:nvPr/>
        </p:nvPicPr>
        <p:blipFill>
          <a:blip r:embed="rId4"/>
          <a:stretch/>
        </p:blipFill>
        <p:spPr>
          <a:xfrm>
            <a:off x="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K:\Варсопко М. проект\komp\Рисунокн.jpg"/>
          <p:cNvPicPr/>
          <p:nvPr/>
        </p:nvPicPr>
        <p:blipFill>
          <a:blip r:embed="rId5"/>
          <a:stretch/>
        </p:blipFill>
        <p:spPr>
          <a:xfrm>
            <a:off x="8064360" y="0"/>
            <a:ext cx="1079640" cy="12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G:\Варсопко М. проект\компьютер\Рисунок1.jpg"/>
          <p:cNvPicPr/>
          <p:nvPr/>
        </p:nvPicPr>
        <p:blipFill>
          <a:blip r:embed="rId6"/>
          <a:stretch/>
        </p:blipFill>
        <p:spPr>
          <a:xfrm>
            <a:off x="3348000" y="3429000"/>
            <a:ext cx="25923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356760"/>
            <a:ext cx="864396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моего исследов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ыяснить положительные и отрицате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тороны влияния компьютерных игр  на жизнь    школьника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 ответить н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лавный вопрос: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грать в компьютерные игры – это хорошо или  плох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У меня возникло дв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едположен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Предположим: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играть в компьютерные  игр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плохо, т.к. вредит здоровью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Возможно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,  играть в компьютерные игры 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хорошо, т.к. игра  развивает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A0D-B7F1-46DA-B08F-C89CE530E7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B947-7DD7-4333-9508-E8D168944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G:\Варсопко М. проект\компьютер\anylizing_computer_10066WHT[1].gif"/>
          <p:cNvPicPr/>
          <p:nvPr/>
        </p:nvPicPr>
        <p:blipFill>
          <a:blip r:embed="rId2"/>
          <a:stretch/>
        </p:blipFill>
        <p:spPr>
          <a:xfrm>
            <a:off x="8101080" y="23760"/>
            <a:ext cx="904680" cy="1117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K:\Варсопко М. проект\компьютер\j0404263.wmf"/>
          <p:cNvPicPr/>
          <p:nvPr/>
        </p:nvPicPr>
        <p:blipFill>
          <a:blip r:embed="rId3"/>
          <a:stretch/>
        </p:blipFill>
        <p:spPr>
          <a:xfrm>
            <a:off x="108000" y="4797360"/>
            <a:ext cx="1241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2760" y="1773360"/>
            <a:ext cx="840096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1.Узнать, какую пользу и какой вред несут для детей компьютерные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2. Узнать, как правильно организовать рабочее место за компьютером, какие правила безопасного поведения должны соблюда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3. Учиться работать в программах Microsoft Word, Microsoft Excel, Microsoft Power Point,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dobe PhotoShop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1BB9-4A1D-4C51-9F05-788EC7AA50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68E-C057-4E47-A026-55C872C8A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WordArt 3" descr=""/>
          <p:cNvPicPr/>
          <p:nvPr/>
        </p:nvPicPr>
        <p:blipFill>
          <a:blip r:embed="rId2"/>
          <a:stretch/>
        </p:blipFill>
        <p:spPr>
          <a:xfrm>
            <a:off x="2773440" y="0"/>
            <a:ext cx="32796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K:\Варсопко М. проект\Рисунок3.gif"/>
          <p:cNvPicPr/>
          <p:nvPr/>
        </p:nvPicPr>
        <p:blipFill>
          <a:blip r:embed="rId3"/>
          <a:stretch/>
        </p:blipFill>
        <p:spPr>
          <a:xfrm>
            <a:off x="539640" y="61920"/>
            <a:ext cx="1692360" cy="130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K:\Варсопко М. проект\компьютер\Рисунок1.png"/>
          <p:cNvPicPr/>
          <p:nvPr/>
        </p:nvPicPr>
        <p:blipFill>
          <a:blip r:embed="rId4"/>
          <a:stretch/>
        </p:blipFill>
        <p:spPr>
          <a:xfrm>
            <a:off x="6659640" y="111240"/>
            <a:ext cx="1925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3600" y="1773000"/>
            <a:ext cx="842508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Найти и изучить  литературу  о влиянии  компьютерных игр на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ть существуют ли гигиенические требования, которые необходимо соблюдать де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анкетирование у одноклассников, с целью узнать в каки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ят играть ученики и их отношение к компьютерным иг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собран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Выработать Памятку по безопасному пользованию игр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ть презентацию по собранному материа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Представить результат проектно-исследовательской работы на школьной конфере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K:\Варсопко М. проект\компьютер\Изображение 142.gif"/>
          <p:cNvPicPr/>
          <p:nvPr/>
        </p:nvPicPr>
        <p:blipFill>
          <a:blip r:embed="rId2"/>
          <a:stretch/>
        </p:blipFill>
        <p:spPr>
          <a:xfrm>
            <a:off x="250920" y="404640"/>
            <a:ext cx="1216080" cy="72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K:\Варсопко М. проект\компьютер\компьютер.gif"/>
          <p:cNvPicPr/>
          <p:nvPr/>
        </p:nvPicPr>
        <p:blipFill>
          <a:blip r:embed="rId3"/>
          <a:stretch/>
        </p:blipFill>
        <p:spPr>
          <a:xfrm>
            <a:off x="7451640" y="4608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1857240" y="277920"/>
            <a:ext cx="54421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7030a0">
                        <a:alpha val="50196"/>
                      </a:srgbClr>
                    </a:gs>
                    <a:gs pos="100000">
                      <a:srgbClr val="00b0f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лан исследования.</a:t>
            </a:r>
            <a:endParaRPr b="0" lang="en-US" sz="3200" spc="1" strike="noStrike">
              <a:ln w="1260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7030a0">
                      <a:alpha val="50196"/>
                    </a:srgbClr>
                  </a:gs>
                  <a:gs pos="100000">
                    <a:srgbClr val="00b0f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оценивать полезность компьютерных иг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выбирать игры, развивающие мышление, логику, мелкие мышцы ру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выполнять гимнастику для мышц и глаз, следить за временем, проведенном у компьюте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рассказывать о необходимости соблюдения  правил безопасного поведения за компьютером   своим близким, знакомы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7CE5-6951-4E4B-BA09-324A9B02EC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3B80-4416-4490-B51D-5B8BC0C3A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03280" y="428760"/>
            <a:ext cx="588348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полагаемый результ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Picture 7" descr="G:\Варсопко М. проект\компьютер\komp35.gif"/>
          <p:cNvPicPr/>
          <p:nvPr/>
        </p:nvPicPr>
        <p:blipFill>
          <a:blip r:embed="rId2"/>
          <a:stretch/>
        </p:blipFill>
        <p:spPr>
          <a:xfrm>
            <a:off x="214200" y="214200"/>
            <a:ext cx="107172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G:\Варсопко М. проект\компьютер\ui7i.png"/>
          <p:cNvPicPr/>
          <p:nvPr/>
        </p:nvPicPr>
        <p:blipFill>
          <a:blip r:embed="rId3"/>
          <a:stretch/>
        </p:blipFill>
        <p:spPr>
          <a:xfrm>
            <a:off x="7215120" y="42876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В сети Интернет мы нашли нужную информацию и картинки, проанализировали собранную информац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Я училась вырезать картинки, копировать их и вставлять в презентацию, печатать текст, вставлять музыкальный фай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Вместе с Эллой Юрьевной мы придумали вопросы анкеты для ребят и провели анкетирование. 4. Провела  классный час для 3а и 3в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Училась обрабатывать полученные данные и делать диаграм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WordArt 2"/>
          <p:cNvSpPr txBox="1"/>
          <p:nvPr/>
        </p:nvSpPr>
        <p:spPr>
          <a:xfrm>
            <a:off x="1908000" y="333360"/>
            <a:ext cx="511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од работы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3" descr="K:\Варсопко М. проект\komp\1554a55bd8b9b4defeb301a1cbf9eea0.gif"/>
          <p:cNvPicPr/>
          <p:nvPr/>
        </p:nvPicPr>
        <p:blipFill>
          <a:blip r:embed="rId2"/>
          <a:stretch/>
        </p:blipFill>
        <p:spPr>
          <a:xfrm>
            <a:off x="7380360" y="109440"/>
            <a:ext cx="1457280" cy="123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K:\Варсопко М. проект\komp\комп.jpg"/>
          <p:cNvPicPr/>
          <p:nvPr/>
        </p:nvPicPr>
        <p:blipFill>
          <a:blip r:embed="rId3"/>
          <a:stretch/>
        </p:blipFill>
        <p:spPr>
          <a:xfrm>
            <a:off x="195120" y="76320"/>
            <a:ext cx="11876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4CC3-7D80-46DD-A8F8-FB9148D46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1116000" y="325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АНКЕТИРОВАНИЕ ОДНОКЛАСС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37640" y="893160"/>
            <a:ext cx="36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  <a:ea typeface="Times New Roman"/>
              </a:rPr>
              <a:t>ИГРАЕШЬ ЛИ ТЫ В КОМПЬЮТЕРНЫЕ ИГРЫ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11"/>
          <p:cNvGraphicFramePr/>
          <p:nvPr/>
        </p:nvGraphicFramePr>
        <p:xfrm>
          <a:off x="0" y="1125360"/>
          <a:ext cx="4067280" cy="23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40672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13"/>
          <p:cNvSpPr/>
          <p:nvPr/>
        </p:nvSpPr>
        <p:spPr>
          <a:xfrm>
            <a:off x="325800" y="3356640"/>
            <a:ext cx="37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КАКИМИ ПРОГРАММАМИ ТЫ ПОЛЬЗУЕШЬСЯ?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6" descr=""/>
          <p:cNvPicPr/>
          <p:nvPr/>
        </p:nvPicPr>
        <p:blipFill>
          <a:blip r:embed="rId4">
            <a:lum bright="-20000"/>
          </a:blip>
          <a:srcRect l="5244" t="13288" r="0" b="0"/>
          <a:stretch/>
        </p:blipFill>
        <p:spPr>
          <a:xfrm>
            <a:off x="357120" y="3643200"/>
            <a:ext cx="4357800" cy="2857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6"/>
          <p:cNvSpPr/>
          <p:nvPr/>
        </p:nvSpPr>
        <p:spPr>
          <a:xfrm>
            <a:off x="5509080" y="3428280"/>
            <a:ext cx="25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В КАКИЕ ИГРЫ ТЫ ИГРАЕШ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Диаграмма 8" descr=""/>
          <p:cNvPicPr/>
          <p:nvPr/>
        </p:nvPicPr>
        <p:blipFill>
          <a:blip r:embed="rId5">
            <a:lum contrast="40000"/>
          </a:blip>
          <a:srcRect l="0" t="21576" r="0" b="9513"/>
          <a:stretch/>
        </p:blipFill>
        <p:spPr>
          <a:xfrm>
            <a:off x="4572000" y="3786120"/>
            <a:ext cx="4792680" cy="2784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8"/>
          <p:cNvSpPr/>
          <p:nvPr/>
        </p:nvSpPr>
        <p:spPr>
          <a:xfrm>
            <a:off x="4644720" y="907200"/>
            <a:ext cx="42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СКОЛЬКО ВРЕМЕНИ В ДЕНЬ ТЫ ТРАТИШЬ НА ИГРУ?</a:t>
            </a:r>
            <a:r>
              <a:rPr b="1" lang="en-US" sz="1200" spc="-1" strike="noStrike">
                <a:solidFill>
                  <a:srgbClr val="00cc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2"/>
          <p:cNvGraphicFramePr/>
          <p:nvPr/>
        </p:nvGraphicFramePr>
        <p:xfrm>
          <a:off x="3995640" y="1252440"/>
          <a:ext cx="4654800" cy="230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252440"/>
                    <a:ext cx="465480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84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ЦЕЛЬ АНКЕТИРОВАНИЯ: </a:t>
            </a:r>
            <a:br>
              <a:rPr sz="28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выяснить,  в какие игры любят играть ученики и их отношение к компьютерным игр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539640" y="4508640"/>
            <a:ext cx="828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зультаты проведенного исследования показали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что все ребята в классе (20 чел.) имеют дома компьютер, учатся пользоваться разными программами, но большую часть времени проводят  за играми. Немногие задумываются о вреде и пользе этих игр, как и о том, сколько времени можно иг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50920" y="134064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С КАКОГО ВОЗРАСТА ТЫ ИГРАЕШЬ В ИГРЫ?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427640" y="134064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СКОЛЬКО РАЗ В ДЕНЬ САДИШЬСЯ ЗА КОМПЬЮТЕ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341360"/>
          <a:ext cx="4557600" cy="304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455760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0"/>
          <p:cNvGraphicFramePr/>
          <p:nvPr/>
        </p:nvGraphicFramePr>
        <p:xfrm>
          <a:off x="4572000" y="1628640"/>
          <a:ext cx="4340160" cy="285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628640"/>
                    <a:ext cx="434016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1:25:19Z</dcterms:created>
  <dc:creator>Соломаха Е.И.</dc:creator>
  <dc:description>http://aida.ucoz.ru</dc:description>
  <dc:language>en-US</dc:language>
  <cp:lastModifiedBy>Элеонора</cp:lastModifiedBy>
  <dcterms:modified xsi:type="dcterms:W3CDTF">2015-02-09T15:57:00Z</dcterms:modified>
  <cp:revision>61</cp:revision>
  <dc:subject/>
  <dc:title>Слайд 1</dc:title>
</cp:coreProperties>
</file>