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4BC-AEA3-49A4-80E2-970CCCC4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07A-1F63-406D-B828-A6EE46EE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8C7-EE2D-4CDA-8903-578FAF18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4C8-3A03-464E-88D4-941E9AFE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700-40CE-43C3-8685-1F85EED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A23-A6A5-4317-B761-854D654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673-10F0-40B5-9E7B-53BAE36B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05A-6408-4244-A3E1-C02538AA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20E-DCB5-4636-BC8E-06C921EE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1AD-FC09-4FAD-9473-95F0074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B26-D5EF-4AE7-8052-00FEE72E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DAA-FC41-451F-AEEC-3A75938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CAD-24DA-4F69-89B4-4C0F809027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468360" y="189000"/>
          <a:ext cx="140652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4065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2"/>
          <p:cNvSpPr/>
          <p:nvPr/>
        </p:nvSpPr>
        <p:spPr>
          <a:xfrm>
            <a:off x="714240" y="1785960"/>
            <a:ext cx="792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Новые отношения или конфлик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642600"/>
            <a:ext cx="84297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Не думайте, что вы воспитываете ребёнка    только тогда, когда с ним разговариваете, или  поучаете его, или приказываете ему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Вы воспитываете его в каждый момент вашей жизни, даже тогда, когда вас нет дома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.С.Макарен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95280" y="3860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Конфликты в семье неизбежны, и дело не в том, чтобы их избе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Или стараться замя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А в том, чтобы правильно их разре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692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Конфликт – это удовлетворение желания  одной стороны, за счет ущемления интересов другой стороны, и вызывает сильные отрицательные пережи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(Раздражение, обиду, гне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чины конфликт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ризис переходного возраст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тремление к самостоятельности и самоопределению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Требование большей автономии во всем — от одежды до помещен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вычка к конфликту, воспитанная поведением взрослых в семь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Бравирование подростка своими правами перед сверстниками и авторитетными дня него люд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дители в конфликт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Нежелание признавать, что ребенок стал взрослы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Боязнь выпустить ребенка из гнезда, неверие в его силы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роецирование поведения ребенка на себя в его возраст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Борьба за собственную власть и авторитетнос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тсутствие понимания между взрослыми в воспитании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Неподтверждение родительских ожи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108000" y="52200"/>
            <a:ext cx="9288360" cy="68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 искренне надеюсь на т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то ваша родительская дорога будет легк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вы не устанете в пу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 семейной жизни всем желаю счасть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ваши дети крепко любят ва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стороной вас обойдут несчаст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солнечным пусть будет каждый ча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ем  нам счастья, мира и добр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радость царит в наших семьях всегд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Times New Roman"/>
              </a:rPr>
              <a:t>Помните,</a:t>
            </a: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самое большое родительское счастье – видеть состоявшихся, умных и благодарных дете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908000" y="3193920"/>
            <a:ext cx="5410080" cy="2971800"/>
            <a:chOff x="1908000" y="3193920"/>
            <a:chExt cx="5410080" cy="2971800"/>
          </a:xfrm>
        </p:grpSpPr>
        <p:sp>
          <p:nvSpPr>
            <p:cNvPr id="55" name="Rectangle 5"/>
            <p:cNvSpPr/>
            <p:nvPr/>
          </p:nvSpPr>
          <p:spPr>
            <a:xfrm>
              <a:off x="1908000" y="5251320"/>
              <a:ext cx="5333760" cy="91440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5337000" y="3575160"/>
              <a:ext cx="1981080" cy="1846080"/>
              <a:chOff x="5337000" y="3575160"/>
              <a:chExt cx="1981080" cy="1846080"/>
            </a:xfrm>
          </p:grpSpPr>
          <p:sp>
            <p:nvSpPr>
              <p:cNvPr id="57" name="Freeform 7"/>
              <p:cNvSpPr/>
              <p:nvPr/>
            </p:nvSpPr>
            <p:spPr>
              <a:xfrm>
                <a:off x="5337000" y="3575160"/>
                <a:ext cx="1981080" cy="18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8"/>
              <p:cNvSpPr/>
              <p:nvPr/>
            </p:nvSpPr>
            <p:spPr>
              <a:xfrm>
                <a:off x="5357880" y="3597480"/>
                <a:ext cx="1935000" cy="136692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9"/>
              <p:cNvSpPr/>
              <p:nvPr/>
            </p:nvSpPr>
            <p:spPr>
              <a:xfrm>
                <a:off x="5363640" y="4977720"/>
                <a:ext cx="1930320" cy="41616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>
                <a:off x="7179480" y="5193360"/>
                <a:ext cx="27720" cy="78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11"/>
              <p:cNvSpPr/>
              <p:nvPr/>
            </p:nvSpPr>
            <p:spPr>
              <a:xfrm>
                <a:off x="7004160" y="4859280"/>
                <a:ext cx="178920" cy="2772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2"/>
              <p:cNvSpPr/>
              <p:nvPr/>
            </p:nvSpPr>
            <p:spPr>
              <a:xfrm>
                <a:off x="6818760" y="5264640"/>
                <a:ext cx="364320" cy="60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13"/>
              <p:cNvSpPr/>
              <p:nvPr/>
            </p:nvSpPr>
            <p:spPr>
              <a:xfrm>
                <a:off x="7021080" y="4899240"/>
                <a:ext cx="153720" cy="111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14"/>
              <p:cNvSpPr/>
              <p:nvPr/>
            </p:nvSpPr>
            <p:spPr>
              <a:xfrm>
                <a:off x="6971040" y="4970160"/>
                <a:ext cx="203760" cy="111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5"/>
              <p:cNvSpPr/>
              <p:nvPr/>
            </p:nvSpPr>
            <p:spPr>
              <a:xfrm>
                <a:off x="6968160" y="4995000"/>
                <a:ext cx="20664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6"/>
              <p:cNvSpPr/>
              <p:nvPr/>
            </p:nvSpPr>
            <p:spPr>
              <a:xfrm>
                <a:off x="6830640" y="4801320"/>
                <a:ext cx="339480" cy="41760"/>
              </a:xfrm>
              <a:prstGeom prst="pie">
                <a:avLst/>
              </a:prstGeom>
              <a:solidFill>
                <a:srgbClr val="a30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6937920" y="5163840"/>
                <a:ext cx="225720" cy="1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6971040" y="5243040"/>
                <a:ext cx="192600" cy="27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6954480" y="5190840"/>
                <a:ext cx="205560" cy="190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6964560" y="5216040"/>
                <a:ext cx="192600" cy="24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6964560" y="5274360"/>
                <a:ext cx="192600" cy="2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6996960" y="4921920"/>
                <a:ext cx="154080" cy="118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7075440" y="4952520"/>
                <a:ext cx="75600" cy="3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6968160" y="5128200"/>
                <a:ext cx="18288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6955560" y="5039280"/>
                <a:ext cx="187920" cy="8964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6991560" y="5068080"/>
                <a:ext cx="145440" cy="2160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6987600" y="5102280"/>
                <a:ext cx="14580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5875560" y="4132440"/>
                <a:ext cx="1145160" cy="87552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6987600" y="4878720"/>
                <a:ext cx="16200" cy="309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6765120" y="4956120"/>
                <a:ext cx="238680" cy="67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6758640" y="4808160"/>
                <a:ext cx="219600" cy="12600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6797520" y="4902840"/>
                <a:ext cx="153720" cy="71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6844680" y="5193360"/>
                <a:ext cx="1069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6844680" y="5224680"/>
                <a:ext cx="102240" cy="52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6788160" y="4941360"/>
                <a:ext cx="155880" cy="57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6780960" y="4996080"/>
                <a:ext cx="160560" cy="1501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6841800" y="5170680"/>
                <a:ext cx="997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6834600" y="5247360"/>
                <a:ext cx="1033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6829200" y="5143680"/>
                <a:ext cx="89280" cy="33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6414840" y="3816720"/>
                <a:ext cx="483120" cy="47736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41"/>
              <p:cNvSpPr/>
              <p:nvPr/>
            </p:nvSpPr>
            <p:spPr>
              <a:xfrm>
                <a:off x="6825960" y="4069800"/>
                <a:ext cx="388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42"/>
              <p:cNvSpPr/>
              <p:nvPr/>
            </p:nvSpPr>
            <p:spPr>
              <a:xfrm>
                <a:off x="6659280" y="4270680"/>
                <a:ext cx="121680" cy="16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43"/>
              <p:cNvSpPr/>
              <p:nvPr/>
            </p:nvSpPr>
            <p:spPr>
              <a:xfrm>
                <a:off x="6631560" y="3872520"/>
                <a:ext cx="90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44"/>
              <p:cNvSpPr/>
              <p:nvPr/>
            </p:nvSpPr>
            <p:spPr>
              <a:xfrm>
                <a:off x="6602040" y="4192560"/>
                <a:ext cx="10944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45"/>
              <p:cNvSpPr/>
              <p:nvPr/>
            </p:nvSpPr>
            <p:spPr>
              <a:xfrm>
                <a:off x="6420960" y="4883760"/>
                <a:ext cx="292320" cy="2059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46"/>
              <p:cNvSpPr/>
              <p:nvPr/>
            </p:nvSpPr>
            <p:spPr>
              <a:xfrm>
                <a:off x="6626880" y="4208040"/>
                <a:ext cx="65160" cy="37080"/>
              </a:xfrm>
              <a:prstGeom prst="pie">
                <a:avLst/>
              </a:prstGeom>
              <a:solidFill>
                <a:srgbClr val="ff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47"/>
              <p:cNvSpPr/>
              <p:nvPr/>
            </p:nvSpPr>
            <p:spPr>
              <a:xfrm>
                <a:off x="6671160" y="5249880"/>
                <a:ext cx="212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48"/>
              <p:cNvSpPr/>
              <p:nvPr/>
            </p:nvSpPr>
            <p:spPr>
              <a:xfrm>
                <a:off x="6645240" y="3996720"/>
                <a:ext cx="33840" cy="9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49"/>
              <p:cNvSpPr/>
              <p:nvPr/>
            </p:nvSpPr>
            <p:spPr>
              <a:xfrm>
                <a:off x="6555600" y="4316760"/>
                <a:ext cx="109800" cy="126000"/>
              </a:xfrm>
              <a:prstGeom prst="pie">
                <a:avLst/>
              </a:prstGeom>
              <a:solidFill>
                <a:srgbClr val="b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0"/>
              <p:cNvSpPr/>
              <p:nvPr/>
            </p:nvSpPr>
            <p:spPr>
              <a:xfrm>
                <a:off x="6503040" y="5321160"/>
                <a:ext cx="16236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1"/>
              <p:cNvSpPr/>
              <p:nvPr/>
            </p:nvSpPr>
            <p:spPr>
              <a:xfrm>
                <a:off x="6509520" y="5302080"/>
                <a:ext cx="151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52"/>
              <p:cNvSpPr/>
              <p:nvPr/>
            </p:nvSpPr>
            <p:spPr>
              <a:xfrm>
                <a:off x="6495840" y="5242320"/>
                <a:ext cx="16308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53"/>
              <p:cNvSpPr/>
              <p:nvPr/>
            </p:nvSpPr>
            <p:spPr>
              <a:xfrm>
                <a:off x="6505920" y="5274360"/>
                <a:ext cx="1494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54"/>
              <p:cNvSpPr/>
              <p:nvPr/>
            </p:nvSpPr>
            <p:spPr>
              <a:xfrm>
                <a:off x="6344280" y="5136840"/>
                <a:ext cx="294120" cy="103320"/>
              </a:xfrm>
              <a:prstGeom prst="pie">
                <a:avLst/>
              </a:prstGeom>
              <a:solidFill>
                <a:srgbClr val="007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>
                <a:off x="5843520" y="4596840"/>
                <a:ext cx="783360" cy="361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56"/>
              <p:cNvSpPr/>
              <p:nvPr/>
            </p:nvSpPr>
            <p:spPr>
              <a:xfrm>
                <a:off x="6530040" y="4096800"/>
                <a:ext cx="9216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6490080" y="4274280"/>
                <a:ext cx="932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8"/>
              <p:cNvSpPr/>
              <p:nvPr/>
            </p:nvSpPr>
            <p:spPr>
              <a:xfrm>
                <a:off x="6454080" y="3888000"/>
                <a:ext cx="107640" cy="8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59"/>
              <p:cNvSpPr/>
              <p:nvPr/>
            </p:nvSpPr>
            <p:spPr>
              <a:xfrm>
                <a:off x="6517080" y="4013280"/>
                <a:ext cx="3564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0"/>
              <p:cNvSpPr/>
              <p:nvPr/>
            </p:nvSpPr>
            <p:spPr>
              <a:xfrm>
                <a:off x="6364800" y="5230800"/>
                <a:ext cx="12528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>
                <a:off x="6357240" y="5263200"/>
                <a:ext cx="129960" cy="8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62"/>
              <p:cNvSpPr/>
              <p:nvPr/>
            </p:nvSpPr>
            <p:spPr>
              <a:xfrm>
                <a:off x="6368400" y="5203080"/>
                <a:ext cx="11628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63"/>
              <p:cNvSpPr/>
              <p:nvPr/>
            </p:nvSpPr>
            <p:spPr>
              <a:xfrm>
                <a:off x="5922720" y="4389840"/>
                <a:ext cx="475920" cy="42336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64"/>
              <p:cNvSpPr/>
              <p:nvPr/>
            </p:nvSpPr>
            <p:spPr>
              <a:xfrm>
                <a:off x="6081480" y="4883040"/>
                <a:ext cx="303120" cy="132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5"/>
              <p:cNvSpPr/>
              <p:nvPr/>
            </p:nvSpPr>
            <p:spPr>
              <a:xfrm>
                <a:off x="6324120" y="4570560"/>
                <a:ext cx="44280" cy="3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66"/>
              <p:cNvSpPr/>
              <p:nvPr/>
            </p:nvSpPr>
            <p:spPr>
              <a:xfrm>
                <a:off x="5852520" y="5018400"/>
                <a:ext cx="494640" cy="27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67"/>
              <p:cNvSpPr/>
              <p:nvPr/>
            </p:nvSpPr>
            <p:spPr>
              <a:xfrm>
                <a:off x="6115680" y="5065560"/>
                <a:ext cx="1926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68"/>
              <p:cNvSpPr/>
              <p:nvPr/>
            </p:nvSpPr>
            <p:spPr>
              <a:xfrm>
                <a:off x="6155280" y="4794480"/>
                <a:ext cx="129960" cy="5544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69"/>
              <p:cNvSpPr/>
              <p:nvPr/>
            </p:nvSpPr>
            <p:spPr>
              <a:xfrm>
                <a:off x="6181920" y="5200200"/>
                <a:ext cx="72720" cy="3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>
                <a:off x="6094440" y="4707360"/>
                <a:ext cx="140400" cy="8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71"/>
              <p:cNvSpPr/>
              <p:nvPr/>
            </p:nvSpPr>
            <p:spPr>
              <a:xfrm>
                <a:off x="6194880" y="3889080"/>
                <a:ext cx="23760" cy="1285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72"/>
              <p:cNvSpPr/>
              <p:nvPr/>
            </p:nvSpPr>
            <p:spPr>
              <a:xfrm>
                <a:off x="6119280" y="4724640"/>
                <a:ext cx="99720" cy="50400"/>
              </a:xfrm>
              <a:prstGeom prst="pie">
                <a:avLst/>
              </a:prstGeom>
              <a:solidFill>
                <a:srgbClr val="ff7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73"/>
              <p:cNvSpPr/>
              <p:nvPr/>
            </p:nvSpPr>
            <p:spPr>
              <a:xfrm>
                <a:off x="6075000" y="4044600"/>
                <a:ext cx="126360" cy="84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74"/>
              <p:cNvSpPr/>
              <p:nvPr/>
            </p:nvSpPr>
            <p:spPr>
              <a:xfrm>
                <a:off x="6145200" y="3707280"/>
                <a:ext cx="42120" cy="243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75"/>
              <p:cNvSpPr/>
              <p:nvPr/>
            </p:nvSpPr>
            <p:spPr>
              <a:xfrm>
                <a:off x="6147720" y="4577760"/>
                <a:ext cx="4032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76"/>
              <p:cNvSpPr/>
              <p:nvPr/>
            </p:nvSpPr>
            <p:spPr>
              <a:xfrm>
                <a:off x="6084360" y="5180400"/>
                <a:ext cx="97560" cy="1440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>
                <a:off x="5936400" y="3669120"/>
                <a:ext cx="242640" cy="444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78"/>
              <p:cNvSpPr/>
              <p:nvPr/>
            </p:nvSpPr>
            <p:spPr>
              <a:xfrm>
                <a:off x="6069600" y="5165640"/>
                <a:ext cx="92160" cy="1382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79"/>
              <p:cNvSpPr/>
              <p:nvPr/>
            </p:nvSpPr>
            <p:spPr>
              <a:xfrm>
                <a:off x="5776200" y="5102280"/>
                <a:ext cx="375480" cy="19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80"/>
              <p:cNvSpPr/>
              <p:nvPr/>
            </p:nvSpPr>
            <p:spPr>
              <a:xfrm>
                <a:off x="6004800" y="3916800"/>
                <a:ext cx="1429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81"/>
              <p:cNvSpPr/>
              <p:nvPr/>
            </p:nvSpPr>
            <p:spPr>
              <a:xfrm>
                <a:off x="6091560" y="4921920"/>
                <a:ext cx="56160" cy="3636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82"/>
              <p:cNvSpPr/>
              <p:nvPr/>
            </p:nvSpPr>
            <p:spPr>
              <a:xfrm>
                <a:off x="6135840" y="3675960"/>
                <a:ext cx="1800" cy="154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>
                <a:off x="6051960" y="3988800"/>
                <a:ext cx="856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84"/>
              <p:cNvSpPr/>
              <p:nvPr/>
            </p:nvSpPr>
            <p:spPr>
              <a:xfrm>
                <a:off x="6072480" y="4025520"/>
                <a:ext cx="6336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5"/>
              <p:cNvSpPr/>
              <p:nvPr/>
            </p:nvSpPr>
            <p:spPr>
              <a:xfrm>
                <a:off x="6022440" y="3939480"/>
                <a:ext cx="106920" cy="5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6"/>
              <p:cNvSpPr/>
              <p:nvPr/>
            </p:nvSpPr>
            <p:spPr>
              <a:xfrm>
                <a:off x="5991840" y="3881880"/>
                <a:ext cx="12348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87"/>
              <p:cNvSpPr/>
              <p:nvPr/>
            </p:nvSpPr>
            <p:spPr>
              <a:xfrm>
                <a:off x="5982840" y="3819240"/>
                <a:ext cx="12888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88"/>
              <p:cNvSpPr/>
              <p:nvPr/>
            </p:nvSpPr>
            <p:spPr>
              <a:xfrm>
                <a:off x="6019560" y="3708720"/>
                <a:ext cx="856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89"/>
              <p:cNvSpPr/>
              <p:nvPr/>
            </p:nvSpPr>
            <p:spPr>
              <a:xfrm>
                <a:off x="5991840" y="3851640"/>
                <a:ext cx="113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90"/>
              <p:cNvSpPr/>
              <p:nvPr/>
            </p:nvSpPr>
            <p:spPr>
              <a:xfrm>
                <a:off x="6036480" y="3725280"/>
                <a:ext cx="522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91"/>
              <p:cNvSpPr/>
              <p:nvPr/>
            </p:nvSpPr>
            <p:spPr>
              <a:xfrm>
                <a:off x="5812920" y="5330880"/>
                <a:ext cx="262080" cy="223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2"/>
              <p:cNvSpPr/>
              <p:nvPr/>
            </p:nvSpPr>
            <p:spPr>
              <a:xfrm>
                <a:off x="6024240" y="4593240"/>
                <a:ext cx="4500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93"/>
              <p:cNvSpPr/>
              <p:nvPr/>
            </p:nvSpPr>
            <p:spPr>
              <a:xfrm>
                <a:off x="5925600" y="4981320"/>
                <a:ext cx="140400" cy="2700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94"/>
              <p:cNvSpPr/>
              <p:nvPr/>
            </p:nvSpPr>
            <p:spPr>
              <a:xfrm>
                <a:off x="5945040" y="4483800"/>
                <a:ext cx="10332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95"/>
              <p:cNvSpPr/>
              <p:nvPr/>
            </p:nvSpPr>
            <p:spPr>
              <a:xfrm>
                <a:off x="5856480" y="5301360"/>
                <a:ext cx="185400" cy="198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96"/>
              <p:cNvSpPr/>
              <p:nvPr/>
            </p:nvSpPr>
            <p:spPr>
              <a:xfrm>
                <a:off x="5789160" y="5271840"/>
                <a:ext cx="243360" cy="399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97"/>
              <p:cNvSpPr/>
              <p:nvPr/>
            </p:nvSpPr>
            <p:spPr>
              <a:xfrm>
                <a:off x="5938560" y="5052600"/>
                <a:ext cx="91440" cy="4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98"/>
              <p:cNvSpPr/>
              <p:nvPr/>
            </p:nvSpPr>
            <p:spPr>
              <a:xfrm>
                <a:off x="5830560" y="4042080"/>
                <a:ext cx="194760" cy="2059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99"/>
              <p:cNvSpPr/>
              <p:nvPr/>
            </p:nvSpPr>
            <p:spPr>
              <a:xfrm>
                <a:off x="5972400" y="3804840"/>
                <a:ext cx="432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00"/>
              <p:cNvSpPr/>
              <p:nvPr/>
            </p:nvSpPr>
            <p:spPr>
              <a:xfrm>
                <a:off x="5986440" y="3831480"/>
                <a:ext cx="295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01"/>
              <p:cNvSpPr/>
              <p:nvPr/>
            </p:nvSpPr>
            <p:spPr>
              <a:xfrm>
                <a:off x="5962320" y="3776040"/>
                <a:ext cx="3924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02"/>
              <p:cNvSpPr/>
              <p:nvPr/>
            </p:nvSpPr>
            <p:spPr>
              <a:xfrm>
                <a:off x="5763240" y="3725280"/>
                <a:ext cx="195480" cy="42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03"/>
              <p:cNvSpPr/>
              <p:nvPr/>
            </p:nvSpPr>
            <p:spPr>
              <a:xfrm>
                <a:off x="5825880" y="3941280"/>
                <a:ext cx="9864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04"/>
              <p:cNvSpPr/>
              <p:nvPr/>
            </p:nvSpPr>
            <p:spPr>
              <a:xfrm>
                <a:off x="5809320" y="3879360"/>
                <a:ext cx="10692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105"/>
              <p:cNvSpPr/>
              <p:nvPr/>
            </p:nvSpPr>
            <p:spPr>
              <a:xfrm>
                <a:off x="5848200" y="4845600"/>
                <a:ext cx="68040" cy="738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106"/>
              <p:cNvSpPr/>
              <p:nvPr/>
            </p:nvSpPr>
            <p:spPr>
              <a:xfrm>
                <a:off x="5842440" y="3954240"/>
                <a:ext cx="6624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107"/>
              <p:cNvSpPr/>
              <p:nvPr/>
            </p:nvSpPr>
            <p:spPr>
              <a:xfrm>
                <a:off x="5852520" y="4934160"/>
                <a:ext cx="52200" cy="6840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108"/>
              <p:cNvSpPr/>
              <p:nvPr/>
            </p:nvSpPr>
            <p:spPr>
              <a:xfrm>
                <a:off x="5809320" y="3795120"/>
                <a:ext cx="864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109"/>
              <p:cNvSpPr/>
              <p:nvPr/>
            </p:nvSpPr>
            <p:spPr>
              <a:xfrm>
                <a:off x="5806440" y="3832560"/>
                <a:ext cx="8928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110"/>
              <p:cNvSpPr/>
              <p:nvPr/>
            </p:nvSpPr>
            <p:spPr>
              <a:xfrm>
                <a:off x="5848920" y="4151520"/>
                <a:ext cx="39600" cy="165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111"/>
              <p:cNvSpPr/>
              <p:nvPr/>
            </p:nvSpPr>
            <p:spPr>
              <a:xfrm>
                <a:off x="5792400" y="4706280"/>
                <a:ext cx="55440" cy="14148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2"/>
              <p:cNvSpPr/>
              <p:nvPr/>
            </p:nvSpPr>
            <p:spPr>
              <a:xfrm>
                <a:off x="5725080" y="4896720"/>
                <a:ext cx="120600" cy="1213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13"/>
              <p:cNvSpPr/>
              <p:nvPr/>
            </p:nvSpPr>
            <p:spPr>
              <a:xfrm>
                <a:off x="5477040" y="5049000"/>
                <a:ext cx="359640" cy="26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14"/>
              <p:cNvSpPr/>
              <p:nvPr/>
            </p:nvSpPr>
            <p:spPr>
              <a:xfrm>
                <a:off x="5739120" y="4836960"/>
                <a:ext cx="94680" cy="918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15"/>
              <p:cNvSpPr/>
              <p:nvPr/>
            </p:nvSpPr>
            <p:spPr>
              <a:xfrm>
                <a:off x="5737320" y="3738600"/>
                <a:ext cx="92880" cy="399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16"/>
              <p:cNvSpPr/>
              <p:nvPr/>
            </p:nvSpPr>
            <p:spPr>
              <a:xfrm>
                <a:off x="5763240" y="3986280"/>
                <a:ext cx="33120" cy="140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17"/>
              <p:cNvSpPr/>
              <p:nvPr/>
            </p:nvSpPr>
            <p:spPr>
              <a:xfrm>
                <a:off x="5676480" y="4768920"/>
                <a:ext cx="115920" cy="191880"/>
              </a:xfrm>
              <a:prstGeom prst="pie">
                <a:avLst/>
              </a:prstGeom>
              <a:solidFill>
                <a:srgbClr val="7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18"/>
              <p:cNvSpPr/>
              <p:nvPr/>
            </p:nvSpPr>
            <p:spPr>
              <a:xfrm>
                <a:off x="5770440" y="4107240"/>
                <a:ext cx="12600" cy="406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119"/>
              <p:cNvSpPr/>
              <p:nvPr/>
            </p:nvSpPr>
            <p:spPr>
              <a:xfrm>
                <a:off x="5646960" y="3745440"/>
                <a:ext cx="112320" cy="4129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20"/>
              <p:cNvSpPr/>
              <p:nvPr/>
            </p:nvSpPr>
            <p:spPr>
              <a:xfrm>
                <a:off x="5746680" y="3902040"/>
                <a:ext cx="3600" cy="27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121"/>
              <p:cNvSpPr/>
              <p:nvPr/>
            </p:nvSpPr>
            <p:spPr>
              <a:xfrm>
                <a:off x="5713200" y="3745440"/>
                <a:ext cx="25920" cy="13644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122"/>
              <p:cNvSpPr/>
              <p:nvPr/>
            </p:nvSpPr>
            <p:spPr>
              <a:xfrm>
                <a:off x="5739120" y="3954960"/>
                <a:ext cx="720" cy="111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123"/>
              <p:cNvSpPr/>
              <p:nvPr/>
            </p:nvSpPr>
            <p:spPr>
              <a:xfrm>
                <a:off x="5681160" y="3728880"/>
                <a:ext cx="52200" cy="2041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124"/>
              <p:cNvSpPr/>
              <p:nvPr/>
            </p:nvSpPr>
            <p:spPr>
              <a:xfrm>
                <a:off x="5477040" y="5243760"/>
                <a:ext cx="238680" cy="9288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25"/>
              <p:cNvSpPr/>
              <p:nvPr/>
            </p:nvSpPr>
            <p:spPr>
              <a:xfrm>
                <a:off x="5481720" y="5200200"/>
                <a:ext cx="225000" cy="867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126"/>
              <p:cNvSpPr/>
              <p:nvPr/>
            </p:nvSpPr>
            <p:spPr>
              <a:xfrm>
                <a:off x="5438160" y="5268960"/>
                <a:ext cx="232200" cy="522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127"/>
              <p:cNvSpPr/>
              <p:nvPr/>
            </p:nvSpPr>
            <p:spPr>
              <a:xfrm>
                <a:off x="6158160" y="3575160"/>
                <a:ext cx="234360" cy="302400"/>
              </a:xfrm>
              <a:prstGeom prst="pie">
                <a:avLst/>
              </a:prstGeom>
              <a:solidFill>
                <a:srgbClr val="9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28"/>
            <p:cNvGrpSpPr/>
            <p:nvPr/>
          </p:nvGrpSpPr>
          <p:grpSpPr>
            <a:xfrm>
              <a:off x="2080440" y="3575160"/>
              <a:ext cx="1731960" cy="1828800"/>
              <a:chOff x="2080440" y="3575160"/>
              <a:chExt cx="1731960" cy="1828800"/>
            </a:xfrm>
          </p:grpSpPr>
          <p:sp>
            <p:nvSpPr>
              <p:cNvPr id="179" name="Freeform 129"/>
              <p:cNvSpPr/>
              <p:nvPr/>
            </p:nvSpPr>
            <p:spPr>
              <a:xfrm flipH="1">
                <a:off x="2080080" y="3575160"/>
                <a:ext cx="1731960" cy="18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30"/>
              <p:cNvSpPr/>
              <p:nvPr/>
            </p:nvSpPr>
            <p:spPr>
              <a:xfrm flipH="1">
                <a:off x="2101680" y="3597120"/>
                <a:ext cx="1691640" cy="135396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131"/>
              <p:cNvSpPr/>
              <p:nvPr/>
            </p:nvSpPr>
            <p:spPr>
              <a:xfrm flipH="1">
                <a:off x="2101680" y="4964400"/>
                <a:ext cx="1687680" cy="41256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32"/>
              <p:cNvSpPr/>
              <p:nvPr/>
            </p:nvSpPr>
            <p:spPr>
              <a:xfrm flipH="1">
                <a:off x="2176920" y="5178240"/>
                <a:ext cx="24120" cy="77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3"/>
              <p:cNvSpPr/>
              <p:nvPr/>
            </p:nvSpPr>
            <p:spPr>
              <a:xfrm flipH="1">
                <a:off x="2197800" y="4847400"/>
                <a:ext cx="156600" cy="273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34"/>
              <p:cNvSpPr/>
              <p:nvPr/>
            </p:nvSpPr>
            <p:spPr>
              <a:xfrm flipH="1">
                <a:off x="2197800" y="5248800"/>
                <a:ext cx="318600" cy="59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35"/>
              <p:cNvSpPr/>
              <p:nvPr/>
            </p:nvSpPr>
            <p:spPr>
              <a:xfrm flipH="1">
                <a:off x="2205720" y="4887000"/>
                <a:ext cx="134640" cy="1080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36"/>
              <p:cNvSpPr/>
              <p:nvPr/>
            </p:nvSpPr>
            <p:spPr>
              <a:xfrm flipH="1">
                <a:off x="2205720" y="4956840"/>
                <a:ext cx="177840" cy="10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37"/>
              <p:cNvSpPr/>
              <p:nvPr/>
            </p:nvSpPr>
            <p:spPr>
              <a:xfrm flipH="1">
                <a:off x="2205720" y="4981680"/>
                <a:ext cx="180720" cy="16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38"/>
              <p:cNvSpPr/>
              <p:nvPr/>
            </p:nvSpPr>
            <p:spPr>
              <a:xfrm flipH="1">
                <a:off x="2209680" y="4789440"/>
                <a:ext cx="296640" cy="41400"/>
              </a:xfrm>
              <a:prstGeom prst="pie">
                <a:avLst/>
              </a:prstGeom>
              <a:solidFill>
                <a:srgbClr val="a30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139"/>
              <p:cNvSpPr/>
              <p:nvPr/>
            </p:nvSpPr>
            <p:spPr>
              <a:xfrm flipH="1">
                <a:off x="2215440" y="5148720"/>
                <a:ext cx="197280" cy="14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140"/>
              <p:cNvSpPr/>
              <p:nvPr/>
            </p:nvSpPr>
            <p:spPr>
              <a:xfrm flipH="1">
                <a:off x="2215440" y="5227200"/>
                <a:ext cx="16848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141"/>
              <p:cNvSpPr/>
              <p:nvPr/>
            </p:nvSpPr>
            <p:spPr>
              <a:xfrm flipH="1">
                <a:off x="2218680" y="5175720"/>
                <a:ext cx="180000" cy="18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142"/>
              <p:cNvSpPr/>
              <p:nvPr/>
            </p:nvSpPr>
            <p:spPr>
              <a:xfrm flipH="1">
                <a:off x="2221200" y="5200560"/>
                <a:ext cx="168480" cy="23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143"/>
              <p:cNvSpPr/>
              <p:nvPr/>
            </p:nvSpPr>
            <p:spPr>
              <a:xfrm flipH="1">
                <a:off x="2221200" y="5258160"/>
                <a:ext cx="168480" cy="2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144"/>
              <p:cNvSpPr/>
              <p:nvPr/>
            </p:nvSpPr>
            <p:spPr>
              <a:xfrm flipH="1">
                <a:off x="2226600" y="4909320"/>
                <a:ext cx="134640" cy="118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145"/>
              <p:cNvSpPr/>
              <p:nvPr/>
            </p:nvSpPr>
            <p:spPr>
              <a:xfrm flipH="1">
                <a:off x="2225880" y="4939560"/>
                <a:ext cx="65880" cy="3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46"/>
              <p:cNvSpPr/>
              <p:nvPr/>
            </p:nvSpPr>
            <p:spPr>
              <a:xfrm flipH="1">
                <a:off x="2226600" y="5113440"/>
                <a:ext cx="15984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47"/>
              <p:cNvSpPr/>
              <p:nvPr/>
            </p:nvSpPr>
            <p:spPr>
              <a:xfrm flipH="1">
                <a:off x="2233080" y="5025600"/>
                <a:ext cx="164160" cy="885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48"/>
              <p:cNvSpPr/>
              <p:nvPr/>
            </p:nvSpPr>
            <p:spPr>
              <a:xfrm flipH="1">
                <a:off x="2238120" y="5054040"/>
                <a:ext cx="127080" cy="2124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49"/>
              <p:cNvSpPr/>
              <p:nvPr/>
            </p:nvSpPr>
            <p:spPr>
              <a:xfrm flipH="1">
                <a:off x="2242080" y="5087520"/>
                <a:ext cx="12744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50"/>
              <p:cNvSpPr/>
              <p:nvPr/>
            </p:nvSpPr>
            <p:spPr>
              <a:xfrm flipH="1">
                <a:off x="2339640" y="4127040"/>
                <a:ext cx="1001160" cy="8672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51"/>
              <p:cNvSpPr/>
              <p:nvPr/>
            </p:nvSpPr>
            <p:spPr>
              <a:xfrm flipH="1">
                <a:off x="2355120" y="4866480"/>
                <a:ext cx="14400" cy="309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52"/>
              <p:cNvSpPr/>
              <p:nvPr/>
            </p:nvSpPr>
            <p:spPr>
              <a:xfrm flipH="1">
                <a:off x="2355120" y="4942800"/>
                <a:ext cx="208800" cy="66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3"/>
              <p:cNvSpPr/>
              <p:nvPr/>
            </p:nvSpPr>
            <p:spPr>
              <a:xfrm flipH="1">
                <a:off x="2376720" y="4796640"/>
                <a:ext cx="191880" cy="1245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54"/>
              <p:cNvSpPr/>
              <p:nvPr/>
            </p:nvSpPr>
            <p:spPr>
              <a:xfrm flipH="1">
                <a:off x="2400840" y="4890240"/>
                <a:ext cx="134640" cy="70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5"/>
              <p:cNvSpPr/>
              <p:nvPr/>
            </p:nvSpPr>
            <p:spPr>
              <a:xfrm flipH="1">
                <a:off x="2400840" y="5178240"/>
                <a:ext cx="9360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6"/>
              <p:cNvSpPr/>
              <p:nvPr/>
            </p:nvSpPr>
            <p:spPr>
              <a:xfrm flipH="1">
                <a:off x="2404440" y="5209200"/>
                <a:ext cx="89640" cy="522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57"/>
              <p:cNvSpPr/>
              <p:nvPr/>
            </p:nvSpPr>
            <p:spPr>
              <a:xfrm flipH="1">
                <a:off x="2406600" y="4928400"/>
                <a:ext cx="136440" cy="57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58"/>
              <p:cNvSpPr/>
              <p:nvPr/>
            </p:nvSpPr>
            <p:spPr>
              <a:xfrm flipH="1">
                <a:off x="2409120" y="4982400"/>
                <a:ext cx="140040" cy="1490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59"/>
              <p:cNvSpPr/>
              <p:nvPr/>
            </p:nvSpPr>
            <p:spPr>
              <a:xfrm flipH="1">
                <a:off x="2409120" y="5155920"/>
                <a:ext cx="867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60"/>
              <p:cNvSpPr/>
              <p:nvPr/>
            </p:nvSpPr>
            <p:spPr>
              <a:xfrm flipH="1">
                <a:off x="2412360" y="5231520"/>
                <a:ext cx="903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1"/>
              <p:cNvSpPr/>
              <p:nvPr/>
            </p:nvSpPr>
            <p:spPr>
              <a:xfrm flipH="1">
                <a:off x="2430000" y="5128920"/>
                <a:ext cx="77760" cy="33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62"/>
              <p:cNvSpPr/>
              <p:nvPr/>
            </p:nvSpPr>
            <p:spPr>
              <a:xfrm flipH="1">
                <a:off x="2446920" y="3814560"/>
                <a:ext cx="422280" cy="4726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63"/>
              <p:cNvSpPr/>
              <p:nvPr/>
            </p:nvSpPr>
            <p:spPr>
              <a:xfrm flipH="1">
                <a:off x="2476800" y="4065120"/>
                <a:ext cx="3384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64"/>
              <p:cNvSpPr/>
              <p:nvPr/>
            </p:nvSpPr>
            <p:spPr>
              <a:xfrm flipH="1">
                <a:off x="2549520" y="4263840"/>
                <a:ext cx="106200" cy="164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65"/>
              <p:cNvSpPr/>
              <p:nvPr/>
            </p:nvSpPr>
            <p:spPr>
              <a:xfrm flipH="1">
                <a:off x="2601000" y="3869640"/>
                <a:ext cx="7884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166"/>
              <p:cNvSpPr/>
              <p:nvPr/>
            </p:nvSpPr>
            <p:spPr>
              <a:xfrm flipH="1">
                <a:off x="2610720" y="4186800"/>
                <a:ext cx="9576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167"/>
              <p:cNvSpPr/>
              <p:nvPr/>
            </p:nvSpPr>
            <p:spPr>
              <a:xfrm flipH="1">
                <a:off x="2609280" y="4871520"/>
                <a:ext cx="255600" cy="204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68"/>
              <p:cNvSpPr/>
              <p:nvPr/>
            </p:nvSpPr>
            <p:spPr>
              <a:xfrm flipH="1">
                <a:off x="2626920" y="4201920"/>
                <a:ext cx="57240" cy="37080"/>
              </a:xfrm>
              <a:prstGeom prst="pie">
                <a:avLst/>
              </a:prstGeom>
              <a:solidFill>
                <a:srgbClr val="ff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69"/>
              <p:cNvSpPr/>
              <p:nvPr/>
            </p:nvSpPr>
            <p:spPr>
              <a:xfrm flipH="1">
                <a:off x="2626920" y="5234040"/>
                <a:ext cx="1836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70"/>
              <p:cNvSpPr/>
              <p:nvPr/>
            </p:nvSpPr>
            <p:spPr>
              <a:xfrm flipH="1">
                <a:off x="2638800" y="3992760"/>
                <a:ext cx="2952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71"/>
              <p:cNvSpPr/>
              <p:nvPr/>
            </p:nvSpPr>
            <p:spPr>
              <a:xfrm flipH="1">
                <a:off x="2651040" y="4309560"/>
                <a:ext cx="95760" cy="124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72"/>
              <p:cNvSpPr/>
              <p:nvPr/>
            </p:nvSpPr>
            <p:spPr>
              <a:xfrm flipH="1">
                <a:off x="2651040" y="5304600"/>
                <a:ext cx="141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173"/>
              <p:cNvSpPr/>
              <p:nvPr/>
            </p:nvSpPr>
            <p:spPr>
              <a:xfrm flipH="1">
                <a:off x="2653560" y="5285880"/>
                <a:ext cx="13284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74"/>
              <p:cNvSpPr/>
              <p:nvPr/>
            </p:nvSpPr>
            <p:spPr>
              <a:xfrm flipH="1">
                <a:off x="2656800" y="5226480"/>
                <a:ext cx="14256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75"/>
              <p:cNvSpPr/>
              <p:nvPr/>
            </p:nvSpPr>
            <p:spPr>
              <a:xfrm flipH="1">
                <a:off x="2660040" y="5258160"/>
                <a:ext cx="1303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76"/>
              <p:cNvSpPr/>
              <p:nvPr/>
            </p:nvSpPr>
            <p:spPr>
              <a:xfrm flipH="1">
                <a:off x="2673720" y="5122080"/>
                <a:ext cx="257400" cy="102240"/>
              </a:xfrm>
              <a:prstGeom prst="pie">
                <a:avLst/>
              </a:prstGeom>
              <a:solidFill>
                <a:srgbClr val="007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77"/>
              <p:cNvSpPr/>
              <p:nvPr/>
            </p:nvSpPr>
            <p:spPr>
              <a:xfrm flipH="1">
                <a:off x="2684880" y="4587120"/>
                <a:ext cx="684720" cy="358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78"/>
              <p:cNvSpPr/>
              <p:nvPr/>
            </p:nvSpPr>
            <p:spPr>
              <a:xfrm flipH="1">
                <a:off x="2688840" y="4091760"/>
                <a:ext cx="8064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79"/>
              <p:cNvSpPr/>
              <p:nvPr/>
            </p:nvSpPr>
            <p:spPr>
              <a:xfrm flipH="1">
                <a:off x="2722680" y="4267440"/>
                <a:ext cx="81360" cy="110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80"/>
              <p:cNvSpPr/>
              <p:nvPr/>
            </p:nvSpPr>
            <p:spPr>
              <a:xfrm flipH="1">
                <a:off x="2741400" y="3885120"/>
                <a:ext cx="943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81"/>
              <p:cNvSpPr/>
              <p:nvPr/>
            </p:nvSpPr>
            <p:spPr>
              <a:xfrm flipH="1">
                <a:off x="2748600" y="4008960"/>
                <a:ext cx="313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82"/>
              <p:cNvSpPr/>
              <p:nvPr/>
            </p:nvSpPr>
            <p:spPr>
              <a:xfrm flipH="1">
                <a:off x="2804400" y="5215320"/>
                <a:ext cx="109440" cy="7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83"/>
              <p:cNvSpPr/>
              <p:nvPr/>
            </p:nvSpPr>
            <p:spPr>
              <a:xfrm flipH="1">
                <a:off x="2806560" y="5247000"/>
                <a:ext cx="11376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84"/>
              <p:cNvSpPr/>
              <p:nvPr/>
            </p:nvSpPr>
            <p:spPr>
              <a:xfrm flipH="1">
                <a:off x="2809080" y="5187600"/>
                <a:ext cx="101520" cy="7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85"/>
              <p:cNvSpPr/>
              <p:nvPr/>
            </p:nvSpPr>
            <p:spPr>
              <a:xfrm flipH="1">
                <a:off x="2883960" y="4382280"/>
                <a:ext cx="416160" cy="4194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86"/>
              <p:cNvSpPr/>
              <p:nvPr/>
            </p:nvSpPr>
            <p:spPr>
              <a:xfrm flipH="1">
                <a:off x="2896200" y="4870440"/>
                <a:ext cx="264960" cy="1306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87"/>
              <p:cNvSpPr/>
              <p:nvPr/>
            </p:nvSpPr>
            <p:spPr>
              <a:xfrm flipH="1">
                <a:off x="2910240" y="4561200"/>
                <a:ext cx="3852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88"/>
              <p:cNvSpPr/>
              <p:nvPr/>
            </p:nvSpPr>
            <p:spPr>
              <a:xfrm flipH="1">
                <a:off x="2928600" y="5005080"/>
                <a:ext cx="432360" cy="2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89"/>
              <p:cNvSpPr/>
              <p:nvPr/>
            </p:nvSpPr>
            <p:spPr>
              <a:xfrm flipH="1">
                <a:off x="2963160" y="5051520"/>
                <a:ext cx="16848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90"/>
              <p:cNvSpPr/>
              <p:nvPr/>
            </p:nvSpPr>
            <p:spPr>
              <a:xfrm flipH="1">
                <a:off x="2983320" y="4782600"/>
                <a:ext cx="113760" cy="5508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91"/>
              <p:cNvSpPr/>
              <p:nvPr/>
            </p:nvSpPr>
            <p:spPr>
              <a:xfrm flipH="1">
                <a:off x="3009240" y="5185080"/>
                <a:ext cx="63720" cy="3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92"/>
              <p:cNvSpPr/>
              <p:nvPr/>
            </p:nvSpPr>
            <p:spPr>
              <a:xfrm flipH="1">
                <a:off x="3027600" y="4696560"/>
                <a:ext cx="1224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93"/>
              <p:cNvSpPr/>
              <p:nvPr/>
            </p:nvSpPr>
            <p:spPr>
              <a:xfrm flipH="1">
                <a:off x="3041280" y="3885840"/>
                <a:ext cx="20880" cy="1270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94"/>
              <p:cNvSpPr/>
              <p:nvPr/>
            </p:nvSpPr>
            <p:spPr>
              <a:xfrm flipH="1">
                <a:off x="3041280" y="4713840"/>
                <a:ext cx="87120" cy="49680"/>
              </a:xfrm>
              <a:prstGeom prst="pie">
                <a:avLst/>
              </a:prstGeom>
              <a:solidFill>
                <a:srgbClr val="ff7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95"/>
              <p:cNvSpPr/>
              <p:nvPr/>
            </p:nvSpPr>
            <p:spPr>
              <a:xfrm flipH="1">
                <a:off x="3056760" y="4040280"/>
                <a:ext cx="110160" cy="8424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96"/>
              <p:cNvSpPr/>
              <p:nvPr/>
            </p:nvSpPr>
            <p:spPr>
              <a:xfrm flipH="1">
                <a:off x="3068280" y="3705840"/>
                <a:ext cx="37080" cy="2412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97"/>
              <p:cNvSpPr/>
              <p:nvPr/>
            </p:nvSpPr>
            <p:spPr>
              <a:xfrm flipH="1">
                <a:off x="3068280" y="4568040"/>
                <a:ext cx="3528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98"/>
              <p:cNvSpPr/>
              <p:nvPr/>
            </p:nvSpPr>
            <p:spPr>
              <a:xfrm flipH="1">
                <a:off x="3072960" y="5165280"/>
                <a:ext cx="85320" cy="1429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99"/>
              <p:cNvSpPr/>
              <p:nvPr/>
            </p:nvSpPr>
            <p:spPr>
              <a:xfrm flipH="1">
                <a:off x="3075480" y="3668040"/>
                <a:ext cx="212040" cy="44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200"/>
              <p:cNvSpPr/>
              <p:nvPr/>
            </p:nvSpPr>
            <p:spPr>
              <a:xfrm flipH="1">
                <a:off x="3091680" y="5150520"/>
                <a:ext cx="80640" cy="1368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201"/>
              <p:cNvSpPr/>
              <p:nvPr/>
            </p:nvSpPr>
            <p:spPr>
              <a:xfrm flipH="1">
                <a:off x="3100320" y="5087520"/>
                <a:ext cx="32832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202"/>
              <p:cNvSpPr/>
              <p:nvPr/>
            </p:nvSpPr>
            <p:spPr>
              <a:xfrm flipH="1">
                <a:off x="3102840" y="3913560"/>
                <a:ext cx="12492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203"/>
              <p:cNvSpPr/>
              <p:nvPr/>
            </p:nvSpPr>
            <p:spPr>
              <a:xfrm flipH="1">
                <a:off x="3103560" y="4909320"/>
                <a:ext cx="48960" cy="3600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204"/>
              <p:cNvSpPr/>
              <p:nvPr/>
            </p:nvSpPr>
            <p:spPr>
              <a:xfrm flipH="1">
                <a:off x="3112560" y="3674880"/>
                <a:ext cx="1440" cy="154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205"/>
              <p:cNvSpPr/>
              <p:nvPr/>
            </p:nvSpPr>
            <p:spPr>
              <a:xfrm flipH="1">
                <a:off x="3112560" y="3985200"/>
                <a:ext cx="748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206"/>
              <p:cNvSpPr/>
              <p:nvPr/>
            </p:nvSpPr>
            <p:spPr>
              <a:xfrm flipH="1">
                <a:off x="3114000" y="4021200"/>
                <a:ext cx="5544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207"/>
              <p:cNvSpPr/>
              <p:nvPr/>
            </p:nvSpPr>
            <p:spPr>
              <a:xfrm flipH="1">
                <a:off x="3119760" y="3935880"/>
                <a:ext cx="93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208"/>
              <p:cNvSpPr/>
              <p:nvPr/>
            </p:nvSpPr>
            <p:spPr>
              <a:xfrm flipH="1">
                <a:off x="3132000" y="3879000"/>
                <a:ext cx="1080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209"/>
              <p:cNvSpPr/>
              <p:nvPr/>
            </p:nvSpPr>
            <p:spPr>
              <a:xfrm flipH="1">
                <a:off x="3134520" y="3817080"/>
                <a:ext cx="1126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210"/>
              <p:cNvSpPr/>
              <p:nvPr/>
            </p:nvSpPr>
            <p:spPr>
              <a:xfrm flipH="1">
                <a:off x="3140640" y="3707640"/>
                <a:ext cx="74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211"/>
              <p:cNvSpPr/>
              <p:nvPr/>
            </p:nvSpPr>
            <p:spPr>
              <a:xfrm flipH="1">
                <a:off x="3139920" y="3848760"/>
                <a:ext cx="9900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212"/>
              <p:cNvSpPr/>
              <p:nvPr/>
            </p:nvSpPr>
            <p:spPr>
              <a:xfrm flipH="1">
                <a:off x="3154680" y="3724200"/>
                <a:ext cx="4572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213"/>
              <p:cNvSpPr/>
              <p:nvPr/>
            </p:nvSpPr>
            <p:spPr>
              <a:xfrm flipH="1">
                <a:off x="3167280" y="5314320"/>
                <a:ext cx="228960" cy="223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214"/>
              <p:cNvSpPr/>
              <p:nvPr/>
            </p:nvSpPr>
            <p:spPr>
              <a:xfrm flipH="1">
                <a:off x="3171600" y="4583520"/>
                <a:ext cx="3924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215"/>
              <p:cNvSpPr/>
              <p:nvPr/>
            </p:nvSpPr>
            <p:spPr>
              <a:xfrm flipH="1">
                <a:off x="3175200" y="4968000"/>
                <a:ext cx="122400" cy="2664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16"/>
              <p:cNvSpPr/>
              <p:nvPr/>
            </p:nvSpPr>
            <p:spPr>
              <a:xfrm flipH="1">
                <a:off x="3189960" y="4475160"/>
                <a:ext cx="9036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17"/>
              <p:cNvSpPr/>
              <p:nvPr/>
            </p:nvSpPr>
            <p:spPr>
              <a:xfrm flipH="1">
                <a:off x="3196440" y="5284800"/>
                <a:ext cx="162000" cy="194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218"/>
              <p:cNvSpPr/>
              <p:nvPr/>
            </p:nvSpPr>
            <p:spPr>
              <a:xfrm flipH="1">
                <a:off x="3203640" y="5255640"/>
                <a:ext cx="212760" cy="396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19"/>
              <p:cNvSpPr/>
              <p:nvPr/>
            </p:nvSpPr>
            <p:spPr>
              <a:xfrm flipH="1">
                <a:off x="3206880" y="5038560"/>
                <a:ext cx="79920" cy="4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20"/>
              <p:cNvSpPr/>
              <p:nvPr/>
            </p:nvSpPr>
            <p:spPr>
              <a:xfrm flipH="1">
                <a:off x="3210120" y="4037760"/>
                <a:ext cx="170280" cy="204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21"/>
              <p:cNvSpPr/>
              <p:nvPr/>
            </p:nvSpPr>
            <p:spPr>
              <a:xfrm flipH="1">
                <a:off x="3218040" y="3802320"/>
                <a:ext cx="378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22"/>
              <p:cNvSpPr/>
              <p:nvPr/>
            </p:nvSpPr>
            <p:spPr>
              <a:xfrm flipH="1">
                <a:off x="3218760" y="3829320"/>
                <a:ext cx="25920" cy="1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23"/>
              <p:cNvSpPr/>
              <p:nvPr/>
            </p:nvSpPr>
            <p:spPr>
              <a:xfrm flipH="1">
                <a:off x="3231000" y="3773880"/>
                <a:ext cx="345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24"/>
              <p:cNvSpPr/>
              <p:nvPr/>
            </p:nvSpPr>
            <p:spPr>
              <a:xfrm flipH="1">
                <a:off x="3268440" y="3724200"/>
                <a:ext cx="171000" cy="41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25"/>
              <p:cNvSpPr/>
              <p:nvPr/>
            </p:nvSpPr>
            <p:spPr>
              <a:xfrm flipH="1">
                <a:off x="3298320" y="3937680"/>
                <a:ext cx="8604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26"/>
              <p:cNvSpPr/>
              <p:nvPr/>
            </p:nvSpPr>
            <p:spPr>
              <a:xfrm flipH="1">
                <a:off x="3305520" y="3876480"/>
                <a:ext cx="9324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27"/>
              <p:cNvSpPr/>
              <p:nvPr/>
            </p:nvSpPr>
            <p:spPr>
              <a:xfrm flipH="1">
                <a:off x="3305520" y="4833360"/>
                <a:ext cx="59400" cy="730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28"/>
              <p:cNvSpPr/>
              <p:nvPr/>
            </p:nvSpPr>
            <p:spPr>
              <a:xfrm flipH="1">
                <a:off x="3312000" y="3950640"/>
                <a:ext cx="5796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29"/>
              <p:cNvSpPr/>
              <p:nvPr/>
            </p:nvSpPr>
            <p:spPr>
              <a:xfrm flipH="1">
                <a:off x="3315240" y="4921560"/>
                <a:ext cx="45720" cy="6768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30"/>
              <p:cNvSpPr/>
              <p:nvPr/>
            </p:nvSpPr>
            <p:spPr>
              <a:xfrm flipH="1">
                <a:off x="3323880" y="3792960"/>
                <a:ext cx="756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31"/>
              <p:cNvSpPr/>
              <p:nvPr/>
            </p:nvSpPr>
            <p:spPr>
              <a:xfrm flipH="1">
                <a:off x="3323880" y="3830040"/>
                <a:ext cx="777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32"/>
              <p:cNvSpPr/>
              <p:nvPr/>
            </p:nvSpPr>
            <p:spPr>
              <a:xfrm flipH="1">
                <a:off x="3330360" y="4146120"/>
                <a:ext cx="34560" cy="162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33"/>
              <p:cNvSpPr/>
              <p:nvPr/>
            </p:nvSpPr>
            <p:spPr>
              <a:xfrm flipH="1">
                <a:off x="3365640" y="4695840"/>
                <a:ext cx="48240" cy="14040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34"/>
              <p:cNvSpPr/>
              <p:nvPr/>
            </p:nvSpPr>
            <p:spPr>
              <a:xfrm flipH="1">
                <a:off x="3366720" y="4884120"/>
                <a:ext cx="105480" cy="1206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35"/>
              <p:cNvSpPr/>
              <p:nvPr/>
            </p:nvSpPr>
            <p:spPr>
              <a:xfrm flipH="1">
                <a:off x="3375360" y="5034960"/>
                <a:ext cx="314640" cy="264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36"/>
              <p:cNvSpPr/>
              <p:nvPr/>
            </p:nvSpPr>
            <p:spPr>
              <a:xfrm flipH="1">
                <a:off x="3377880" y="4824720"/>
                <a:ext cx="82800" cy="910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37"/>
              <p:cNvSpPr/>
              <p:nvPr/>
            </p:nvSpPr>
            <p:spPr>
              <a:xfrm flipH="1">
                <a:off x="3381120" y="3736800"/>
                <a:ext cx="81360" cy="396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238"/>
              <p:cNvSpPr/>
              <p:nvPr/>
            </p:nvSpPr>
            <p:spPr>
              <a:xfrm flipH="1">
                <a:off x="3411000" y="3982320"/>
                <a:ext cx="28800" cy="1396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39"/>
              <p:cNvSpPr/>
              <p:nvPr/>
            </p:nvSpPr>
            <p:spPr>
              <a:xfrm flipH="1">
                <a:off x="3414240" y="4757760"/>
                <a:ext cx="101520" cy="190440"/>
              </a:xfrm>
              <a:prstGeom prst="pie">
                <a:avLst/>
              </a:prstGeom>
              <a:solidFill>
                <a:srgbClr val="7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40"/>
              <p:cNvSpPr/>
              <p:nvPr/>
            </p:nvSpPr>
            <p:spPr>
              <a:xfrm flipH="1">
                <a:off x="3422520" y="4102200"/>
                <a:ext cx="10800" cy="40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41"/>
              <p:cNvSpPr/>
              <p:nvPr/>
            </p:nvSpPr>
            <p:spPr>
              <a:xfrm flipH="1">
                <a:off x="3442320" y="3743640"/>
                <a:ext cx="98280" cy="408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42"/>
              <p:cNvSpPr/>
              <p:nvPr/>
            </p:nvSpPr>
            <p:spPr>
              <a:xfrm flipH="1">
                <a:off x="3450600" y="3898800"/>
                <a:ext cx="3240" cy="262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243"/>
              <p:cNvSpPr/>
              <p:nvPr/>
            </p:nvSpPr>
            <p:spPr>
              <a:xfrm flipH="1">
                <a:off x="3460320" y="3743640"/>
                <a:ext cx="22680" cy="135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244"/>
              <p:cNvSpPr/>
              <p:nvPr/>
            </p:nvSpPr>
            <p:spPr>
              <a:xfrm flipH="1">
                <a:off x="3460320" y="3951360"/>
                <a:ext cx="720" cy="108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45"/>
              <p:cNvSpPr/>
              <p:nvPr/>
            </p:nvSpPr>
            <p:spPr>
              <a:xfrm flipH="1">
                <a:off x="3465000" y="3727440"/>
                <a:ext cx="45720" cy="202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46"/>
              <p:cNvSpPr/>
              <p:nvPr/>
            </p:nvSpPr>
            <p:spPr>
              <a:xfrm flipH="1">
                <a:off x="3481200" y="5228280"/>
                <a:ext cx="208800" cy="921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47"/>
              <p:cNvSpPr/>
              <p:nvPr/>
            </p:nvSpPr>
            <p:spPr>
              <a:xfrm flipH="1">
                <a:off x="3489480" y="5185080"/>
                <a:ext cx="196560" cy="860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48"/>
              <p:cNvSpPr/>
              <p:nvPr/>
            </p:nvSpPr>
            <p:spPr>
              <a:xfrm flipH="1">
                <a:off x="3520800" y="5253120"/>
                <a:ext cx="203040" cy="5148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49"/>
              <p:cNvSpPr/>
              <p:nvPr/>
            </p:nvSpPr>
            <p:spPr>
              <a:xfrm flipH="1">
                <a:off x="2889000" y="3575160"/>
                <a:ext cx="204840" cy="299520"/>
              </a:xfrm>
              <a:prstGeom prst="pie">
                <a:avLst/>
              </a:prstGeom>
              <a:solidFill>
                <a:srgbClr val="9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250"/>
              <p:cNvSpPr/>
              <p:nvPr/>
            </p:nvSpPr>
            <p:spPr>
              <a:xfrm>
                <a:off x="2277360" y="3868560"/>
                <a:ext cx="228960" cy="429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51"/>
              <p:cNvSpPr/>
              <p:nvPr/>
            </p:nvSpPr>
            <p:spPr>
              <a:xfrm>
                <a:off x="2309760" y="3841200"/>
                <a:ext cx="196560" cy="204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252"/>
              <p:cNvSpPr/>
              <p:nvPr/>
            </p:nvSpPr>
            <p:spPr>
              <a:xfrm rot="16960200">
                <a:off x="2648880" y="4450320"/>
                <a:ext cx="396360" cy="2109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253"/>
              <p:cNvSpPr/>
              <p:nvPr/>
            </p:nvSpPr>
            <p:spPr>
              <a:xfrm flipH="1" rot="4639800">
                <a:off x="3149640" y="4452480"/>
                <a:ext cx="396360" cy="2113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4" name="Picture 254" descr="bd05093_"/>
            <p:cNvPicPr/>
            <p:nvPr/>
          </p:nvPicPr>
          <p:blipFill>
            <a:blip r:embed="rId3"/>
            <a:stretch/>
          </p:blipFill>
          <p:spPr>
            <a:xfrm>
              <a:off x="3508200" y="4718160"/>
              <a:ext cx="17524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255"/>
            <p:cNvSpPr/>
            <p:nvPr/>
          </p:nvSpPr>
          <p:spPr>
            <a:xfrm>
              <a:off x="1908000" y="3193920"/>
              <a:ext cx="5410080" cy="45720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Picture 256" descr="bs00307_"/>
            <p:cNvPicPr/>
            <p:nvPr/>
          </p:nvPicPr>
          <p:blipFill>
            <a:blip r:embed="rId4"/>
            <a:stretch/>
          </p:blipFill>
          <p:spPr>
            <a:xfrm>
              <a:off x="3766680" y="3193920"/>
              <a:ext cx="1722600" cy="18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257"/>
            <p:cNvSpPr/>
            <p:nvPr/>
          </p:nvSpPr>
          <p:spPr>
            <a:xfrm>
              <a:off x="1908000" y="3193920"/>
              <a:ext cx="228600" cy="281952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Мы желаем вам успехов!</a:t>
            </a: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5" descr="shake2_m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12" name="WordArt 6"/>
          <p:cNvSpPr txBox="1"/>
          <p:nvPr/>
        </p:nvSpPr>
        <p:spPr>
          <a:xfrm>
            <a:off x="971640" y="2133720"/>
            <a:ext cx="72723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Я желаю Вам успехов!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09:46:14Z</dcterms:created>
  <dc:creator>Шляков Никита Михайлович</dc:creator>
  <dc:description/>
  <dc:language>en-US</dc:language>
  <cp:lastModifiedBy>Лариса</cp:lastModifiedBy>
  <dcterms:modified xsi:type="dcterms:W3CDTF">2014-01-23T16:15:40Z</dcterms:modified>
  <cp:revision>44</cp:revision>
  <dc:subject/>
  <dc:title>Ребенок в семье</dc:title>
</cp:coreProperties>
</file>