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E068-8DD1-466E-AF8B-15C218F398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2BF2-3A7D-41F8-9EBC-FFA3A45893D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EAAD-7A56-4FC2-A664-A8F281EE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BCA6-DCE5-4172-A22E-60AE18FF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EBA9-5355-47C9-B2CB-843977DE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9B39-A652-4D06-8EBF-69E5C336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E3A7-97EC-4F8C-9AB6-491EA7F0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3249-7870-4892-B168-B3EA2229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C1CC-5A1E-4B81-B06C-4F9D1060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70E2-DA11-4561-B4D7-C1B8E8A4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D8D5-0723-47D2-87A8-01090207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D738-D9EB-42BE-8122-26C05C8A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72C1-9507-4A82-A977-269AC2AF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1B85-8F3A-4576-B034-3CCD8450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607B-BB6E-4F88-AA99-DAFAD60F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89AC-8B50-40A2-A44B-79285490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B041-4FDF-45F0-B5CB-BDF06B5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1F8D-6492-47A1-8D3E-D6F9B4FA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8345-500B-4A34-8415-FA66EB23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4931-180D-49C1-A575-568344F6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7455-3CFF-4369-A6A7-AC408CE9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53B1-F45D-4C43-B584-94412A5C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A533-6AEE-4526-B4FF-205EE130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B9DA1-4285-461F-9197-74AB94B4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4486-95D7-49D5-A4E4-676728C2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3D59-25CA-4D61-BE3E-62D3856E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C8C2-EBF4-4F68-95AA-683CE1CE6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5C54-74FD-40E8-8A75-A8DEE1DAB3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28680" y="1196640"/>
            <a:ext cx="464364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онгу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Чечен-кы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колаев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uva New"/>
              </a:rPr>
              <a:t>Учитель начальных классов </a:t>
            </a:r>
            <a:r>
              <a:rPr b="1" lang="en-US" sz="3200" spc="-1" strike="noStrike">
                <a:solidFill>
                  <a:srgbClr val="ffff00"/>
                </a:solidFill>
                <a:latin typeface="Tuva New"/>
              </a:rPr>
              <a:t>I </a:t>
            </a:r>
            <a:r>
              <a:rPr b="1" lang="ru-RU" sz="3200" spc="-1" strike="noStrike">
                <a:solidFill>
                  <a:srgbClr val="ffff00"/>
                </a:solidFill>
                <a:latin typeface="Tuva New"/>
              </a:rPr>
              <a:t>категор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БОУ СОШ №2 г.Тур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" descr="E:\фотки 3а\IMG_0862.JPG"/>
          <p:cNvPicPr/>
          <p:nvPr/>
        </p:nvPicPr>
        <p:blipFill>
          <a:blip r:embed="rId1"/>
          <a:srcRect l="27904" t="27133" r="30356" b="32092"/>
          <a:stretch/>
        </p:blipFill>
        <p:spPr>
          <a:xfrm>
            <a:off x="900000" y="1125360"/>
            <a:ext cx="27147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aramond"/>
              </a:rPr>
              <a:t>Тема самообразования</a:t>
            </a:r>
            <a:r>
              <a:rPr b="0" lang="ru-RU" sz="2800" spc="-1" strike="noStrike">
                <a:solidFill>
                  <a:srgbClr val="007399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Формирование правильной осанки в учебно-воспитательном процессе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aramond"/>
              </a:rPr>
              <a:t>Цел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формировать правильную </a:t>
            </a:r>
            <a:r>
              <a:rPr b="0" lang="ru-RU" sz="2800" spc="-1" strike="noStrike">
                <a:solidFill>
                  <a:srgbClr val="ffffff"/>
                </a:solidFill>
                <a:latin typeface="Tuva New"/>
              </a:rPr>
              <a:t>осанку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хс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aramond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авильно приучать учащихся следить за своей осан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сти диагностику  состояния здоровья детей от поступления до окончания  первой ступ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вышать уровень здоровья через организацию оздоровительных мероприятий в рамках учебного процесса и разных форм внеклассн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c00000"/>
                </a:solidFill>
                <a:latin typeface="Garamond"/>
              </a:rPr>
              <a:t>Актуальность пробл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399"/>
                </a:solidFill>
                <a:latin typeface="Garamond"/>
              </a:rPr>
              <a:t>Сохранение здоровья подрастающего поколения приоритетное направление государственной политики в области образования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Формы  рабо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филактические лек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роки здоровь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ни здоровь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ещение кружк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сультация школьного фельдш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щешкольные тематические конкурсы по пропаганде ЗОЖ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Результаты медосмотр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Содержимое 1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Ожидаемый результа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Оценивается по снижении уровня заболеваемости учащегося, динамике 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утомления</a:t>
            </a:r>
            <a:r>
              <a:rPr b="0" lang="en-US" sz="3600" spc="-1" strike="noStrike">
                <a:solidFill>
                  <a:srgbClr val="ffffff"/>
                </a:solidFill>
                <a:latin typeface="Tuva New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детей, переходящих из специальной группы в основную группу  по физической культуре, положительной динамике успеваемости качеству знани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7:16:02Z</dcterms:created>
  <dc:creator>Tyva</dc:creator>
  <dc:description/>
  <dc:language>en-US</dc:language>
  <cp:lastModifiedBy>WORK</cp:lastModifiedBy>
  <dcterms:modified xsi:type="dcterms:W3CDTF">2014-12-07T06:22:48Z</dcterms:modified>
  <cp:revision>8</cp:revision>
  <dc:subject/>
  <dc:title>Слайд 1</dc:title>
</cp:coreProperties>
</file>