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E813-4EE4-4589-B22D-A085EA373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029-9D82-4A68-A855-69A7EEF44C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F5F3-807F-4544-9E67-4514D8A4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D19B-AA63-4EF7-852A-3D29E15E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BD54-E8EC-4E81-87BA-124F3C8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5EDE-69B4-4990-80E8-0A852A2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608-E085-4DC1-825F-172F2604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FF1-4281-46A6-A8D2-F6220B23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DD4-882E-42FD-87EF-8E8CBB5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701-B12A-444E-8AC1-886A3AB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FDE-F682-42D0-BF5A-30DD146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B3D4-2C06-42C0-9D81-4D9D5B1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4E93-B546-4E7C-AF8E-56B3741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237A-08BA-4E95-ADA8-FDABD64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B91B-F407-411E-8276-F77C94E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5E6-BAC8-40D3-9EC6-E670B8B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DC0-FB74-46A9-8C3B-06D7EAC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7680-D25C-4CF1-803C-BE5BAB1C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5CA-9426-4A59-B6DA-C42D12B1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E5DB-3D5D-49D3-84F5-E18004D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EEA7-0550-4F3F-9E9B-39C528F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6C1E-93E4-44C1-BB81-89DAAB70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5340-F626-41E3-8D06-C1AA6738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12E2-4241-4B7C-A926-FEE6ADF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3D1F-AF8B-4EB5-8779-9760DD2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B820-FFE1-4234-AFB1-7A2FB9B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9027-3AA5-4795-B226-AFB5BF3AFD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EB1-F8D2-44EC-9125-0E70F1E05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28680" y="1196640"/>
            <a:ext cx="464364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нгу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ечен-кы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колаев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uva New"/>
              </a:rPr>
              <a:t>Учитель начальных классов </a:t>
            </a:r>
            <a:r>
              <a:rPr b="1" lang="en-US" sz="3200" spc="-1" strike="noStrike">
                <a:solidFill>
                  <a:srgbClr val="ffff00"/>
                </a:solidFill>
                <a:latin typeface="Tuva New"/>
              </a:rPr>
              <a:t>I </a:t>
            </a:r>
            <a:r>
              <a:rPr b="1" lang="ru-RU" sz="3200" spc="-1" strike="noStrike">
                <a:solidFill>
                  <a:srgbClr val="ffff00"/>
                </a:solidFill>
                <a:latin typeface="Tuva New"/>
              </a:rPr>
              <a:t>катего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БОУ СОШ №2 г.Тур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E:\фотки 3а\IMG_0862.JPG"/>
          <p:cNvPicPr/>
          <p:nvPr/>
        </p:nvPicPr>
        <p:blipFill>
          <a:blip r:embed="rId1"/>
          <a:srcRect l="27904" t="27133" r="30356" b="32092"/>
          <a:stretch/>
        </p:blipFill>
        <p:spPr>
          <a:xfrm>
            <a:off x="900000" y="1125360"/>
            <a:ext cx="27147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Тема самообразования</a:t>
            </a:r>
            <a:r>
              <a:rPr b="0" lang="ru-RU" sz="2800" spc="-1" strike="noStrike">
                <a:solidFill>
                  <a:srgbClr val="007399"/>
                </a:solidFill>
                <a:latin typeface="Garamond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Формирование правильной осанки в учебно-воспитательном процессе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формировать правильную </a:t>
            </a:r>
            <a:r>
              <a:rPr b="0" lang="ru-RU" sz="2800" spc="-1" strike="noStrike">
                <a:solidFill>
                  <a:srgbClr val="ffffff"/>
                </a:solidFill>
                <a:latin typeface="Tuva New"/>
              </a:rPr>
              <a:t>осанку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хс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льно приучать учащихся следить за своей осан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диагностику  состояния здоровья детей от поступления до окончания  первой ступ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ышать уровень здоровья через организацию оздоровительных мероприятий в рамках учебного процесса и разных форм внекласс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c00000"/>
                </a:solidFill>
                <a:latin typeface="Garamond"/>
              </a:rPr>
              <a:t>Актуальность пробл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399"/>
                </a:solidFill>
                <a:latin typeface="Garamond"/>
              </a:rPr>
              <a:t>Сохранение здоровья подрастающего поколения приоритетное направление государственной политики в области образования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Формы  рабо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ческие лек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роки здоровь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ни здоровь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ещение кружк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сультация школьного фельдш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щешкольные тематические конкурсы по пропаганде ЗОЖ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Результаты медосмотр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Содержимое 1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Ожидаемый результ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ценивается по снижении уровня заболеваемости учащегося, динамике 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утомления</a:t>
            </a:r>
            <a:r>
              <a:rPr b="0" lang="en-US" sz="3600" spc="-1" strike="noStrike">
                <a:solidFill>
                  <a:srgbClr val="ffffff"/>
                </a:solidFill>
                <a:latin typeface="Tuva New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детей, переходящих из специальной группы в основную группу  по физической культуре, положительной динамике успеваемости качеству знан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7:16:02Z</dcterms:created>
  <dc:creator>Tyva</dc:creator>
  <dc:description/>
  <dc:language>en-US</dc:language>
  <cp:lastModifiedBy>WORK</cp:lastModifiedBy>
  <dcterms:modified xsi:type="dcterms:W3CDTF">2014-12-07T06:22:48Z</dcterms:modified>
  <cp:revision>8</cp:revision>
  <dc:subject/>
  <dc:title>Слайд 1</dc:title>
</cp:coreProperties>
</file>