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8AAE-5483-43A4-90B6-54C7A44B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C776-BA0B-4C4E-A475-6F31488F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E914-82A6-4D0A-8CF4-A9D040A3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ED2B-6EC2-4305-95A0-7102045A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5ACD-3D8D-488C-8958-3F0BA8F8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0ACE-9E3B-4ACF-B9FC-0EBB2A25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6A4E-637E-42F1-9C39-6F242793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FDBF-341B-4731-8DBC-41F99D01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34BD-91F0-4825-84B6-22D6CE3F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CB57-F69E-4A54-A104-A9A7161A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FC36-CB61-413A-A455-9DD477D8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2EB4-041A-4C75-956B-D9D28251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374E-1379-4DFC-AF0B-31BE09C0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91AE-160B-4166-8BF1-0480EE15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C8E8-1030-45CD-A6C6-F4D18D8D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F402-3988-482B-AACE-B1BAE7AD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1CF8-2531-4410-9819-73BB01B3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FDAA-410E-4B15-8D7E-3E56A81D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5DF6-9AEB-458B-93B2-B0F0FFAA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2FD4-B088-4A46-A92E-E8DC882E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C7BC-14D3-4F53-8B9A-929D05DD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95D6-D6BD-4206-9D94-2D8A3BBE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5AD1-3613-45E2-8D2D-05936EBC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2A07-F06F-4E2E-9AE3-B28E61FE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EC11-B679-469A-B79D-500EC0E3BE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09F6-9898-4F1A-A4F2-AD258C3BBD0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Информация о ветеран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готовила учен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«Г» кл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рохина Екатери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SDC11596"/>
          <p:cNvPicPr/>
          <p:nvPr/>
        </p:nvPicPr>
        <p:blipFill>
          <a:blip r:embed="rId1"/>
          <a:stretch/>
        </p:blipFill>
        <p:spPr>
          <a:xfrm>
            <a:off x="167652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SDC11606"/>
          <p:cNvPicPr/>
          <p:nvPr/>
        </p:nvPicPr>
        <p:blipFill>
          <a:blip r:embed="rId1"/>
          <a:stretch/>
        </p:blipFill>
        <p:spPr>
          <a:xfrm>
            <a:off x="2514600" y="304920"/>
            <a:ext cx="440532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SDC11600"/>
          <p:cNvPicPr/>
          <p:nvPr/>
        </p:nvPicPr>
        <p:blipFill>
          <a:blip r:embed="rId1"/>
          <a:stretch/>
        </p:blipFill>
        <p:spPr>
          <a:xfrm>
            <a:off x="673200" y="277920"/>
            <a:ext cx="77976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5" descr="SDC11597"/>
          <p:cNvPicPr/>
          <p:nvPr/>
        </p:nvPicPr>
        <p:blipFill>
          <a:blip r:embed="rId1"/>
          <a:stretch/>
        </p:blipFill>
        <p:spPr>
          <a:xfrm>
            <a:off x="1376280" y="277920"/>
            <a:ext cx="639144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9" descr="SDC11605"/>
          <p:cNvPicPr/>
          <p:nvPr/>
        </p:nvPicPr>
        <p:blipFill>
          <a:blip r:embed="rId1"/>
          <a:stretch/>
        </p:blipFill>
        <p:spPr>
          <a:xfrm>
            <a:off x="1319040" y="839880"/>
            <a:ext cx="6505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oy</cp:lastModifiedBy>
  <dcterms:modified xsi:type="dcterms:W3CDTF">2015-02-09T17:32:5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