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B46-7EBE-413B-A543-E5C40498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7AF-55C4-4AB1-A62B-7974D5F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724-FD88-4E8D-AE93-BC6BF99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CB9-B11B-4B19-B179-BAC0A2F5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2B55-1C33-43F0-92D2-F86C3A7C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BB81-F95D-46C4-B02E-40DEAC0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44C-8F8F-47EB-BE25-18D35146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FDD-06A8-4509-98C8-3E4E4B07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0D0-9EE1-4CC5-B39D-C5B5D12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4A7-A3C7-4626-888E-97C0EC98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B005-2E28-45D2-8F75-CA21748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2EE-5F71-4A7A-95EC-48B28E94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A9F0-1BF4-4027-9C3E-69215F5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D2F-4EAD-429D-9F2B-BC58A18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45C1-2728-44F5-BCBB-04F5A43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5EB2-F918-45FE-B860-EA1E3EFF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4F4-8AC3-4EE9-A190-A8FAE37A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2FD-9C44-4CE4-A646-C8A2BAE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F7F-3DBA-448B-9E1B-3721BB41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2F0-63D4-4718-8217-F7669A7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720-D3DB-4AFD-8ABE-3EF344B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4B6-8D47-4DF8-A4A9-4B0BFFC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243-CDD1-4335-85AF-5C68C04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CC5-381A-4223-AC52-DA0FB74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085-4DAB-41DE-852E-0FE0D05D38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000-4CD5-46BD-A1F8-B00DF148A7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Информация о ветеран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а уче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«Г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рохина Екате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SDC11596"/>
          <p:cNvPicPr/>
          <p:nvPr/>
        </p:nvPicPr>
        <p:blipFill>
          <a:blip r:embed="rId1"/>
          <a:stretch/>
        </p:blipFill>
        <p:spPr>
          <a:xfrm>
            <a:off x="16765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SDC11606"/>
          <p:cNvPicPr/>
          <p:nvPr/>
        </p:nvPicPr>
        <p:blipFill>
          <a:blip r:embed="rId1"/>
          <a:stretch/>
        </p:blipFill>
        <p:spPr>
          <a:xfrm>
            <a:off x="2514600" y="304920"/>
            <a:ext cx="44053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SDC11600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SDC11597"/>
          <p:cNvPicPr/>
          <p:nvPr/>
        </p:nvPicPr>
        <p:blipFill>
          <a:blip r:embed="rId1"/>
          <a:stretch/>
        </p:blipFill>
        <p:spPr>
          <a:xfrm>
            <a:off x="1376280" y="277920"/>
            <a:ext cx="6391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SDC11605"/>
          <p:cNvPicPr/>
          <p:nvPr/>
        </p:nvPicPr>
        <p:blipFill>
          <a:blip r:embed="rId1"/>
          <a:stretch/>
        </p:blipFill>
        <p:spPr>
          <a:xfrm>
            <a:off x="1319040" y="839880"/>
            <a:ext cx="65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y</cp:lastModifiedBy>
  <dcterms:modified xsi:type="dcterms:W3CDTF">2015-02-09T17:32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