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wmf" ContentType="image/x-wmf"/>
  <Override PartName="/ppt/media/image20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A4A5-7257-4F12-92D0-C722D731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4AA6-7B0A-4C6B-8ABA-16973E99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A05F-1B8C-4C07-81D6-AA466DDC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6B0F-C96C-4EA5-A4E2-41616E0F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682A-3164-4EF7-9CE0-D1852B61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2645-D493-468F-A26A-DF461924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0FDE-66AD-49A9-955C-72E92C88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22BC-8F6C-4391-98D2-0CA7D78B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63D3-72F6-4148-8E50-7696907C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1F14-9188-46F5-BC66-37F8D4DA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6EBE-C3C7-4E46-9CD6-1E0610B4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D6A8-B0C3-4480-936A-F5D7538E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6C66-C42B-4621-B58F-2BF28F38A9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lk.pp.ru/uploads/posts/uz-v1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klk.pp.ru/uploads/posts/uz-v1.jpg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klk.pp.ru/uploads/posts/uz-v1.jpg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971640" y="105264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нтерактивное занятие в музее «Кудель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Знакомство с русским гостеприимств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900000" y="4601160"/>
            <a:ext cx="446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ужной конкурс методических разработок педагогов образова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й Южного окру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ремен связующая нить: урок в школьном музе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минация № 1: для детей дошкольн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1590840" y="189000"/>
            <a:ext cx="564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 образования города Моск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жное окружное управления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№ 1861 «Загорье» Дошкольное отделение №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8"/>
          <p:cNvSpPr/>
          <p:nvPr/>
        </p:nvSpPr>
        <p:spPr>
          <a:xfrm>
            <a:off x="5003640" y="6093000"/>
            <a:ext cx="3240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елякова Наталья Васил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" descr="uz-v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ttp://www.antiquariat.ru/photos5/79250.jpg"/>
          <p:cNvPicPr/>
          <p:nvPr/>
        </p:nvPicPr>
        <p:blipFill>
          <a:blip r:embed="rId3"/>
          <a:stretch/>
        </p:blipFill>
        <p:spPr>
          <a:xfrm>
            <a:off x="1116000" y="2060640"/>
            <a:ext cx="2692440" cy="226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http://gallery.greedykidz.net/get/209708/Image_0586_ED_S.jpg?g2_serialNumber=6"/>
          <p:cNvPicPr/>
          <p:nvPr/>
        </p:nvPicPr>
        <p:blipFill>
          <a:blip r:embed="rId4"/>
          <a:stretch/>
        </p:blipFill>
        <p:spPr>
          <a:xfrm>
            <a:off x="3635280" y="2565360"/>
            <a:ext cx="2844720" cy="1895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" descr="uz-v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C:\Users\Василек\Pictures\image29KWY00X.jpg"/>
          <p:cNvPicPr/>
          <p:nvPr/>
        </p:nvPicPr>
        <p:blipFill>
          <a:blip r:embed="rId7"/>
          <a:stretch/>
        </p:blipFill>
        <p:spPr>
          <a:xfrm>
            <a:off x="6156360" y="3141720"/>
            <a:ext cx="19638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900000" y="0"/>
            <a:ext cx="3456000" cy="66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часто за событи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 сутолокою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ны своей не помн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ываем мы о 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и более привыч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полёты на Лу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помн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рые обыча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помн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шу старин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3" descr="http://admin.unassvadba.ru/Image/Nastja/kras_gorka/krasnaya_gorka_horovod.jpg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66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uz-v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971640" y="260280"/>
            <a:ext cx="734544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ьность те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Русский народ не должен тер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оего нравственного автор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еди других народов - авторите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ойно завоёванного русским искусств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тературой. Мы не должны забы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 своём культурном прошл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 наших памятниках, литературе, языке, живопис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циональные отличия сохранятся и в 21 ве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мы будем озабочены воспитанием душ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не только передачей знан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Д. С. Лихачё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uz-v1"/>
          <p:cNvPicPr/>
          <p:nvPr/>
        </p:nvPicPr>
        <p:blipFill>
          <a:blip r:embed="rId4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F:\КУДЕЛЬКА, гр. № 9\2014-12-01\DSC03735.JPG"/>
          <p:cNvPicPr/>
          <p:nvPr/>
        </p:nvPicPr>
        <p:blipFill>
          <a:blip r:embed="rId5"/>
          <a:stretch/>
        </p:blipFill>
        <p:spPr>
          <a:xfrm>
            <a:off x="1116000" y="4149720"/>
            <a:ext cx="3168720" cy="2384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F:\КУДЕЛЬКА, гр. № 9\2014-12-01\DSC03721.JPG"/>
          <p:cNvPicPr/>
          <p:nvPr/>
        </p:nvPicPr>
        <p:blipFill>
          <a:blip r:embed="rId6"/>
          <a:stretch/>
        </p:blipFill>
        <p:spPr>
          <a:xfrm>
            <a:off x="4788000" y="4149720"/>
            <a:ext cx="320364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2"/>
          <p:cNvSpPr/>
          <p:nvPr/>
        </p:nvSpPr>
        <p:spPr>
          <a:xfrm>
            <a:off x="971640" y="260280"/>
            <a:ext cx="734544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и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с музеем народного быта «Куделькой». Подготовить детей к новой форме работы: занятия в музее – заинтересовать в этих занятиях, познакомить с устройством русской из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понятие о черте характера русского человека: гостеприимстве, хлебосоль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первые представления об обычаях, связанных с приемом г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интерес к окружающему и чувство гордости за прошлое нашей стра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логическое мышление, связанную речь. Обогащать словарь: горенка, хлебосоль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" descr="uz-v1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uz-v1"/>
          <p:cNvPicPr/>
          <p:nvPr/>
        </p:nvPicPr>
        <p:blipFill>
          <a:blip r:embed="rId3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F:\КУДЕЛЬКА, гр. № 9\2014-12-01\DSC03717.JPG"/>
          <p:cNvPicPr/>
          <p:nvPr/>
        </p:nvPicPr>
        <p:blipFill>
          <a:blip r:embed="rId4"/>
          <a:stretch/>
        </p:blipFill>
        <p:spPr>
          <a:xfrm>
            <a:off x="1042920" y="3716280"/>
            <a:ext cx="3324240" cy="2492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F:\КУДЕЛЬКА, гр. № 9\2014-12-01\DSC03720.JPG"/>
          <p:cNvPicPr/>
          <p:nvPr/>
        </p:nvPicPr>
        <p:blipFill>
          <a:blip r:embed="rId5"/>
          <a:stretch/>
        </p:blipFill>
        <p:spPr>
          <a:xfrm>
            <a:off x="4643280" y="3716280"/>
            <a:ext cx="33134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" descr="uz-v1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2195640" y="0"/>
            <a:ext cx="41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ое гостеприим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7"/>
          <p:cNvSpPr/>
          <p:nvPr/>
        </p:nvSpPr>
        <p:spPr>
          <a:xfrm>
            <a:off x="971640" y="476280"/>
            <a:ext cx="7529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е гостеприимств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же неотъемлемая часть наших культурных традиций. Гостям также были всегда рады, делились с ними последним куском. Недаром  говорили: «Что есть в печи – на стол мечи!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али гостей хлебом, солью. Со словами: «Добро пожаловать!»   Гость отламывает маленький кусочек хлеба, макает его в соль и куш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9"/>
          <p:cNvSpPr/>
          <p:nvPr/>
        </p:nvSpPr>
        <p:spPr>
          <a:xfrm>
            <a:off x="4932360" y="2060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их гостей встречае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ышным круглым каравае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а блюдце расписн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елоснежным рушником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вай мы вам подноси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лонясь, отведать проси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75" descr="http://moygorod.tv/uploads/posts/2012-09/prihodite-v-gosti-2.jpg"/>
          <p:cNvPicPr/>
          <p:nvPr/>
        </p:nvPicPr>
        <p:blipFill>
          <a:blip r:embed="rId3"/>
          <a:stretch/>
        </p:blipFill>
        <p:spPr>
          <a:xfrm>
            <a:off x="4857840" y="3857760"/>
            <a:ext cx="3276360" cy="2781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H:\КУДЕЛЬКА, гр. № 9\DSC00014.JPG"/>
          <p:cNvPicPr/>
          <p:nvPr/>
        </p:nvPicPr>
        <p:blipFill>
          <a:blip r:embed="rId4"/>
          <a:stretch/>
        </p:blipFill>
        <p:spPr>
          <a:xfrm>
            <a:off x="1428840" y="2071800"/>
            <a:ext cx="2992320" cy="450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" descr="uz-v1"/>
          <p:cNvPicPr/>
          <p:nvPr/>
        </p:nvPicPr>
        <p:blipFill>
          <a:blip r:embed="rId5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499680"/>
            <a:ext cx="737244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в русском народном костюме встречает детей хлебом-соль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те, люди добрые, гости дорогие! С хлебом-солью вас встречаю, в светлую горенку приглашаю. Проходите, не стесняйтесь, поудобней размещайте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uz-v1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" descr="uz-v1"/>
          <p:cNvPicPr/>
          <p:nvPr/>
        </p:nvPicPr>
        <p:blipFill>
          <a:blip r:embed="rId2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:\КУДЕЛЬКА, гр. № 9\2014-12-01\DSC03719.JPG"/>
          <p:cNvPicPr/>
          <p:nvPr/>
        </p:nvPicPr>
        <p:blipFill>
          <a:blip r:embed="rId3"/>
          <a:stretch/>
        </p:blipFill>
        <p:spPr>
          <a:xfrm>
            <a:off x="5000760" y="2357280"/>
            <a:ext cx="3143160" cy="235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H:\КУДЕЛЬКА, гр. № 9\2014-12-01\DSC03720.JPG"/>
          <p:cNvPicPr/>
          <p:nvPr/>
        </p:nvPicPr>
        <p:blipFill>
          <a:blip r:embed="rId4"/>
          <a:stretch/>
        </p:blipFill>
        <p:spPr>
          <a:xfrm>
            <a:off x="1000080" y="2357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H:\КУДЕЛЬКА, гр. № 9\DSC00024.JPG"/>
          <p:cNvPicPr/>
          <p:nvPr/>
        </p:nvPicPr>
        <p:blipFill>
          <a:blip r:embed="rId5"/>
          <a:stretch/>
        </p:blipFill>
        <p:spPr>
          <a:xfrm>
            <a:off x="4214880" y="3857760"/>
            <a:ext cx="19936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285840"/>
            <a:ext cx="737244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идим рядком, поговорим ладком. Я сюда вас пригласила для того, чтобы рассказать, как жили ваши прапрабабушки и прапрадедушки, русские люди. Они очень любили принимать гостей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uz-v1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uz-v1"/>
          <p:cNvPicPr/>
          <p:nvPr/>
        </p:nvPicPr>
        <p:blipFill>
          <a:blip r:embed="rId2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:\КУДЕЛЬКА, гр. № 9\DSC00029.JPG"/>
          <p:cNvPicPr/>
          <p:nvPr/>
        </p:nvPicPr>
        <p:blipFill>
          <a:blip r:embed="rId3"/>
          <a:stretch/>
        </p:blipFill>
        <p:spPr>
          <a:xfrm>
            <a:off x="1000080" y="1500120"/>
            <a:ext cx="3949920" cy="262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H:\КУДЕЛЬКА, гр. № 9\DSC00039.JPG"/>
          <p:cNvPicPr/>
          <p:nvPr/>
        </p:nvPicPr>
        <p:blipFill>
          <a:blip r:embed="rId4"/>
          <a:stretch/>
        </p:blipFill>
        <p:spPr>
          <a:xfrm>
            <a:off x="4143240" y="3857760"/>
            <a:ext cx="392904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285480"/>
            <a:ext cx="737244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я очень рада, что вы пришли ко мне в гости. Вот так и старину хозяева всегда рады были любому гостю, даже если он пришел поздно. Тут же ставили самовар, угощали «чем Бог послал», и если нужно - оставляли на ночлег. В старые времена трапеза начиналась с того, что хозяин дома отрезал и подавал каждому приглашённому гостю ломоть хлеба с солью, что символизировало гостеприимство и хлебосольство этого дома. Так как соль тогда была довольно дорогим продуктом, то ее использовали только по особым случая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uz-v1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" descr="uz-v1"/>
          <p:cNvPicPr/>
          <p:nvPr/>
        </p:nvPicPr>
        <p:blipFill>
          <a:blip r:embed="rId2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:\КУДЕЛЬКА, гр. № 9\2014-12-01\DSC03717.JPG"/>
          <p:cNvPicPr/>
          <p:nvPr/>
        </p:nvPicPr>
        <p:blipFill>
          <a:blip r:embed="rId3"/>
          <a:stretch/>
        </p:blipFill>
        <p:spPr>
          <a:xfrm>
            <a:off x="1000080" y="257184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H:\КУДЕЛЬКА, гр. № 9\2014-12-01\DSC03721.JPG"/>
          <p:cNvPicPr/>
          <p:nvPr/>
        </p:nvPicPr>
        <p:blipFill>
          <a:blip r:embed="rId4"/>
          <a:stretch/>
        </p:blipFill>
        <p:spPr>
          <a:xfrm>
            <a:off x="3929040" y="3357720"/>
            <a:ext cx="42861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8:04Z</dcterms:created>
  <dc:creator>DESIGN</dc:creator>
  <dc:description/>
  <dc:language>en-US</dc:language>
  <cp:lastModifiedBy>Василёк</cp:lastModifiedBy>
  <dcterms:modified xsi:type="dcterms:W3CDTF">2015-02-09T17:00:06Z</dcterms:modified>
  <cp:revision>276</cp:revision>
  <dc:subject/>
  <dc:title>Слайд 1</dc:title>
</cp:coreProperties>
</file>