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F4A-3CE8-4730-918A-9A8044ED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978-4434-4AD1-A79D-C58E0771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C8A-1BCF-49B9-A190-A8DC6552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5C4-76F8-49F5-B68F-873A9E66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808-8BF1-425D-8598-FE575388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E57-16A6-4CB8-A13B-005952BF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116-88E1-4656-93B3-99677EC0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19A-8EC5-4D9D-9717-5BC50222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968-C776-4741-9216-59876EDE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406-12BA-40EF-8E62-80032FF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312-BA19-433F-B6E1-42CC2CB1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DCB-41E2-46BE-B9D0-EE56742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D2D3-EEFE-4688-903A-4845A4A35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klk.pp.ru/uploads/posts/uz-v1.jpg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971640" y="10526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активное занятие в музее «Кудель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накомство с русским гостеприимств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900000" y="4601160"/>
            <a:ext cx="44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й конкурс методических разработок педагогов образов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й Южного окр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ремен связующая нить: урок в школьном музе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№ 1: для 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590840" y="189000"/>
            <a:ext cx="564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образования города Моск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е окружное управления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1861 «Загорье» Дошкольное отделение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5003640" y="6093000"/>
            <a:ext cx="324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елякова Наталья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antiquariat.ru/photos5/79250.jpg"/>
          <p:cNvPicPr/>
          <p:nvPr/>
        </p:nvPicPr>
        <p:blipFill>
          <a:blip r:embed="rId3"/>
          <a:stretch/>
        </p:blipFill>
        <p:spPr>
          <a:xfrm>
            <a:off x="1116000" y="2060640"/>
            <a:ext cx="2692440" cy="22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ttp://gallery.greedykidz.net/get/209708/Image_0586_ED_S.jpg?g2_serialNumber=6"/>
          <p:cNvPicPr/>
          <p:nvPr/>
        </p:nvPicPr>
        <p:blipFill>
          <a:blip r:embed="rId4"/>
          <a:stretch/>
        </p:blipFill>
        <p:spPr>
          <a:xfrm>
            <a:off x="3635280" y="2565360"/>
            <a:ext cx="2844720" cy="18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" descr="uz-v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Василек\Pictures\image29KWY00X.jpg"/>
          <p:cNvPicPr/>
          <p:nvPr/>
        </p:nvPicPr>
        <p:blipFill>
          <a:blip r:embed="rId7"/>
          <a:stretch/>
        </p:blipFill>
        <p:spPr>
          <a:xfrm>
            <a:off x="6156360" y="3141720"/>
            <a:ext cx="1963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900000" y="0"/>
            <a:ext cx="3456000" cy="66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за событ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сутолокою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ы своей не 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ем мы о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более привыч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полёты на Лу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ые обыча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у стари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3" descr="http://admin.unassvadba.ru/Image/Nastja/kras_gorka/krasnaya_gorka_horovod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66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71640" y="260280"/>
            <a:ext cx="73454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усский народ не должен тер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его нравственного автор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и других народов - авторит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ойно завоёванного русским искусств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ой. Мы не должны заб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своём культурном прош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наших памятниках, литературе, языке, живопис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ые отличия сохранятся и в 21 ве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мы будем озабочены воспитанием душ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не только передачей зна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. С. Лихачё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uz-v1"/>
          <p:cNvPicPr/>
          <p:nvPr/>
        </p:nvPicPr>
        <p:blipFill>
          <a:blip r:embed="rId4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F:\КУДЕЛЬКА, гр. № 9\2014-12-01\DSC03735.JPG"/>
          <p:cNvPicPr/>
          <p:nvPr/>
        </p:nvPicPr>
        <p:blipFill>
          <a:blip r:embed="rId5"/>
          <a:stretch/>
        </p:blipFill>
        <p:spPr>
          <a:xfrm>
            <a:off x="1116000" y="4149720"/>
            <a:ext cx="3168720" cy="2384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:\КУДЕЛЬКА, гр. № 9\2014-12-01\DSC03721.JPG"/>
          <p:cNvPicPr/>
          <p:nvPr/>
        </p:nvPicPr>
        <p:blipFill>
          <a:blip r:embed="rId6"/>
          <a:stretch/>
        </p:blipFill>
        <p:spPr>
          <a:xfrm>
            <a:off x="4788000" y="4149720"/>
            <a:ext cx="3203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971640" y="260280"/>
            <a:ext cx="73454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музеем народного быта «Куделькой». Подготовить детей к новой форме работы: занятия в музее – заинтересовать в этих занятиях, познакомить с устройством русской из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онятие о черте характера русского человека: гостеприимстве, хлебосоль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ервые представления об обычаях, связанных с приемом г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окружающему и чувство гордости за прошлое нашей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связанную речь. Обогащать словарь: горенка, хлебосоль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uz-v1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КУДЕЛЬКА, гр. № 9\2014-12-01\DSC03717.JPG"/>
          <p:cNvPicPr/>
          <p:nvPr/>
        </p:nvPicPr>
        <p:blipFill>
          <a:blip r:embed="rId4"/>
          <a:stretch/>
        </p:blipFill>
        <p:spPr>
          <a:xfrm>
            <a:off x="1042920" y="3716280"/>
            <a:ext cx="3324240" cy="249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КУДЕЛЬКА, гр. № 9\2014-12-01\DSC03720.JPG"/>
          <p:cNvPicPr/>
          <p:nvPr/>
        </p:nvPicPr>
        <p:blipFill>
          <a:blip r:embed="rId5"/>
          <a:stretch/>
        </p:blipFill>
        <p:spPr>
          <a:xfrm>
            <a:off x="4643280" y="3716280"/>
            <a:ext cx="33134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2195640" y="0"/>
            <a:ext cx="41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гостеприи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971640" y="476280"/>
            <a:ext cx="7529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е гостеприимств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неотъемлемая часть наших культурных традиций. Гостям также были всегда рады, делились с ними последним куском. Недаром  говорили: «Что есть в печи – на стол мечи!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и гостей хлебом, солью. Со словами: «Добро пожаловать!»   Гость отламывает маленький кусочек хлеба, макает его в соль и куш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4932360" y="206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х гостей встреча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м круглым карав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людце распис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елоснежным рушник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й мы вам поднос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ясь, отведать прос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75" descr="http://moygorod.tv/uploads/posts/2012-09/prihodite-v-gosti-2.jpg"/>
          <p:cNvPicPr/>
          <p:nvPr/>
        </p:nvPicPr>
        <p:blipFill>
          <a:blip r:embed="rId3"/>
          <a:stretch/>
        </p:blipFill>
        <p:spPr>
          <a:xfrm>
            <a:off x="4857840" y="3857760"/>
            <a:ext cx="3276360" cy="27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КУДЕЛЬКА, гр. № 9\DSC00014.JPG"/>
          <p:cNvPicPr/>
          <p:nvPr/>
        </p:nvPicPr>
        <p:blipFill>
          <a:blip r:embed="rId4"/>
          <a:stretch/>
        </p:blipFill>
        <p:spPr>
          <a:xfrm>
            <a:off x="1428840" y="2071800"/>
            <a:ext cx="2992320" cy="45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uz-v1"/>
          <p:cNvPicPr/>
          <p:nvPr/>
        </p:nvPicPr>
        <p:blipFill>
          <a:blip r:embed="rId5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99680"/>
            <a:ext cx="73724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в русском народном костюме встречает детей хлебом-сол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люди добрые, гости дорогие! С хлебом-солью вас встречаю, в светлую горенку приглашаю. Проходите, не стесняйтесь, поудобней размещайте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:\КУДЕЛЬКА, гр. № 9\2014-12-01\DSC03719.JPG"/>
          <p:cNvPicPr/>
          <p:nvPr/>
        </p:nvPicPr>
        <p:blipFill>
          <a:blip r:embed="rId3"/>
          <a:stretch/>
        </p:blipFill>
        <p:spPr>
          <a:xfrm>
            <a:off x="5000760" y="23572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H:\КУДЕЛЬКА, гр. № 9\2014-12-01\DSC03720.JPG"/>
          <p:cNvPicPr/>
          <p:nvPr/>
        </p:nvPicPr>
        <p:blipFill>
          <a:blip r:embed="rId4"/>
          <a:stretch/>
        </p:blipFill>
        <p:spPr>
          <a:xfrm>
            <a:off x="1000080" y="2357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:\КУДЕЛЬКА, гр. № 9\DSC00024.JPG"/>
          <p:cNvPicPr/>
          <p:nvPr/>
        </p:nvPicPr>
        <p:blipFill>
          <a:blip r:embed="rId5"/>
          <a:stretch/>
        </p:blipFill>
        <p:spPr>
          <a:xfrm>
            <a:off x="4214880" y="3857760"/>
            <a:ext cx="1993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85840"/>
            <a:ext cx="73724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идим рядком, поговорим ладком. Я сюда вас пригласила для того, чтобы рассказать, как жили ваши прапрабабушки и прапрадедушки, русские люди. Они очень любили принимать госте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:\КУДЕЛЬКА, гр. № 9\DSC00029.JPG"/>
          <p:cNvPicPr/>
          <p:nvPr/>
        </p:nvPicPr>
        <p:blipFill>
          <a:blip r:embed="rId3"/>
          <a:stretch/>
        </p:blipFill>
        <p:spPr>
          <a:xfrm>
            <a:off x="1000080" y="1500120"/>
            <a:ext cx="3949920" cy="262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КУДЕЛЬКА, гр. № 9\DSC00039.JPG"/>
          <p:cNvPicPr/>
          <p:nvPr/>
        </p:nvPicPr>
        <p:blipFill>
          <a:blip r:embed="rId4"/>
          <a:stretch/>
        </p:blipFill>
        <p:spPr>
          <a:xfrm>
            <a:off x="4143240" y="3857760"/>
            <a:ext cx="3929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85480"/>
            <a:ext cx="737244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 очень рада, что вы пришли ко мне в гости. Вот так и старину хозяева всегда рады были любому гостю, даже если он пришел поздно. Тут же ставили самовар, угощали «чем Бог послал», и если нужно - оставляли на ночлег. В старые времена трапеза начиналась с того, что хозяин дома отрезал и подавал каждому приглашённому гостю ломоть хлеба с солью, что символизировало гостеприимство и хлебосольство этого дома. Так как соль тогда была довольно дорогим продуктом, то ее использовали только по особым случа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:\КУДЕЛЬКА, гр. № 9\2014-12-01\DSC03717.JPG"/>
          <p:cNvPicPr/>
          <p:nvPr/>
        </p:nvPicPr>
        <p:blipFill>
          <a:blip r:embed="rId3"/>
          <a:stretch/>
        </p:blipFill>
        <p:spPr>
          <a:xfrm>
            <a:off x="1000080" y="25718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H:\КУДЕЛЬКА, гр. № 9\2014-12-01\DSC03721.JPG"/>
          <p:cNvPicPr/>
          <p:nvPr/>
        </p:nvPicPr>
        <p:blipFill>
          <a:blip r:embed="rId4"/>
          <a:stretch/>
        </p:blipFill>
        <p:spPr>
          <a:xfrm>
            <a:off x="3929040" y="335772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Василёк</cp:lastModifiedBy>
  <dcterms:modified xsi:type="dcterms:W3CDTF">2015-02-09T17:00:06Z</dcterms:modified>
  <cp:revision>276</cp:revision>
  <dc:subject/>
  <dc:title>Слайд 1</dc:title>
</cp:coreProperties>
</file>