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968-085C-4899-B98C-0B5106DB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254-ADC8-4258-ADE4-3F79A264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27D-EAFD-45F4-90E1-6AC29ABC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A1B-F8E4-4445-A4B0-19DEDD79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A15-2F81-429E-AF64-92337D4E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4AC-313D-45FF-81F1-A9561C64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39C-906F-47BE-9F9E-2109C7E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833-F3AB-4EE2-ABCE-9D7ADA2B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A27-FA8C-459A-8CC5-E77BF4B5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63E-EB06-41BE-8FE4-1FE11541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E06-2BD0-4D26-B781-B082B81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D80-73E9-431F-ABEA-26649DB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5DE7-89B5-4A68-A9F9-ECF62555C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85480"/>
            <a:ext cx="73724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ите попробовать хлеб с солью? Я вас угощаю. Только сначала попробуйте кусочек без соли, а потом чуть подсоленный (дети пробуют). Вкусно? Какой кусочек вам показался вкуснее? Почему? Конечно с соль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КУДЕЛЬКА, гр. № 9\2014-12-01\DSC03725.JPG"/>
          <p:cNvPicPr/>
          <p:nvPr/>
        </p:nvPicPr>
        <p:blipFill>
          <a:blip r:embed="rId4"/>
          <a:stretch/>
        </p:blipFill>
        <p:spPr>
          <a:xfrm>
            <a:off x="1000080" y="1857240"/>
            <a:ext cx="3081240" cy="231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КУДЕЛЬКА, гр. № 9\DSC00035.JPG"/>
          <p:cNvPicPr/>
          <p:nvPr/>
        </p:nvPicPr>
        <p:blipFill>
          <a:blip r:embed="rId5"/>
          <a:stretch/>
        </p:blipFill>
        <p:spPr>
          <a:xfrm>
            <a:off x="4500720" y="1857240"/>
            <a:ext cx="3497040" cy="232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:\КУДЕЛЬКА, гр. № 9\DSC00040.JPG"/>
          <p:cNvPicPr/>
          <p:nvPr/>
        </p:nvPicPr>
        <p:blipFill>
          <a:blip r:embed="rId6"/>
          <a:stretch/>
        </p:blipFill>
        <p:spPr>
          <a:xfrm>
            <a:off x="2571840" y="4286160"/>
            <a:ext cx="3571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5143680"/>
            <a:ext cx="721512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й, гости мои дорогие! Засиделись вы, наверное, поиграть хотите? А я научу вас веселой игре, выходите все ко мне! В кружок вставайте и слушайте прави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:\КУДЕЛЬКА, гр. № 9\DSC00045.JPG"/>
          <p:cNvPicPr/>
          <p:nvPr/>
        </p:nvPicPr>
        <p:blipFill>
          <a:blip r:embed="rId1"/>
          <a:srcRect l="5666" t="0" r="5666" b="0"/>
          <a:stretch/>
        </p:blipFill>
        <p:spPr>
          <a:xfrm>
            <a:off x="1000080" y="482760"/>
            <a:ext cx="3357720" cy="251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4680" y="6857640"/>
            <a:ext cx="3714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uz-v1"/>
          <p:cNvPicPr/>
          <p:nvPr/>
        </p:nvPicPr>
        <p:blipFill>
          <a:blip r:embed="rId3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2214720" y="0"/>
            <a:ext cx="42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Хороводная игра «Пауч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H:\КУДЕЛЬКА, гр. № 9\2014-12-01\DSC03729.JPG"/>
          <p:cNvPicPr/>
          <p:nvPr/>
        </p:nvPicPr>
        <p:blipFill>
          <a:blip r:embed="rId4"/>
          <a:stretch/>
        </p:blipFill>
        <p:spPr>
          <a:xfrm>
            <a:off x="1143000" y="31431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:\КУДЕЛЬКА, гр. № 9\2014-12-01\DSC03733.JPG"/>
          <p:cNvPicPr/>
          <p:nvPr/>
        </p:nvPicPr>
        <p:blipFill>
          <a:blip r:embed="rId5"/>
          <a:stretch/>
        </p:blipFill>
        <p:spPr>
          <a:xfrm>
            <a:off x="4572000" y="5000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:\КУДЕЛЬКА, гр. № 9\2014-12-01\DSC03732.JPG"/>
          <p:cNvPicPr/>
          <p:nvPr/>
        </p:nvPicPr>
        <p:blipFill>
          <a:blip r:embed="rId6"/>
          <a:stretch/>
        </p:blipFill>
        <p:spPr>
          <a:xfrm>
            <a:off x="4786200" y="3143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228600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уколка Акуль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е кроватка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ку слазить очень рад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ут е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е доска и палк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абушки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варит всем друж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боки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.….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14680" y="6857640"/>
            <a:ext cx="3714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1143000" y="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1713"/>
                </a:solidFill>
                <a:latin typeface="Arial"/>
              </a:rPr>
              <a:t>Словесная игра «Доскажи словеч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86080" y="785880"/>
            <a:ext cx="5486400" cy="564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:\КУДЕЛЬКА, гр. № 9\2014-12-01\DSC03734.JPG"/>
          <p:cNvPicPr/>
          <p:nvPr/>
        </p:nvPicPr>
        <p:blipFill>
          <a:blip r:embed="rId4"/>
          <a:stretch/>
        </p:blipFill>
        <p:spPr>
          <a:xfrm>
            <a:off x="3357720" y="749160"/>
            <a:ext cx="3071520" cy="23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:\КУДЕЛЬКА, гр. № 9\2014-12-01\DSC03735.JPG"/>
          <p:cNvPicPr/>
          <p:nvPr/>
        </p:nvPicPr>
        <p:blipFill>
          <a:blip r:embed="rId5"/>
          <a:stretch/>
        </p:blipFill>
        <p:spPr>
          <a:xfrm>
            <a:off x="5429160" y="26971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:\КУДЕЛЬКА, гр. № 9\2014-12-01\DSC03736.JPG"/>
          <p:cNvPicPr/>
          <p:nvPr/>
        </p:nvPicPr>
        <p:blipFill>
          <a:blip r:embed="rId6"/>
          <a:stretch/>
        </p:blipFill>
        <p:spPr>
          <a:xfrm>
            <a:off x="3429000" y="428616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0080" y="4500720"/>
            <a:ext cx="7215120" cy="20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х, и мастера вы играть! А в народе говорят: «Умей в гости звать, умей и угощать!», а чаем из самовара я вас еще не напоила. Садитесь за стол, ребя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4680" y="6857640"/>
            <a:ext cx="37144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uz-v1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uz-v1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57200" y="785520"/>
            <a:ext cx="7415280" cy="314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:\КУДЕЛЬКА, гр. № 9\DSC00062.JPG"/>
          <p:cNvPicPr/>
          <p:nvPr/>
        </p:nvPicPr>
        <p:blipFill>
          <a:blip r:embed="rId4"/>
          <a:stretch/>
        </p:blipFill>
        <p:spPr>
          <a:xfrm>
            <a:off x="1071720" y="285840"/>
            <a:ext cx="3568680" cy="237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H:\КУДЕЛЬКА, гр. № 9\DSC00063.JPG"/>
          <p:cNvPicPr/>
          <p:nvPr/>
        </p:nvPicPr>
        <p:blipFill>
          <a:blip r:embed="rId5"/>
          <a:stretch/>
        </p:blipFill>
        <p:spPr>
          <a:xfrm>
            <a:off x="3857760" y="2000160"/>
            <a:ext cx="4143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uz-v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116000" y="-19980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оды дет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, прежде всего, воспитание сердца», - писал В. Сухомлинский, а патриотическое воспитание без воспитания сердца невозможно. Духовный творческий патриотизм надо прививать с раннего детства. Он прямо связан с личной духовностью человека, её глубиной. Необходимо пробудить в детях чувство любви к Родине. Именно пробудить, а не навязать, так как в основе патриотизма лежит духовное самоопред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ая культура, как отец и мать, должна стать неотъемлемой частью души ребёнка, началом, порождающим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42920" y="3333240"/>
            <a:ext cx="72010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х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r>
              <a:rPr b="1" i="1" lang="ru-RU" sz="2000" spc="-1" strike="noStrike">
                <a:solidFill>
                  <a:srgbClr val="b91713"/>
                </a:solidFill>
                <a:latin typeface="Times New Roman"/>
                <a:ea typeface="Times New Roman"/>
              </a:rPr>
              <a:t>русское гостеприимство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9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Василек\Pictures\0015-047-Spasibo-za-vnimanie.jpg"/>
          <p:cNvPicPr/>
          <p:nvPr/>
        </p:nvPicPr>
        <p:blipFill>
          <a:blip r:embed="rId3"/>
          <a:stretch/>
        </p:blipFill>
        <p:spPr>
          <a:xfrm>
            <a:off x="2987640" y="5516640"/>
            <a:ext cx="2808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Василёк</cp:lastModifiedBy>
  <dcterms:modified xsi:type="dcterms:W3CDTF">2015-02-09T17:00:41Z</dcterms:modified>
  <cp:revision>276</cp:revision>
  <dc:subject/>
  <dc:title>Слайд 1</dc:title>
</cp:coreProperties>
</file>