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A9FB-77AF-4021-B58C-0334DFAE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B48-7A4D-448B-8692-14732DD1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C16C-CADF-47E0-96F7-C0EE602B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7A99-FC18-4ACF-B3BD-23B347E2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9C53-4079-4C82-B8C0-17EE9CB2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AAC4-76B0-4CA9-98EF-E32EB4D0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6923-60A4-4424-B478-91FD3893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C00-EC43-455D-96C5-A6BA990C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D908-5945-459E-8899-F0D96453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D7D6-21E4-49F4-9E24-52B73254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3763-3D7F-4843-BCA9-67FA06B1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3497-91A2-4008-91AC-F0BF5B20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78A3-3C7C-497C-BECA-84523100E6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lk.pp.ru/uploads/posts/uz-v1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85480"/>
            <a:ext cx="73724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ите попробовать хлеб с солью? Я вас угощаю. Только сначала попробуйте кусочек без соли, а потом чуть подсоленный (дети пробуют). Вкусно? Какой кусочек вам показался вкуснее? Почему? Конечно с соль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uz-v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uz-v1"/>
          <p:cNvPicPr/>
          <p:nvPr/>
        </p:nvPicPr>
        <p:blipFill>
          <a:blip r:embed="rId3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:\КУДЕЛЬКА, гр. № 9\2014-12-01\DSC03725.JPG"/>
          <p:cNvPicPr/>
          <p:nvPr/>
        </p:nvPicPr>
        <p:blipFill>
          <a:blip r:embed="rId4"/>
          <a:stretch/>
        </p:blipFill>
        <p:spPr>
          <a:xfrm>
            <a:off x="1000080" y="1857240"/>
            <a:ext cx="3081240" cy="2311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КУДЕЛЬКА, гр. № 9\DSC00035.JPG"/>
          <p:cNvPicPr/>
          <p:nvPr/>
        </p:nvPicPr>
        <p:blipFill>
          <a:blip r:embed="rId5"/>
          <a:stretch/>
        </p:blipFill>
        <p:spPr>
          <a:xfrm>
            <a:off x="4500720" y="1857240"/>
            <a:ext cx="3497040" cy="2325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:\КУДЕЛЬКА, гр. № 9\DSC00040.JPG"/>
          <p:cNvPicPr/>
          <p:nvPr/>
        </p:nvPicPr>
        <p:blipFill>
          <a:blip r:embed="rId6"/>
          <a:stretch/>
        </p:blipFill>
        <p:spPr>
          <a:xfrm>
            <a:off x="2571840" y="4286160"/>
            <a:ext cx="3571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28800" y="5143680"/>
            <a:ext cx="721512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й, гости мои дорогие! Засиделись вы, наверное, поиграть хотите? А я научу вас веселой игре, выходите все ко мне! В кружок вставайте и слушайте правил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:\КУДЕЛЬКА, гр. № 9\DSC00045.JPG"/>
          <p:cNvPicPr/>
          <p:nvPr/>
        </p:nvPicPr>
        <p:blipFill>
          <a:blip r:embed="rId1"/>
          <a:srcRect l="5666" t="0" r="5666" b="0"/>
          <a:stretch/>
        </p:blipFill>
        <p:spPr>
          <a:xfrm>
            <a:off x="1000080" y="482760"/>
            <a:ext cx="3357720" cy="2517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14680" y="6857640"/>
            <a:ext cx="37144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" descr="uz-v1"/>
          <p:cNvPicPr/>
          <p:nvPr/>
        </p:nvPicPr>
        <p:blipFill>
          <a:blip r:embed="rId3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3"/>
          <p:cNvSpPr/>
          <p:nvPr/>
        </p:nvSpPr>
        <p:spPr>
          <a:xfrm>
            <a:off x="2214720" y="0"/>
            <a:ext cx="421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91713"/>
                </a:solidFill>
                <a:latin typeface="Times New Roman"/>
                <a:ea typeface="Times New Roman"/>
              </a:rPr>
              <a:t>Хороводная игра «Пауч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H:\КУДЕЛЬКА, гр. № 9\2014-12-01\DSC03729.JPG"/>
          <p:cNvPicPr/>
          <p:nvPr/>
        </p:nvPicPr>
        <p:blipFill>
          <a:blip r:embed="rId4"/>
          <a:stretch/>
        </p:blipFill>
        <p:spPr>
          <a:xfrm>
            <a:off x="1143000" y="314316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:\КУДЕЛЬКА, гр. № 9\2014-12-01\DSC03733.JPG"/>
          <p:cNvPicPr/>
          <p:nvPr/>
        </p:nvPicPr>
        <p:blipFill>
          <a:blip r:embed="rId5"/>
          <a:stretch/>
        </p:blipFill>
        <p:spPr>
          <a:xfrm>
            <a:off x="4572000" y="500040"/>
            <a:ext cx="3357720" cy="2517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H:\КУДЕЛЬКА, гр. № 9\2014-12-01\DSC03732.JPG"/>
          <p:cNvPicPr/>
          <p:nvPr/>
        </p:nvPicPr>
        <p:blipFill>
          <a:blip r:embed="rId6"/>
          <a:stretch/>
        </p:blipFill>
        <p:spPr>
          <a:xfrm>
            <a:off x="4786200" y="314316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0080" y="928800"/>
            <a:ext cx="2286000" cy="564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куколка Акульк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е кроватка 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……..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ку слазить очень рад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овут ег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……..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е доска и палка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бабушки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……..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у варит всем дружо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обоки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….….)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14680" y="6857640"/>
            <a:ext cx="37144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uz-v1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uz-v1"/>
          <p:cNvPicPr/>
          <p:nvPr/>
        </p:nvPicPr>
        <p:blipFill>
          <a:blip r:embed="rId2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3"/>
          <p:cNvSpPr/>
          <p:nvPr/>
        </p:nvSpPr>
        <p:spPr>
          <a:xfrm>
            <a:off x="1143000" y="0"/>
            <a:ext cx="67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91713"/>
                </a:solidFill>
                <a:latin typeface="Arial"/>
              </a:rPr>
              <a:t>Словесная игра «Доскажи словечк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286080" y="785880"/>
            <a:ext cx="5486400" cy="5643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:\КУДЕЛЬКА, гр. № 9\2014-12-01\DSC03734.JPG"/>
          <p:cNvPicPr/>
          <p:nvPr/>
        </p:nvPicPr>
        <p:blipFill>
          <a:blip r:embed="rId4"/>
          <a:stretch/>
        </p:blipFill>
        <p:spPr>
          <a:xfrm>
            <a:off x="3357720" y="749160"/>
            <a:ext cx="3071520" cy="230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H:\КУДЕЛЬКА, гр. № 9\2014-12-01\DSC03735.JPG"/>
          <p:cNvPicPr/>
          <p:nvPr/>
        </p:nvPicPr>
        <p:blipFill>
          <a:blip r:embed="rId5"/>
          <a:stretch/>
        </p:blipFill>
        <p:spPr>
          <a:xfrm>
            <a:off x="5429160" y="2697120"/>
            <a:ext cx="2881440" cy="216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:\КУДЕЛЬКА, гр. № 9\2014-12-01\DSC03736.JPG"/>
          <p:cNvPicPr/>
          <p:nvPr/>
        </p:nvPicPr>
        <p:blipFill>
          <a:blip r:embed="rId6"/>
          <a:stretch/>
        </p:blipFill>
        <p:spPr>
          <a:xfrm>
            <a:off x="3429000" y="4286160"/>
            <a:ext cx="29289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0080" y="4500720"/>
            <a:ext cx="7215120" cy="20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х, и мастера вы играть! А в народе говорят: «Умей в гости звать, умей и угощать!», а чаем из самовара я вас еще не напоила. Садитесь за стол, ребятк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14680" y="6857640"/>
            <a:ext cx="37144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uz-v1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" descr="uz-v1"/>
          <p:cNvPicPr/>
          <p:nvPr/>
        </p:nvPicPr>
        <p:blipFill>
          <a:blip r:embed="rId2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357200" y="785520"/>
            <a:ext cx="7415280" cy="3143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:\КУДЕЛЬКА, гр. № 9\DSC00062.JPG"/>
          <p:cNvPicPr/>
          <p:nvPr/>
        </p:nvPicPr>
        <p:blipFill>
          <a:blip r:embed="rId4"/>
          <a:stretch/>
        </p:blipFill>
        <p:spPr>
          <a:xfrm>
            <a:off x="1071720" y="285840"/>
            <a:ext cx="3568680" cy="2371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H:\КУДЕЛЬКА, гр. № 9\DSC00063.JPG"/>
          <p:cNvPicPr/>
          <p:nvPr/>
        </p:nvPicPr>
        <p:blipFill>
          <a:blip r:embed="rId5"/>
          <a:stretch/>
        </p:blipFill>
        <p:spPr>
          <a:xfrm>
            <a:off x="3857760" y="2000160"/>
            <a:ext cx="41432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uz-v1"/>
          <p:cNvPicPr/>
          <p:nvPr/>
        </p:nvPicPr>
        <p:blipFill>
          <a:blip r:embed="rId1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1116000" y="-199800"/>
            <a:ext cx="69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Годы детств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, прежде всего, воспитание сердца», - писал В. Сухомлинский, а патриотическое воспитание без воспитания сердца невозможно. Духовный творческий патриотизм надо прививать с раннего детства. Он прямо связан с личной духовностью человека, её глубиной. Необходимо пробудить в детях чувство любви к Родине. Именно пробудить, а не навязать, так как в основе патриотизма лежит духовное самоопреде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ная культура, как отец и мать, должна стать неотъемлемой частью души ребёнка, началом, порождающим ли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042920" y="3333240"/>
            <a:ext cx="720108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ди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передача от предшествующих поколений обычаев и обрядов,  направленых на духовный мир личности и выполняет роль средств воспроизведения, повторения и закрепления общепринятых общественных отношений не непосредственно, а через формирование морального и духовного облика человека, складывающегося в соответствии с этими отношениями.  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</a:t>
            </a:r>
            <a:r>
              <a:rPr b="1" i="1" lang="ru-RU" sz="2000" spc="-1" strike="noStrike">
                <a:solidFill>
                  <a:srgbClr val="b91713"/>
                </a:solidFill>
                <a:latin typeface="Times New Roman"/>
                <a:ea typeface="Times New Roman"/>
              </a:rPr>
              <a:t>русское гостеприимство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9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Users\Василек\Pictures\0015-047-Spasibo-za-vnimanie.jpg"/>
          <p:cNvPicPr/>
          <p:nvPr/>
        </p:nvPicPr>
        <p:blipFill>
          <a:blip r:embed="rId3"/>
          <a:stretch/>
        </p:blipFill>
        <p:spPr>
          <a:xfrm>
            <a:off x="2987640" y="5516640"/>
            <a:ext cx="2808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8:04Z</dcterms:created>
  <dc:creator>DESIGN</dc:creator>
  <dc:description/>
  <dc:language>en-US</dc:language>
  <cp:lastModifiedBy>Василёк</cp:lastModifiedBy>
  <dcterms:modified xsi:type="dcterms:W3CDTF">2015-02-09T17:00:41Z</dcterms:modified>
  <cp:revision>276</cp:revision>
  <dc:subject/>
  <dc:title>Слайд 1</dc:title>
</cp:coreProperties>
</file>