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4A49-39A7-4A5F-8110-154A9649940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6293-D0BE-4AC0-ACD3-FE6BA88F6DD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A922-DFA3-4409-9318-FDEEEC37C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EEA7-8F8C-4838-BF3A-2ACD5971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EFED-F159-4E81-8F72-5123BCC99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39EB-D031-4740-BF88-50570C446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62820-2011-4D4B-A993-0260493E1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B1B2-8496-4404-9D92-A4C3D903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D382-BC2C-428C-866A-57DD3F9D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4F294-9DDC-4364-ADB3-C4B5EBF2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6723-AA94-45D9-B05F-EC1905A6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B30E-F809-45C7-AC8E-2F66E106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C366-EA6D-4617-8018-52F261AF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CB91-BF36-45DC-BF4D-DD93232E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70F14-6DD1-495A-9250-265017C0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965E-5489-44B2-A2DC-5A5C5D7F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6B669-0D9B-46F9-9B73-BF6CBB6E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F041-80B2-4C65-AE83-9F99D6F25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48F9-72DB-4E7D-B859-666F32454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0C31-3E0F-44B9-9949-1C18E4C4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B919-F8CF-4918-A314-501666B4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CA5B-7DA0-484E-9030-609075A5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CC5A-3C85-4298-943F-8B7FFDD0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9699-A3EE-4B64-A669-615DE9DB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49BE-E8F7-4BFC-892B-3724772C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DFAD-2D11-49F1-9C1B-0C0835A2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3141-F248-4387-B8EA-35BCF1EBFA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1D49-EB5D-4DB7-A5C3-696A508036A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&#1058;&#1072;&#1073;&#1083;&#1080;&#1094;&#1072;%20&#1088;&#1077;&#1079;&#1091;&#1083;&#1100;&#1090;&#1072;&#1090;&#1086;&#1074;.xls" TargetMode="External"/><Relationship Id="rId2" Type="http://schemas.openxmlformats.org/officeDocument/2006/relationships/hyperlink" Target="file:///&#1058;&#1072;&#1073;&#1083;&#1080;&#1094;&#1072;%20&#1088;&#1077;&#1079;&#1091;&#1083;&#1100;&#1090;&#1072;&#1090;&#1086;&#1074;.xls" TargetMode="External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87280" y="1196640"/>
            <a:ext cx="77104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0000"/>
                </a:solidFill>
                <a:latin typeface="Arial Narrow"/>
              </a:rPr>
              <a:t>Электростатика</a:t>
            </a:r>
            <a:endParaRPr b="0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294920" y="2744280"/>
            <a:ext cx="72392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rial Narrow"/>
              </a:rPr>
              <a:t>(повторение)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751040" y="4941720"/>
            <a:ext cx="6112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атериал подготовил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читель физики МОКУ СОШ № 2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ропотина Марина Николаев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1412640"/>
            <a:ext cx="914400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Arial Narrow"/>
              </a:rPr>
              <a:t>Напряжение, </a:t>
            </a:r>
            <a:br>
              <a:rPr sz="8000"/>
            </a:br>
            <a:r>
              <a:rPr b="1" lang="ru-RU" sz="7200" spc="-1" strike="noStrike">
                <a:solidFill>
                  <a:srgbClr val="ffffff"/>
                </a:solidFill>
                <a:latin typeface="Arial Narrow"/>
              </a:rPr>
              <a:t>р</a:t>
            </a:r>
            <a:r>
              <a:rPr b="1" lang="ru-RU" sz="7200" spc="-1" strike="noStrike">
                <a:solidFill>
                  <a:srgbClr val="006666"/>
                </a:solidFill>
                <a:latin typeface="Arial Narrow"/>
              </a:rPr>
              <a:t>азность потенциалов</a:t>
            </a:r>
            <a:endParaRPr b="0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86920" y="3428640"/>
            <a:ext cx="72392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2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900" spc="-1" strike="noStrike">
                <a:solidFill>
                  <a:srgbClr val="cc0000"/>
                </a:solidFill>
                <a:latin typeface="Arial Narrow"/>
              </a:rPr>
              <a:t>U</a:t>
            </a:r>
            <a:r>
              <a:rPr b="1" lang="ru-RU" sz="8900" spc="-1" strike="noStrike">
                <a:solidFill>
                  <a:srgbClr val="cc0000"/>
                </a:solidFill>
                <a:latin typeface="Arial Narrow"/>
              </a:rPr>
              <a:t>, </a:t>
            </a:r>
            <a:r>
              <a:rPr b="1" lang="en-US" sz="8900" spc="-1" strike="noStrike">
                <a:solidFill>
                  <a:srgbClr val="cc0000"/>
                </a:solidFill>
                <a:latin typeface="Arial Narrow"/>
              </a:rPr>
              <a:t>[</a:t>
            </a:r>
            <a:r>
              <a:rPr b="1" lang="ru-RU" sz="8900" spc="-1" strike="noStrike">
                <a:solidFill>
                  <a:srgbClr val="cc0000"/>
                </a:solidFill>
                <a:latin typeface="Arial Narrow"/>
              </a:rPr>
              <a:t> В </a:t>
            </a:r>
            <a:r>
              <a:rPr b="1" lang="en-US" sz="8900" spc="-1" strike="noStrike">
                <a:solidFill>
                  <a:srgbClr val="cc0000"/>
                </a:solidFill>
                <a:latin typeface="Arial Narrow"/>
              </a:rPr>
              <a:t>]</a:t>
            </a:r>
            <a:endParaRPr b="0" lang="en-US" sz="8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2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900" spc="-1" strike="noStrike">
                <a:solidFill>
                  <a:srgbClr val="cc0000"/>
                </a:solidFill>
                <a:latin typeface="Arial Narrow"/>
              </a:rPr>
              <a:t>Вольт</a:t>
            </a:r>
            <a:endParaRPr b="0" lang="en-US" sz="8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7280" y="907560"/>
            <a:ext cx="77104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Arial Narrow"/>
              </a:rPr>
              <a:t>Энергия</a:t>
            </a:r>
            <a:endParaRPr b="0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86920" y="3428640"/>
            <a:ext cx="72392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2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900" spc="-1" strike="noStrike">
                <a:solidFill>
                  <a:srgbClr val="cc0000"/>
                </a:solidFill>
                <a:latin typeface="Arial Narrow"/>
              </a:rPr>
              <a:t>W</a:t>
            </a:r>
            <a:r>
              <a:rPr b="1" lang="ru-RU" sz="8900" spc="-1" strike="noStrike">
                <a:solidFill>
                  <a:srgbClr val="cc0000"/>
                </a:solidFill>
                <a:latin typeface="Arial Narrow"/>
              </a:rPr>
              <a:t>, </a:t>
            </a:r>
            <a:r>
              <a:rPr b="1" lang="en-US" sz="8900" spc="-1" strike="noStrike">
                <a:solidFill>
                  <a:srgbClr val="cc0000"/>
                </a:solidFill>
                <a:latin typeface="Arial Narrow"/>
              </a:rPr>
              <a:t>[</a:t>
            </a:r>
            <a:r>
              <a:rPr b="1" lang="ru-RU" sz="8900" spc="-1" strike="noStrike">
                <a:solidFill>
                  <a:srgbClr val="cc0000"/>
                </a:solidFill>
                <a:latin typeface="Arial Narrow"/>
              </a:rPr>
              <a:t> Дж </a:t>
            </a:r>
            <a:r>
              <a:rPr b="1" lang="en-US" sz="8900" spc="-1" strike="noStrike">
                <a:solidFill>
                  <a:srgbClr val="cc0000"/>
                </a:solidFill>
                <a:latin typeface="Arial Narrow"/>
              </a:rPr>
              <a:t>]</a:t>
            </a:r>
            <a:endParaRPr b="0" lang="en-US" sz="8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2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900" spc="-1" strike="noStrike">
                <a:solidFill>
                  <a:srgbClr val="cc0000"/>
                </a:solidFill>
                <a:latin typeface="Arial Narrow"/>
              </a:rPr>
              <a:t>Джоуль</a:t>
            </a:r>
            <a:endParaRPr b="0" lang="en-US" sz="8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929800" cy="17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Arial Narrow"/>
              </a:rPr>
              <a:t>Мощность</a:t>
            </a:r>
            <a:endParaRPr b="0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186920" y="3428640"/>
            <a:ext cx="72392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2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900" spc="-1" strike="noStrike">
                <a:solidFill>
                  <a:srgbClr val="cc0000"/>
                </a:solidFill>
                <a:latin typeface="Arial Narrow"/>
              </a:rPr>
              <a:t>Р, </a:t>
            </a:r>
            <a:r>
              <a:rPr b="1" lang="en-US" sz="8900" spc="-1" strike="noStrike">
                <a:solidFill>
                  <a:srgbClr val="cc0000"/>
                </a:solidFill>
                <a:latin typeface="Arial Narrow"/>
              </a:rPr>
              <a:t>[</a:t>
            </a:r>
            <a:r>
              <a:rPr b="1" lang="ru-RU" sz="8900" spc="-1" strike="noStrike">
                <a:solidFill>
                  <a:srgbClr val="cc0000"/>
                </a:solidFill>
                <a:latin typeface="Arial Narrow"/>
              </a:rPr>
              <a:t> Вт </a:t>
            </a:r>
            <a:r>
              <a:rPr b="1" lang="en-US" sz="8900" spc="-1" strike="noStrike">
                <a:solidFill>
                  <a:srgbClr val="cc0000"/>
                </a:solidFill>
                <a:latin typeface="Arial Narrow"/>
              </a:rPr>
              <a:t>]</a:t>
            </a:r>
            <a:endParaRPr b="0" lang="en-US" sz="8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2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900" spc="-1" strike="noStrike">
                <a:solidFill>
                  <a:srgbClr val="cc0000"/>
                </a:solidFill>
                <a:latin typeface="Arial Narrow"/>
              </a:rPr>
              <a:t>Ватт</a:t>
            </a:r>
            <a:endParaRPr b="0" lang="en-US" sz="8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87280" y="692280"/>
            <a:ext cx="7710480" cy="144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Arial Narrow"/>
              </a:rPr>
              <a:t>Потенциал</a:t>
            </a:r>
            <a:endParaRPr b="0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186920" y="3428640"/>
            <a:ext cx="72392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2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900" spc="-1" strike="noStrike">
                <a:solidFill>
                  <a:srgbClr val="cc0000"/>
                </a:solidFill>
                <a:latin typeface="Arial Narrow"/>
              </a:rPr>
              <a:t>φ</a:t>
            </a:r>
            <a:r>
              <a:rPr b="1" lang="ru-RU" sz="8900" spc="-1" strike="noStrike">
                <a:solidFill>
                  <a:srgbClr val="cc0000"/>
                </a:solidFill>
                <a:latin typeface="Arial Narrow"/>
              </a:rPr>
              <a:t>, </a:t>
            </a:r>
            <a:r>
              <a:rPr b="1" lang="en-US" sz="8900" spc="-1" strike="noStrike">
                <a:solidFill>
                  <a:srgbClr val="cc0000"/>
                </a:solidFill>
                <a:latin typeface="Arial Narrow"/>
              </a:rPr>
              <a:t>[</a:t>
            </a:r>
            <a:r>
              <a:rPr b="1" lang="ru-RU" sz="8900" spc="-1" strike="noStrike">
                <a:solidFill>
                  <a:srgbClr val="cc0000"/>
                </a:solidFill>
                <a:latin typeface="Arial Narrow"/>
              </a:rPr>
              <a:t> В</a:t>
            </a:r>
            <a:r>
              <a:rPr b="1" lang="en-US" sz="8900" spc="-1" strike="noStrike">
                <a:solidFill>
                  <a:srgbClr val="cc0000"/>
                </a:solidFill>
                <a:latin typeface="Arial Narrow"/>
              </a:rPr>
              <a:t>]</a:t>
            </a:r>
            <a:endParaRPr b="0" lang="en-US" sz="8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2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900" spc="-1" strike="noStrike">
                <a:solidFill>
                  <a:srgbClr val="cc0000"/>
                </a:solidFill>
                <a:latin typeface="Arial Narrow"/>
              </a:rPr>
              <a:t>Вольт</a:t>
            </a:r>
            <a:endParaRPr b="0" lang="en-US" sz="8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7280" y="1196640"/>
            <a:ext cx="77104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Arial Narrow"/>
              </a:rPr>
              <a:t>Электрическая ёмкость</a:t>
            </a:r>
            <a:endParaRPr b="0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186920" y="3428640"/>
            <a:ext cx="72392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2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900" spc="-1" strike="noStrike">
                <a:solidFill>
                  <a:srgbClr val="cc0000"/>
                </a:solidFill>
                <a:latin typeface="Arial Narrow"/>
              </a:rPr>
              <a:t>С, </a:t>
            </a:r>
            <a:r>
              <a:rPr b="1" lang="en-US" sz="8900" spc="-1" strike="noStrike">
                <a:solidFill>
                  <a:srgbClr val="cc0000"/>
                </a:solidFill>
                <a:latin typeface="Arial Narrow"/>
              </a:rPr>
              <a:t>[</a:t>
            </a:r>
            <a:r>
              <a:rPr b="1" lang="ru-RU" sz="8900" spc="-1" strike="noStrike">
                <a:solidFill>
                  <a:srgbClr val="cc0000"/>
                </a:solidFill>
                <a:latin typeface="Arial Narrow"/>
              </a:rPr>
              <a:t> Ф </a:t>
            </a:r>
            <a:r>
              <a:rPr b="1" lang="en-US" sz="8900" spc="-1" strike="noStrike">
                <a:solidFill>
                  <a:srgbClr val="cc0000"/>
                </a:solidFill>
                <a:latin typeface="Arial Narrow"/>
              </a:rPr>
              <a:t>]</a:t>
            </a:r>
            <a:endParaRPr b="0" lang="en-US" sz="8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2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900" spc="-1" strike="noStrike">
                <a:solidFill>
                  <a:srgbClr val="cc0000"/>
                </a:solidFill>
                <a:latin typeface="Arial Narrow"/>
              </a:rPr>
              <a:t>Фарад</a:t>
            </a:r>
            <a:endParaRPr b="0" lang="en-US" sz="8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87280" y="1196640"/>
            <a:ext cx="77104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006666"/>
                </a:solidFill>
                <a:uFillTx/>
                <a:latin typeface="Arial Narrow"/>
                <a:hlinkClick r:id="rId1"/>
              </a:rPr>
              <a:t>I</a:t>
            </a:r>
            <a:r>
              <a:rPr b="0" lang="ru-RU" sz="8000" spc="-1" strike="noStrike" u="sng">
                <a:solidFill>
                  <a:srgbClr val="006666"/>
                </a:solidFill>
                <a:uFillTx/>
                <a:latin typeface="Arial Narrow"/>
                <a:hlinkClick r:id="rId2"/>
              </a:rPr>
              <a:t>. </a:t>
            </a:r>
            <a:r>
              <a:rPr b="1" lang="ru-RU" sz="8000" spc="-1" strike="noStrike">
                <a:solidFill>
                  <a:srgbClr val="c00000"/>
                </a:solidFill>
                <a:latin typeface="Arial Narrow"/>
              </a:rPr>
              <a:t>Орешек знаний</a:t>
            </a:r>
            <a:endParaRPr b="0" lang="en-US" sz="8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104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Arial Narrow"/>
              </a:rPr>
              <a:t>Орешек  № 1</a:t>
            </a:r>
            <a:endParaRPr b="0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26560" y="1521000"/>
            <a:ext cx="856476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то называют электростатикой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 взаимодействуют одноименные и разноименные электрические заряды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зовите свойства электрического заряд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формулируйте и запишите закон сохранения электрического заряда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ube033i"/>
          <p:cNvPicPr/>
          <p:nvPr/>
        </p:nvPicPr>
        <p:blipFill>
          <a:blip r:embed="rId1"/>
          <a:stretch/>
        </p:blipFill>
        <p:spPr>
          <a:xfrm>
            <a:off x="2735280" y="1233360"/>
            <a:ext cx="3435480" cy="4184640"/>
          </a:xfrm>
          <a:prstGeom prst="rect">
            <a:avLst/>
          </a:prstGeom>
          <a:ln w="5724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748720" cy="123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66"/>
                </a:solidFill>
                <a:latin typeface="Arial Narrow"/>
              </a:rPr>
              <a:t>Шарль Огюстен Кулон</a:t>
            </a:r>
            <a:endParaRPr b="0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79280" y="5381280"/>
            <a:ext cx="8748720" cy="14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5260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 Narrow"/>
              </a:rPr>
              <a:t>Учёный, измеривший силу взаимодействия зарядов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104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Arial Narrow"/>
              </a:rPr>
              <a:t>Орешек  № 2</a:t>
            </a:r>
            <a:endParaRPr b="0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26560" y="1628640"/>
            <a:ext cx="8317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 формулируют и записывают закон Кулона для взаимодействия заряд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ему равен коэффициент пропорциональности в законе Кулона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ему равна электрическая постоянная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ово значение заряда и массы электрона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77104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Arial Narrow"/>
              </a:rPr>
              <a:t>Орешек  № 3</a:t>
            </a:r>
            <a:endParaRPr b="0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066320" y="1196640"/>
            <a:ext cx="80773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то такое электрическое поле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зовите основные свойства электрического пол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то называют напряженностью электрического поля? Какая формула выражает суть этого понятия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ему равна напряженность электрического поля точечного заряда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104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0000"/>
                </a:solidFill>
                <a:latin typeface="Arial Narrow"/>
              </a:rPr>
              <a:t>Цель</a:t>
            </a:r>
            <a:endParaRPr b="0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10920" y="2997000"/>
            <a:ext cx="8172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Arial Narrow"/>
              </a:rPr>
              <a:t>   </a:t>
            </a:r>
            <a:r>
              <a:rPr b="1" lang="ru-RU" sz="5400" spc="-1" strike="noStrike">
                <a:solidFill>
                  <a:srgbClr val="006666"/>
                </a:solidFill>
                <a:latin typeface="Arial Narrow"/>
              </a:rPr>
              <a:t>Повторить и обобщить</a:t>
            </a:r>
            <a:br>
              <a:rPr sz="5400"/>
            </a:br>
            <a:r>
              <a:rPr b="1" lang="ru-RU" sz="5400" spc="-1" strike="noStrike">
                <a:solidFill>
                  <a:srgbClr val="006666"/>
                </a:solidFill>
                <a:latin typeface="Arial Narrow"/>
              </a:rPr>
              <a:t>   тему «Электростатика»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77104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Arial Narrow"/>
              </a:rPr>
              <a:t>Орешек  № 4</a:t>
            </a:r>
            <a:endParaRPr b="0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68000" y="1160280"/>
            <a:ext cx="9217080" cy="54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ие вещества называются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оводниками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кие вещества называют диэлектриками? Назовите виды диэлектрик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шите формулы работы по перемещению заряда в электрическом поле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то называют потенциалом электростатического поля? Какая формула выражает смысл этого понятия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77104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Arial Narrow"/>
              </a:rPr>
              <a:t>Орешек  № 5</a:t>
            </a:r>
            <a:endParaRPr b="0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47440" y="1197000"/>
            <a:ext cx="8507160" cy="54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то называют электроемкостью уединенного проводника? Какая формула выражает смысл этого понятия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то называют конденсатором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шите формулы электроемкости плоского конденсатора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то называют энергией электрического поля? Формул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00000" y="907560"/>
            <a:ext cx="77104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Arial Narrow"/>
              </a:rPr>
              <a:t>II</a:t>
            </a:r>
            <a:r>
              <a:rPr b="1" lang="ru-RU" sz="8000" spc="-1" strike="noStrike">
                <a:solidFill>
                  <a:srgbClr val="cc0000"/>
                </a:solidFill>
                <a:latin typeface="Arial Narrow"/>
              </a:rPr>
              <a:t>. Теоретики</a:t>
            </a:r>
            <a:endParaRPr b="0" lang="en-US" sz="8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560" y="182736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8080"/>
                </a:solidFill>
                <a:latin typeface="Verdana"/>
              </a:rPr>
              <a:t>Работа с     таблицей</a:t>
            </a:r>
            <a:endParaRPr b="0" lang="en-US" sz="8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826920" y="368280"/>
          <a:ext cx="7856640" cy="5975280"/>
        </p:xfrm>
        <a:graphic>
          <a:graphicData uri="http://schemas.openxmlformats.org/drawingml/2006/table">
            <a:tbl>
              <a:tblPr/>
              <a:tblGrid>
                <a:gridCol w="3349800"/>
                <a:gridCol w="2266920"/>
                <a:gridCol w="2239920"/>
              </a:tblGrid>
              <a:tr h="84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изическая велич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озна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диницы измер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лектрический заря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84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электрическая проницаемость вещ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пряж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/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тенци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зность потенциа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Δ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лектроемк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8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нергия электрического по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"Найди ошибку"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10720" y="1603440"/>
            <a:ext cx="7836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сновной закон электростатики открыл Ломоносов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инимальный заряд, существующий в природе, это заряд нейтрон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апряженность электрического поля – количественная характеристика пол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сновное применение конденсаторов – радиотехника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30320" y="982800"/>
            <a:ext cx="7710480" cy="144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Arial Narrow"/>
              </a:rPr>
              <a:t>III. </a:t>
            </a:r>
            <a:r>
              <a:rPr b="1" lang="ru-RU" sz="7200" spc="-1" strike="noStrike">
                <a:solidFill>
                  <a:srgbClr val="cc0000"/>
                </a:solidFill>
                <a:latin typeface="Arial Narrow"/>
              </a:rPr>
              <a:t>Вопросы в картинках</a:t>
            </a:r>
            <a:endParaRPr b="0" lang="en-US" sz="7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84160" y="188640"/>
            <a:ext cx="8259840" cy="36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бесконечной горизонтальной отрицательно заряженной плоскости  привязана невесомая нить с шариком, имеющим положительный заряд. Каково условие равновесия шарика, есл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 –  модуль силы тяжести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 – модуль силы электростатического взаимодействия шарика с пластиной, Т – модуль силы натяжения нити ?                 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640" y="3933360"/>
            <a:ext cx="446400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50021"/>
                </a:solidFill>
                <a:latin typeface="Verdana"/>
              </a:rPr>
              <a:t>1)</a:t>
            </a:r>
            <a:r>
              <a:rPr b="1" lang="ru-RU" sz="29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a50021"/>
                </a:solidFill>
                <a:latin typeface="Verdana"/>
              </a:rPr>
              <a:t>– mg – T + F</a:t>
            </a:r>
            <a:r>
              <a:rPr b="1" lang="ru-RU" sz="2900" spc="-1" strike="noStrike">
                <a:solidFill>
                  <a:srgbClr val="a50021"/>
                </a:solidFill>
                <a:latin typeface="Verdana"/>
              </a:rPr>
              <a:t>э</a:t>
            </a:r>
            <a:r>
              <a:rPr b="1" lang="en-US" sz="2900" spc="-1" strike="noStrike">
                <a:solidFill>
                  <a:srgbClr val="a50021"/>
                </a:solidFill>
                <a:latin typeface="Verdana"/>
              </a:rPr>
              <a:t> = 0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50021"/>
                </a:solidFill>
                <a:latin typeface="Verdana"/>
              </a:rPr>
              <a:t>2)</a:t>
            </a:r>
            <a:r>
              <a:rPr b="1" lang="ru-RU" sz="29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a50021"/>
                </a:solidFill>
                <a:latin typeface="Verdana"/>
              </a:rPr>
              <a:t>mg + T + F</a:t>
            </a:r>
            <a:r>
              <a:rPr b="1" lang="ru-RU" sz="2900" spc="-1" strike="noStrike">
                <a:solidFill>
                  <a:srgbClr val="a50021"/>
                </a:solidFill>
                <a:latin typeface="Verdana"/>
              </a:rPr>
              <a:t>э</a:t>
            </a:r>
            <a:r>
              <a:rPr b="1" lang="en-US" sz="2900" spc="-1" strike="noStrike">
                <a:solidFill>
                  <a:srgbClr val="a50021"/>
                </a:solidFill>
                <a:latin typeface="Verdana"/>
              </a:rPr>
              <a:t> = 0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50021"/>
                </a:solidFill>
                <a:latin typeface="Verdana"/>
              </a:rPr>
              <a:t>3)</a:t>
            </a:r>
            <a:r>
              <a:rPr b="1" lang="ru-RU" sz="29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a50021"/>
                </a:solidFill>
                <a:latin typeface="Verdana"/>
              </a:rPr>
              <a:t>mg – T + F</a:t>
            </a:r>
            <a:r>
              <a:rPr b="1" lang="ru-RU" sz="2900" spc="-1" strike="noStrike">
                <a:solidFill>
                  <a:srgbClr val="a50021"/>
                </a:solidFill>
                <a:latin typeface="Verdana"/>
              </a:rPr>
              <a:t>э</a:t>
            </a:r>
            <a:r>
              <a:rPr b="1" lang="en-US" sz="2900" spc="-1" strike="noStrike">
                <a:solidFill>
                  <a:srgbClr val="a50021"/>
                </a:solidFill>
                <a:latin typeface="Verdana"/>
              </a:rPr>
              <a:t> = 0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50021"/>
                </a:solidFill>
                <a:latin typeface="Verdana"/>
              </a:rPr>
              <a:t>4)</a:t>
            </a:r>
            <a:r>
              <a:rPr b="1" lang="ru-RU" sz="29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a50021"/>
                </a:solidFill>
                <a:latin typeface="Verdana"/>
              </a:rPr>
              <a:t>mg – T – F</a:t>
            </a:r>
            <a:r>
              <a:rPr b="1" lang="ru-RU" sz="2900" spc="-1" strike="noStrike">
                <a:solidFill>
                  <a:srgbClr val="a50021"/>
                </a:solidFill>
                <a:latin typeface="Verdana"/>
              </a:rPr>
              <a:t>э</a:t>
            </a:r>
            <a:r>
              <a:rPr b="1" lang="en-US" sz="2900" spc="-1" strike="noStrike">
                <a:solidFill>
                  <a:srgbClr val="a50021"/>
                </a:solidFill>
                <a:latin typeface="Verdana"/>
              </a:rPr>
              <a:t> = 0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8" name="Object 5"/>
          <p:cNvGraphicFramePr/>
          <p:nvPr/>
        </p:nvGraphicFramePr>
        <p:xfrm>
          <a:off x="5651640" y="3925800"/>
          <a:ext cx="2881080" cy="274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3925800"/>
                    <a:ext cx="2881080" cy="27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3" dur="2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8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84160" y="274680"/>
            <a:ext cx="8080560" cy="243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пыте ученик изучает взаимодействие неподвижных заряженных шариков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того чтобы определить знак заряд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арика, висящего на нити, необходимо знать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920" y="2923920"/>
            <a:ext cx="597672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5916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a50021"/>
                </a:solidFill>
                <a:latin typeface="Verdana"/>
              </a:rPr>
              <a:t>1) длину нит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5916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a50021"/>
                </a:solidFill>
                <a:latin typeface="Verdana"/>
              </a:rPr>
              <a:t>2) величину максимального угла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5916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a50021"/>
                </a:solidFill>
                <a:latin typeface="Verdana"/>
              </a:rPr>
              <a:t>3) массу шарика на нит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5916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a50021"/>
                </a:solidFill>
                <a:latin typeface="Verdana"/>
              </a:rPr>
              <a:t>4) знак заряда шарика, расположенного на</a:t>
            </a:r>
            <a:br>
              <a:rPr sz="3000"/>
            </a:br>
            <a:r>
              <a:rPr b="1" lang="ru-RU" sz="3000" spc="-1" strike="noStrike">
                <a:solidFill>
                  <a:srgbClr val="a50021"/>
                </a:solidFill>
                <a:latin typeface="Verdana"/>
              </a:rPr>
              <a:t>стойк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5916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7" descr=""/>
          <p:cNvPicPr/>
          <p:nvPr/>
        </p:nvPicPr>
        <p:blipFill>
          <a:blip r:embed="rId1"/>
          <a:stretch/>
        </p:blipFill>
        <p:spPr>
          <a:xfrm>
            <a:off x="6486480" y="2924280"/>
            <a:ext cx="265752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9" dur="2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8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"/>
          <p:cNvPicPr/>
          <p:nvPr/>
        </p:nvPicPr>
        <p:blipFill>
          <a:blip r:embed="rId1"/>
          <a:srcRect l="0" t="0" r="38462" b="0"/>
          <a:stretch/>
        </p:blipFill>
        <p:spPr>
          <a:xfrm>
            <a:off x="285840" y="357120"/>
            <a:ext cx="8351640" cy="48531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2"/>
          <a:srcRect l="61244" t="0" r="2726" b="0"/>
          <a:stretch/>
        </p:blipFill>
        <p:spPr>
          <a:xfrm>
            <a:off x="5076720" y="2855880"/>
            <a:ext cx="381636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116000" y="549360"/>
            <a:ext cx="7848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Garamond"/>
              </a:rPr>
              <a:t>Человека, умеющего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Garamond"/>
              </a:rPr>
              <a:t>наблюдать и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Garamond"/>
              </a:rPr>
              <a:t>анализировать,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Garamond"/>
              </a:rPr>
              <a:t>обмануть невозможно.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Garamond"/>
              </a:rPr>
              <a:t>Его выводы будут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Garamond"/>
              </a:rPr>
              <a:t>безошибочны,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Garamond"/>
              </a:rPr>
              <a:t>как теорема Эвклида.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i="1" lang="ru-RU" sz="5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i="1" lang="ru-RU" sz="5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ru-RU" sz="5400" spc="-1" strike="noStrike">
                <a:solidFill>
                  <a:srgbClr val="000000"/>
                </a:solidFill>
                <a:latin typeface="Garamond"/>
              </a:rPr>
              <a:t>Артур Конан Дойл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1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56880" y="274680"/>
            <a:ext cx="7729560" cy="530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ылинка, имевшая отрица-тельный заряд –10 е, при освещении приобрела четыре электрона. Каким стал заряд пылинки?</a:t>
            </a: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1) 6 е</a:t>
            </a: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2) – 6 е</a:t>
            </a:r>
            <a:br>
              <a:rPr sz="3600"/>
            </a:b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	</a:t>
            </a:r>
            <a:br>
              <a:rPr sz="3600"/>
            </a:b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3) 14 е</a:t>
            </a: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Прямоугольник 2"/>
          <p:cNvSpPr/>
          <p:nvPr/>
        </p:nvSpPr>
        <p:spPr>
          <a:xfrm>
            <a:off x="5645520" y="488952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Verdana"/>
              </a:rPr>
              <a:t>4) – 14 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8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0000" y="907560"/>
            <a:ext cx="77104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Arial Narrow"/>
              </a:rPr>
              <a:t>IV. </a:t>
            </a:r>
            <a:r>
              <a:rPr b="1" lang="ru-RU" sz="8000" spc="-1" strike="noStrike">
                <a:solidFill>
                  <a:srgbClr val="cc0000"/>
                </a:solidFill>
                <a:latin typeface="Arial Narrow"/>
              </a:rPr>
              <a:t>Практики</a:t>
            </a:r>
            <a:endParaRPr b="0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Прямоугольник 2"/>
          <p:cNvSpPr/>
          <p:nvPr/>
        </p:nvSpPr>
        <p:spPr>
          <a:xfrm>
            <a:off x="2008080" y="3105000"/>
            <a:ext cx="54673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8080"/>
                </a:solidFill>
                <a:latin typeface="Verdana"/>
              </a:rPr>
              <a:t>Проверка 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8080"/>
                </a:solidFill>
                <a:latin typeface="Verdana"/>
              </a:rPr>
              <a:t>домашнего 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8080"/>
                </a:solidFill>
                <a:latin typeface="Verdana"/>
              </a:rPr>
              <a:t>задания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98240" y="325440"/>
            <a:ext cx="864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а №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 заряд 4*1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7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л в некоторой точке электрического поля действует сила 0,015 Н. Определите напряженность поля в этой точк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а №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 расстоянии 3 см от заряда 4 нКл, находящегося в жидком диэлектрике, напряженность поля равна 20 кВ/м. Какова диэлектрическая проницаемость диэлектрика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а №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пряжение между двумя горизонтально расположенными пластинами 600 В. В поле этих пластин висит заряженная пылинка массой 3*1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8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. Расстояние между пластинами равно 10 см. Найти заряд пылин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а №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онденсатор емкостью 1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8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кФ соединили с источником тока, в результате чего он приобрел заряд 1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8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л. Определите напряженность поля между пластинами конденсатора, если расстояние между ними 3 м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1304640"/>
            <a:ext cx="7561440" cy="26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6666"/>
                </a:solidFill>
                <a:latin typeface="Arial"/>
              </a:rPr>
              <a:t>Отвечай быстро</a:t>
            </a:r>
            <a:endParaRPr b="0" lang="en-US" sz="9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Arial"/>
              </a:rPr>
              <a:t>Решение задач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03280" y="1827360"/>
            <a:ext cx="831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. Два одинаковых маленьких шарика, обладающих зарядами 6*10</a:t>
            </a:r>
            <a:r>
              <a:rPr b="0" lang="ru-RU" sz="2900" spc="-1" strike="noStrike" baseline="30000">
                <a:solidFill>
                  <a:srgbClr val="000000"/>
                </a:solidFill>
                <a:latin typeface="Verdana"/>
              </a:rPr>
              <a:t>-6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Кл и 12*10</a:t>
            </a:r>
            <a:r>
              <a:rPr b="0" lang="ru-RU" sz="2900" spc="-1" strike="noStrike" baseline="30000">
                <a:solidFill>
                  <a:srgbClr val="000000"/>
                </a:solidFill>
                <a:latin typeface="Verdana"/>
              </a:rPr>
              <a:t>-5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Кл, находятся на расстоянии 50 см друг от друга. Определить, силу взаимодействия между ними после того как их привели в соприкосновение и затем разъединил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03280" y="182736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вигаясь между двумя точками в электрическом поле, заряженная частица приобрела скорость 3*10</a:t>
            </a:r>
            <a:r>
              <a:rPr b="0" lang="ru-RU" sz="29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м/с, её заряд равен 1,6*10</a:t>
            </a:r>
            <a:r>
              <a:rPr b="0" lang="ru-RU" sz="2900" spc="-1" strike="noStrike" baseline="30000">
                <a:solidFill>
                  <a:srgbClr val="000000"/>
                </a:solidFill>
                <a:latin typeface="Verdana"/>
              </a:rPr>
              <a:t>-19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Кл, а масса 9,1*10</a:t>
            </a:r>
            <a:r>
              <a:rPr b="0" lang="ru-RU" sz="2900" spc="-1" strike="noStrike" baseline="30000">
                <a:solidFill>
                  <a:srgbClr val="000000"/>
                </a:solidFill>
                <a:latin typeface="Verdana"/>
              </a:rPr>
              <a:t>-31         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г. Чему равно напряжение между точками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31640" y="1827360"/>
            <a:ext cx="8251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Электрон в результате фотоэффекта покидает заземленную пластину (φ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=0) и последовательно пролетает через две сетки с потенциалом 100 В и потенциалом 200 В. Найти скорости электрона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791640" y="1827360"/>
            <a:ext cx="8101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а двух противоположных стенках квадрата со стороной 30 см находятся два разноименных заряда , модули зарядов которых 9 Кл. Найти напряженность электрического поля в двух вершинах квадрат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8360" y="152064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Arial"/>
              </a:rPr>
              <a:t>Физический диктант</a:t>
            </a:r>
            <a:br>
              <a:rPr sz="5400"/>
            </a:br>
            <a:r>
              <a:rPr b="0" lang="ru-RU" sz="5400" spc="-1" strike="noStrike">
                <a:solidFill>
                  <a:srgbClr val="006666"/>
                </a:solidFill>
                <a:latin typeface="Arial"/>
              </a:rPr>
              <a:t> </a:t>
            </a:r>
            <a:br>
              <a:rPr sz="5400"/>
            </a:b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000"/>
            <a:ext cx="731340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О чем вели речь на уроке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 понятиях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 величинах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 единицах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 формулах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91640" y="1827360"/>
            <a:ext cx="7891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дготовьте ответ на вопрос: в чем сходство и различие закона Кулона и Закона всемирного тяготения? Для выполнения задания сравните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а) форму записи законов (математическое выражение закона); б)  условия применимости законов; г) природу сил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10480" cy="266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0000"/>
                </a:solidFill>
                <a:latin typeface="Arial Narrow"/>
              </a:rPr>
              <a:t>Физические величины</a:t>
            </a:r>
            <a:endParaRPr b="0" lang="en-US" sz="8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2743200"/>
            <a:ext cx="885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lnSpc>
                <a:spcPct val="10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aramond"/>
              </a:rPr>
              <a:t>Человек не может изменить законы природы: эти попытки обречены на неудачу. Но он может </a:t>
            </a:r>
            <a:r>
              <a:rPr b="1" i="1" lang="ru-RU" sz="3600" spc="-1" strike="noStrike">
                <a:solidFill>
                  <a:srgbClr val="ff0000"/>
                </a:solidFill>
                <a:latin typeface="Garamond"/>
              </a:rPr>
              <a:t>познать их</a:t>
            </a:r>
            <a:r>
              <a:rPr b="1" i="1" lang="ru-RU" sz="3600" spc="-1" strike="noStrike">
                <a:solidFill>
                  <a:srgbClr val="000000"/>
                </a:solidFill>
                <a:latin typeface="Garamond"/>
              </a:rPr>
              <a:t>, а затем </a:t>
            </a:r>
            <a:r>
              <a:rPr b="1" i="1" lang="ru-RU" sz="3600" spc="-1" strike="noStrike">
                <a:solidFill>
                  <a:srgbClr val="ff0000"/>
                </a:solidFill>
                <a:latin typeface="Garamond"/>
              </a:rPr>
              <a:t>использовать</a:t>
            </a:r>
            <a:r>
              <a:rPr b="1" i="1" lang="ru-RU" sz="3600" spc="-1" strike="noStrike">
                <a:solidFill>
                  <a:srgbClr val="000000"/>
                </a:solidFill>
                <a:latin typeface="Garamond"/>
              </a:rPr>
              <a:t> себе во благо или учитывать в своей повседневной жизни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aramond"/>
              </a:rPr>
              <a:t>                                                 </a:t>
            </a:r>
            <a:r>
              <a:rPr b="0" i="1" lang="ru-RU" sz="3600" spc="-1" strike="noStrike">
                <a:solidFill>
                  <a:srgbClr val="000000"/>
                </a:solidFill>
                <a:latin typeface="Garamond"/>
              </a:rPr>
              <a:t>Кропотина М. Н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 algn="ctr">
              <a:lnSpc>
                <a:spcPct val="100000"/>
              </a:lnSpc>
              <a:spcBef>
                <a:spcPts val="11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 algn="ctr">
              <a:lnSpc>
                <a:spcPct val="100000"/>
              </a:lnSpc>
              <a:spcBef>
                <a:spcPts val="11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369800" y="1827360"/>
            <a:ext cx="7313400" cy="4114800"/>
          </a:xfrm>
          <a:prstGeom prst="rect">
            <a:avLst/>
          </a:prstGeom>
          <a:ln w="0">
            <a:noFill/>
          </a:ln>
        </p:spPr>
      </p:pic>
      <p:pic>
        <p:nvPicPr>
          <p:cNvPr id="177" name="Прямоугольник 3" descr=""/>
          <p:cNvPicPr/>
          <p:nvPr/>
        </p:nvPicPr>
        <p:blipFill>
          <a:blip r:embed="rId2"/>
          <a:stretch/>
        </p:blipFill>
        <p:spPr>
          <a:xfrm>
            <a:off x="79200" y="2766960"/>
            <a:ext cx="897912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980640"/>
            <a:ext cx="77104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Arial Narrow"/>
              </a:rPr>
              <a:t>Заряд</a:t>
            </a:r>
            <a:endParaRPr b="0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6920" y="3428640"/>
            <a:ext cx="72392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900" spc="-1" strike="noStrike">
                <a:solidFill>
                  <a:srgbClr val="cc0000"/>
                </a:solidFill>
                <a:latin typeface="Arial Narrow"/>
              </a:rPr>
              <a:t>q</a:t>
            </a:r>
            <a:r>
              <a:rPr b="1" lang="ru-RU" sz="8900" spc="-1" strike="noStrike">
                <a:solidFill>
                  <a:srgbClr val="cc0000"/>
                </a:solidFill>
                <a:latin typeface="Arial Narrow"/>
              </a:rPr>
              <a:t>, </a:t>
            </a:r>
            <a:r>
              <a:rPr b="1" lang="en-US" sz="8900" spc="-1" strike="noStrike">
                <a:solidFill>
                  <a:srgbClr val="cc0000"/>
                </a:solidFill>
                <a:latin typeface="Arial Narrow"/>
              </a:rPr>
              <a:t>[</a:t>
            </a:r>
            <a:r>
              <a:rPr b="1" lang="ru-RU" sz="8900" spc="-1" strike="noStrike">
                <a:solidFill>
                  <a:srgbClr val="cc0000"/>
                </a:solidFill>
                <a:latin typeface="Arial Narrow"/>
              </a:rPr>
              <a:t>Кл</a:t>
            </a:r>
            <a:r>
              <a:rPr b="1" lang="en-US" sz="8900" spc="-1" strike="noStrike">
                <a:solidFill>
                  <a:srgbClr val="cc0000"/>
                </a:solidFill>
                <a:latin typeface="Arial Narrow"/>
              </a:rPr>
              <a:t>]</a:t>
            </a:r>
            <a:endParaRPr b="0" lang="en-US" sz="8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2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900" spc="-1" strike="noStrike">
                <a:solidFill>
                  <a:srgbClr val="cc0000"/>
                </a:solidFill>
                <a:latin typeface="Arial Narrow"/>
              </a:rPr>
              <a:t>Кулон</a:t>
            </a:r>
            <a:endParaRPr b="0" lang="en-US" sz="8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7280" y="1196640"/>
            <a:ext cx="77104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Arial Narrow"/>
              </a:rPr>
              <a:t>Сила</a:t>
            </a:r>
            <a:endParaRPr b="0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186920" y="3428640"/>
            <a:ext cx="72392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2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900" spc="-1" strike="noStrike">
                <a:solidFill>
                  <a:srgbClr val="cc0000"/>
                </a:solidFill>
                <a:latin typeface="Arial Narrow"/>
              </a:rPr>
              <a:t>F</a:t>
            </a:r>
            <a:r>
              <a:rPr b="1" lang="ru-RU" sz="8900" spc="-1" strike="noStrike">
                <a:solidFill>
                  <a:srgbClr val="cc0000"/>
                </a:solidFill>
                <a:latin typeface="Arial Narrow"/>
              </a:rPr>
              <a:t>, </a:t>
            </a:r>
            <a:r>
              <a:rPr b="1" lang="en-US" sz="8900" spc="-1" strike="noStrike">
                <a:solidFill>
                  <a:srgbClr val="cc0000"/>
                </a:solidFill>
                <a:latin typeface="Arial Narrow"/>
              </a:rPr>
              <a:t>[</a:t>
            </a:r>
            <a:r>
              <a:rPr b="1" lang="ru-RU" sz="89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1" lang="en-US" sz="8900" spc="-1" strike="noStrike">
                <a:solidFill>
                  <a:srgbClr val="cc0000"/>
                </a:solidFill>
                <a:latin typeface="Arial Narrow"/>
              </a:rPr>
              <a:t>H</a:t>
            </a:r>
            <a:r>
              <a:rPr b="1" lang="ru-RU" sz="89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1" lang="en-US" sz="8900" spc="-1" strike="noStrike">
                <a:solidFill>
                  <a:srgbClr val="cc0000"/>
                </a:solidFill>
                <a:latin typeface="Arial Narrow"/>
              </a:rPr>
              <a:t>]</a:t>
            </a:r>
            <a:endParaRPr b="0" lang="en-US" sz="8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2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900" spc="-1" strike="noStrike">
                <a:solidFill>
                  <a:srgbClr val="cc0000"/>
                </a:solidFill>
                <a:latin typeface="Arial Narrow"/>
              </a:rPr>
              <a:t>Ньютон</a:t>
            </a:r>
            <a:endParaRPr b="0" lang="en-US" sz="8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87280" y="836280"/>
            <a:ext cx="77104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Arial Narrow"/>
              </a:rPr>
              <a:t>Напряженность</a:t>
            </a:r>
            <a:endParaRPr b="0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186920" y="3428640"/>
            <a:ext cx="72392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2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900" spc="-1" strike="noStrike">
                <a:solidFill>
                  <a:srgbClr val="cc0000"/>
                </a:solidFill>
                <a:latin typeface="Arial Narrow"/>
              </a:rPr>
              <a:t>Е, </a:t>
            </a:r>
            <a:r>
              <a:rPr b="1" lang="en-US" sz="8900" spc="-1" strike="noStrike">
                <a:solidFill>
                  <a:srgbClr val="cc0000"/>
                </a:solidFill>
                <a:latin typeface="Arial Narrow"/>
              </a:rPr>
              <a:t>[</a:t>
            </a:r>
            <a:r>
              <a:rPr b="1" lang="ru-RU" sz="8900" spc="-1" strike="noStrike">
                <a:solidFill>
                  <a:srgbClr val="cc0000"/>
                </a:solidFill>
                <a:latin typeface="Arial Narrow"/>
              </a:rPr>
              <a:t> В/м </a:t>
            </a:r>
            <a:r>
              <a:rPr b="1" lang="en-US" sz="8900" spc="-1" strike="noStrike">
                <a:solidFill>
                  <a:srgbClr val="cc0000"/>
                </a:solidFill>
                <a:latin typeface="Arial Narrow"/>
              </a:rPr>
              <a:t>]</a:t>
            </a:r>
            <a:endParaRPr b="0" lang="en-US" sz="8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2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900" spc="-1" strike="noStrike">
                <a:solidFill>
                  <a:srgbClr val="cc0000"/>
                </a:solidFill>
                <a:latin typeface="Arial Narrow"/>
              </a:rPr>
              <a:t>Вольт на метр</a:t>
            </a:r>
            <a:endParaRPr b="0" lang="en-US" sz="8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5280" y="1196640"/>
            <a:ext cx="814212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Arial Narrow"/>
              </a:rPr>
              <a:t>Диэлектрическая проницаемость </a:t>
            </a:r>
            <a:endParaRPr b="0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86920" y="3428640"/>
            <a:ext cx="72392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8900" spc="-1" strike="noStrike">
                <a:solidFill>
                  <a:srgbClr val="cc0000"/>
                </a:solidFill>
                <a:latin typeface="Arial Narrow"/>
              </a:rPr>
              <a:t>ε</a:t>
            </a:r>
            <a:r>
              <a:rPr b="1" lang="ru-RU" sz="8100" spc="-1" strike="noStrike">
                <a:solidFill>
                  <a:srgbClr val="cc0000"/>
                </a:solidFill>
                <a:latin typeface="Arial Narrow"/>
              </a:rPr>
              <a:t>, </a:t>
            </a:r>
            <a:r>
              <a:rPr b="1" lang="en-US" sz="8100" spc="-1" strike="noStrike">
                <a:solidFill>
                  <a:srgbClr val="cc0000"/>
                </a:solidFill>
                <a:latin typeface="Arial Narrow"/>
              </a:rPr>
              <a:t>[</a:t>
            </a:r>
            <a:r>
              <a:rPr b="1" lang="ru-RU" sz="8100" spc="-1" strike="noStrike">
                <a:solidFill>
                  <a:srgbClr val="cc0000"/>
                </a:solidFill>
                <a:latin typeface="Arial Narrow"/>
              </a:rPr>
              <a:t> 1 </a:t>
            </a:r>
            <a:r>
              <a:rPr b="1" lang="en-US" sz="8100" spc="-1" strike="noStrike">
                <a:solidFill>
                  <a:srgbClr val="cc0000"/>
                </a:solidFill>
                <a:latin typeface="Arial Narrow"/>
              </a:rPr>
              <a:t>]</a:t>
            </a:r>
            <a:endParaRPr b="0" lang="en-US" sz="81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7280" y="907560"/>
            <a:ext cx="77104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66"/>
                </a:solidFill>
                <a:latin typeface="Arial Narrow"/>
              </a:rPr>
              <a:t>Работа</a:t>
            </a:r>
            <a:endParaRPr b="0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186920" y="3428640"/>
            <a:ext cx="72392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2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900" spc="-1" strike="noStrike">
                <a:solidFill>
                  <a:srgbClr val="cc0000"/>
                </a:solidFill>
                <a:latin typeface="Arial Narrow"/>
              </a:rPr>
              <a:t>А, </a:t>
            </a:r>
            <a:r>
              <a:rPr b="1" lang="en-US" sz="8900" spc="-1" strike="noStrike">
                <a:solidFill>
                  <a:srgbClr val="cc0000"/>
                </a:solidFill>
                <a:latin typeface="Arial Narrow"/>
              </a:rPr>
              <a:t>[</a:t>
            </a:r>
            <a:r>
              <a:rPr b="1" lang="ru-RU" sz="8900" spc="-1" strike="noStrike">
                <a:solidFill>
                  <a:srgbClr val="cc0000"/>
                </a:solidFill>
                <a:latin typeface="Arial Narrow"/>
              </a:rPr>
              <a:t> Дж </a:t>
            </a:r>
            <a:r>
              <a:rPr b="1" lang="en-US" sz="8900" spc="-1" strike="noStrike">
                <a:solidFill>
                  <a:srgbClr val="cc0000"/>
                </a:solidFill>
                <a:latin typeface="Arial Narrow"/>
              </a:rPr>
              <a:t>]</a:t>
            </a:r>
            <a:endParaRPr b="0" lang="en-US" sz="8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2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900" spc="-1" strike="noStrike">
                <a:solidFill>
                  <a:srgbClr val="cc0000"/>
                </a:solidFill>
                <a:latin typeface="Arial Narrow"/>
              </a:rPr>
              <a:t>Джоуль</a:t>
            </a:r>
            <a:endParaRPr b="0" lang="en-US" sz="8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9T11:17:17Z</dcterms:created>
  <dc:creator>User</dc:creator>
  <dc:description/>
  <dc:language>en-US</dc:language>
  <cp:lastModifiedBy>admin</cp:lastModifiedBy>
  <dcterms:modified xsi:type="dcterms:W3CDTF">2014-03-20T04:32:59Z</dcterms:modified>
  <cp:revision>72</cp:revision>
  <dc:subject/>
  <dc:title>Слайд 1</dc:title>
</cp:coreProperties>
</file>