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7DF2-4EFB-446E-AFD2-A1500EAF0E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D644-ADBD-4BF0-929C-15F5781A6B5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1066-D217-483C-8DFE-3158E8F8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0585-0744-445F-B455-9397CA7B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CC6C-9D0C-4686-8B91-637855E4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AFEA-5DF2-489A-AE90-B1A8ADDE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7714-C2B6-45B8-B6A1-8110232E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C2BB-F6FC-48E0-8468-26FB9EC7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44D9-5841-484B-82C4-30D1FE55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9827-63FD-42D7-A30E-21248B0E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02E5-9EAC-4853-8DCB-DA38D752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5758-50E2-4143-92CE-9FF67CEF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743F-46EB-4BCF-8921-142437BA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C31-512A-474C-A7CA-19879553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D1A3-66CE-4340-9E6C-A89F78F0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8514-FF83-41B8-BCC4-9C40BFBA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1497-1FCD-479A-93CC-8B2DC09D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479E-F756-4EEA-B667-C13DB7BF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2E5E-C10C-4555-AB80-3CE96816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3BD4-1ADB-4488-A049-A547FC04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C5E0-BDC6-4D18-B4AA-83BF9288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AE10-AF69-4349-B331-AF4C6199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F86B-4E3A-4225-8939-B3ED4314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7093-579E-4B60-BED9-A69E343A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E2B2-1F26-4E94-B62B-ABAF0E88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ACA4-8A75-49DD-848F-426FB0C0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8F09-F927-4A86-8837-07D4501337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417D-69FF-43DA-BA32-850762EEDB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1058;&#1072;&#1073;&#1083;&#1080;&#1094;&#1072;%20&#1088;&#1077;&#1079;&#1091;&#1083;&#1100;&#1090;&#1072;&#1090;&#1086;&#1074;.xls" TargetMode="External"/><Relationship Id="rId2" Type="http://schemas.openxmlformats.org/officeDocument/2006/relationships/hyperlink" Target="file:///&#1058;&#1072;&#1073;&#1083;&#1080;&#1094;&#1072;%20&#1088;&#1077;&#1079;&#1091;&#1083;&#1100;&#1090;&#1072;&#1090;&#1086;&#1074;.xls" TargetMode="External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7280" y="1196640"/>
            <a:ext cx="77104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00"/>
                </a:solidFill>
                <a:latin typeface="Arial Narrow"/>
              </a:rPr>
              <a:t>Электростатика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94920" y="2744280"/>
            <a:ext cx="7239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 Narrow"/>
              </a:rPr>
              <a:t>(повторение)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751040" y="4941720"/>
            <a:ext cx="611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атериал подготовил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читель физики МОКУ СОШ № 2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ропотина Марина Николаев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914400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Arial Narrow"/>
              </a:rPr>
              <a:t>Напряжение, </a:t>
            </a:r>
            <a:br>
              <a:rPr sz="8000"/>
            </a:br>
            <a:r>
              <a:rPr b="1" lang="ru-RU" sz="7200" spc="-1" strike="noStrike">
                <a:solidFill>
                  <a:srgbClr val="ffffff"/>
                </a:solidFill>
                <a:latin typeface="Arial Narrow"/>
              </a:rPr>
              <a:t>р</a:t>
            </a:r>
            <a:r>
              <a:rPr b="1" lang="ru-RU" sz="7200" spc="-1" strike="noStrike">
                <a:solidFill>
                  <a:srgbClr val="006666"/>
                </a:solidFill>
                <a:latin typeface="Arial Narrow"/>
              </a:rPr>
              <a:t>азность потенциалов</a:t>
            </a:r>
            <a:endParaRPr b="0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86920" y="3428640"/>
            <a:ext cx="72392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U</a:t>
            </a: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,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[</a:t>
            </a: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 В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]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Вольт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907560"/>
            <a:ext cx="77104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Arial Narrow"/>
              </a:rPr>
              <a:t>Энергия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86920" y="3428640"/>
            <a:ext cx="72392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W</a:t>
            </a: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,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[</a:t>
            </a: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 Дж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]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Джоуль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92980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Arial Narrow"/>
              </a:rPr>
              <a:t>Мощность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186920" y="3428640"/>
            <a:ext cx="72392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Р,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[</a:t>
            </a: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 Вт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]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Ватт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7280" y="692280"/>
            <a:ext cx="7710480" cy="144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Arial Narrow"/>
              </a:rPr>
              <a:t>Потенциал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86920" y="3428640"/>
            <a:ext cx="72392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φ</a:t>
            </a: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,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[</a:t>
            </a: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 В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]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Вольт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7280" y="1196640"/>
            <a:ext cx="77104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Arial Narrow"/>
              </a:rPr>
              <a:t>Электрическая ёмкость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6920" y="3428640"/>
            <a:ext cx="72392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С,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[</a:t>
            </a: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 Ф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]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Фарад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7280" y="1196640"/>
            <a:ext cx="77104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6666"/>
                </a:solidFill>
                <a:uFillTx/>
                <a:latin typeface="Arial Narrow"/>
                <a:hlinkClick r:id="rId1"/>
              </a:rPr>
              <a:t>I</a:t>
            </a:r>
            <a:r>
              <a:rPr b="0" lang="ru-RU" sz="8000" spc="-1" strike="noStrike" u="sng">
                <a:solidFill>
                  <a:srgbClr val="006666"/>
                </a:solidFill>
                <a:uFillTx/>
                <a:latin typeface="Arial Narrow"/>
                <a:hlinkClick r:id="rId2"/>
              </a:rPr>
              <a:t>. </a:t>
            </a:r>
            <a:r>
              <a:rPr b="1" lang="ru-RU" sz="8000" spc="-1" strike="noStrike">
                <a:solidFill>
                  <a:srgbClr val="c00000"/>
                </a:solidFill>
                <a:latin typeface="Arial Narrow"/>
              </a:rPr>
              <a:t>Орешек знаний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04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Arial Narrow"/>
              </a:rPr>
              <a:t>Орешек  № 1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26560" y="1521000"/>
            <a:ext cx="85647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то называют электростатикой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 взаимодействуют одноименные и разноименные электрические заряды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овите свойства электрического заряд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формулируйте и запишите закон сохранения электрического заряда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ube033i"/>
          <p:cNvPicPr/>
          <p:nvPr/>
        </p:nvPicPr>
        <p:blipFill>
          <a:blip r:embed="rId1"/>
          <a:stretch/>
        </p:blipFill>
        <p:spPr>
          <a:xfrm>
            <a:off x="2735280" y="1233360"/>
            <a:ext cx="3435480" cy="4184640"/>
          </a:xfrm>
          <a:prstGeom prst="rect">
            <a:avLst/>
          </a:prstGeom>
          <a:ln w="5724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748720" cy="123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66"/>
                </a:solidFill>
                <a:latin typeface="Arial Narrow"/>
              </a:rPr>
              <a:t>Шарль Огюстен Кулон</a:t>
            </a:r>
            <a:endParaRPr b="0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79280" y="5381280"/>
            <a:ext cx="874872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526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 Narrow"/>
              </a:rPr>
              <a:t>Учёный, измеривший силу взаимодействия зарядов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04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Arial Narrow"/>
              </a:rPr>
              <a:t>Орешек  № 2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26560" y="1628640"/>
            <a:ext cx="831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 формулируют и записывают закон Кулона для взаимодействия заряд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му равен коэффициент пропорциональности в законе Кулон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му равна электрическая постоянная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ово значение заряда и массы электрон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7104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Arial Narrow"/>
              </a:rPr>
              <a:t>Орешек  № 3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066320" y="1196640"/>
            <a:ext cx="80773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то такое электрическое поле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овите основные свойства электрического пол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то называют напряженностью электрического поля? Какая формула выражает суть этого понятия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му равна напряженность электрического поля точечного заряд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104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00"/>
                </a:solidFill>
                <a:latin typeface="Arial Narrow"/>
              </a:rPr>
              <a:t>Цель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10920" y="2997000"/>
            <a:ext cx="8172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Arial Narrow"/>
              </a:rPr>
              <a:t>   </a:t>
            </a:r>
            <a:r>
              <a:rPr b="1" lang="ru-RU" sz="5400" spc="-1" strike="noStrike">
                <a:solidFill>
                  <a:srgbClr val="006666"/>
                </a:solidFill>
                <a:latin typeface="Arial Narrow"/>
              </a:rPr>
              <a:t>Повторить и обобщить</a:t>
            </a:r>
            <a:br>
              <a:rPr sz="5400"/>
            </a:br>
            <a:r>
              <a:rPr b="1" lang="ru-RU" sz="5400" spc="-1" strike="noStrike">
                <a:solidFill>
                  <a:srgbClr val="006666"/>
                </a:solidFill>
                <a:latin typeface="Arial Narrow"/>
              </a:rPr>
              <a:t>   тему «Электростатика»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7104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Arial Narrow"/>
              </a:rPr>
              <a:t>Орешек  № 4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68000" y="1160280"/>
            <a:ext cx="9217080" cy="54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вещества называются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водникам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кие вещества называют диэлектриками? Назовите виды диэлектрик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шите формулы работы по перемещению заряда в электрическом пол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то называют потенциалом электростатического поля? Какая формула выражает смысл этого понятия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7104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Arial Narrow"/>
              </a:rPr>
              <a:t>Орешек  № 5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47440" y="1197000"/>
            <a:ext cx="8507160" cy="54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то называют электроемкостью уединенного проводника? Какая формула выражает смысл этого понятия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то называют конденсатором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шите формулы электроемкости плоского конденсатор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то называют энергией электрического поля? Формул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104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Arial Narrow"/>
              </a:rPr>
              <a:t>II</a:t>
            </a:r>
            <a:r>
              <a:rPr b="1" lang="ru-RU" sz="8000" spc="-1" strike="noStrike">
                <a:solidFill>
                  <a:srgbClr val="cc0000"/>
                </a:solidFill>
                <a:latin typeface="Arial Narrow"/>
              </a:rPr>
              <a:t>. Теоретики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182736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8080"/>
                </a:solidFill>
                <a:latin typeface="Verdana"/>
              </a:rPr>
              <a:t>Работа с     таблицей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26920" y="368280"/>
          <a:ext cx="7856640" cy="5975280"/>
        </p:xfrm>
        <a:graphic>
          <a:graphicData uri="http://schemas.openxmlformats.org/drawingml/2006/table">
            <a:tbl>
              <a:tblPr/>
              <a:tblGrid>
                <a:gridCol w="3349800"/>
                <a:gridCol w="2266920"/>
                <a:gridCol w="2239920"/>
              </a:tblGrid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изическая 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о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диницы изме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лектрический за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электрическая проницаемость ве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ж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/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тенци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ность потенци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Δ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лектроемк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нергия электрического п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"Найди ошибку"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10720" y="1603440"/>
            <a:ext cx="783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сновной закон электростатики открыл Ломоносо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инимальный заряд, существующий в природе, это заряд нейтрон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пряженность электрического поля – количественная характеристика пол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сновное применение конденсаторов – радиотехника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30320" y="982800"/>
            <a:ext cx="7710480" cy="144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 Narrow"/>
              </a:rPr>
              <a:t>III. </a:t>
            </a:r>
            <a:r>
              <a:rPr b="1" lang="ru-RU" sz="7200" spc="-1" strike="noStrike">
                <a:solidFill>
                  <a:srgbClr val="cc0000"/>
                </a:solidFill>
                <a:latin typeface="Arial Narrow"/>
              </a:rPr>
              <a:t>Вопросы в картинках</a:t>
            </a:r>
            <a:endParaRPr b="0" lang="en-US" sz="7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188640"/>
            <a:ext cx="8259840" cy="36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бесконечной горизонтальной отрицательно заряженной плоскости  привязана невесомая нить с шариком, имеющим положительный заряд. Каково условие равновесия шарика, есл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 –  модуль силы тяжести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 – модуль силы электростатического взаимодействия шарика с пластиной, Т – модуль силы натяжения нити ?                 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3933360"/>
            <a:ext cx="446400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Verdana"/>
              </a:rPr>
              <a:t>1)</a:t>
            </a:r>
            <a:r>
              <a:rPr b="1" lang="ru-RU" sz="29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a50021"/>
                </a:solidFill>
                <a:latin typeface="Verdana"/>
              </a:rPr>
              <a:t>– mg – T + F</a:t>
            </a:r>
            <a:r>
              <a:rPr b="1" lang="ru-RU" sz="2900" spc="-1" strike="noStrike">
                <a:solidFill>
                  <a:srgbClr val="a50021"/>
                </a:solidFill>
                <a:latin typeface="Verdana"/>
              </a:rPr>
              <a:t>э</a:t>
            </a:r>
            <a:r>
              <a:rPr b="1" lang="en-US" sz="2900" spc="-1" strike="noStrike">
                <a:solidFill>
                  <a:srgbClr val="a50021"/>
                </a:solidFill>
                <a:latin typeface="Verdana"/>
              </a:rPr>
              <a:t> = 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Verdana"/>
              </a:rPr>
              <a:t>2)</a:t>
            </a:r>
            <a:r>
              <a:rPr b="1" lang="ru-RU" sz="29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a50021"/>
                </a:solidFill>
                <a:latin typeface="Verdana"/>
              </a:rPr>
              <a:t>mg + T + F</a:t>
            </a:r>
            <a:r>
              <a:rPr b="1" lang="ru-RU" sz="2900" spc="-1" strike="noStrike">
                <a:solidFill>
                  <a:srgbClr val="a50021"/>
                </a:solidFill>
                <a:latin typeface="Verdana"/>
              </a:rPr>
              <a:t>э</a:t>
            </a:r>
            <a:r>
              <a:rPr b="1" lang="en-US" sz="2900" spc="-1" strike="noStrike">
                <a:solidFill>
                  <a:srgbClr val="a50021"/>
                </a:solidFill>
                <a:latin typeface="Verdana"/>
              </a:rPr>
              <a:t> = 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Verdana"/>
              </a:rPr>
              <a:t>3)</a:t>
            </a:r>
            <a:r>
              <a:rPr b="1" lang="ru-RU" sz="29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a50021"/>
                </a:solidFill>
                <a:latin typeface="Verdana"/>
              </a:rPr>
              <a:t>mg – T + F</a:t>
            </a:r>
            <a:r>
              <a:rPr b="1" lang="ru-RU" sz="2900" spc="-1" strike="noStrike">
                <a:solidFill>
                  <a:srgbClr val="a50021"/>
                </a:solidFill>
                <a:latin typeface="Verdana"/>
              </a:rPr>
              <a:t>э</a:t>
            </a:r>
            <a:r>
              <a:rPr b="1" lang="en-US" sz="2900" spc="-1" strike="noStrike">
                <a:solidFill>
                  <a:srgbClr val="a50021"/>
                </a:solidFill>
                <a:latin typeface="Verdana"/>
              </a:rPr>
              <a:t> = 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Verdana"/>
              </a:rPr>
              <a:t>4)</a:t>
            </a:r>
            <a:r>
              <a:rPr b="1" lang="ru-RU" sz="29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a50021"/>
                </a:solidFill>
                <a:latin typeface="Verdana"/>
              </a:rPr>
              <a:t>mg – T – F</a:t>
            </a:r>
            <a:r>
              <a:rPr b="1" lang="ru-RU" sz="2900" spc="-1" strike="noStrike">
                <a:solidFill>
                  <a:srgbClr val="a50021"/>
                </a:solidFill>
                <a:latin typeface="Verdana"/>
              </a:rPr>
              <a:t>э</a:t>
            </a:r>
            <a:r>
              <a:rPr b="1" lang="en-US" sz="2900" spc="-1" strike="noStrike">
                <a:solidFill>
                  <a:srgbClr val="a50021"/>
                </a:solidFill>
                <a:latin typeface="Verdana"/>
              </a:rPr>
              <a:t> = 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Object 5"/>
          <p:cNvGraphicFramePr/>
          <p:nvPr/>
        </p:nvGraphicFramePr>
        <p:xfrm>
          <a:off x="5651640" y="3925800"/>
          <a:ext cx="2881080" cy="27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3925800"/>
                    <a:ext cx="288108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274680"/>
            <a:ext cx="8080560" cy="24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пыте ученик изучает взаимодействие неподвижных заряженных шариков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того чтобы определить знак заряд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рика, висящего на нити, необходимо знат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2923920"/>
            <a:ext cx="597672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5916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50021"/>
                </a:solidFill>
                <a:latin typeface="Verdana"/>
              </a:rPr>
              <a:t>1) длину нит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5916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50021"/>
                </a:solidFill>
                <a:latin typeface="Verdana"/>
              </a:rPr>
              <a:t>2) величину максимального угл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5916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50021"/>
                </a:solidFill>
                <a:latin typeface="Verdana"/>
              </a:rPr>
              <a:t>3) массу шарика на нит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5916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50021"/>
                </a:solidFill>
                <a:latin typeface="Verdana"/>
              </a:rPr>
              <a:t>4) знак заряда шарика, расположенного на</a:t>
            </a:r>
            <a:br>
              <a:rPr sz="3000"/>
            </a:br>
            <a:r>
              <a:rPr b="1" lang="ru-RU" sz="3000" spc="-1" strike="noStrike">
                <a:solidFill>
                  <a:srgbClr val="a50021"/>
                </a:solidFill>
                <a:latin typeface="Verdana"/>
              </a:rPr>
              <a:t>стойк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5916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6486480" y="2924280"/>
            <a:ext cx="26575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9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rcRect l="0" t="0" r="38462" b="0"/>
          <a:stretch/>
        </p:blipFill>
        <p:spPr>
          <a:xfrm>
            <a:off x="285840" y="357120"/>
            <a:ext cx="8351640" cy="4853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rcRect l="61244" t="0" r="2726" b="0"/>
          <a:stretch/>
        </p:blipFill>
        <p:spPr>
          <a:xfrm>
            <a:off x="5076720" y="2855880"/>
            <a:ext cx="38163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16000" y="549360"/>
            <a:ext cx="7848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Человека, умеющего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наблюдать и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анализировать,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обмануть невозможно.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Его выводы будут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безошибочны,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как теорема Эвклида.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ru-RU" sz="5400" spc="-1" strike="noStrike">
                <a:solidFill>
                  <a:srgbClr val="000000"/>
                </a:solidFill>
                <a:latin typeface="Garamond"/>
              </a:rPr>
              <a:t>Артур Конан Дойл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6880" y="274680"/>
            <a:ext cx="7729560" cy="530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ылинка, имевшая отрица-тельный заряд –10 е, при освещении приобрела четыре электрона. Каким стал заряд пылинки?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1) 6 е</a:t>
            </a: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2) – 6 е</a:t>
            </a: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	</a:t>
            </a: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3) 14 е</a:t>
            </a: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Прямоугольник 2"/>
          <p:cNvSpPr/>
          <p:nvPr/>
        </p:nvSpPr>
        <p:spPr>
          <a:xfrm>
            <a:off x="5645520" y="48895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Verdana"/>
              </a:rPr>
              <a:t>4) – 14 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104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Arial Narrow"/>
              </a:rPr>
              <a:t>IV. </a:t>
            </a:r>
            <a:r>
              <a:rPr b="1" lang="ru-RU" sz="8000" spc="-1" strike="noStrike">
                <a:solidFill>
                  <a:srgbClr val="cc0000"/>
                </a:solidFill>
                <a:latin typeface="Arial Narrow"/>
              </a:rPr>
              <a:t>Практики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2008080" y="3105000"/>
            <a:ext cx="54673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80"/>
                </a:solidFill>
                <a:latin typeface="Verdana"/>
              </a:rPr>
              <a:t>Проверка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80"/>
                </a:solidFill>
                <a:latin typeface="Verdana"/>
              </a:rPr>
              <a:t>домашнего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80"/>
                </a:solidFill>
                <a:latin typeface="Verdana"/>
              </a:rPr>
              <a:t>задания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98240" y="325440"/>
            <a:ext cx="864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№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 заряд 4*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 в некоторой точке электрического поля действует сила 0,015 Н. Определите напряженность поля в этой точ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№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 расстоянии 3 см от заряда 4 нКл, находящегося в жидком диэлектрике, напряженность поля равна 20 кВ/м. Какова диэлектрическая проницаемость диэлектрик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№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пряжение между двумя горизонтально расположенными пластинами 600 В. В поле этих пластин висит заряженная пылинка массой 3*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 Расстояние между пластинами равно 10 см. Найти заряд пылин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№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онденсатор емкостью 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кФ соединили с источником тока, в результате чего он приобрел заряд 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. Определите напряженность поля между пластинами конденсатора, если расстояние между ними 3 м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1304640"/>
            <a:ext cx="7561440" cy="26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6666"/>
                </a:solidFill>
                <a:latin typeface="Arial"/>
              </a:rPr>
              <a:t>Отвечай быстро</a:t>
            </a:r>
            <a:endParaRPr b="0" lang="en-US" sz="9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Решение задач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03280" y="1827360"/>
            <a:ext cx="83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. Два одинаковых маленьких шарика, обладающих зарядами 6*10</a:t>
            </a:r>
            <a:r>
              <a:rPr b="0" lang="ru-RU" sz="2900" spc="-1" strike="noStrike" baseline="30000">
                <a:solidFill>
                  <a:srgbClr val="000000"/>
                </a:solidFill>
                <a:latin typeface="Verdana"/>
              </a:rPr>
              <a:t>-6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Кл и 12*10</a:t>
            </a:r>
            <a:r>
              <a:rPr b="0" lang="ru-RU" sz="29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Кл, находятся на расстоянии 50 см друг от друга. Определить, силу взаимодействия между ними после того как их привели в соприкосновение и затем разъединил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03280" y="1827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вигаясь между двумя точками в электрическом поле, заряженная частица приобрела скорость 3*10</a:t>
            </a:r>
            <a:r>
              <a:rPr b="0" lang="ru-RU" sz="29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м/с, её заряд равен 1,6*10</a:t>
            </a:r>
            <a:r>
              <a:rPr b="0" lang="ru-RU" sz="2900" spc="-1" strike="noStrike" baseline="30000">
                <a:solidFill>
                  <a:srgbClr val="000000"/>
                </a:solidFill>
                <a:latin typeface="Verdana"/>
              </a:rPr>
              <a:t>-19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Кл, а масса 9,1*10</a:t>
            </a:r>
            <a:r>
              <a:rPr b="0" lang="ru-RU" sz="2900" spc="-1" strike="noStrike" baseline="30000">
                <a:solidFill>
                  <a:srgbClr val="000000"/>
                </a:solidFill>
                <a:latin typeface="Verdana"/>
              </a:rPr>
              <a:t>-31       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г. Чему равно напряжение между точками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31640" y="1827360"/>
            <a:ext cx="825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лектрон в результате фотоэффекта покидает заземленную пластину (φ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=0) и последовательно пролетает через две сетки с потенциалом 100 В и потенциалом 200 В. Найти скорости электрона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91640" y="182736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 двух противоположных стенках квадрата со стороной 30 см находятся два разноименных заряда , модули зарядов которых 9 Кл. Найти напряженность электрического поля в двух вершинах квадрат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8360" y="15206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Arial"/>
              </a:rPr>
              <a:t>Физический диктант</a:t>
            </a:r>
            <a:br>
              <a:rPr sz="5400"/>
            </a:br>
            <a:r>
              <a:rPr b="0" lang="ru-RU" sz="5400" spc="-1" strike="noStrike">
                <a:solidFill>
                  <a:srgbClr val="006666"/>
                </a:solidFill>
                <a:latin typeface="Arial"/>
              </a:rPr>
              <a:t> </a:t>
            </a:r>
            <a:br>
              <a:rPr sz="5400"/>
            </a:b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000"/>
            <a:ext cx="73134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О чем вели речь на уроке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 понятия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 величина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 единица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 формула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91640" y="1827360"/>
            <a:ext cx="789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дготовьте ответ на вопрос: в чем сходство и различие закона Кулона и Закона всемирного тяготения? Для выполнения задания сравните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) форму записи законов (математическое выражение закона); б)  условия применимости законов; г) природу си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10480" cy="266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00"/>
                </a:solidFill>
                <a:latin typeface="Arial Narrow"/>
              </a:rPr>
              <a:t>Физические величины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2743200"/>
            <a:ext cx="885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Человек не может изменить законы природы: эти попытки обречены на неудачу. Но он может </a:t>
            </a:r>
            <a:r>
              <a:rPr b="1" i="1" lang="ru-RU" sz="3600" spc="-1" strike="noStrike">
                <a:solidFill>
                  <a:srgbClr val="ff0000"/>
                </a:solidFill>
                <a:latin typeface="Garamond"/>
              </a:rPr>
              <a:t>познать их</a:t>
            </a: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, а затем </a:t>
            </a:r>
            <a:r>
              <a:rPr b="1" i="1" lang="ru-RU" sz="3600" spc="-1" strike="noStrike">
                <a:solidFill>
                  <a:srgbClr val="ff0000"/>
                </a:solidFill>
                <a:latin typeface="Garamond"/>
              </a:rPr>
              <a:t>использовать</a:t>
            </a: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 себе во благо или учитывать в своей повседневной жизни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                                   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Garamond"/>
              </a:rPr>
              <a:t>Кропотина М. Н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 algn="ctr">
              <a:lnSpc>
                <a:spcPct val="100000"/>
              </a:lnSpc>
              <a:spcBef>
                <a:spcPts val="11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 algn="ctr">
              <a:lnSpc>
                <a:spcPct val="100000"/>
              </a:lnSpc>
              <a:spcBef>
                <a:spcPts val="11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3" descr=""/>
          <p:cNvPicPr/>
          <p:nvPr/>
        </p:nvPicPr>
        <p:blipFill>
          <a:blip r:embed="rId2"/>
          <a:stretch/>
        </p:blipFill>
        <p:spPr>
          <a:xfrm>
            <a:off x="79200" y="2766960"/>
            <a:ext cx="897912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980640"/>
            <a:ext cx="77104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Arial Narrow"/>
              </a:rPr>
              <a:t>Заряд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6920" y="3428640"/>
            <a:ext cx="72392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q</a:t>
            </a: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,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[</a:t>
            </a: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Кл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]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Кулон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7280" y="1196640"/>
            <a:ext cx="77104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Arial Narrow"/>
              </a:rPr>
              <a:t>Сила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86920" y="3428640"/>
            <a:ext cx="72392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F</a:t>
            </a: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,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[</a:t>
            </a: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H</a:t>
            </a: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]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Ньютон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7104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Arial Narrow"/>
              </a:rPr>
              <a:t>Напряженность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6920" y="3428640"/>
            <a:ext cx="72392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Е,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[</a:t>
            </a: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 В/м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]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Вольт на метр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1196640"/>
            <a:ext cx="8142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Arial Narrow"/>
              </a:rPr>
              <a:t>Диэлектрическая проницаемость 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86920" y="3428640"/>
            <a:ext cx="72392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900" spc="-1" strike="noStrike">
                <a:solidFill>
                  <a:srgbClr val="cc0000"/>
                </a:solidFill>
                <a:latin typeface="Arial Narrow"/>
              </a:rPr>
              <a:t>ε</a:t>
            </a:r>
            <a:r>
              <a:rPr b="1" lang="ru-RU" sz="8100" spc="-1" strike="noStrike">
                <a:solidFill>
                  <a:srgbClr val="cc0000"/>
                </a:solidFill>
                <a:latin typeface="Arial Narrow"/>
              </a:rPr>
              <a:t>, </a:t>
            </a:r>
            <a:r>
              <a:rPr b="1" lang="en-US" sz="8100" spc="-1" strike="noStrike">
                <a:solidFill>
                  <a:srgbClr val="cc0000"/>
                </a:solidFill>
                <a:latin typeface="Arial Narrow"/>
              </a:rPr>
              <a:t>[</a:t>
            </a:r>
            <a:r>
              <a:rPr b="1" lang="ru-RU" sz="8100" spc="-1" strike="noStrike">
                <a:solidFill>
                  <a:srgbClr val="cc0000"/>
                </a:solidFill>
                <a:latin typeface="Arial Narrow"/>
              </a:rPr>
              <a:t> 1 </a:t>
            </a:r>
            <a:r>
              <a:rPr b="1" lang="en-US" sz="8100" spc="-1" strike="noStrike">
                <a:solidFill>
                  <a:srgbClr val="cc0000"/>
                </a:solidFill>
                <a:latin typeface="Arial Narrow"/>
              </a:rPr>
              <a:t>]</a:t>
            </a:r>
            <a:endParaRPr b="0" lang="en-US" sz="8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907560"/>
            <a:ext cx="77104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Arial Narrow"/>
              </a:rPr>
              <a:t>Работа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186920" y="3428640"/>
            <a:ext cx="72392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А,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[</a:t>
            </a: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 Дж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]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Джоуль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11:17:17Z</dcterms:created>
  <dc:creator>User</dc:creator>
  <dc:description/>
  <dc:language>en-US</dc:language>
  <cp:lastModifiedBy>admin</cp:lastModifiedBy>
  <dcterms:modified xsi:type="dcterms:W3CDTF">2014-03-20T04:32:59Z</dcterms:modified>
  <cp:revision>72</cp:revision>
  <dc:subject/>
  <dc:title>Слайд 1</dc:title>
</cp:coreProperties>
</file>