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92A1-724E-4802-AE03-7FB78716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D436-C86D-4E51-885B-CE9E0CED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E3AD-3E52-4874-A3FF-F2E1995B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C365-9215-4657-9535-1D44455A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88F5-CAD5-4F54-B8BE-6AA48A2A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659F-9EBC-4D9A-AFF3-97D6D6B2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72C3-5926-4475-8B97-3CEDECBA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2F21-87F0-435B-99B7-16F373B6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4397-81AC-4801-913C-A2CFB961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CAEE-27C0-4F36-AD99-BBC96F63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BC1C-D946-48CE-B40A-0214C47A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0E57-7551-4A47-840E-2A8D9B72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9E99-3EE6-4FE6-9FCE-2846D0C7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EE6E-FD64-4501-BAAF-6E1AB8B6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36D9-9FA0-4D92-AAE8-755B178E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6642-17F7-4012-A5F7-FFB6399D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0A76-5352-4F5D-AB67-B70B2851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2939-0C93-4E21-827D-01231A02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6A44-6824-4752-9246-37DF6F46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CC52-5754-49F1-92C4-28821D81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B905-6F1D-4373-8168-D95900B0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1DCA-90DF-420B-94DA-EA3F1A4B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BDB8-F9FA-44A5-A72E-5EC1E6A4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509B-03D6-4C82-8033-86454414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CE75-DBA4-420F-BA94-C9F3C2D3DEFA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F01B-E10E-47A8-9F0A-5A16ED6FA222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st.free-lance.ru/users/kira_art/upload/filekZN8Fi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hyperlink" Target="http://ru.wikipedia.org/" TargetMode="External"/><Relationship Id="rId7" Type="http://schemas.openxmlformats.org/officeDocument/2006/relationships/hyperlink" Target="http://ru.wikipedia.org/" TargetMode="External"/><Relationship Id="rId8" Type="http://schemas.openxmlformats.org/officeDocument/2006/relationships/hyperlink" Target="http://ru.wikipedia.org/" TargetMode="Externa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Маланья – голова баранья (1888)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95280" y="1484280"/>
            <a:ext cx="365436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Смерть стала вопрошать: «Как имя этой женщины?» А ей в ответ… «Любовь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Увидела это смерть и сказала: «Любовь не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умирает…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сновной художожественный прием –аллегория (греч. allegorein "говорить иначе") — иносказание, толкование заложенного в художественном произведении скрытого, тайного смысла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695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708000" y="980640"/>
            <a:ext cx="41036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Толковый словарь Ожегова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раведник – у верующих: человек, который живет праведной жизнью, не имеет грехов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Герои Лескова – праведники, чудаки, блаженные, необычайно одарённые русские люди, цельные по натуре и всегда готовые прийти на помощь другим, проявить чувство сострадания к обиженным. Лесков не выдумывал их, а находил в самой жизн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250920" y="907920"/>
            <a:ext cx="3384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227160"/>
            <a:ext cx="75168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Христианские предания и сказки Н.С. Лескова:</a:t>
            </a: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«Гора»,«Прекрасная Аза»,«Лев старца Герасима»      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627280" y="1341360"/>
            <a:ext cx="2032200" cy="3888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Картинка 11 из 14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557360"/>
            <a:ext cx="2409840" cy="3143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250920" y="1268280"/>
            <a:ext cx="2232000" cy="3961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79280" y="550692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300640"/>
            <a:ext cx="7813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Цикл «византийских легенд» (1886 - 1891) основан на житийных сюжетах древнего «Пролога». Рассказы посвящены раннехристианской жизни Египта, Сирии, Палестины. Автор выводит проблему праведничества на уровень межнациональный, вселенский, утверждая вневременные религиозно-нравственные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идеалы.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74772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Выводы исследования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7129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Лесков создал в высшей степени убедительные и выстраданные образы праведников, сопоставимые с образами христианских святых. Талант писателя способствовал появлению нового типа правдоискателя, которого можно поставить в один ряд с героями Пушкина, Гоголя, Толстого, Достоевского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Библиограф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197000"/>
            <a:ext cx="73864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Лесков Н.С. Христианские предания и  сказки. Москва: Лепта книга, 2007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Лесков Н.С. Собрание сочинений в 11 т, Москва: Государственное издательство художественной литературы, 1957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Лесков Н.С. Избранное, Москва: Международный издательский дом, 1995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Лесков Н.С. Сказ о тульском левше и о стальной блохе, Москва: Детская литература, 1986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то великих писателей, Москва: Вече, 200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нтернет-ресурс: </a:t>
            </a:r>
            <a:r>
              <a:rPr b="0" lang="ru-RU" sz="2400" spc="-1" strike="noStrike" u="sng">
                <a:solidFill>
                  <a:srgbClr val="f0b854"/>
                </a:solidFill>
                <a:uFillTx/>
                <a:latin typeface="Arial"/>
                <a:hlinkClick r:id="rId6"/>
              </a:rPr>
              <a:t>ru.</a:t>
            </a:r>
            <a:r>
              <a:rPr b="0" lang="ru-RU" sz="2400" spc="-1" strike="noStrike" u="sng">
                <a:solidFill>
                  <a:srgbClr val="f0b854"/>
                </a:solidFill>
                <a:uFillTx/>
                <a:latin typeface="Arial"/>
                <a:hlinkClick r:id="rId7"/>
              </a:rPr>
              <a:t>wikipedia</a:t>
            </a:r>
            <a:r>
              <a:rPr b="0" lang="ru-RU" sz="2400" spc="-1" strike="noStrike" u="sng">
                <a:solidFill>
                  <a:srgbClr val="f0b854"/>
                </a:solidFill>
                <a:uFillTx/>
                <a:latin typeface="Arial"/>
                <a:hlinkClick r:id="rId8"/>
              </a:rPr>
              <a:t>.org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0:40:14Z</dcterms:created>
  <dc:creator>dnv</dc:creator>
  <dc:description/>
  <dc:language>en-US</dc:language>
  <cp:lastModifiedBy>ndvoryanova</cp:lastModifiedBy>
  <dcterms:modified xsi:type="dcterms:W3CDTF">2015-02-09T12:51:07Z</dcterms:modified>
  <cp:revision>37</cp:revision>
  <dc:subject/>
  <dc:title>ГБОУ ЦО №497  Образы праведников в творчестве Н.С. Лескова</dc:title>
</cp:coreProperties>
</file>