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480-C779-4FB9-8E5A-473500FF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88C-5730-46C7-8F8E-CDEBDAE1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5C3-7461-46A8-8497-82E8ADF2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69A-1A49-4B11-9A61-38A5B878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7D6D-47F2-4157-8E3E-F9315FF2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3BE9-C4BC-496D-B84B-8382B1F0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438D-93EC-4670-B59C-0147C8E9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E96-1B99-4838-9EDC-CF1EA67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10C0-8531-4B8A-A9AA-907476B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7E7C-D23E-49A3-A151-C729F1FE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7AA9-1059-4DB0-9407-B8470490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B52-2279-4D8B-9E3A-1E25A31C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A51-7F06-4771-A89D-4E6432C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9BFF-385A-4827-BAB5-ED3653B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412-77CF-45AF-82CB-0B709923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610C-7391-465D-8824-EFB53001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1B43-FF4B-4E44-9C21-3269658D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2B5-1E4F-4256-9FEC-BC63F0B9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6E7-A0DF-4BDA-AA08-9E65FF8E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FBA-C74C-49CB-9196-5ECB42C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B4C-E642-48E8-9962-AA64F33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05E-46E0-49E8-91EC-99CE6A6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B98-9FE3-4DD4-9121-6B54BCF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63B-CA5E-4B74-8FA1-E9B2FBF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A2C4-F97D-4FE4-8527-259132B221A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62D-53F5-4128-9D40-F193AD8C542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st.free-lance.ru/users/kira_art/upload/filekZN8Fi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hyperlink" Target="http://ru.wikipedia.org/" TargetMode="External"/><Relationship Id="rId7" Type="http://schemas.openxmlformats.org/officeDocument/2006/relationships/hyperlink" Target="http://ru.wikipedia.org/" TargetMode="External"/><Relationship Id="rId8" Type="http://schemas.openxmlformats.org/officeDocument/2006/relationships/hyperlink" Target="http://ru.wikipedia.org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Маланья – голова баранья (1888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36543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Смерть стала вопрошать: «Как имя этой женщины?» А ей в ответ… «Любовь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Увидела это смерть и сказала: «Любовь не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умирает…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новной художожественный прием –аллегория (греч. allegorein "говорить иначе") — иносказание, толкование заложенного в художественном произведении скрытого, тайн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95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708000" y="980640"/>
            <a:ext cx="4103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Толковый словарь Ожегова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раведник – у верующих: человек, который живет праведной жизнью, не имеет грехов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ерои Лескова – праведники, чудаки, блаженные, необычайно одарённые русские люди, цельные по натуре и всегда готовые прийти на помощь другим, проявить чувство сострадания к обиженным. Лесков не выдумывал их, а находил в самой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338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Христианские предания и сказки Н.С. Лескова: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«Гора»,«Прекрасная Аза»,«Лев старца Герасима»      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2032200" cy="388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Картинка 11 из 1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557360"/>
            <a:ext cx="2409840" cy="3143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2232000" cy="3961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550692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00640"/>
            <a:ext cx="7813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Цикл «византийских легенд» (1886 - 1891) основан на житийных сюжетах древнего «Пролога». Рассказы посвящены раннехристианской жизни Египта, Сирии, Палестины. Автор выводит проблему праведничества на уровень межнациональный, вселенский, утверждая вневременные религиозно-нравственные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идеалы.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Выводы исследовани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12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Лесков создал в высшей степени убедительные и выстраданные образы праведников, сопоставимые с образами христианских святых. Талант писателя способствовал появлению нового типа правдоискателя, которого можно поставить в один ряд с героями Пушкина, Гоголя, Толстого, Достоевског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иблиограф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Христианские предания и  сказки. Москва: Лепта книга, 2007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Собрание сочинений в 11 т, Москва: Государственное издательство художественной литературы, 1957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Избранное, Москва: Международный издательский дом, 199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есков Н.С. Сказ о тульском левше и о стальной блохе, Москва: Детская литература, 198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о великих писателей, Москва: Вече, 20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тернет-ресурс: 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ru.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wikipedia</a:t>
            </a:r>
            <a:r>
              <a:rPr b="0" lang="ru-RU" sz="24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.or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0:40:14Z</dcterms:created>
  <dc:creator>dnv</dc:creator>
  <dc:description/>
  <dc:language>en-US</dc:language>
  <cp:lastModifiedBy>ndvoryanova</cp:lastModifiedBy>
  <dcterms:modified xsi:type="dcterms:W3CDTF">2015-02-09T12:51:07Z</dcterms:modified>
  <cp:revision>37</cp:revision>
  <dc:subject/>
  <dc:title>ГБОУ ЦО №497  Образы праведников в творчестве Н.С. Лескова</dc:title>
</cp:coreProperties>
</file>