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EB4-6960-4643-BB0F-0398E073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5A2-321C-4BDC-8EE8-F98ABF0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C5-93A4-4388-971E-4AD5C333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502-828F-4526-A894-59722BDB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646-5A17-42A8-AF4C-B0A47706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AF4-FA72-4743-B9F8-2B49E37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177-2DEE-42E4-9B70-2171E664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A01-9982-4DB1-AA44-8B240B2B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B4D-209A-4A79-AD57-65E8E930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F66-BA73-4964-BD5C-3C7E3E0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3E1-4B72-42A7-9100-2A0A840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BC8-1671-46BE-A1B5-96BBB0D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42DF-8331-494D-BABC-07A8FDC97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Calibri"/>
              </a:rPr>
              <a:t>Однородные и неоднородные определения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братите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это должно быть не одиночное причастие, а причастие с зависимым словом (ср.: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ёрные причёсанные вол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ичастный оборот должен стоять на втором месте (ср.: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адко причёсанные чёрные воло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запятая ставится только между однородными членами; после причастного оборота, если нет особых условий обособления, запятая не стави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Стоя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яемого сло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лосы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чёрные, причёсан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2471760" cy="371484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143240" y="2567160"/>
            <a:ext cx="3876840" cy="343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тор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ение поясняе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рв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ежду определениями можно поставить союз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о е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ли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 имен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рмальное, мирное сосуществование государ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рмально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о есть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ирно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существ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осудар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однородные определен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 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оизносятся с перечислительной интонаци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ними обычно нельзя поставить союз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днородные определения иначе связаны с определяемым (главным) словом. Одно из определений (ближайшее) непосредственно связано с определяемым словом, тогда как второе связано уже со словосочетанием, состоящим из главного слова и первого опреде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3719520" cy="3143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линный товарный поез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главным словом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ез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посредствен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о ближайшее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у определение –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вар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ли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связано со вс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сочетанием –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варный поез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Товарный поезд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является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длинным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000920" y="1428840"/>
            <a:ext cx="2009880" cy="15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5712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Характеризуют предмет с разных сторон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 разных отношениях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есть выражают признаки, относящиеся к разным родовым (общим) понятия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ольшой каменный д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размер и материал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 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каменный дом был большим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;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лые круглые обла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цвет и форма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 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круглые облака были белыми;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узатое ореховое бюр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 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«форма и материал»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р.: </a:t>
            </a:r>
            <a:r>
              <a:rPr b="0" i="1" lang="ru-RU" sz="3000" spc="-1" strike="noStrike">
                <a:solidFill>
                  <a:srgbClr val="0000ff"/>
                </a:solidFill>
                <a:latin typeface="Calibri"/>
              </a:rPr>
              <a:t>ореховое бюро было пузатым</a:t>
            </a:r>
            <a:r>
              <a:rPr b="0" lang="ru-RU" sz="3000" spc="-1" strike="noStrike">
                <a:solidFill>
                  <a:srgbClr val="0000ff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аще выражаютс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стоимением и прилагательны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ой старый 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чественным и относительным прилагательны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ольшой каменный д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носительным прилагательным и одиночным причасти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пущенный фруктовый са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носительными прилагатель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торские черновые наброс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не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омните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есогласованные определ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являются однородными, то есть разделяются запятыми. Однородными обычно являются сочетания согласованных и несогласованных опреде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шёл молодой человек лет двадцати пяти, блещущий здоровьем, со смеющимися щеками, губами и гл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яснении однородности - неоднородности определений возможна вариативность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оял жаркий солнечный день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еоднор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ают разные признаки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температура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отсутствие облаков и освещ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384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оял жаркий, солнечный день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”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0" i="1" lang="ru-RU" sz="3200" spc="-1" strike="noStrike">
                <a:solidFill>
                  <a:srgbClr val="008000"/>
                </a:solidFill>
                <a:latin typeface="Calibri"/>
              </a:rPr>
              <a:t>солнечный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днор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и разные, но они взаимосвязаны и взаимообусловлены: день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жар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тому, что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олне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если солнечный, то жар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www.distedu.ru/mirror/_rus/www.region.tver.ru/pu/slovesn/garov/new3.gif"/>
          <p:cNvPicPr/>
          <p:nvPr/>
        </p:nvPicPr>
        <p:blipFill>
          <a:blip r:embed="rId1"/>
          <a:stretch/>
        </p:blipFill>
        <p:spPr>
          <a:xfrm>
            <a:off x="2071800" y="3643200"/>
            <a:ext cx="54291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ородные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ямую связаны с определяемым (главным) словом, тогда как между собой они находятся в отношениях перечисления (они произносятся с перечислительной интонацией и между ними можно поставить союз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иние, зелёные шары. – Синие шары. Зелёные шары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иние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зелёные ш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кажите однородные определения (знаки препинания не расставлены)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1) белые голубые шары; 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2) старый дубовый пол; 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3) новая шелковая блузка;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Calibri"/>
              </a:rPr>
              <a:t>4) большой чёрный камен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кажите неоднородные определения (знаки препинания не расставлены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1) Мрачный угрюмый взгляд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2) Глиняные деревянные игрушки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3) Старый господский дом; 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4) Красные синие фла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3. Укажите пример с пунктуационной ошибк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) Вечерний лёгкий свет алеет на полях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2) Прошлогодняя дорожная колея заросла ромашкой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3) Ранним майским утром на прибрежных лугах гаснут огоньки маячков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4) В прохладный июльский день я сидел на берегу и любовался ре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4. В каком предложении нужно поставить запяту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) Мимо станции промчался длинный товарный поезд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2) Этот маленький карманный фонарик удобен для туриста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3) Возле поликлиники росли старые стройные берёзы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4) На свежем снегу нетрудно было заметить заячьи беличьи сле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5. Какое слово надо подобрать к словосочетанию фарфоровая посуда, чтобы определения стали однород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1) стар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2) разбит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3) фаянсовая;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4) бел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- 1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- 3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- 1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- 4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-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 rot="905400">
            <a:off x="4843440" y="1837800"/>
            <a:ext cx="2682720" cy="457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28548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бозначают отличительные признак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з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асные, зелёные шары – красные и зелёные ша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ры были красны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ры были зелё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3630600" cy="271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357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означают различные признак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д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характеризуя его с одной сторо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орённый, сожжённый город – разорённый и сожжённый город;             город был разорённым;                           город был сожжё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072120" cy="42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Характеризую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дмет с разных стор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о в данном контекст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ъединяю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ким-т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щим призна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нный, ясный вечер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–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лунный, а потому и ясный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яжёлые, мрачные времена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тяжёлые, а потому и мрачны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71680" y="290520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В условиях контекста между определениями создаю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инонимические отно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упая, давящая боль в гру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контексте формы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упая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авящ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ают как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инони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 как сло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изкие по знач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редставляют собой художественные определения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пите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углые, рыбьи 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0200" y="3424320"/>
            <a:ext cx="4143600" cy="27842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5437080" cy="407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Образую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рада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есть каждое последующее определение усиливает выражаемый им призна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достное, праздничное, 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чезарное настроение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З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диноч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ределением следует определение, выраженно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частным оборот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есть причастием с зависимым слов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ёрные, 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|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ладко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чёсанные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|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вол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143680" y="2428920"/>
            <a:ext cx="294300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3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ada"/>
                </a:solidFill>
                <a:latin typeface="Calibri"/>
              </a:rPr>
              <a:t>однородные опре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19:16:21Z</dcterms:modified>
  <cp:revision>13</cp:revision>
  <dc:subject/>
  <dc:title>Однородные и неоднородные определения </dc:title>
</cp:coreProperties>
</file>