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A78-4EF7-4C5C-B5DA-EC69C0A3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AA7-CE2B-42A5-85A7-16B522C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135-CBA6-42B3-BD38-D08B53AE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B6B-4D5D-4BE7-8AE7-8BABA55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4D9-524B-4DC0-9DF8-4CCC366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C74-BA46-416C-AEB6-1FBFD7B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A38-0EA2-416C-A209-6D4F2E87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B55-3568-4B8B-BC63-EFC938B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A87-46C8-44D5-8D71-5BE09CED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8AF-A564-4683-A7BE-5FAF9093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5F9-D308-4896-BD4F-FBB1BC13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CBE-DDC4-4E66-8A64-BAC0E0D7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A8E-46C4-4998-B6B9-8176F8B7A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Calibri"/>
              </a:rPr>
              <a:t>Однородные и неоднородные определения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братите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это должно быть не одиночное причастие, а причастие с зависимым словом (ср.: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ёрные причёсанные воло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ичастный оборот должен стоять на втором месте (ср.: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ладко причёсанные чёрные воло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запятая ставится только между однородными членами; после причастного оборота, если нет особых условий обособления, запятая не стави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Стоя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сл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мого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лосы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чёрные, причёсан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2471760" cy="371484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143240" y="2567160"/>
            <a:ext cx="3876840" cy="343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тор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ение поясняе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рв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ежду определениями можно поставить союз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о е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ли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 имен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рмальное, мирное сосуществование государ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рмально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о есть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ирно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существ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осудар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однородные определен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 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оизносятся с перечислительной интонаци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ними обычно нельзя поставить союз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днородные определения иначе связаны с определяемым (главным) словом. Одно из определений (ближайшее) непосредственно связано с определяемым словом, тогда как второе связано уже со словосочетанием, состоящим из главного слова и первого опреде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3719520" cy="3143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линный товарный поез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главным словом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ез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посредствен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ано ближайшее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у определение –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вар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ли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связано со вс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сочетанием –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варный поез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Товарный поезд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вляется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длинным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000920" y="1428840"/>
            <a:ext cx="2009880" cy="15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5712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Характеризуют предмет с разных сторон,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 разных отношениях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о есть выражают признаки, относящиеся к разным родовым (общим) понятиям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ольшой каменный д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«размер и материал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р.: 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каменный дом был большим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;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лые круглые обла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«цвет и форма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р.: 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круглые облака были белыми;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узатое ореховое бюр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 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«форма и материал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р.: 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ореховое бюро было пузатым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аще выражаютс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стоимением и прилагательны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ой старый 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чественным и относительным прилагательны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ольшой каменный 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носительным прилагательным и одиночным причастие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пущенный фруктовый са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носительными прилагатель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торские черновые наброс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омните: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есогласованные определе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являются однородными, то есть разделяются запятыми. Однородными обычно являются сочетания согласованных и несогласованных определ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шёл молодой человек лет двадцати пяти, блещущий здоровьем, со смеющимися щеками, губами и гл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яснении однородности - неоднородности определений возможна вариативность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оял жаркий солнечный день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солнечный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еоднород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ают разные признаки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температура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солне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отсутствие облаков и освещ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384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оял жаркий, солнечный день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солнечный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днород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и разные, но они взаимосвязаны и взаимообусловлены: день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тому, что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олне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если солнечный, то жар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www.distedu.ru/mirror/_rus/www.region.tver.ru/pu/slovesn/garov/new3.gif"/>
          <p:cNvPicPr/>
          <p:nvPr/>
        </p:nvPicPr>
        <p:blipFill>
          <a:blip r:embed="rId1"/>
          <a:stretch/>
        </p:blipFill>
        <p:spPr>
          <a:xfrm>
            <a:off x="2071800" y="3643200"/>
            <a:ext cx="54291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нородные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ямую связаны с определяемым (главным) словом, тогда как между собой они находятся в отношениях перечисления (они произносятся с перечислительной интонацией и между ними можно поставить союз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иние, зелёные шары. – Синие шары. Зелёные шары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иние 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зелёные ш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кажите однородные определения (знаки препинания не расставлены)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1) белые голубые шары; 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2) старый дубовый пол; 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3) новая шелковая блузка;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4) большой чёрный камен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кажите неоднородные определения (знаки препинания не расставлены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1) Мрачный угрюмый взгляд; 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2) Глиняные деревянные игрушки; 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3) Старый господский дом; 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4) Красные синие фла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3. Укажите пример с пунктуационной ошибк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1) Вечерний лёгкий свет алеет на полях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2) Прошлогодняя дорожная колея заросла ромашкой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3) Ранним майским утром на прибрежных лугах гаснут огоньки маячков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4) В прохладный июльский день я сидел на берегу и любовался ре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4. В каком предложении нужно поставить запяту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1) Мимо станции промчался длинный товарный поезд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2) Этот маленький карманный фонарик удобен для туриста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3) Возле поликлиники росли старые стройные берёзы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4) На свежем снегу нетрудно было заметить заячьи беличьи сле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5. Какое слово надо подобрать к словосочетанию фарфоровая посуда, чтобы определения стали однород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1) старая;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2) разбитая;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3) фаянсовая;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4) бел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- 1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- 3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- 1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- 4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 -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 rot="905400">
            <a:off x="4843440" y="1837800"/>
            <a:ext cx="2682720" cy="457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28548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бозначают отличительные признак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з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дме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асные, зелёные шары – красные и зелёные ша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ры были красны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ры были зелё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3630600" cy="271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357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бозначают различные признак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д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дме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характеризуя его с одной сторо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орённый, сожжённый город – разорённый и сожжённый город;             город был разорённым;                           город был сожжё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6072120" cy="421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Характеризую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дмет с разных стор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о в данном контекст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бъединяю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ким-т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бщим признак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нный, ясный вечер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–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лунный, а потому и ясный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яжёлые, мрачные времена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тяжёлые, а потому и мрачны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71680" y="290520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В условиях контекста между определениями создаю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инонимические отно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упая, давящая боль в гру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контексте формы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упая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и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авящ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ают как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они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 как сл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изкие по знач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редставляют собой художественные определения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пите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углые, рыбьи 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0200" y="3424320"/>
            <a:ext cx="4143600" cy="27842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5437080" cy="407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Образую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рада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есть каждое последующее определение усиливает выражаемый им призна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достное, праздничное, 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чезарное настроение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За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диноч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ением следует определение, выраженно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частным оборот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есть причастием с зависимым слов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ёрные, 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|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ладко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чёсанные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|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вол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143680" y="2428920"/>
            <a:ext cx="294300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19:16:21Z</dcterms:modified>
  <cp:revision>13</cp:revision>
  <dc:subject/>
  <dc:title>Однородные и неоднородные определения </dc:title>
</cp:coreProperties>
</file>