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7675-19CF-4752-8B23-106AD1A1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E1C1-0174-4686-9B1F-BC9FF604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EC3B-8410-47A7-AD48-C40A6987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F313-5E4C-4743-8A7B-17200C70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9FB-F05F-4A07-813C-BD519A48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DDFF-0710-4B59-90F2-7635D571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B2F-20B2-4400-B788-B05A86CB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83C0-41D0-42D8-82D3-326E45B0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7C0-9F45-4443-8B08-9FE58DE5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BE3F-4E26-4261-AC77-6059CD84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D18-02D9-4F76-8CB5-EED17735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90F-2F86-43C4-B4C4-AB89A5AB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1B0D-268B-4246-AFFE-4D86D89EE1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tv.ru/news/world/159725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ladno.ru/person/shoigu/foto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Арнын  билир, адын  таныыр</a:t>
            </a: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Алдарлыг-ла адалар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ой ажы толдуг,  хоомейжи  ада  Шон  Куир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6" descr="Шон Куир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2428920"/>
            <a:ext cx="71438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ойгу Сергей Кужугет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7120" y="1071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е дочер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Юлия (1977 года рождения), кандидат психологических наук, на сентябрь 2008 года — директор Центра экстренной психологической помощи МЧС России (с 2002 год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Ксения (1991) — студентка экономического факульте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ГИМО.</a:t>
            </a:r>
            <a:br>
              <a:rPr sz="18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5" descr="Шойгу Сергей Кужугетович 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2143080"/>
            <a:ext cx="771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Арзылан  моге  Монгуш  Маадыр Тибетте  ооренип  турар аныяк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ламаларга  дуза  кылдыр чыылган  акшаны  берип  тура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9" name="Рисунок 5" descr="Тувинский «борец-лев» передал средства на поддержку молодых монахов из Тувы, обучающихся в Индии"/>
          <p:cNvPicPr/>
          <p:nvPr/>
        </p:nvPicPr>
        <p:blipFill>
          <a:blip r:embed="rId1"/>
          <a:stretch/>
        </p:blipFill>
        <p:spPr>
          <a:xfrm>
            <a:off x="785880" y="2071800"/>
            <a:ext cx="70009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Ондар Конгар-о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1316421608_prevyu-2"/>
          <p:cNvPicPr/>
          <p:nvPr/>
        </p:nvPicPr>
        <p:blipFill>
          <a:blip r:embed="rId1"/>
          <a:stretch/>
        </p:blipFill>
        <p:spPr>
          <a:xfrm>
            <a:off x="457200" y="2130480"/>
            <a:ext cx="4038480" cy="3465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4643280" y="2276640"/>
            <a:ext cx="4368960" cy="3262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4775040" y="2276640"/>
            <a:ext cx="4368960" cy="32623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http://kyzyl-online.ru/images/afisha/medium/event_687/44d29621c0c4717b620e7dd469c21277.jpg"/>
          <p:cNvPicPr/>
          <p:nvPr/>
        </p:nvPicPr>
        <p:blipFill>
          <a:blip r:embed="rId4"/>
          <a:stretch/>
        </p:blipFill>
        <p:spPr>
          <a:xfrm>
            <a:off x="428760" y="1857240"/>
            <a:ext cx="414324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винский «борец-лев» передал средства на поддержку молодых монахов из Тувы, обучающихся в Индии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16:17:49Z</dcterms:created>
  <dc:creator>Ivan</dc:creator>
  <dc:description/>
  <dc:language>en-US</dc:language>
  <cp:lastModifiedBy>User</cp:lastModifiedBy>
  <dcterms:modified xsi:type="dcterms:W3CDTF">2014-11-14T07:24:23Z</dcterms:modified>
  <cp:revision>13</cp:revision>
  <dc:subject/>
  <dc:title>Слайд 1</dc:title>
</cp:coreProperties>
</file>