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97498-B3A9-4035-9C48-63E39621C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F030F-15AC-4150-82C9-ADBC2C604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48F49-085A-490A-B143-7CDA2ADAC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B2B5E-6FC1-47A0-8992-A938655F6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9ACF2-DFD9-4603-B156-1A66E1500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667FD-4596-420C-88E3-7521ACAC8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733EC-4500-45B0-963C-152F87F11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F21A9-19D0-45A9-A9E0-C8E134E4A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5F728-D93B-44E3-AE89-98B4BAD00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5A18A-BE1D-40A8-9F05-962DEAB29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B1A3E-9B5A-47F4-A371-DDD6D0012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36C83-C860-409C-9AE7-50976B0E7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4ED43-E939-41E6-9DEF-9AC7FEF8750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1tv.ru/news/world/159725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ladno.ru/person/shoigu/foto/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b050"/>
                </a:solidFill>
                <a:latin typeface="Arial"/>
              </a:rPr>
              <a:t>Арнын  билир, адын  таныыр</a:t>
            </a:r>
            <a:br>
              <a:rPr sz="4000"/>
            </a:br>
            <a:r>
              <a:rPr b="0" lang="ru-RU" sz="4000" spc="-1" strike="noStrike">
                <a:solidFill>
                  <a:srgbClr val="00b050"/>
                </a:solidFill>
                <a:latin typeface="Arial"/>
              </a:rPr>
              <a:t>Алдарлыг-ла адаларны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Хой ажы толдуг,  хоомейжи  ада  Шон  Куир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Рисунок 6" descr="Шон Куирк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85880" y="2428920"/>
            <a:ext cx="714384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Шойгу Сергей Кужугетови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57120" y="107136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ве дочери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. Юлия (1977 года рождения), кандидат психологических наук, на сентябрь 2008 года — директор Центра экстренной психологической помощи МЧС России (с 2002 года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. Ксения (1991) — студентка экономического факультета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ГИМО.</a:t>
            </a:r>
            <a:br>
              <a:rPr sz="18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Рисунок 5" descr="Шойгу Сергей Кужугетович фото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57160" y="2143080"/>
            <a:ext cx="77155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66"/>
                </a:solidFill>
                <a:latin typeface="Arial"/>
              </a:rPr>
              <a:t>Арзылан  моге  Монгуш  Маадыр Тибетте  ооренип  турар аныяк</a:t>
            </a:r>
            <a:br>
              <a:rPr sz="2000"/>
            </a:br>
            <a:r>
              <a:rPr b="0" lang="ru-RU" sz="2000" spc="-1" strike="noStrike">
                <a:solidFill>
                  <a:srgbClr val="660066"/>
                </a:solidFill>
                <a:latin typeface="Arial"/>
              </a:rPr>
              <a:t>ламаларга  дуза  кылдыр чыылган  акшаны  берип  турар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2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49" name="Рисунок 5" descr="Тувинский «борец-лев» передал средства на поддержку молодых монахов из Тувы, обучающихся в Индии"/>
          <p:cNvPicPr/>
          <p:nvPr/>
        </p:nvPicPr>
        <p:blipFill>
          <a:blip r:embed="rId1"/>
          <a:stretch/>
        </p:blipFill>
        <p:spPr>
          <a:xfrm>
            <a:off x="785880" y="2071800"/>
            <a:ext cx="7000920" cy="37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ff"/>
                </a:solidFill>
                <a:latin typeface="Arial"/>
              </a:rPr>
              <a:t>                       </a:t>
            </a:r>
            <a:r>
              <a:rPr b="1" lang="ru-RU" sz="2000" spc="-1" strike="noStrike">
                <a:solidFill>
                  <a:srgbClr val="ff00ff"/>
                </a:solidFill>
                <a:latin typeface="Arial"/>
              </a:rPr>
              <a:t>Ондар Конгар-оо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3" descr="1316421608_prevyu-2"/>
          <p:cNvPicPr/>
          <p:nvPr/>
        </p:nvPicPr>
        <p:blipFill>
          <a:blip r:embed="rId1"/>
          <a:stretch/>
        </p:blipFill>
        <p:spPr>
          <a:xfrm>
            <a:off x="457200" y="2130480"/>
            <a:ext cx="4038480" cy="34653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"/>
          <p:cNvPicPr/>
          <p:nvPr/>
        </p:nvPicPr>
        <p:blipFill>
          <a:blip r:embed="rId2"/>
          <a:stretch/>
        </p:blipFill>
        <p:spPr>
          <a:xfrm>
            <a:off x="4643280" y="2276640"/>
            <a:ext cx="4368960" cy="32623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"/>
          <p:cNvPicPr/>
          <p:nvPr/>
        </p:nvPicPr>
        <p:blipFill>
          <a:blip r:embed="rId3"/>
          <a:stretch/>
        </p:blipFill>
        <p:spPr>
          <a:xfrm>
            <a:off x="4775040" y="2276640"/>
            <a:ext cx="4368960" cy="326232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7" descr="http://kyzyl-online.ru/images/afisha/medium/event_687/44d29621c0c4717b620e7dd469c21277.jpg"/>
          <p:cNvPicPr/>
          <p:nvPr/>
        </p:nvPicPr>
        <p:blipFill>
          <a:blip r:embed="rId4"/>
          <a:stretch/>
        </p:blipFill>
        <p:spPr>
          <a:xfrm>
            <a:off x="428760" y="1857240"/>
            <a:ext cx="4143240" cy="431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увинский «борец-лев» передал средства на поддержку молодых монахов из Тувы, обучающихся в Индии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1T16:17:49Z</dcterms:created>
  <dc:creator>Ivan</dc:creator>
  <dc:description/>
  <dc:language>en-US</dc:language>
  <cp:lastModifiedBy>User</cp:lastModifiedBy>
  <dcterms:modified xsi:type="dcterms:W3CDTF">2014-11-14T07:24:23Z</dcterms:modified>
  <cp:revision>13</cp:revision>
  <dc:subject/>
  <dc:title>Слайд 1</dc:title>
</cp:coreProperties>
</file>