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647-80F2-4590-B002-F48C0CD2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980-1402-4D50-BD4C-E99FFBD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1C2-7966-46F0-AE82-B0E45F19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D11-8396-47B4-B8D4-BE6DF337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142E-6F4A-40DC-957F-3370FA75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6E7D-6944-4A1F-A4D9-3577176F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9236C-A28A-449C-A2BA-2160E29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CC04D-D3B1-4FB6-8D03-6E8B5512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9E51-A22F-45F4-BF13-28397DA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55B6B-83B4-4E82-ACDA-88300C05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2830A-A8E7-45EF-9D84-5BA66E7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F40-1AB4-43C5-B652-217269BD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1E065-51DA-48DD-BD60-0FF753D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8F312-2382-4AD3-A90D-89928A2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1AC6-2FBC-4C0B-9D63-CDCD9A34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5B88-4559-4F71-A6EC-3F0DB73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303F-1E2F-4415-AA0C-C7BD667D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0D82-96B9-410C-A929-33181B74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E975-E478-4AB9-8F23-E8195325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C5E7-97E2-4A96-8292-C8102CD8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A256-21E0-42AB-822F-41C13BE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8F61-B87B-4433-929B-7E5B7D8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BBD-15ED-4967-9E8B-4786C28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2449-D6C5-41E7-B05A-07FCAEEB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00EA-7210-4598-8FE1-DD41FBF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6EB9-FDCB-4E99-815E-1A5FD09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114E-DCC9-420B-87FC-7C28BDD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4954-D749-44AE-880D-A759EE15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CF67-D7EC-476E-B60E-D425602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C19D-2992-40F9-8BF3-3ED6D7C9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7110B-8AD0-42F5-B3A2-6E89351A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8C2BB-4B69-4E71-AF70-FFC09AFA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CD126-D47A-4DF1-866F-064D124E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8E8-19F0-4C38-8945-8621D46E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A8DD5-B7AB-472D-A221-238E3342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4B01F-D380-435C-95A3-88101AD5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B51BF-147C-45AC-8818-0D02FBA7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86671-5CD0-46BB-A10B-D80DC8D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73B7F-8196-4D2E-B51E-95C6EFE1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E03E9-D891-48A8-B7A7-CA5EE00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82B29-19BA-43E7-A952-0B94F0E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C3109-0972-47D3-BEE6-25FECEB5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6E7C0-656F-4FE9-89F6-F89997B6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992-0341-44C2-862B-0ACBCBA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895-415A-457F-8542-475D72B1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FA4-9D0B-4B5A-AC82-0B9CEC8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6E0-5173-4E5F-B631-F2FFC28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24D-EC1C-4377-8374-751F8AE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82E1-7B3F-4449-A43F-6CFC43F2620C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99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67F-BE7B-43A9-AD22-B0721F7FA7F8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FF2-ADF5-4648-8001-EEF639FC49CB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C98-9889-4EA0-9EA1-6C4248FA328C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123\Desktop\фото к стиху\Памятник-в-Лидице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49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TextBox 4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72" name="TextBox 4" descr=""/>
            <p:cNvPicPr/>
            <p:nvPr/>
          </p:nvPicPr>
          <p:blipFill>
            <a:blip r:embed="rId2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"/>
          <p:cNvSpPr/>
          <p:nvPr/>
        </p:nvSpPr>
        <p:spPr>
          <a:xfrm>
            <a:off x="428760" y="357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и 13 миллионов детей, погибших во Второй мировой вой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123\Desktop\фото к стиху\10.gif"/>
          <p:cNvPicPr/>
          <p:nvPr/>
        </p:nvPicPr>
        <p:blipFill>
          <a:blip r:embed="rId1"/>
          <a:stretch/>
        </p:blipFill>
        <p:spPr>
          <a:xfrm>
            <a:off x="1928880" y="2357280"/>
            <a:ext cx="4857840" cy="4097520"/>
          </a:xfrm>
          <a:prstGeom prst="rect">
            <a:avLst/>
          </a:prstGeom>
          <a:ln w="0">
            <a:noFill/>
          </a:ln>
        </p:spPr>
      </p:pic>
      <p:grpSp>
        <p:nvGrpSpPr>
          <p:cNvPr id="176" name="TextBox 6"/>
          <p:cNvGrpSpPr/>
          <p:nvPr/>
        </p:nvGrpSpPr>
        <p:grpSpPr>
          <a:xfrm>
            <a:off x="73080" y="5894280"/>
            <a:ext cx="1603440" cy="768600"/>
            <a:chOff x="73080" y="5894280"/>
            <a:chExt cx="1603440" cy="768600"/>
          </a:xfrm>
        </p:grpSpPr>
        <p:pic>
          <p:nvPicPr>
            <p:cNvPr id="177" name="TextBox 6" descr=""/>
            <p:cNvPicPr/>
            <p:nvPr/>
          </p:nvPicPr>
          <p:blipFill>
            <a:blip r:embed="rId2"/>
            <a:stretch/>
          </p:blipFill>
          <p:spPr>
            <a:xfrm>
              <a:off x="73080" y="5894280"/>
              <a:ext cx="1603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5840" y="600084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TextBox 7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80" name="TextBox 7" descr=""/>
            <p:cNvPicPr/>
            <p:nvPr/>
          </p:nvPicPr>
          <p:blipFill>
            <a:blip r:embed="rId4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5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Прямоугольник 5"/>
          <p:cNvSpPr/>
          <p:nvPr/>
        </p:nvSpPr>
        <p:spPr>
          <a:xfrm>
            <a:off x="357120" y="35712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Тринадцать миллионов детских жиз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горело в адском пламени вой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смех фонтанов радости не брыз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 мирное цветение весны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123\Desktop\фото к стиху\23.jpg"/>
          <p:cNvPicPr/>
          <p:nvPr/>
        </p:nvPicPr>
        <p:blipFill>
          <a:blip r:embed="rId1"/>
          <a:stretch/>
        </p:blipFill>
        <p:spPr>
          <a:xfrm>
            <a:off x="1714680" y="250020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123\Desktop\фото к стиху\22.jpg"/>
          <p:cNvPicPr/>
          <p:nvPr/>
        </p:nvPicPr>
        <p:blipFill>
          <a:blip r:embed="rId2"/>
          <a:stretch/>
        </p:blipFill>
        <p:spPr>
          <a:xfrm>
            <a:off x="4786200" y="2500200"/>
            <a:ext cx="2630520" cy="389412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Box 7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86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TextBox 5"/>
          <p:cNvGrpSpPr/>
          <p:nvPr/>
        </p:nvGrpSpPr>
        <p:grpSpPr>
          <a:xfrm>
            <a:off x="7437600" y="5962680"/>
            <a:ext cx="1834920" cy="772920"/>
            <a:chOff x="7437600" y="5962680"/>
            <a:chExt cx="1834920" cy="772920"/>
          </a:xfrm>
        </p:grpSpPr>
        <p:pic>
          <p:nvPicPr>
            <p:cNvPr id="189" name="TextBox 5" descr=""/>
            <p:cNvPicPr/>
            <p:nvPr/>
          </p:nvPicPr>
          <p:blipFill>
            <a:blip r:embed="rId4"/>
            <a:stretch/>
          </p:blipFill>
          <p:spPr>
            <a:xfrm>
              <a:off x="7437600" y="5962680"/>
              <a:ext cx="1834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4388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Прямоугольник 6"/>
          <p:cNvSpPr/>
          <p:nvPr/>
        </p:nvSpPr>
        <p:spPr>
          <a:xfrm>
            <a:off x="500040" y="35712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ечты их не взлетят волшебной ста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д взрослыми серьезными людь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человечество отстан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обеднеет целый мир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C:\Users\123\Desktop\фото к стиху\14950-007.jpg"/>
          <p:cNvPicPr/>
          <p:nvPr/>
        </p:nvPicPr>
        <p:blipFill>
          <a:blip r:embed="rId1"/>
          <a:stretch/>
        </p:blipFill>
        <p:spPr>
          <a:xfrm>
            <a:off x="966960" y="3017880"/>
            <a:ext cx="3720960" cy="292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23\Desktop\фото к стиху\8230.jpg"/>
          <p:cNvPicPr/>
          <p:nvPr/>
        </p:nvPicPr>
        <p:blipFill>
          <a:blip r:embed="rId2"/>
          <a:stretch/>
        </p:blipFill>
        <p:spPr>
          <a:xfrm>
            <a:off x="4857840" y="2500200"/>
            <a:ext cx="2295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35712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губы запеклись в последнем кри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редсмертном зове милых мам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, матери стран малых и велики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Услышьте их и помните о них!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TextBox 11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96" name="TextBox 11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TextBox 12"/>
          <p:cNvGrpSpPr/>
          <p:nvPr/>
        </p:nvGrpSpPr>
        <p:grpSpPr>
          <a:xfrm>
            <a:off x="7149960" y="5894280"/>
            <a:ext cx="1835280" cy="768600"/>
            <a:chOff x="7149960" y="5894280"/>
            <a:chExt cx="1835280" cy="768600"/>
          </a:xfrm>
        </p:grpSpPr>
        <p:pic>
          <p:nvPicPr>
            <p:cNvPr id="199" name="TextBox 12" descr=""/>
            <p:cNvPicPr/>
            <p:nvPr/>
          </p:nvPicPr>
          <p:blipFill>
            <a:blip r:embed="rId4"/>
            <a:stretch/>
          </p:blipFill>
          <p:spPr>
            <a:xfrm>
              <a:off x="7149960" y="5894280"/>
              <a:ext cx="18352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358040" y="60008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Users\123\Desktop\55335371_109.jpg"/>
          <p:cNvPicPr/>
          <p:nvPr/>
        </p:nvPicPr>
        <p:blipFill>
          <a:blip r:embed="rId1"/>
          <a:stretch/>
        </p:blipFill>
        <p:spPr>
          <a:xfrm>
            <a:off x="857160" y="3214800"/>
            <a:ext cx="3548160" cy="221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23\Desktop\55335371_109.jpg"/>
          <p:cNvPicPr/>
          <p:nvPr/>
        </p:nvPicPr>
        <p:blipFill>
          <a:blip r:embed="rId2"/>
          <a:stretch/>
        </p:blipFill>
        <p:spPr>
          <a:xfrm>
            <a:off x="285840" y="4071960"/>
            <a:ext cx="354780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03" name="TextBox 26"/>
          <p:cNvGrpSpPr/>
          <p:nvPr/>
        </p:nvGrpSpPr>
        <p:grpSpPr>
          <a:xfrm>
            <a:off x="7149960" y="5821200"/>
            <a:ext cx="1683000" cy="768600"/>
            <a:chOff x="7149960" y="5821200"/>
            <a:chExt cx="1683000" cy="768600"/>
          </a:xfrm>
        </p:grpSpPr>
        <p:pic>
          <p:nvPicPr>
            <p:cNvPr id="204" name="TextBox 26" descr=""/>
            <p:cNvPicPr/>
            <p:nvPr/>
          </p:nvPicPr>
          <p:blipFill>
            <a:blip r:embed="rId3"/>
            <a:stretch/>
          </p:blipFill>
          <p:spPr>
            <a:xfrm>
              <a:off x="7149960" y="5821200"/>
              <a:ext cx="16830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58040" y="592920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TextBox 7"/>
          <p:cNvGrpSpPr/>
          <p:nvPr/>
        </p:nvGrpSpPr>
        <p:grpSpPr>
          <a:xfrm>
            <a:off x="146160" y="5962680"/>
            <a:ext cx="1603440" cy="772920"/>
            <a:chOff x="146160" y="5962680"/>
            <a:chExt cx="1603440" cy="772920"/>
          </a:xfrm>
        </p:grpSpPr>
        <p:pic>
          <p:nvPicPr>
            <p:cNvPr id="207" name="TextBox 7" descr=""/>
            <p:cNvPicPr/>
            <p:nvPr/>
          </p:nvPicPr>
          <p:blipFill>
            <a:blip r:embed="rId4"/>
            <a:stretch/>
          </p:blipFill>
          <p:spPr>
            <a:xfrm>
              <a:off x="146160" y="5962680"/>
              <a:ext cx="16034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7120" y="607212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8"/>
          <p:cNvSpPr/>
          <p:nvPr/>
        </p:nvSpPr>
        <p:spPr>
          <a:xfrm>
            <a:off x="642960" y="714240"/>
            <a:ext cx="7929720" cy="2104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ная память всем погибшим во Второй мировой вой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1" descr="C:\Users\123\Desktop\учитель года сочи\Георгиевская-ленточка_2.jpg"/>
          <p:cNvPicPr/>
          <p:nvPr/>
        </p:nvPicPr>
        <p:blipFill>
          <a:blip r:embed="rId5"/>
          <a:stretch/>
        </p:blipFill>
        <p:spPr>
          <a:xfrm>
            <a:off x="214200" y="5357880"/>
            <a:ext cx="3975120" cy="1249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C 0.00903 -4.16185E-006 0.01858 -4.16185000000002E-006 0.02778 0.00024 C 0.03976 0.00024 0.05069 0.0007 0.06285 0.00093 C 0.0658 0.00093 0.06858 0.00116 0.07153 0.00116 C 0.07621 0.00116 0.08108 0.00116 0.08559 0.00139 C 0.09184 0.00139 0.10121 0.00185 0.1066 0.00209 C 0.10781 0.00209 0.10833 0.00232 0.11007 0.00255 C 0.11337 0.00255 0.12066 0.00278 0.12066 0.00301 C 0.12361 0.00301 0.12604 0.00324 0.12934 0.00324 C 0.13108 0.00347 0.13316 0.00347 0.13455 0.00347 C 0.15851 0.00463 0.17882 0.00625 0.20642 0.00671 C 0.21423 0.0074 0.21753 0.0074 0.22743 0.00763 C 0.23403 0.0081 0.23993 0.00833 0.24861 0.00856 C 0.26111 0.00948 0.28194 0.01018 0.2993 0.01064 C 0.31059 0.0111 0.32222 0.01156 0.33437 0.01203 C 0.34548 0.01318 0.33246 0.01203 0.34826 0.01295 C 0.36441 0.01388 0.3526 0.01365 0.36406 0.01388 C 0.36597 0.01388 0.36805 0.01411 0.36944 0.01411 C 0.37621 0.0148 0.36476 0.01434 0.37621 0.01457 C 0.38871 0.01526 0.40538 0.01665 0.41996 0.01665 C 0.44514 0.01688 0.47031 0.01665 0.49548 0.01665 E">
                                      <p:cBhvr>
                                        <p:cTn id="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93642E-007 C 0.00625 -6.93642E-007 0.01284 -6.93641999999998E-007 0.01944 0.00023 C 0.02743 0.00023 0.03506 0.00116 0.04357 0.00185 C 0.04583 0.00185 0.04774 0.00208 0.04982 0.00208 C 0.05295 0.00208 0.05625 0.00208 0.05954 0.00278 C 0.06371 0.00278 0.07031 0.0037 0.0743 0.00416 C 0.07482 0.00416 0.07534 0.00462 0.07656 0.00532 C 0.07881 0.00532 0.08402 0.00578 0.08402 0.00624 C 0.08611 0.00624 0.08784 0.00671 0.08993 0.00671 C 0.09114 0.0074 0.09253 0.0074 0.09375 0.0074 C 0.11006 0.00948 0.1243 0.01318 0.14357 0.0141 C 0.14895 0.01572 0.15138 0.01572 0.15833 0.01642 C 0.16284 0.01734 0.16701 0.01757 0.17291 0.01827 C 0.18177 0.02035 0.19618 0.02197 0.20833 0.02289 C 0.21614 0.02382 0.22413 0.02474 0.23281 0.02567 C 0.24045 0.02844 0.23142 0.02567 0.24236 0.02775 C 0.25364 0.0296 0.24548 0.02936 0.25329 0.0296 C 0.25451 0.0296 0.25607 0.03029 0.25729 0.03029 C 0.2618 0.03191 0.25399 0.03052 0.2618 0.03121 C 0.27048 0.03283 0.28211 0.03584 0.29236 0.03584 C 0.30972 0.03653 0.32743 0.03584 0.34496 0.03584 E">
                                      <p:cBhvr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5-02-09T17:47:38Z</dcterms:modified>
  <cp:revision>107</cp:revision>
  <dc:subject/>
  <dc:title>Слайд 1</dc:title>
</cp:coreProperties>
</file>