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EA4-AC63-4B18-8975-D590E3BDB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95C-09A4-4427-9673-CCACF8FB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BFA-6446-487A-83AD-FAAAA184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22D2-0B34-4D5B-9DE0-1ACFF799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DFCA8-F7DB-4CD3-826C-276E480C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2D747-22BD-483C-8AF2-94912317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8CE657-07F8-4BCB-89CA-5E14EF41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C16E5-CE80-41E7-BCD7-495A8264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326A8-7916-4DE4-8D64-7ADB3121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797D5-D274-441E-9625-766CD55B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6082C-DB47-40A9-A7C3-7043705C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DC9-2C51-4BE7-ACF0-01F3261A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6CD7E-6134-466B-B13B-BED2ADAC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B43B0-A22F-4088-9FE9-56576BD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F4153-A0F2-474A-A804-7660F166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69F41-8642-40C2-AD4D-878E72238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0B9E3-4652-4200-9BD4-ADD0CFA0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335C6-5AC5-4C82-975A-75731881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86241-CFF0-40B3-A70E-60B03F80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9DED6-5154-4018-A4F5-1A82AB35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22A3E-99B6-4AC7-80A8-A25B1FD8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B30BD-E609-4FF9-97B8-11ED0A2D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C24-B0FB-4E1A-91F1-F2F4470D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466F5-150F-4670-BF6F-98E7BF4F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1008-F19B-4610-B6FB-E32BEA3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BA36-98C9-4CBB-B5C8-A33691F4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6CA3E-E89F-4C72-A6B8-3EDFDE04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69ED6-F9DB-48B6-8AF4-B9E8F147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1E191-D6CD-465B-959B-6EE94086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6151-BB5E-4A75-9120-E66431A60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5B80A-750B-4BD4-8655-4BACE8C8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6D1902-12D3-4018-9B5A-07BF39D5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117748-95CE-4334-9BB5-FB13CC9B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F0FD-4F9C-4343-8C7B-B938A56B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DA7216-171E-4969-BA6D-8B9E2E3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9DADB7-9443-4881-8A77-05ADD3B7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63032-DC85-4830-97DE-74F8CC73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CD725-E966-498C-AF8C-D861D32A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A3007-0451-4AED-9826-D7DBA45B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63E2E-2A90-459C-8465-811140FC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7A2E9-DE0A-49BB-97F8-B4D926C7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B801DF-15B9-43CE-B4F1-A74DC1AF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72637-421C-4119-A26B-4E8A1F3A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83F9-366E-4B8A-BAF7-8E9A98C8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7F9-92C6-4263-AC16-C69E84E6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599-B968-427C-A979-6841739C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48DC-2A8B-48A3-8597-7813E5E7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E2F-4165-4625-B0FC-374725ED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1B27-053B-4F32-9E7B-B81E34F6E042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eb80a"/>
          </a:solidFill>
          <a:ln w="39960">
            <a:solidFill>
              <a:srgbClr val="feb80a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85BC-EA60-42DB-B2AF-FCF6DAE3E970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53B6-BB27-4B24-83A1-46D6BA9C7B12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b8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9247-92E5-4336-893F-06EC54705B10}" type="slidenum">
              <a:rPr b="0" lang="ru-RU" sz="1600" spc="-1" strike="noStrike">
                <a:solidFill>
                  <a:srgbClr val="e7d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7d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7d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123\Desktop\фото к стиху\Памятник-в-Лидице.jpg"/>
          <p:cNvPicPr/>
          <p:nvPr/>
        </p:nvPicPr>
        <p:blipFill>
          <a:blip r:embed="rId1"/>
          <a:stretch/>
        </p:blipFill>
        <p:spPr>
          <a:xfrm>
            <a:off x="1285920" y="1643040"/>
            <a:ext cx="6286320" cy="4492800"/>
          </a:xfrm>
          <a:prstGeom prst="rect">
            <a:avLst/>
          </a:prstGeom>
          <a:ln w="0">
            <a:noFill/>
          </a:ln>
        </p:spPr>
      </p:pic>
      <p:grpSp>
        <p:nvGrpSpPr>
          <p:cNvPr id="171" name="TextBox 4"/>
          <p:cNvGrpSpPr/>
          <p:nvPr/>
        </p:nvGrpSpPr>
        <p:grpSpPr>
          <a:xfrm>
            <a:off x="7004160" y="5962680"/>
            <a:ext cx="1841400" cy="772920"/>
            <a:chOff x="7004160" y="5962680"/>
            <a:chExt cx="1841400" cy="772920"/>
          </a:xfrm>
        </p:grpSpPr>
        <p:pic>
          <p:nvPicPr>
            <p:cNvPr id="172" name="TextBox 4" descr=""/>
            <p:cNvPicPr/>
            <p:nvPr/>
          </p:nvPicPr>
          <p:blipFill>
            <a:blip r:embed="rId2"/>
            <a:stretch/>
          </p:blipFill>
          <p:spPr>
            <a:xfrm>
              <a:off x="7004160" y="5962680"/>
              <a:ext cx="18414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21512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3" action="ppaction://hlinksldjump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Прямоугольник 5"/>
          <p:cNvSpPr/>
          <p:nvPr/>
        </p:nvSpPr>
        <p:spPr>
          <a:xfrm>
            <a:off x="428760" y="35712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Памяти 13 миллионов детей, погибших во Второй мировой войн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123\Desktop\фото к стиху\10.gif"/>
          <p:cNvPicPr/>
          <p:nvPr/>
        </p:nvPicPr>
        <p:blipFill>
          <a:blip r:embed="rId1"/>
          <a:stretch/>
        </p:blipFill>
        <p:spPr>
          <a:xfrm>
            <a:off x="1928880" y="2357280"/>
            <a:ext cx="4857840" cy="4097520"/>
          </a:xfrm>
          <a:prstGeom prst="rect">
            <a:avLst/>
          </a:prstGeom>
          <a:ln w="0">
            <a:noFill/>
          </a:ln>
        </p:spPr>
      </p:pic>
      <p:grpSp>
        <p:nvGrpSpPr>
          <p:cNvPr id="176" name="TextBox 6"/>
          <p:cNvGrpSpPr/>
          <p:nvPr/>
        </p:nvGrpSpPr>
        <p:grpSpPr>
          <a:xfrm>
            <a:off x="73080" y="5894280"/>
            <a:ext cx="1603440" cy="768600"/>
            <a:chOff x="73080" y="5894280"/>
            <a:chExt cx="1603440" cy="768600"/>
          </a:xfrm>
        </p:grpSpPr>
        <p:pic>
          <p:nvPicPr>
            <p:cNvPr id="177" name="TextBox 6" descr=""/>
            <p:cNvPicPr/>
            <p:nvPr/>
          </p:nvPicPr>
          <p:blipFill>
            <a:blip r:embed="rId2"/>
            <a:stretch/>
          </p:blipFill>
          <p:spPr>
            <a:xfrm>
              <a:off x="73080" y="5894280"/>
              <a:ext cx="16034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85840" y="600084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3" action="ppaction://hlinksldjump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TextBox 7"/>
          <p:cNvGrpSpPr/>
          <p:nvPr/>
        </p:nvGrpSpPr>
        <p:grpSpPr>
          <a:xfrm>
            <a:off x="7004160" y="5962680"/>
            <a:ext cx="1841400" cy="772920"/>
            <a:chOff x="7004160" y="5962680"/>
            <a:chExt cx="1841400" cy="772920"/>
          </a:xfrm>
        </p:grpSpPr>
        <p:pic>
          <p:nvPicPr>
            <p:cNvPr id="180" name="TextBox 7" descr=""/>
            <p:cNvPicPr/>
            <p:nvPr/>
          </p:nvPicPr>
          <p:blipFill>
            <a:blip r:embed="rId4"/>
            <a:stretch/>
          </p:blipFill>
          <p:spPr>
            <a:xfrm>
              <a:off x="7004160" y="5962680"/>
              <a:ext cx="184140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721512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 u="sng">
                  <a:solidFill>
                    <a:srgbClr val="8dc765"/>
                  </a:solidFill>
                  <a:uFillTx/>
                  <a:latin typeface="Calibri"/>
                  <a:hlinkClick r:id="rId5" action="ppaction://hlinksldjump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2" name="Прямоугольник 5"/>
          <p:cNvSpPr/>
          <p:nvPr/>
        </p:nvSpPr>
        <p:spPr>
          <a:xfrm>
            <a:off x="357120" y="357120"/>
            <a:ext cx="8429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Тринадцать миллионов детских жиз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Сгорело в адском пламени вой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х смех фонтанов радости не брыз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На мирное цветение весны.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C:\Users\123\Desktop\фото к стиху\23.jpg"/>
          <p:cNvPicPr/>
          <p:nvPr/>
        </p:nvPicPr>
        <p:blipFill>
          <a:blip r:embed="rId1"/>
          <a:stretch/>
        </p:blipFill>
        <p:spPr>
          <a:xfrm>
            <a:off x="1714680" y="2500200"/>
            <a:ext cx="2857320" cy="38577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Users\123\Desktop\фото к стиху\22.jpg"/>
          <p:cNvPicPr/>
          <p:nvPr/>
        </p:nvPicPr>
        <p:blipFill>
          <a:blip r:embed="rId2"/>
          <a:stretch/>
        </p:blipFill>
        <p:spPr>
          <a:xfrm>
            <a:off x="4786200" y="2500200"/>
            <a:ext cx="2630520" cy="3894120"/>
          </a:xfrm>
          <a:prstGeom prst="rect">
            <a:avLst/>
          </a:prstGeom>
          <a:ln w="0">
            <a:noFill/>
          </a:ln>
        </p:spPr>
      </p:pic>
      <p:grpSp>
        <p:nvGrpSpPr>
          <p:cNvPr id="185" name="TextBox 7"/>
          <p:cNvGrpSpPr/>
          <p:nvPr/>
        </p:nvGrpSpPr>
        <p:grpSpPr>
          <a:xfrm>
            <a:off x="219240" y="5962680"/>
            <a:ext cx="1603080" cy="772920"/>
            <a:chOff x="219240" y="5962680"/>
            <a:chExt cx="1603080" cy="772920"/>
          </a:xfrm>
        </p:grpSpPr>
        <p:pic>
          <p:nvPicPr>
            <p:cNvPr id="186" name="TextBox 7" descr=""/>
            <p:cNvPicPr/>
            <p:nvPr/>
          </p:nvPicPr>
          <p:blipFill>
            <a:blip r:embed="rId3"/>
            <a:stretch/>
          </p:blipFill>
          <p:spPr>
            <a:xfrm>
              <a:off x="219240" y="5962680"/>
              <a:ext cx="16030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28760" y="607212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TextBox 5"/>
          <p:cNvGrpSpPr/>
          <p:nvPr/>
        </p:nvGrpSpPr>
        <p:grpSpPr>
          <a:xfrm>
            <a:off x="7437600" y="5962680"/>
            <a:ext cx="1834920" cy="772920"/>
            <a:chOff x="7437600" y="5962680"/>
            <a:chExt cx="1834920" cy="772920"/>
          </a:xfrm>
        </p:grpSpPr>
        <p:pic>
          <p:nvPicPr>
            <p:cNvPr id="189" name="TextBox 5" descr=""/>
            <p:cNvPicPr/>
            <p:nvPr/>
          </p:nvPicPr>
          <p:blipFill>
            <a:blip r:embed="rId4"/>
            <a:stretch/>
          </p:blipFill>
          <p:spPr>
            <a:xfrm>
              <a:off x="7437600" y="5962680"/>
              <a:ext cx="1834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7643880" y="607212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Прямоугольник 6"/>
          <p:cNvSpPr/>
          <p:nvPr/>
        </p:nvSpPr>
        <p:spPr>
          <a:xfrm>
            <a:off x="500040" y="35712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Мечты их не взлетят волшебной ста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Над взрослыми серьезными людь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в чём-то человечество отстан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 в чём-то обеднеет целый мир.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8" descr="C:\Users\123\Desktop\фото к стиху\14950-007.jpg"/>
          <p:cNvPicPr/>
          <p:nvPr/>
        </p:nvPicPr>
        <p:blipFill>
          <a:blip r:embed="rId1"/>
          <a:stretch/>
        </p:blipFill>
        <p:spPr>
          <a:xfrm>
            <a:off x="966960" y="3017880"/>
            <a:ext cx="3720960" cy="2922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123\Desktop\фото к стиху\8230.jpg"/>
          <p:cNvPicPr/>
          <p:nvPr/>
        </p:nvPicPr>
        <p:blipFill>
          <a:blip r:embed="rId2"/>
          <a:stretch/>
        </p:blipFill>
        <p:spPr>
          <a:xfrm>
            <a:off x="4857840" y="2500200"/>
            <a:ext cx="229536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9"/>
          <p:cNvSpPr/>
          <p:nvPr/>
        </p:nvSpPr>
        <p:spPr>
          <a:xfrm>
            <a:off x="357120" y="428760"/>
            <a:ext cx="828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Их губы запеклись в последнем крик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В предсмертном зове милых мам своих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О, матери стран малых и великих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Услышьте их и помните о них!</a:t>
            </a:r>
            <a:r>
              <a:rPr b="0" lang="ru-RU" sz="32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TextBox 11"/>
          <p:cNvGrpSpPr/>
          <p:nvPr/>
        </p:nvGrpSpPr>
        <p:grpSpPr>
          <a:xfrm>
            <a:off x="219240" y="5962680"/>
            <a:ext cx="1603080" cy="772920"/>
            <a:chOff x="219240" y="5962680"/>
            <a:chExt cx="1603080" cy="772920"/>
          </a:xfrm>
        </p:grpSpPr>
        <p:pic>
          <p:nvPicPr>
            <p:cNvPr id="196" name="TextBox 11" descr=""/>
            <p:cNvPicPr/>
            <p:nvPr/>
          </p:nvPicPr>
          <p:blipFill>
            <a:blip r:embed="rId3"/>
            <a:stretch/>
          </p:blipFill>
          <p:spPr>
            <a:xfrm>
              <a:off x="219240" y="5962680"/>
              <a:ext cx="160308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428760" y="6072120"/>
              <a:ext cx="1214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8" name="TextBox 12"/>
          <p:cNvGrpSpPr/>
          <p:nvPr/>
        </p:nvGrpSpPr>
        <p:grpSpPr>
          <a:xfrm>
            <a:off x="7149960" y="5894280"/>
            <a:ext cx="1835280" cy="768600"/>
            <a:chOff x="7149960" y="5894280"/>
            <a:chExt cx="1835280" cy="768600"/>
          </a:xfrm>
        </p:grpSpPr>
        <p:pic>
          <p:nvPicPr>
            <p:cNvPr id="199" name="TextBox 12" descr=""/>
            <p:cNvPicPr/>
            <p:nvPr/>
          </p:nvPicPr>
          <p:blipFill>
            <a:blip r:embed="rId4"/>
            <a:stretch/>
          </p:blipFill>
          <p:spPr>
            <a:xfrm>
              <a:off x="7149960" y="5894280"/>
              <a:ext cx="18352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7358040" y="6000840"/>
              <a:ext cx="1500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пере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 advTm="6000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C:\Users\123\Desktop\55335371_109.jpg"/>
          <p:cNvPicPr/>
          <p:nvPr/>
        </p:nvPicPr>
        <p:blipFill>
          <a:blip r:embed="rId1"/>
          <a:stretch/>
        </p:blipFill>
        <p:spPr>
          <a:xfrm>
            <a:off x="857160" y="3214800"/>
            <a:ext cx="3548160" cy="22143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23\Desktop\55335371_109.jpg"/>
          <p:cNvPicPr/>
          <p:nvPr/>
        </p:nvPicPr>
        <p:blipFill>
          <a:blip r:embed="rId2"/>
          <a:stretch/>
        </p:blipFill>
        <p:spPr>
          <a:xfrm>
            <a:off x="285840" y="4071960"/>
            <a:ext cx="3547800" cy="2214720"/>
          </a:xfrm>
          <a:prstGeom prst="rect">
            <a:avLst/>
          </a:prstGeom>
          <a:ln w="0">
            <a:noFill/>
          </a:ln>
        </p:spPr>
      </p:pic>
      <p:grpSp>
        <p:nvGrpSpPr>
          <p:cNvPr id="203" name="TextBox 26"/>
          <p:cNvGrpSpPr/>
          <p:nvPr/>
        </p:nvGrpSpPr>
        <p:grpSpPr>
          <a:xfrm>
            <a:off x="7149960" y="5821200"/>
            <a:ext cx="1683000" cy="768600"/>
            <a:chOff x="7149960" y="5821200"/>
            <a:chExt cx="1683000" cy="768600"/>
          </a:xfrm>
        </p:grpSpPr>
        <p:pic>
          <p:nvPicPr>
            <p:cNvPr id="204" name="TextBox 26" descr=""/>
            <p:cNvPicPr/>
            <p:nvPr/>
          </p:nvPicPr>
          <p:blipFill>
            <a:blip r:embed="rId3"/>
            <a:stretch/>
          </p:blipFill>
          <p:spPr>
            <a:xfrm>
              <a:off x="7149960" y="5821200"/>
              <a:ext cx="168300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58040" y="5929200"/>
              <a:ext cx="142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выхо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TextBox 7"/>
          <p:cNvGrpSpPr/>
          <p:nvPr/>
        </p:nvGrpSpPr>
        <p:grpSpPr>
          <a:xfrm>
            <a:off x="146160" y="5962680"/>
            <a:ext cx="1603440" cy="772920"/>
            <a:chOff x="146160" y="5962680"/>
            <a:chExt cx="1603440" cy="772920"/>
          </a:xfrm>
        </p:grpSpPr>
        <p:pic>
          <p:nvPicPr>
            <p:cNvPr id="207" name="TextBox 7" descr=""/>
            <p:cNvPicPr/>
            <p:nvPr/>
          </p:nvPicPr>
          <p:blipFill>
            <a:blip r:embed="rId4"/>
            <a:stretch/>
          </p:blipFill>
          <p:spPr>
            <a:xfrm>
              <a:off x="146160" y="5962680"/>
              <a:ext cx="160344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57120" y="6072120"/>
              <a:ext cx="121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Прямоугольник 8"/>
          <p:cNvSpPr/>
          <p:nvPr/>
        </p:nvSpPr>
        <p:spPr>
          <a:xfrm>
            <a:off x="642960" y="714240"/>
            <a:ext cx="7929720" cy="2104920"/>
          </a:xfrm>
          <a:prstGeom prst="rect">
            <a:avLst/>
          </a:prstGeom>
          <a:gradFill rotWithShape="0">
            <a:gsLst>
              <a:gs pos="0">
                <a:srgbClr val="fff6e0"/>
              </a:gs>
              <a:gs pos="100000">
                <a:srgbClr val="ffe5ae"/>
              </a:gs>
            </a:gsLst>
            <a:lin ang="5400000"/>
          </a:gradFill>
          <a:ln w="11520">
            <a:solidFill>
              <a:srgbClr val="feb80a"/>
            </a:solidFill>
            <a:miter/>
          </a:ln>
          <a:effectLst>
            <a:outerShdw dist="24840" dir="5400000" blurRad="0" rotWithShape="0">
              <a:srgbClr val="b979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чная память всем погибшим во Второй мировой вой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1" descr="C:\Users\123\Desktop\учитель года сочи\Георгиевская-ленточка_2.jpg"/>
          <p:cNvPicPr/>
          <p:nvPr/>
        </p:nvPicPr>
        <p:blipFill>
          <a:blip r:embed="rId5"/>
          <a:stretch/>
        </p:blipFill>
        <p:spPr>
          <a:xfrm>
            <a:off x="214200" y="5357880"/>
            <a:ext cx="3975120" cy="1249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16185E-006 C 0.00903 -4.16185E-006 0.01858 -4.16185000000002E-006 0.02778 0.00024 C 0.03976 0.00024 0.05069 0.0007 0.06285 0.00093 C 0.0658 0.00093 0.06858 0.00116 0.07153 0.00116 C 0.07621 0.00116 0.08108 0.00116 0.08559 0.00139 C 0.09184 0.00139 0.10121 0.00185 0.1066 0.00209 C 0.10781 0.00209 0.10833 0.00232 0.11007 0.00255 C 0.11337 0.00255 0.12066 0.00278 0.12066 0.00301 C 0.12361 0.00301 0.12604 0.00324 0.12934 0.00324 C 0.13108 0.00347 0.13316 0.00347 0.13455 0.00347 C 0.15851 0.00463 0.17882 0.00625 0.20642 0.00671 C 0.21423 0.0074 0.21753 0.0074 0.22743 0.00763 C 0.23403 0.0081 0.23993 0.00833 0.24861 0.00856 C 0.26111 0.00948 0.28194 0.01018 0.2993 0.01064 C 0.31059 0.0111 0.32222 0.01156 0.33437 0.01203 C 0.34548 0.01318 0.33246 0.01203 0.34826 0.01295 C 0.36441 0.01388 0.3526 0.01365 0.36406 0.01388 C 0.36597 0.01388 0.36805 0.01411 0.36944 0.01411 C 0.37621 0.0148 0.36476 0.01434 0.37621 0.01457 C 0.38871 0.01526 0.40538 0.01665 0.41996 0.01665 C 0.44514 0.01688 0.47031 0.01665 0.49548 0.01665 E">
                                      <p:cBhvr>
                                        <p:cTn id="2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93642E-007 C 0.00625 -6.93642E-007 0.01284 -6.93641999999998E-007 0.01944 0.00023 C 0.02743 0.00023 0.03506 0.00116 0.04357 0.00185 C 0.04583 0.00185 0.04774 0.00208 0.04982 0.00208 C 0.05295 0.00208 0.05625 0.00208 0.05954 0.00278 C 0.06371 0.00278 0.07031 0.0037 0.0743 0.00416 C 0.07482 0.00416 0.07534 0.00462 0.07656 0.00532 C 0.07881 0.00532 0.08402 0.00578 0.08402 0.00624 C 0.08611 0.00624 0.08784 0.00671 0.08993 0.00671 C 0.09114 0.0074 0.09253 0.0074 0.09375 0.0074 C 0.11006 0.00948 0.1243 0.01318 0.14357 0.0141 C 0.14895 0.01572 0.15138 0.01572 0.15833 0.01642 C 0.16284 0.01734 0.16701 0.01757 0.17291 0.01827 C 0.18177 0.02035 0.19618 0.02197 0.20833 0.02289 C 0.21614 0.02382 0.22413 0.02474 0.23281 0.02567 C 0.24045 0.02844 0.23142 0.02567 0.24236 0.02775 C 0.25364 0.0296 0.24548 0.02936 0.25329 0.0296 C 0.25451 0.0296 0.25607 0.03029 0.25729 0.03029 C 0.2618 0.03191 0.25399 0.03052 0.2618 0.03121 C 0.27048 0.03283 0.28211 0.03584 0.29236 0.03584 C 0.30972 0.03653 0.32743 0.03584 0.34496 0.03584 E">
                                      <p:cBhvr>
                                        <p:cTn id="24" dur="20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23</cp:lastModifiedBy>
  <dcterms:modified xsi:type="dcterms:W3CDTF">2015-02-09T17:47:38Z</dcterms:modified>
  <cp:revision>107</cp:revision>
  <dc:subject/>
  <dc:title>Слайд 1</dc:title>
</cp:coreProperties>
</file>