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AD1-068C-489A-9957-3D7A20B7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A05-3241-4B18-8862-CA01279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D5B-7D28-4F94-8F12-6E68B428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AC8-4646-4424-8957-4D49C358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213BC-0E48-4B57-B956-58664691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1E3D-1739-44C0-8CFE-0237610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4406B-D2A5-4C57-AE6B-E6098B7C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C746-67EE-4034-B5D6-B2D09F86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B4515-97F4-4618-B2C9-62F9A812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8CA0-FB72-46CA-ACA5-6EB1C60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AB6FB-E2BD-4D94-B99A-97EA5788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053-F314-421A-B353-64CA4E84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49887-1353-42CF-9E0E-3F0362D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C04CD-DFBA-4328-BEC7-8EF9CD8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502A1-BE35-4CC4-A1E8-F370189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C149D-B3BE-4D8B-95A5-7F90533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1279-6706-4596-A7B6-3885D76A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3BAF-550F-49F1-A746-C7340260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780B-7D65-4319-8C50-3D31426E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9FB6-8CC9-4D73-94D8-3B52C6E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BEF5-581D-41FD-AE94-C37CF3E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3D16-6EA9-4CBB-8550-DD9CE43B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A0C-EED6-4DFD-9A6A-F31CEC2C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6BD2-AA60-4652-AFC5-2A30800D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DAD0-CFE9-4B25-B02A-ED0422E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792C-E878-4133-B912-7D3F72A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CFB3-FC3B-406E-9059-935EF6AE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A1E8-727A-4958-98ED-D061E25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DD1A-9338-4843-8BA4-A3533CC3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3D14-DE9E-4B8C-8DEC-FF7CF1E5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BF315-8505-4F5A-B359-D28CE740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6110D-CA95-4F2D-9367-75CFB9F7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3105C-6C65-4752-B715-C06CDB8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811-F9BC-4B5D-B7B6-733B62E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32B8C-7D50-430C-A86E-394412A0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1B8B5C-2D2F-467A-9110-673F3FD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12DFE-A126-47BC-B480-D97EEB6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2CC16-6B5B-4EDC-A6D2-7E8D4D78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1D121-F431-40EC-8DB7-C0AEBDB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D7D9E-F61E-41D4-BA36-872A371A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0293F4-D36F-4ADE-8DDE-3B9965E0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833999-4BB9-4CB7-93DE-1C3C9A46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C8B76-8DEB-44A3-8026-EEF53010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2A4-92C1-4B97-AB33-3A18FE8F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BA2-9F2E-43D2-A03E-7A2FF47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165-DB2D-4121-886A-27D5B0C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0B1-8100-4078-AE5F-E8E2415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BCB-0265-47A8-81AD-82E43C1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FB9-CDFC-487B-AD43-83CBF08F1229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99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24E-6AA1-4CC9-AA95-B07169D1482B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1E59-3921-44AF-94D7-D95337C6F8E3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5C3D-C2EE-4F13-A50D-B2560DE33B37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123\Desktop\фото к стиху\Памятник-в-Лидице.jpg"/>
          <p:cNvPicPr/>
          <p:nvPr/>
        </p:nvPicPr>
        <p:blipFill>
          <a:blip r:embed="rId1"/>
          <a:stretch/>
        </p:blipFill>
        <p:spPr>
          <a:xfrm>
            <a:off x="1285920" y="1643040"/>
            <a:ext cx="6286320" cy="449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TextBox 4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72" name="TextBox 4" descr=""/>
            <p:cNvPicPr/>
            <p:nvPr/>
          </p:nvPicPr>
          <p:blipFill>
            <a:blip r:embed="rId2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"/>
          <p:cNvSpPr/>
          <p:nvPr/>
        </p:nvSpPr>
        <p:spPr>
          <a:xfrm>
            <a:off x="428760" y="3571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и 13 миллионов детей, погибших во Второй мировой вой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123\Desktop\фото к стиху\10.gif"/>
          <p:cNvPicPr/>
          <p:nvPr/>
        </p:nvPicPr>
        <p:blipFill>
          <a:blip r:embed="rId1"/>
          <a:stretch/>
        </p:blipFill>
        <p:spPr>
          <a:xfrm>
            <a:off x="1928880" y="2357280"/>
            <a:ext cx="4857840" cy="4097520"/>
          </a:xfrm>
          <a:prstGeom prst="rect">
            <a:avLst/>
          </a:prstGeom>
          <a:ln w="0">
            <a:noFill/>
          </a:ln>
        </p:spPr>
      </p:pic>
      <p:grpSp>
        <p:nvGrpSpPr>
          <p:cNvPr id="176" name="TextBox 6"/>
          <p:cNvGrpSpPr/>
          <p:nvPr/>
        </p:nvGrpSpPr>
        <p:grpSpPr>
          <a:xfrm>
            <a:off x="73080" y="5894280"/>
            <a:ext cx="1603440" cy="768600"/>
            <a:chOff x="73080" y="5894280"/>
            <a:chExt cx="1603440" cy="768600"/>
          </a:xfrm>
        </p:grpSpPr>
        <p:pic>
          <p:nvPicPr>
            <p:cNvPr id="177" name="TextBox 6" descr=""/>
            <p:cNvPicPr/>
            <p:nvPr/>
          </p:nvPicPr>
          <p:blipFill>
            <a:blip r:embed="rId2"/>
            <a:stretch/>
          </p:blipFill>
          <p:spPr>
            <a:xfrm>
              <a:off x="73080" y="5894280"/>
              <a:ext cx="1603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85840" y="600084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TextBox 7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80" name="TextBox 7" descr=""/>
            <p:cNvPicPr/>
            <p:nvPr/>
          </p:nvPicPr>
          <p:blipFill>
            <a:blip r:embed="rId4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5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Прямоугольник 5"/>
          <p:cNvSpPr/>
          <p:nvPr/>
        </p:nvSpPr>
        <p:spPr>
          <a:xfrm>
            <a:off x="357120" y="35712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Тринадцать миллионов детских жиз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горело в адском пламени вой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смех фонтанов радости не брыз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 мирное цветение весны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Users\123\Desktop\фото к стиху\23.jpg"/>
          <p:cNvPicPr/>
          <p:nvPr/>
        </p:nvPicPr>
        <p:blipFill>
          <a:blip r:embed="rId1"/>
          <a:stretch/>
        </p:blipFill>
        <p:spPr>
          <a:xfrm>
            <a:off x="1714680" y="250020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123\Desktop\фото к стиху\22.jpg"/>
          <p:cNvPicPr/>
          <p:nvPr/>
        </p:nvPicPr>
        <p:blipFill>
          <a:blip r:embed="rId2"/>
          <a:stretch/>
        </p:blipFill>
        <p:spPr>
          <a:xfrm>
            <a:off x="4786200" y="2500200"/>
            <a:ext cx="2630520" cy="3894120"/>
          </a:xfrm>
          <a:prstGeom prst="rect">
            <a:avLst/>
          </a:prstGeom>
          <a:ln w="0">
            <a:noFill/>
          </a:ln>
        </p:spPr>
      </p:pic>
      <p:grpSp>
        <p:nvGrpSpPr>
          <p:cNvPr id="185" name="TextBox 7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86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TextBox 5"/>
          <p:cNvGrpSpPr/>
          <p:nvPr/>
        </p:nvGrpSpPr>
        <p:grpSpPr>
          <a:xfrm>
            <a:off x="7437600" y="5962680"/>
            <a:ext cx="1834920" cy="772920"/>
            <a:chOff x="7437600" y="5962680"/>
            <a:chExt cx="1834920" cy="772920"/>
          </a:xfrm>
        </p:grpSpPr>
        <p:pic>
          <p:nvPicPr>
            <p:cNvPr id="189" name="TextBox 5" descr=""/>
            <p:cNvPicPr/>
            <p:nvPr/>
          </p:nvPicPr>
          <p:blipFill>
            <a:blip r:embed="rId4"/>
            <a:stretch/>
          </p:blipFill>
          <p:spPr>
            <a:xfrm>
              <a:off x="7437600" y="5962680"/>
              <a:ext cx="1834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64388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Прямоугольник 6"/>
          <p:cNvSpPr/>
          <p:nvPr/>
        </p:nvSpPr>
        <p:spPr>
          <a:xfrm>
            <a:off x="500040" y="35712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Мечты их не взлетят волшебной ста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д взрослыми серьезными людь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человечество отстан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обеднеет целый мир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C:\Users\123\Desktop\фото к стиху\14950-007.jpg"/>
          <p:cNvPicPr/>
          <p:nvPr/>
        </p:nvPicPr>
        <p:blipFill>
          <a:blip r:embed="rId1"/>
          <a:stretch/>
        </p:blipFill>
        <p:spPr>
          <a:xfrm>
            <a:off x="966960" y="3017880"/>
            <a:ext cx="3720960" cy="292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123\Desktop\фото к стиху\8230.jpg"/>
          <p:cNvPicPr/>
          <p:nvPr/>
        </p:nvPicPr>
        <p:blipFill>
          <a:blip r:embed="rId2"/>
          <a:stretch/>
        </p:blipFill>
        <p:spPr>
          <a:xfrm>
            <a:off x="4857840" y="2500200"/>
            <a:ext cx="2295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9"/>
          <p:cNvSpPr/>
          <p:nvPr/>
        </p:nvSpPr>
        <p:spPr>
          <a:xfrm>
            <a:off x="357120" y="4287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губы запеклись в последнем кри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редсмертном зове милых мам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, матери стран малых и велики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Услышьте их и помните о них!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TextBox 11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96" name="TextBox 11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TextBox 12"/>
          <p:cNvGrpSpPr/>
          <p:nvPr/>
        </p:nvGrpSpPr>
        <p:grpSpPr>
          <a:xfrm>
            <a:off x="7149960" y="5894280"/>
            <a:ext cx="1835280" cy="768600"/>
            <a:chOff x="7149960" y="5894280"/>
            <a:chExt cx="1835280" cy="768600"/>
          </a:xfrm>
        </p:grpSpPr>
        <p:pic>
          <p:nvPicPr>
            <p:cNvPr id="199" name="TextBox 12" descr=""/>
            <p:cNvPicPr/>
            <p:nvPr/>
          </p:nvPicPr>
          <p:blipFill>
            <a:blip r:embed="rId4"/>
            <a:stretch/>
          </p:blipFill>
          <p:spPr>
            <a:xfrm>
              <a:off x="7149960" y="5894280"/>
              <a:ext cx="18352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358040" y="60008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6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C:\Users\123\Desktop\55335371_109.jpg"/>
          <p:cNvPicPr/>
          <p:nvPr/>
        </p:nvPicPr>
        <p:blipFill>
          <a:blip r:embed="rId1"/>
          <a:stretch/>
        </p:blipFill>
        <p:spPr>
          <a:xfrm>
            <a:off x="857160" y="3214800"/>
            <a:ext cx="3548160" cy="221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23\Desktop\55335371_109.jpg"/>
          <p:cNvPicPr/>
          <p:nvPr/>
        </p:nvPicPr>
        <p:blipFill>
          <a:blip r:embed="rId2"/>
          <a:stretch/>
        </p:blipFill>
        <p:spPr>
          <a:xfrm>
            <a:off x="285840" y="4071960"/>
            <a:ext cx="3547800" cy="2214720"/>
          </a:xfrm>
          <a:prstGeom prst="rect">
            <a:avLst/>
          </a:prstGeom>
          <a:ln w="0">
            <a:noFill/>
          </a:ln>
        </p:spPr>
      </p:pic>
      <p:grpSp>
        <p:nvGrpSpPr>
          <p:cNvPr id="203" name="TextBox 26"/>
          <p:cNvGrpSpPr/>
          <p:nvPr/>
        </p:nvGrpSpPr>
        <p:grpSpPr>
          <a:xfrm>
            <a:off x="7149960" y="5821200"/>
            <a:ext cx="1683000" cy="768600"/>
            <a:chOff x="7149960" y="5821200"/>
            <a:chExt cx="1683000" cy="768600"/>
          </a:xfrm>
        </p:grpSpPr>
        <p:pic>
          <p:nvPicPr>
            <p:cNvPr id="204" name="TextBox 26" descr=""/>
            <p:cNvPicPr/>
            <p:nvPr/>
          </p:nvPicPr>
          <p:blipFill>
            <a:blip r:embed="rId3"/>
            <a:stretch/>
          </p:blipFill>
          <p:spPr>
            <a:xfrm>
              <a:off x="7149960" y="5821200"/>
              <a:ext cx="16830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58040" y="592920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ых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TextBox 7"/>
          <p:cNvGrpSpPr/>
          <p:nvPr/>
        </p:nvGrpSpPr>
        <p:grpSpPr>
          <a:xfrm>
            <a:off x="146160" y="5962680"/>
            <a:ext cx="1603440" cy="772920"/>
            <a:chOff x="146160" y="5962680"/>
            <a:chExt cx="1603440" cy="772920"/>
          </a:xfrm>
        </p:grpSpPr>
        <p:pic>
          <p:nvPicPr>
            <p:cNvPr id="207" name="TextBox 7" descr=""/>
            <p:cNvPicPr/>
            <p:nvPr/>
          </p:nvPicPr>
          <p:blipFill>
            <a:blip r:embed="rId4"/>
            <a:stretch/>
          </p:blipFill>
          <p:spPr>
            <a:xfrm>
              <a:off x="146160" y="5962680"/>
              <a:ext cx="16034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57120" y="607212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Прямоугольник 8"/>
          <p:cNvSpPr/>
          <p:nvPr/>
        </p:nvSpPr>
        <p:spPr>
          <a:xfrm>
            <a:off x="642960" y="714240"/>
            <a:ext cx="7929720" cy="2104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ная память всем погибшим во Второй мировой вой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1" descr="C:\Users\123\Desktop\учитель года сочи\Георгиевская-ленточка_2.jpg"/>
          <p:cNvPicPr/>
          <p:nvPr/>
        </p:nvPicPr>
        <p:blipFill>
          <a:blip r:embed="rId5"/>
          <a:stretch/>
        </p:blipFill>
        <p:spPr>
          <a:xfrm>
            <a:off x="214200" y="5357880"/>
            <a:ext cx="3975120" cy="1249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C 0.00903 -4.16185E-006 0.01858 -4.16185000000002E-006 0.02778 0.00024 C 0.03976 0.00024 0.05069 0.0007 0.06285 0.00093 C 0.0658 0.00093 0.06858 0.00116 0.07153 0.00116 C 0.07621 0.00116 0.08108 0.00116 0.08559 0.00139 C 0.09184 0.00139 0.10121 0.00185 0.1066 0.00209 C 0.10781 0.00209 0.10833 0.00232 0.11007 0.00255 C 0.11337 0.00255 0.12066 0.00278 0.12066 0.00301 C 0.12361 0.00301 0.12604 0.00324 0.12934 0.00324 C 0.13108 0.00347 0.13316 0.00347 0.13455 0.00347 C 0.15851 0.00463 0.17882 0.00625 0.20642 0.00671 C 0.21423 0.0074 0.21753 0.0074 0.22743 0.00763 C 0.23403 0.0081 0.23993 0.00833 0.24861 0.00856 C 0.26111 0.00948 0.28194 0.01018 0.2993 0.01064 C 0.31059 0.0111 0.32222 0.01156 0.33437 0.01203 C 0.34548 0.01318 0.33246 0.01203 0.34826 0.01295 C 0.36441 0.01388 0.3526 0.01365 0.36406 0.01388 C 0.36597 0.01388 0.36805 0.01411 0.36944 0.01411 C 0.37621 0.0148 0.36476 0.01434 0.37621 0.01457 C 0.38871 0.01526 0.40538 0.01665 0.41996 0.01665 C 0.44514 0.01688 0.47031 0.01665 0.49548 0.01665 E">
                                      <p:cBhvr>
                                        <p:cTn id="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93642E-007 C 0.00625 -6.93642E-007 0.01284 -6.93641999999998E-007 0.01944 0.00023 C 0.02743 0.00023 0.03506 0.00116 0.04357 0.00185 C 0.04583 0.00185 0.04774 0.00208 0.04982 0.00208 C 0.05295 0.00208 0.05625 0.00208 0.05954 0.00278 C 0.06371 0.00278 0.07031 0.0037 0.0743 0.00416 C 0.07482 0.00416 0.07534 0.00462 0.07656 0.00532 C 0.07881 0.00532 0.08402 0.00578 0.08402 0.00624 C 0.08611 0.00624 0.08784 0.00671 0.08993 0.00671 C 0.09114 0.0074 0.09253 0.0074 0.09375 0.0074 C 0.11006 0.00948 0.1243 0.01318 0.14357 0.0141 C 0.14895 0.01572 0.15138 0.01572 0.15833 0.01642 C 0.16284 0.01734 0.16701 0.01757 0.17291 0.01827 C 0.18177 0.02035 0.19618 0.02197 0.20833 0.02289 C 0.21614 0.02382 0.22413 0.02474 0.23281 0.02567 C 0.24045 0.02844 0.23142 0.02567 0.24236 0.02775 C 0.25364 0.0296 0.24548 0.02936 0.25329 0.0296 C 0.25451 0.0296 0.25607 0.03029 0.25729 0.03029 C 0.2618 0.03191 0.25399 0.03052 0.2618 0.03121 C 0.27048 0.03283 0.28211 0.03584 0.29236 0.03584 C 0.30972 0.03653 0.32743 0.03584 0.34496 0.03584 E">
                                      <p:cBhvr>
                                        <p:cTn id="2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5-02-09T17:47:38Z</dcterms:modified>
  <cp:revision>107</cp:revision>
  <dc:subject/>
  <dc:title>Слайд 1</dc:title>
</cp:coreProperties>
</file>