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7B5B-72B6-4EF6-922C-F08D0BB67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66DB-AD2A-42BC-91E0-959D7E3B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533D-AEB3-406B-81D4-66AC5BF90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498A-E186-4F98-82E4-F11B826AB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31A95-2497-45D6-8718-BC6DBCD95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2B9EB-6564-4EEB-A551-40377036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2EAEB-E60C-4498-BCE1-723A02A3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5FF9F-7865-4001-9646-AE84BD45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66336-00CB-4116-B1E7-B3A952B1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25270-BE74-42AD-8CD1-5A45062E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4C0E0-9A0D-4459-8A12-4F30F1CF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243C-1A32-4559-B195-EED618FE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FDE3A-0FC2-4595-8B35-1DF6B8FE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ACEEC-4E9B-4387-8C46-B9B6C8FC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52CC56-89D3-4857-82D5-33B95159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099B4-D086-4C5C-AD05-51B46E648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2CC17-49B6-4760-A31D-1EC9CDB3A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64AC3-8605-47FA-AC8E-D3C3E18FA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930FF-BC6A-40D2-8820-9AFBE64A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0924D-6568-4023-A0AA-44E8DFA0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0A2D3-84DC-4762-8D40-0BBAACED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AF5B3-9AF1-45B6-AB72-D63E2D92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A86F-7117-48DA-9A85-83650786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2F544-8ED1-4633-87B0-647EE887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69375-FD25-4184-8004-73955651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85E98-5850-4976-963B-6DB03FAC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9EA4C-7B6E-4445-B660-A3C65FAB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7D5FA-D9A5-4364-B9A5-745362B3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3B6EB-AEB2-494B-B5D8-7D46E4FE2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683C6-DBBA-452D-8E87-560EF36D0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88AE17-7509-46C9-8FF8-C547CC536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89A1F5-2C5E-4A9B-B882-8386715D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1584E9-E48A-4146-955E-17B18985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7608-E461-4AC0-BAD2-298B59E4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0C9EA5-977D-4744-BEB4-A896F468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E201FD-5BB1-4F54-A9E3-AC711018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CD8036-8C87-4324-BF23-002148EE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4B0743-1F55-4968-B675-F3D032C9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EBB148-7F46-4E4E-8B28-CB0B4556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45CA46-6075-407B-B829-6868C910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35E926-A977-4FBD-8181-82FE924B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A07C8F-2686-438F-98A7-9151DEBB7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D4BBB5-62CE-4B49-AFAC-A0EA4C778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5F6B-C49F-4E2E-962A-E1F840A0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AF84-E98A-4D18-A2D6-A01BA9BD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8EF6-1149-4241-A320-9B1AD3BD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9D0D-D986-4615-8BBA-9FF7EBF1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6E7C-E876-4899-ACB0-D35480A6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7de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373B-D5EE-4120-B622-D4F1F5289229}" type="slidenum">
              <a:rPr b="0" lang="ru-RU" sz="1600" spc="-1" strike="noStrike">
                <a:solidFill>
                  <a:srgbClr val="e7de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8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8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eb80a"/>
          </a:solidFill>
          <a:ln w="39960">
            <a:solidFill>
              <a:srgbClr val="feb80a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7de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3043-EAB4-4774-B285-3924651468B2}" type="slidenum">
              <a:rPr b="0" lang="ru-RU" sz="1600" spc="-1" strike="noStrike">
                <a:solidFill>
                  <a:srgbClr val="e7de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7de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278F-1896-4529-ACF6-C9B63BB5E3EB}" type="slidenum">
              <a:rPr b="0" lang="ru-RU" sz="1600" spc="-1" strike="noStrike">
                <a:solidFill>
                  <a:srgbClr val="e7de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8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8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B5DA-01B9-44D6-B4E1-187DC3D402FE}" type="slidenum">
              <a:rPr b="0" lang="ru-RU" sz="1600" spc="-1" strike="noStrike">
                <a:solidFill>
                  <a:srgbClr val="e7de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7de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9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C:\Users\123\Desktop\фото к стиху\Памятник-в-Лидице.jpg"/>
          <p:cNvPicPr/>
          <p:nvPr/>
        </p:nvPicPr>
        <p:blipFill>
          <a:blip r:embed="rId1"/>
          <a:stretch/>
        </p:blipFill>
        <p:spPr>
          <a:xfrm>
            <a:off x="1285920" y="1643040"/>
            <a:ext cx="6286320" cy="4492800"/>
          </a:xfrm>
          <a:prstGeom prst="rect">
            <a:avLst/>
          </a:prstGeom>
          <a:ln w="0">
            <a:noFill/>
          </a:ln>
        </p:spPr>
      </p:pic>
      <p:grpSp>
        <p:nvGrpSpPr>
          <p:cNvPr id="171" name="TextBox 4"/>
          <p:cNvGrpSpPr/>
          <p:nvPr/>
        </p:nvGrpSpPr>
        <p:grpSpPr>
          <a:xfrm>
            <a:off x="7004160" y="5962680"/>
            <a:ext cx="1841400" cy="772920"/>
            <a:chOff x="7004160" y="5962680"/>
            <a:chExt cx="1841400" cy="772920"/>
          </a:xfrm>
        </p:grpSpPr>
        <p:pic>
          <p:nvPicPr>
            <p:cNvPr id="172" name="TextBox 4" descr=""/>
            <p:cNvPicPr/>
            <p:nvPr/>
          </p:nvPicPr>
          <p:blipFill>
            <a:blip r:embed="rId2"/>
            <a:stretch/>
          </p:blipFill>
          <p:spPr>
            <a:xfrm>
              <a:off x="7004160" y="5962680"/>
              <a:ext cx="184140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7215120" y="6072120"/>
              <a:ext cx="150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8dc765"/>
                  </a:solidFill>
                  <a:uFillTx/>
                  <a:latin typeface="Calibri"/>
                  <a:hlinkClick r:id="rId3" action="ppaction://hlinksldjump"/>
                </a:rPr>
                <a:t>вперед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Прямоугольник 5"/>
          <p:cNvSpPr/>
          <p:nvPr/>
        </p:nvSpPr>
        <p:spPr>
          <a:xfrm>
            <a:off x="428760" y="357120"/>
            <a:ext cx="84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Памяти 13 миллионов детей, погибших во Второй мировой войн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:\Users\123\Desktop\фото к стиху\10.gif"/>
          <p:cNvPicPr/>
          <p:nvPr/>
        </p:nvPicPr>
        <p:blipFill>
          <a:blip r:embed="rId1"/>
          <a:stretch/>
        </p:blipFill>
        <p:spPr>
          <a:xfrm>
            <a:off x="1928880" y="2357280"/>
            <a:ext cx="4857840" cy="4097520"/>
          </a:xfrm>
          <a:prstGeom prst="rect">
            <a:avLst/>
          </a:prstGeom>
          <a:ln w="0">
            <a:noFill/>
          </a:ln>
        </p:spPr>
      </p:pic>
      <p:grpSp>
        <p:nvGrpSpPr>
          <p:cNvPr id="176" name="TextBox 6"/>
          <p:cNvGrpSpPr/>
          <p:nvPr/>
        </p:nvGrpSpPr>
        <p:grpSpPr>
          <a:xfrm>
            <a:off x="73080" y="5894280"/>
            <a:ext cx="1603440" cy="768600"/>
            <a:chOff x="73080" y="5894280"/>
            <a:chExt cx="1603440" cy="768600"/>
          </a:xfrm>
        </p:grpSpPr>
        <p:pic>
          <p:nvPicPr>
            <p:cNvPr id="177" name="TextBox 6" descr=""/>
            <p:cNvPicPr/>
            <p:nvPr/>
          </p:nvPicPr>
          <p:blipFill>
            <a:blip r:embed="rId2"/>
            <a:stretch/>
          </p:blipFill>
          <p:spPr>
            <a:xfrm>
              <a:off x="73080" y="5894280"/>
              <a:ext cx="160344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85840" y="6000840"/>
              <a:ext cx="1214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8dc765"/>
                  </a:solidFill>
                  <a:uFillTx/>
                  <a:latin typeface="Calibri"/>
                  <a:hlinkClick r:id="rId3" action="ppaction://hlinksldjump"/>
                </a:rPr>
                <a:t>назад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TextBox 7"/>
          <p:cNvGrpSpPr/>
          <p:nvPr/>
        </p:nvGrpSpPr>
        <p:grpSpPr>
          <a:xfrm>
            <a:off x="7004160" y="5962680"/>
            <a:ext cx="1841400" cy="772920"/>
            <a:chOff x="7004160" y="5962680"/>
            <a:chExt cx="1841400" cy="772920"/>
          </a:xfrm>
        </p:grpSpPr>
        <p:pic>
          <p:nvPicPr>
            <p:cNvPr id="180" name="TextBox 7" descr=""/>
            <p:cNvPicPr/>
            <p:nvPr/>
          </p:nvPicPr>
          <p:blipFill>
            <a:blip r:embed="rId4"/>
            <a:stretch/>
          </p:blipFill>
          <p:spPr>
            <a:xfrm>
              <a:off x="7004160" y="5962680"/>
              <a:ext cx="184140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7215120" y="6072120"/>
              <a:ext cx="150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8dc765"/>
                  </a:solidFill>
                  <a:uFillTx/>
                  <a:latin typeface="Calibri"/>
                  <a:hlinkClick r:id="rId5" action="ppaction://hlinksldjump"/>
                </a:rPr>
                <a:t>вперед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Прямоугольник 5"/>
          <p:cNvSpPr/>
          <p:nvPr/>
        </p:nvSpPr>
        <p:spPr>
          <a:xfrm>
            <a:off x="357120" y="357120"/>
            <a:ext cx="8429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Тринадцать миллионов детских жизн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Сгорело в адском пламени вой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Их смех фонтанов радости не брызн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На мирное цветение весны.</a:t>
            </a:r>
            <a:r>
              <a:rPr b="0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3" descr="C:\Users\123\Desktop\фото к стиху\23.jpg"/>
          <p:cNvPicPr/>
          <p:nvPr/>
        </p:nvPicPr>
        <p:blipFill>
          <a:blip r:embed="rId1"/>
          <a:stretch/>
        </p:blipFill>
        <p:spPr>
          <a:xfrm>
            <a:off x="1714680" y="2500200"/>
            <a:ext cx="2857320" cy="3857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C:\Users\123\Desktop\фото к стиху\22.jpg"/>
          <p:cNvPicPr/>
          <p:nvPr/>
        </p:nvPicPr>
        <p:blipFill>
          <a:blip r:embed="rId2"/>
          <a:stretch/>
        </p:blipFill>
        <p:spPr>
          <a:xfrm>
            <a:off x="4786200" y="2500200"/>
            <a:ext cx="2630520" cy="3894120"/>
          </a:xfrm>
          <a:prstGeom prst="rect">
            <a:avLst/>
          </a:prstGeom>
          <a:ln w="0">
            <a:noFill/>
          </a:ln>
        </p:spPr>
      </p:pic>
      <p:grpSp>
        <p:nvGrpSpPr>
          <p:cNvPr id="185" name="TextBox 7"/>
          <p:cNvGrpSpPr/>
          <p:nvPr/>
        </p:nvGrpSpPr>
        <p:grpSpPr>
          <a:xfrm>
            <a:off x="219240" y="5962680"/>
            <a:ext cx="1603080" cy="772920"/>
            <a:chOff x="219240" y="5962680"/>
            <a:chExt cx="1603080" cy="772920"/>
          </a:xfrm>
        </p:grpSpPr>
        <p:pic>
          <p:nvPicPr>
            <p:cNvPr id="186" name="TextBox 7" descr=""/>
            <p:cNvPicPr/>
            <p:nvPr/>
          </p:nvPicPr>
          <p:blipFill>
            <a:blip r:embed="rId3"/>
            <a:stretch/>
          </p:blipFill>
          <p:spPr>
            <a:xfrm>
              <a:off x="219240" y="5962680"/>
              <a:ext cx="160308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428760" y="6072120"/>
              <a:ext cx="1214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TextBox 5"/>
          <p:cNvGrpSpPr/>
          <p:nvPr/>
        </p:nvGrpSpPr>
        <p:grpSpPr>
          <a:xfrm>
            <a:off x="7437600" y="5962680"/>
            <a:ext cx="1834920" cy="772920"/>
            <a:chOff x="7437600" y="5962680"/>
            <a:chExt cx="1834920" cy="772920"/>
          </a:xfrm>
        </p:grpSpPr>
        <p:pic>
          <p:nvPicPr>
            <p:cNvPr id="189" name="TextBox 5" descr=""/>
            <p:cNvPicPr/>
            <p:nvPr/>
          </p:nvPicPr>
          <p:blipFill>
            <a:blip r:embed="rId4"/>
            <a:stretch/>
          </p:blipFill>
          <p:spPr>
            <a:xfrm>
              <a:off x="7437600" y="5962680"/>
              <a:ext cx="183492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7643880" y="6072120"/>
              <a:ext cx="150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вперед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Прямоугольник 6"/>
          <p:cNvSpPr/>
          <p:nvPr/>
        </p:nvSpPr>
        <p:spPr>
          <a:xfrm>
            <a:off x="500040" y="357120"/>
            <a:ext cx="82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Мечты их не взлетят волшебной ста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Над взрослыми серьезными людьм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И в чём-то человечество отстане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И в чём-то обеднеет целый мир.</a:t>
            </a:r>
            <a:r>
              <a:rPr b="0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9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8" descr="C:\Users\123\Desktop\фото к стиху\14950-007.jpg"/>
          <p:cNvPicPr/>
          <p:nvPr/>
        </p:nvPicPr>
        <p:blipFill>
          <a:blip r:embed="rId1"/>
          <a:stretch/>
        </p:blipFill>
        <p:spPr>
          <a:xfrm>
            <a:off x="966960" y="3017880"/>
            <a:ext cx="3720960" cy="2922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C:\Users\123\Desktop\фото к стиху\8230.jpg"/>
          <p:cNvPicPr/>
          <p:nvPr/>
        </p:nvPicPr>
        <p:blipFill>
          <a:blip r:embed="rId2"/>
          <a:stretch/>
        </p:blipFill>
        <p:spPr>
          <a:xfrm>
            <a:off x="4857840" y="2500200"/>
            <a:ext cx="2295360" cy="377208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9"/>
          <p:cNvSpPr/>
          <p:nvPr/>
        </p:nvSpPr>
        <p:spPr>
          <a:xfrm>
            <a:off x="357120" y="428760"/>
            <a:ext cx="8286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Их губы запеклись в последнем крик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В предсмертном зове милых мам своих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О, матери стран малых и великих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Услышьте их и помните о них!</a:t>
            </a:r>
            <a:r>
              <a:rPr b="0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TextBox 11"/>
          <p:cNvGrpSpPr/>
          <p:nvPr/>
        </p:nvGrpSpPr>
        <p:grpSpPr>
          <a:xfrm>
            <a:off x="219240" y="5962680"/>
            <a:ext cx="1603080" cy="772920"/>
            <a:chOff x="219240" y="5962680"/>
            <a:chExt cx="1603080" cy="772920"/>
          </a:xfrm>
        </p:grpSpPr>
        <p:pic>
          <p:nvPicPr>
            <p:cNvPr id="196" name="TextBox 11" descr=""/>
            <p:cNvPicPr/>
            <p:nvPr/>
          </p:nvPicPr>
          <p:blipFill>
            <a:blip r:embed="rId3"/>
            <a:stretch/>
          </p:blipFill>
          <p:spPr>
            <a:xfrm>
              <a:off x="219240" y="5962680"/>
              <a:ext cx="160308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428760" y="6072120"/>
              <a:ext cx="1214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8" name="TextBox 12"/>
          <p:cNvGrpSpPr/>
          <p:nvPr/>
        </p:nvGrpSpPr>
        <p:grpSpPr>
          <a:xfrm>
            <a:off x="7149960" y="5894280"/>
            <a:ext cx="1835280" cy="768600"/>
            <a:chOff x="7149960" y="5894280"/>
            <a:chExt cx="1835280" cy="768600"/>
          </a:xfrm>
        </p:grpSpPr>
        <p:pic>
          <p:nvPicPr>
            <p:cNvPr id="199" name="TextBox 12" descr=""/>
            <p:cNvPicPr/>
            <p:nvPr/>
          </p:nvPicPr>
          <p:blipFill>
            <a:blip r:embed="rId4"/>
            <a:stretch/>
          </p:blipFill>
          <p:spPr>
            <a:xfrm>
              <a:off x="7149960" y="5894280"/>
              <a:ext cx="183528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7358040" y="6000840"/>
              <a:ext cx="150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вперед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 advTm="6000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C:\Users\123\Desktop\55335371_109.jpg"/>
          <p:cNvPicPr/>
          <p:nvPr/>
        </p:nvPicPr>
        <p:blipFill>
          <a:blip r:embed="rId1"/>
          <a:stretch/>
        </p:blipFill>
        <p:spPr>
          <a:xfrm>
            <a:off x="857160" y="3214800"/>
            <a:ext cx="3548160" cy="2214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123\Desktop\55335371_109.jpg"/>
          <p:cNvPicPr/>
          <p:nvPr/>
        </p:nvPicPr>
        <p:blipFill>
          <a:blip r:embed="rId2"/>
          <a:stretch/>
        </p:blipFill>
        <p:spPr>
          <a:xfrm>
            <a:off x="285840" y="4071960"/>
            <a:ext cx="3547800" cy="2214720"/>
          </a:xfrm>
          <a:prstGeom prst="rect">
            <a:avLst/>
          </a:prstGeom>
          <a:ln w="0">
            <a:noFill/>
          </a:ln>
        </p:spPr>
      </p:pic>
      <p:grpSp>
        <p:nvGrpSpPr>
          <p:cNvPr id="203" name="TextBox 26"/>
          <p:cNvGrpSpPr/>
          <p:nvPr/>
        </p:nvGrpSpPr>
        <p:grpSpPr>
          <a:xfrm>
            <a:off x="7149960" y="5821200"/>
            <a:ext cx="1683000" cy="768600"/>
            <a:chOff x="7149960" y="5821200"/>
            <a:chExt cx="1683000" cy="768600"/>
          </a:xfrm>
        </p:grpSpPr>
        <p:pic>
          <p:nvPicPr>
            <p:cNvPr id="204" name="TextBox 26" descr=""/>
            <p:cNvPicPr/>
            <p:nvPr/>
          </p:nvPicPr>
          <p:blipFill>
            <a:blip r:embed="rId3"/>
            <a:stretch/>
          </p:blipFill>
          <p:spPr>
            <a:xfrm>
              <a:off x="7149960" y="5821200"/>
              <a:ext cx="168300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7358040" y="5929200"/>
              <a:ext cx="142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выход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6" name="TextBox 7"/>
          <p:cNvGrpSpPr/>
          <p:nvPr/>
        </p:nvGrpSpPr>
        <p:grpSpPr>
          <a:xfrm>
            <a:off x="146160" y="5962680"/>
            <a:ext cx="1603440" cy="772920"/>
            <a:chOff x="146160" y="5962680"/>
            <a:chExt cx="1603440" cy="772920"/>
          </a:xfrm>
        </p:grpSpPr>
        <p:pic>
          <p:nvPicPr>
            <p:cNvPr id="207" name="TextBox 7" descr=""/>
            <p:cNvPicPr/>
            <p:nvPr/>
          </p:nvPicPr>
          <p:blipFill>
            <a:blip r:embed="rId4"/>
            <a:stretch/>
          </p:blipFill>
          <p:spPr>
            <a:xfrm>
              <a:off x="146160" y="5962680"/>
              <a:ext cx="160344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357120" y="6072120"/>
              <a:ext cx="121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Прямоугольник 8"/>
          <p:cNvSpPr/>
          <p:nvPr/>
        </p:nvSpPr>
        <p:spPr>
          <a:xfrm>
            <a:off x="642960" y="714240"/>
            <a:ext cx="7929720" cy="2104920"/>
          </a:xfrm>
          <a:prstGeom prst="rect">
            <a:avLst/>
          </a:prstGeom>
          <a:gradFill rotWithShape="0">
            <a:gsLst>
              <a:gs pos="0">
                <a:srgbClr val="fff6e0"/>
              </a:gs>
              <a:gs pos="100000">
                <a:srgbClr val="ffe5ae"/>
              </a:gs>
            </a:gsLst>
            <a:lin ang="5400000"/>
          </a:gradFill>
          <a:ln w="11520">
            <a:solidFill>
              <a:srgbClr val="feb80a"/>
            </a:solidFill>
            <a:miter/>
          </a:ln>
          <a:effectLst>
            <a:outerShdw dist="24840" dir="5400000" blurRad="0" rotWithShape="0">
              <a:srgbClr val="b979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чная память всем погибшим во Второй мировой войн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11" descr="C:\Users\123\Desktop\учитель года сочи\Георгиевская-ленточка_2.jpg"/>
          <p:cNvPicPr/>
          <p:nvPr/>
        </p:nvPicPr>
        <p:blipFill>
          <a:blip r:embed="rId5"/>
          <a:stretch/>
        </p:blipFill>
        <p:spPr>
          <a:xfrm>
            <a:off x="214200" y="5357880"/>
            <a:ext cx="3975120" cy="12492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16185E-006 C 0.00903 -4.16185E-006 0.01858 -4.16185000000002E-006 0.02778 0.00024 C 0.03976 0.00024 0.05069 0.0007 0.06285 0.00093 C 0.0658 0.00093 0.06858 0.00116 0.07153 0.00116 C 0.07621 0.00116 0.08108 0.00116 0.08559 0.00139 C 0.09184 0.00139 0.10121 0.00185 0.1066 0.00209 C 0.10781 0.00209 0.10833 0.00232 0.11007 0.00255 C 0.11337 0.00255 0.12066 0.00278 0.12066 0.00301 C 0.12361 0.00301 0.12604 0.00324 0.12934 0.00324 C 0.13108 0.00347 0.13316 0.00347 0.13455 0.00347 C 0.15851 0.00463 0.17882 0.00625 0.20642 0.00671 C 0.21423 0.0074 0.21753 0.0074 0.22743 0.00763 C 0.23403 0.0081 0.23993 0.00833 0.24861 0.00856 C 0.26111 0.00948 0.28194 0.01018 0.2993 0.01064 C 0.31059 0.0111 0.32222 0.01156 0.33437 0.01203 C 0.34548 0.01318 0.33246 0.01203 0.34826 0.01295 C 0.36441 0.01388 0.3526 0.01365 0.36406 0.01388 C 0.36597 0.01388 0.36805 0.01411 0.36944 0.01411 C 0.37621 0.0148 0.36476 0.01434 0.37621 0.01457 C 0.38871 0.01526 0.40538 0.01665 0.41996 0.01665 C 0.44514 0.01688 0.47031 0.01665 0.49548 0.01665 E">
                                      <p:cBhvr>
                                        <p:cTn id="20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6.93642E-007 C 0.00625 -6.93642E-007 0.01284 -6.93641999999998E-007 0.01944 0.00023 C 0.02743 0.00023 0.03506 0.00116 0.04357 0.00185 C 0.04583 0.00185 0.04774 0.00208 0.04982 0.00208 C 0.05295 0.00208 0.05625 0.00208 0.05954 0.00278 C 0.06371 0.00278 0.07031 0.0037 0.0743 0.00416 C 0.07482 0.00416 0.07534 0.00462 0.07656 0.00532 C 0.07881 0.00532 0.08402 0.00578 0.08402 0.00624 C 0.08611 0.00624 0.08784 0.00671 0.08993 0.00671 C 0.09114 0.0074 0.09253 0.0074 0.09375 0.0074 C 0.11006 0.00948 0.1243 0.01318 0.14357 0.0141 C 0.14895 0.01572 0.15138 0.01572 0.15833 0.01642 C 0.16284 0.01734 0.16701 0.01757 0.17291 0.01827 C 0.18177 0.02035 0.19618 0.02197 0.20833 0.02289 C 0.21614 0.02382 0.22413 0.02474 0.23281 0.02567 C 0.24045 0.02844 0.23142 0.02567 0.24236 0.02775 C 0.25364 0.0296 0.24548 0.02936 0.25329 0.0296 C 0.25451 0.0296 0.25607 0.03029 0.25729 0.03029 C 0.2618 0.03191 0.25399 0.03052 0.2618 0.03121 C 0.27048 0.03283 0.28211 0.03584 0.29236 0.03584 C 0.30972 0.03653 0.32743 0.03584 0.34496 0.03584 E">
                                      <p:cBhvr>
                                        <p:cTn id="24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8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23</dc:creator>
  <dc:description/>
  <dc:language>en-US</dc:language>
  <cp:lastModifiedBy>123</cp:lastModifiedBy>
  <dcterms:modified xsi:type="dcterms:W3CDTF">2015-02-09T17:47:38Z</dcterms:modified>
  <cp:revision>107</cp:revision>
  <dc:subject/>
  <dc:title>Слайд 1</dc:title>
</cp:coreProperties>
</file>