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342-122C-46D4-9A23-DB70D8D8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FA0-C198-4522-9F1C-3AC63BE7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3B9-76CE-4FA4-9BF7-ABABD6BA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80-EA88-4156-B9CD-F47275FB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49C-59E7-4D7D-9684-4B8A44C0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426-74BE-40A3-B0DC-9C9CA1D9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555-4F5A-4A77-B256-FE4C7FF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535-F571-4077-A6E0-6DC66F39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BF5-6C16-44B9-B9C5-4A1CB68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9B7-575F-4029-B666-9857818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8CC-B52E-491C-BD07-9B4D5B63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372-8333-4278-8362-1C75EA9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CC6-315D-4B84-B0F8-3940CA04B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1"/>
              <p:cNvSpPr txBox="1"/>
              <p:nvPr/>
            </p:nvSpPr>
            <p:spPr>
              <a:xfrm>
                <a:off x="577800" y="587520"/>
                <a:ext cx="1825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2928960" y="642960"/>
                <a:ext cx="5978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16000" y="2143080"/>
                <a:ext cx="407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558720" y="3429000"/>
                <a:ext cx="779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9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!*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7</m:t>
                        </m:r>
                        <m:r>
                          <m:t xml:space="preserve">∗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t xml:space="preserve">∗</m:t>
                    </m:r>
                    <m:r>
                      <m:t xml:space="preserve">8</m:t>
                    </m:r>
                    <m:r>
                      <m:t xml:space="preserve">∗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4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561960" y="4173480"/>
                <a:ext cx="2833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3786120" y="4214880"/>
                <a:ext cx="4522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!*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13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4"/>
              <p:cNvSpPr txBox="1"/>
              <p:nvPr/>
            </p:nvSpPr>
            <p:spPr>
              <a:xfrm>
                <a:off x="922320" y="5286240"/>
                <a:ext cx="56815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16"/>
          <p:cNvSpPr/>
          <p:nvPr/>
        </p:nvSpPr>
        <p:spPr>
          <a:xfrm>
            <a:off x="873000" y="2858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проверка решать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1586160" y="28576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проверка решать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"/>
              <p:cNvSpPr txBox="1"/>
              <p:nvPr/>
            </p:nvSpPr>
            <p:spPr>
              <a:xfrm>
                <a:off x="142920" y="857160"/>
                <a:ext cx="4125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3"/>
          <p:cNvSpPr/>
          <p:nvPr/>
        </p:nvSpPr>
        <p:spPr>
          <a:xfrm>
            <a:off x="1865880" y="5000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4500720" y="857160"/>
                <a:ext cx="4440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217440" y="2214720"/>
                <a:ext cx="4454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214200" y="3357720"/>
                <a:ext cx="4722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8:30:22Z</dcterms:created>
  <dc:creator>User</dc:creator>
  <dc:description/>
  <dc:language>en-US</dc:language>
  <cp:lastModifiedBy>User</cp:lastModifiedBy>
  <dcterms:modified xsi:type="dcterms:W3CDTF">2015-02-09T18:47:49Z</dcterms:modified>
  <cp:revision>3</cp:revision>
  <dc:subject/>
  <dc:title>Слайд 1</dc:title>
</cp:coreProperties>
</file>