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33E-A69F-486D-B834-5C264FDF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8F5-ECB9-4FEE-9CB2-1B0828D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188-C2D3-4BC6-A09C-28370EE0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F79-062B-419F-8B04-FFEEABAF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0C88-9A6C-4845-8C42-5D89263C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81CC-0A0A-4712-AF24-380B645E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2251-4E33-4CB3-9E2C-229D13D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A14-8E90-4127-8B97-A9602DAC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21AB-8D94-4DD4-92A1-2A7CB6D3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4DD4-1942-4B96-A279-2CAAAC90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5F1-6C82-4B29-821E-A1599CB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1EC-7930-4CB1-8043-F6460CCF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742F-8568-45D8-91EF-EE6D533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6BED-4E2F-47BB-8D8E-1EC1536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C40F-3340-4EE1-BAE7-C9ED1E4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48C5-F610-4DFC-9F31-D34E1ACA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C0B0-B21E-49A4-81DF-CB6D91A2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C8F-EDFE-4752-A6A7-1DC704A8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025-7571-49F9-86FE-AE21373D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4CD-4539-411A-95CA-827CD59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496-08B8-4084-A879-EA6819C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94A-037B-419F-B343-C526FAA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FEA-CCE4-45E6-A9AA-EE6DCA1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E9B-5F57-4B67-99BD-009F2F4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4D4F-2D6D-4523-8122-80B406CE0D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C66A-8BD3-4AF1-8620-1D39E242D4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3600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Презентация книги Бориса Васильева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«А зори здесь тихие…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24000" y="4005360"/>
            <a:ext cx="286236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ца 6 Г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У СОШ № 9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ущева Алексан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ина А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33"/>
                </a:solidFill>
                <a:latin typeface="Times New Roman"/>
              </a:rPr>
              <a:t>МБУ СОШ №93 с углубленным изучением отдельных предметов г.о. Тольят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кранизация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й успех картины 1972 года «А зори здесь тихие» в Китае послужил причиной для начала работы над совместным российско-китайским проектом, приуроченному к 60-летию со дня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показа телесериала в Китае в мае 2005 года его посмотрели более 400 млн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200px-A_zori_2005"/>
          <p:cNvPicPr/>
          <p:nvPr/>
        </p:nvPicPr>
        <p:blipFill>
          <a:blip r:embed="rId1"/>
          <a:stretch/>
        </p:blipFill>
        <p:spPr>
          <a:xfrm>
            <a:off x="5022720" y="1341360"/>
            <a:ext cx="35132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тогалере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4724280"/>
            <a:ext cx="611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ообще никогда не расстраивалась. Она верила в себя и сейчас, уводя немцев от Осяниной, ни на мгновение не сомневалась, что все окончится благополучно. И даже когда первая пуля ударила в бок, она просто удивилась. Ведь так глупо, так несуразно и неправдоподобно было умирать в девятнадцать ле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0dcb2e3d427b"/>
          <p:cNvPicPr/>
          <p:nvPr/>
        </p:nvPicPr>
        <p:blipFill>
          <a:blip r:embed="rId1"/>
          <a:stretch/>
        </p:blipFill>
        <p:spPr>
          <a:xfrm>
            <a:off x="2433600" y="1484280"/>
            <a:ext cx="336240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000" y="41497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Земли не было. Ноги медленно, страшно медленно тащило вниз, руки без толку гребли топь, и Лиза, задыхаясь, извивалась в жидком месиве. А тропа была где-то совсем рядом: шаг, полшага от нее, но эти полшага уже невозможно было сдел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могите!.. На помощь!.. Помогите!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уткий одинокий крик долго звенел над равнодушным ржавым болотом. Взлетал к вершинам сосен, путался в молодой листве ольшаника, падал до хрипа и снова из последних сил взлетал к безоблачному майскому неб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за долго видела это синее прекрасное небо. Хрипя, выплевывала грязь и тянулась, тянулась к нему, тянулась и верил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072105"/>
          <p:cNvPicPr/>
          <p:nvPr/>
        </p:nvPicPr>
        <p:blipFill>
          <a:blip r:embed="rId1"/>
          <a:stretch/>
        </p:blipFill>
        <p:spPr>
          <a:xfrm>
            <a:off x="2556000" y="836640"/>
            <a:ext cx="4817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280" y="4221000"/>
            <a:ext cx="7281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Рита знала, что рана ее смертельна и что умирать она будет долго и трудно. Пока боли почти не было, только все сильнее пекло в животе и хотелось пить. Но пить было нельзя, и Рита просто мочила в лужице тряпочку и прикладывала к губам... Она не жалела себя, своей жизни и молодости, потому что все время думала о том, что было куда важнее, чем она сама. Сын ее оставался сиротой, оставался совсем один на руках у болезненной матери, и Рита гадала сейчас, как переживет он войну и как потом сложится его жизнь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Рита выстрелила в висок, и крови почти не было. Синие порошинки густо окаймили пулевое отверстие, и Васков почему-то особенно долго смотрел на них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showImage"/>
          <p:cNvPicPr/>
          <p:nvPr/>
        </p:nvPicPr>
        <p:blipFill>
          <a:blip r:embed="rId1"/>
          <a:stretch/>
        </p:blipFill>
        <p:spPr>
          <a:xfrm>
            <a:off x="1258920" y="62064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ё отношение к книг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сть производит неизгладимое впечатление. Ее прочитываешь на едином дыхании, ощущая себя чуть ли не участником событий — так ярко и образно сумел писатель рассказать о волнующей его теме, поведать о суровом времени, а в конечном итоге предостеречь, чтобы оно не повтор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DSCF0790_f"/>
          <p:cNvPicPr/>
          <p:nvPr/>
        </p:nvPicPr>
        <p:blipFill>
          <a:blip r:embed="rId1"/>
          <a:stretch/>
        </p:blipFill>
        <p:spPr>
          <a:xfrm>
            <a:off x="4500720" y="1916280"/>
            <a:ext cx="4473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0920" y="4365360"/>
            <a:ext cx="828180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С шумом раздались кусты, и из них порскнула вдруг Галя. Выгнувшись, заломив руки за голову, метнулась через поляну наперерез диверсантам, уже ничего не видя и не соображ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-а-а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о ударил автомат. С десятка шагов ударил в тонкую, напряженную в беге спину, и Галя с разлету сунулась лицом в землю, так и не сняв с головы заломленных в ужасе рук. Последний крик ее затерялся в булькающем хрипе, а ноги еще бежали, еще бились, вонзаясь в мох носками Сониных сапог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screen4"/>
          <p:cNvPicPr/>
          <p:nvPr/>
        </p:nvPicPr>
        <p:blipFill>
          <a:blip r:embed="rId1"/>
          <a:stretch/>
        </p:blipFill>
        <p:spPr>
          <a:xfrm>
            <a:off x="1908000" y="260280"/>
            <a:ext cx="5112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4365360"/>
            <a:ext cx="8497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В расселине, скорчившись, лежала Гурвич, и из-под прожженной юбки косо торчали грубые кирзовые сапоги. Васков потянул ее за ремень, приподнял чуть, чтоб подмышки подхватить, оттащил и положил на спину. Соня тускло смотрела в небо полузакрытыми глазами, и гимнастерка на груди была густо залита кровью. Федот Евграфыч осторожно расстегнул ее, приник ухом. Слушал, долго слушал, а Женька беззвучно тряслась сзади, кусая кулаки. Потом он выпрямился и бережно расправил на девичьей груди липкую от крови рубашк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а, - сказал старшина. - Стихи читала. А про себя подумал: не это главное. А главное, что могла нарожать Соня детишек, а те бы - внуков и правнуков, а теперь не будет этой ниточки. Маленькой ниточки в бесконечной пряже человечества, перерезанной ножо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962489"/>
          <p:cNvPicPr/>
          <p:nvPr/>
        </p:nvPicPr>
        <p:blipFill>
          <a:blip r:embed="rId1"/>
          <a:stretch/>
        </p:blipFill>
        <p:spPr>
          <a:xfrm>
            <a:off x="539640" y="189000"/>
            <a:ext cx="5040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3789360"/>
            <a:ext cx="741672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Лягайт!.. Лягайт!.. Лягайт!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угался черными словами. Самыми черными, какие знал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не крика они испугались, не гранаты, которой размахивал старшина. Просто подумать не могли, в мыслях представить даже, что один он, на много верст один-одинешенек. Не вмещалось это понятие в фашистские их мозги, и потому на пол легли. Мордами вниз, как вел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Что, взяли?.. Взяли, да?.. Пять девчат, пять девочек было всего, всего пятеро!.. А не прошли вы, никуда не прошли и сдохнете здесь, все сдохнете!.. Лично каждого убью, лично, даже если начальство помилует! А там пусть судят меня! Пусть судят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25125"/>
          <p:cNvPicPr/>
          <p:nvPr/>
        </p:nvPicPr>
        <p:blipFill>
          <a:blip r:embed="rId1"/>
          <a:stretch/>
        </p:blipFill>
        <p:spPr>
          <a:xfrm>
            <a:off x="1187280" y="260280"/>
            <a:ext cx="258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2360" y="5373360"/>
            <a:ext cx="52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 зори здесь тихие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9" descr="964431"/>
          <p:cNvPicPr/>
          <p:nvPr/>
        </p:nvPicPr>
        <p:blipFill>
          <a:blip r:embed="rId1"/>
          <a:stretch/>
        </p:blipFill>
        <p:spPr>
          <a:xfrm>
            <a:off x="250920" y="260280"/>
            <a:ext cx="7345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7777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тема войны очень актуальна, так как приближается 65 лет Великой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читаю война и женщина – понятия несовместимые: ведь женщина – это хранительница очага, мать, жена; её место в семье. Основная функция женщины – это рождение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655812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исследова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10" descr="705fc6bc7b24"/>
          <p:cNvPicPr/>
          <p:nvPr/>
        </p:nvPicPr>
        <p:blipFill>
          <a:blip r:embed="rId1"/>
          <a:stretch/>
        </p:blipFill>
        <p:spPr>
          <a:xfrm>
            <a:off x="1371600" y="1600200"/>
            <a:ext cx="3054240" cy="478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003499"/>
          <p:cNvPicPr/>
          <p:nvPr/>
        </p:nvPicPr>
        <p:blipFill>
          <a:blip r:embed="rId2"/>
          <a:stretch/>
        </p:blipFill>
        <p:spPr>
          <a:xfrm>
            <a:off x="5029200" y="1600200"/>
            <a:ext cx="3328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интересовать учеников в чтении книг на тему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рочитать книгу Б. Васильева «А зори здесь тихие» и просмотреть фильм по кни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йти нужную информацию по 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едставить классу в виде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сильев Борис Ль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 Б.Л. - родился 21 мая 1924, Смоленск, СССР — советский и российский писатель. Васильев Борис Львович (р. 1924), прозаик, драмат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69 в печати появляется повесть А зори здесь тихие, принесшая автору широкую известность. Повесть была инсценирована, а в 1972 на экраны вышел одноименный фильм, имевший огромную популярность и ставший классикой советского кинематографа. Многие театры включили в свой репертуар одноименный спектак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нный момент живёт в Москв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Boris-Vaciliev"/>
          <p:cNvPicPr/>
          <p:nvPr/>
        </p:nvPicPr>
        <p:blipFill>
          <a:blip r:embed="rId1"/>
          <a:stretch/>
        </p:blipFill>
        <p:spPr>
          <a:xfrm>
            <a:off x="4427640" y="1641600"/>
            <a:ext cx="4608360" cy="361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гибель близ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тоге все девушки погибают. Гибнет Лиза Бричкина, так и не успевшая дойти до своих, чтобы позвать на помощь, ей очень хотелось поддержать девчонок, поэтому и торопилась, не убереглась на болоте, утонула в трясине, отпрянув в страхе с тропы. Соня Гурвич, умная и талантливая девушка, читавшая нараспев блоковские стихи, даже не успела понять, что напоролась на немецкий нож. Галя Четвертак, самая молодая, по-детски радовалась, что ее взяли на ответственное задание. А потом психологически не выдержала напряжения, не справилась с собственным страхом. Старшина Васков, возглавивший операцию, понимает, что вовек ему не забыть этих смертей. Нет оправдания за погибших девчонок. Но Рита Осянина и Женька Комелькова нарушают приказ старшины и не уходят с позиций. У них «свой счет к войне имеется». Они пришли мстить за родных, за разбитую и искалеченную жизнь. Воевать с таким настроем можно, а выжить и жить дальше нельзя. Женя Комелькова погибла уводя в лес немецкий отряд. Но умерла с улыбкой. Рита Осянина понимая, что она не выживет, совершает самоубийство. Старшина Васков захватывает фашистов и уводит в шта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14699"/>
          <p:cNvPicPr/>
          <p:nvPr/>
        </p:nvPicPr>
        <p:blipFill>
          <a:blip r:embed="rId1"/>
          <a:stretch/>
        </p:blipFill>
        <p:spPr>
          <a:xfrm>
            <a:off x="5656320" y="1628640"/>
            <a:ext cx="3317760" cy="446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юж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батальон под командованием старшины Васкова прибывает отряд зенитчиков. Вряд ли он ожидал что это будут… девушки. Симпатичные, милые, весёлые.  Они живут общей жизнью, шутят друг над дружкой и над старшиной, который как бы злиться, но в тоже время понимает, что это действительно лучшие бойцы из всех, которых он когда-либо знал. А зори здесь тихие. И всё бы было хорошо, если бы не… Если бы в тылу наших войск не появился немецкий диверсионный отряд. Васков с пятью девочками принимают неравный бой против шестнадцати вооружённых до зубов диверсан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vas1"/>
          <p:cNvPicPr/>
          <p:nvPr/>
        </p:nvPicPr>
        <p:blipFill>
          <a:blip r:embed="rId1"/>
          <a:stretch/>
        </p:blipFill>
        <p:spPr>
          <a:xfrm>
            <a:off x="4648320" y="1943280"/>
            <a:ext cx="4316400" cy="360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т это настр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7000" y="1630440"/>
            <a:ext cx="727416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нщины и девушки, совсем юные и молодые, война не ставит границ возраста и пола, здесь все и каждый — солдат. В тылу были немцы, и каждый солдат чувствовал свой долг перед Родиной, Остановить и уничтожить врага любой ценой. И они остановят его, но ценой свое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449464_203_1"/>
          <p:cNvPicPr/>
          <p:nvPr/>
        </p:nvPicPr>
        <p:blipFill>
          <a:blip r:embed="rId1"/>
          <a:stretch/>
        </p:blipFill>
        <p:spPr>
          <a:xfrm>
            <a:off x="250920" y="2997360"/>
            <a:ext cx="8542080" cy="361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краниз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7070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едение «А зори здесь тихие» было экранизировано в 1972 году. Он был снят очень близко к тексту книги, но всё же были маленькие разли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45402984_A_zori_zdes_tihie"/>
          <p:cNvPicPr/>
          <p:nvPr/>
        </p:nvPicPr>
        <p:blipFill>
          <a:blip r:embed="rId1"/>
          <a:stretch/>
        </p:blipFill>
        <p:spPr>
          <a:xfrm>
            <a:off x="3708360" y="3489480"/>
            <a:ext cx="5267520" cy="322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7:47:59Z</dcterms:created>
  <dc:creator>Алёна</dc:creator>
  <dc:description/>
  <dc:language>en-US</dc:language>
  <cp:lastModifiedBy>noy</cp:lastModifiedBy>
  <dcterms:modified xsi:type="dcterms:W3CDTF">2015-02-09T17:17:36Z</dcterms:modified>
  <cp:revision>12</cp:revision>
  <dc:subject/>
  <dc:title>Презентация книги Васильева Бориса Львовича  «А зори здесь тихие»</dc:title>
</cp:coreProperties>
</file>