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6B5-8D11-40BC-AB8F-D55A54C6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5D0-193F-48D5-80EF-01BF252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2E9-34C6-4592-A1DF-455844CD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EAA-DD59-44AA-8580-B9566B5D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2814-B698-4C85-B0EB-5FFFA57E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553F-3212-4225-8529-8CA5AAE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F7B2-724D-4C1B-955D-6B3C2235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00782-5FB2-4523-9565-7B5D700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1329-C915-43B7-B494-FD84699B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F0BC4-1704-419C-9D87-7D51D0C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92837-0299-4AB5-BC6B-7CCD3FA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6B6-9C7E-4E5A-B345-7867392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46A0-72EE-45DD-A528-78ECD9C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83743-A41E-41F1-B8DB-6D1B9C7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8FD56-FAB3-49E7-ADD8-5F49FB36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397B8-08D7-46DE-B455-B3991C66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C707-E10E-488C-9894-15B730BE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5D0-E1F4-400B-8A28-FC210CC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7F7-C467-4062-9CE5-DBE18B5B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A3A-547D-4C86-9CE5-44FAE71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83E-89EB-4804-9B0E-420CBCE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1EA-2373-4ED9-8DB6-38DE355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549-9D89-4338-99DF-14AF254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F93-F750-43C7-8314-91E5777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8FB7-67B5-4176-A7E0-E37ECF773F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313-1011-45E9-9567-9B9F7C2C10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avala.com.vn%2Fwp-content%2Fuploads%2F2013%2F02%2FRosti.jpg&amp;text=&#1088;&#1077;&#1096;&#1090;&#1080;&amp;noreask=1&amp;pos=3&amp;lr=47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ulinarnye-rezepty.ru/media/full/_________________4f6abab658d3b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45.radikal.ru/i110/0912/dd/6d4c33b0c47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Julius_Maggi.jpg%3Fuselang=ru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itaty.info/quote/book/258160" TargetMode="External"/><Relationship Id="rId2" Type="http://schemas.openxmlformats.org/officeDocument/2006/relationships/hyperlink" Target="http://citaty.info/tema/nastoyashee" TargetMode="External"/><Relationship Id="rId3" Type="http://schemas.openxmlformats.org/officeDocument/2006/relationships/hyperlink" Target="http://citaty.info/tema/iskusstv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.ru/snack/recipe20924/fondju-sirno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source=wiz&amp;fp=0&amp;img_url=http%3A%2F%2Fkuking.net%2Fpictures%2Fsection%2F3%2F3_1283.jpg&amp;text=&#1092;&#1086;&#1085;&#1076;&#1102;&amp;noreask=1&amp;pos=3&amp;lr=47&amp;rpt=simage&amp;nojs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fashiontribes.typepad.com%2Fmain%2Fimages%2Fchocolate_fondue_set.jpg&amp;text=&#1092;&#1086;&#1085;&#1076;&#1102;&amp;noreask=1&amp;pos=0&amp;lr=47&amp;rpt=simage&amp;noj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source=wiz&amp;fp=0&amp;img_url=http%3A%2F%2Fwww.housebeautiful.com%2Fcm%2Fhousebeautiful%2Fimages%2Fvl%2Fchocolate-fondue-2-0407-xlg.jpg&amp;text=&#1092;&#1086;&#1085;&#1076;&#1102;&amp;noreask=1&amp;pos=26&amp;lr=47&amp;rpt=simage&amp;nojs=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3e3ff"/>
                </a:solidFill>
                <a:latin typeface="Arial"/>
              </a:rPr>
              <a:t>Кулинарное путешествие по Швейцарии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14480" y="15228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яя общеобразовательная школа №85 с углубленным изучением отдельных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4457880" y="51814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 ученица 8 «б» класса Степаненко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 Якушкин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539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Röst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i?id=90910807-4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09680"/>
            <a:ext cx="533376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ртофель «По - бернс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Картофель «По - бернски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971800"/>
            <a:ext cx="601956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ликатесы на любой вк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юрихский шниц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6d4c33b0c47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514600"/>
            <a:ext cx="48006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Юлиус Маг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лиус Магги - представлял собой удачное сочетание южной дерзости и северного благоразумия. В 24 года он унаследовал семейный бизнес: мельницу в городе Кемптал, недалеко от Цюриха. Узнав у своего друга доктора Шулера, что овощи при сушке не теряют своих питательных качеств, Магги оборудовал свою мельницу специальными устройствами и скоро получил результат - первый в своём роде растворимый овощной су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Юлиус Магги в 1900 год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752480"/>
            <a:ext cx="2687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ухой бульон «Магги»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5" descr="150px-Maggi-Fondor-2"/>
          <p:cNvPicPr/>
          <p:nvPr/>
        </p:nvPicPr>
        <p:blipFill>
          <a:blip r:embed="rId1"/>
          <a:stretch/>
        </p:blipFill>
        <p:spPr>
          <a:xfrm>
            <a:off x="685800" y="1752480"/>
            <a:ext cx="284328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aggi"/>
          <p:cNvPicPr/>
          <p:nvPr/>
        </p:nvPicPr>
        <p:blipFill>
          <a:blip r:embed="rId2"/>
          <a:stretch/>
        </p:blipFill>
        <p:spPr>
          <a:xfrm>
            <a:off x="3962520" y="1752480"/>
            <a:ext cx="4800600" cy="3754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инная карта Швейцар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5" descr="win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belemärit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Picture 5" descr="1"/>
          <p:cNvPicPr/>
          <p:nvPr/>
        </p:nvPicPr>
        <p:blipFill>
          <a:blip r:embed="rId1"/>
          <a:stretch/>
        </p:blipFill>
        <p:spPr>
          <a:xfrm>
            <a:off x="914400" y="129528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"/>
          <p:cNvPicPr/>
          <p:nvPr/>
        </p:nvPicPr>
        <p:blipFill>
          <a:blip r:embed="rId2"/>
          <a:stretch/>
        </p:blipFill>
        <p:spPr>
          <a:xfrm>
            <a:off x="4952880" y="137160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?id=443742054-34-72&amp;n=21"/>
          <p:cNvPicPr/>
          <p:nvPr/>
        </p:nvPicPr>
        <p:blipFill>
          <a:blip r:embed="rId3"/>
          <a:stretch/>
        </p:blipFill>
        <p:spPr>
          <a:xfrm>
            <a:off x="1752480" y="3657600"/>
            <a:ext cx="54104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здничная кухня Швейцар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8" name="Рисунок 2" descr="swisspic20060109_6368813_0.jpg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7" descr="i?id=105270806-26-72&amp;n=21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58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?id=116556327-36-72&amp;n=21"/>
          <p:cNvPicPr/>
          <p:nvPr/>
        </p:nvPicPr>
        <p:blipFill>
          <a:blip r:embed="rId2"/>
          <a:stretch/>
        </p:blipFill>
        <p:spPr>
          <a:xfrm>
            <a:off x="4876920" y="1523880"/>
            <a:ext cx="40384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адзуо Исигуро: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 Я давно высоко ставлю кулинарию. Это </a:t>
            </a: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настоящее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искусство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, я в этом убежден, — столь же благородное, как живопись или поэзия. Его недостаточно ценят просто потому, что результат исчезает слишком быстро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учить особенности Швейцарской кух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учить традиционную кухню Швейцар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смотреть влияние Европейских стран на кулинарию Швейца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циональная кухня Швейцарии – это настоящий гимн здравому смыслу 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7" descr="Достопримечательности Швейцарии "/>
          <p:cNvPicPr/>
          <p:nvPr/>
        </p:nvPicPr>
        <p:blipFill>
          <a:blip r:embed="rId1"/>
          <a:stretch/>
        </p:blipFill>
        <p:spPr>
          <a:xfrm>
            <a:off x="1752480" y="243828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ыр с утра и до вече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mmental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юйер (Gruyere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Emmentaler"/>
          <p:cNvPicPr/>
          <p:nvPr/>
        </p:nvPicPr>
        <p:blipFill>
          <a:blip r:embed="rId1"/>
          <a:stretch/>
        </p:blipFill>
        <p:spPr>
          <a:xfrm>
            <a:off x="762120" y="3048120"/>
            <a:ext cx="25574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Швейцарский сыр Грюйер"/>
          <p:cNvPicPr/>
          <p:nvPr/>
        </p:nvPicPr>
        <p:blipFill>
          <a:blip r:embed="rId2"/>
          <a:stretch/>
        </p:blipFill>
        <p:spPr>
          <a:xfrm>
            <a:off x="4724280" y="3048120"/>
            <a:ext cx="3733920" cy="2496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ондю – гордость Швейцар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Фондю сырн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3353040" cy="396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?id=144612712-2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8288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дкое фондю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i?id=129244229-4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329256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?id=148783159-5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676520"/>
            <a:ext cx="3389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вейцарский шокола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блер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Шоколад Тоблерон"/>
          <p:cNvPicPr/>
          <p:nvPr/>
        </p:nvPicPr>
        <p:blipFill>
          <a:blip r:embed="rId1"/>
          <a:stretch/>
        </p:blipFill>
        <p:spPr>
          <a:xfrm>
            <a:off x="1371600" y="2743200"/>
            <a:ext cx="62866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вейцарский шокола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" descr="Швейцарский шоколад"/>
          <p:cNvPicPr/>
          <p:nvPr/>
        </p:nvPicPr>
        <p:blipFill>
          <a:blip r:embed="rId1"/>
          <a:stretch/>
        </p:blipFill>
        <p:spPr>
          <a:xfrm>
            <a:off x="1219320" y="1447920"/>
            <a:ext cx="6248160" cy="444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ren</cp:lastModifiedBy>
  <dcterms:modified xsi:type="dcterms:W3CDTF">2015-02-09T15:54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