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DA2E-DB4A-40E4-B559-01BC7295D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CE79-475F-4683-AFBE-C7DA3E2F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4619-9CA4-4E1B-B853-43896F060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831A-4CA8-48CE-8D3F-710ABABAE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5E264-3251-40E7-82D5-790B961AF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4E1D3-5B62-40A6-AED3-16775DF1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6918E-1351-4468-9C4F-70E3D48B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C98CF-A0BD-4721-8835-28D7A91A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44AC8-3BE5-432A-A8D2-218D8AE8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11E80-EA9A-4188-8D02-6C948AC4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7B7E0-6E19-4E93-9FDF-B4763DAA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28AB-02F2-4445-91C7-9A486AFF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738D0-68B8-4B71-AAE4-3DAECD26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7E532-AFE1-44AC-8EB4-40C81B22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04C86-8CDA-4FAE-B5EB-768FC50A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BCFA1-2DE0-41CD-A895-5D533E4AF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C18D3-DDE0-4FBD-A124-AF8C1F46E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9FCD-7AF2-4ABC-93EB-92290D06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1880-9057-48CC-A7F4-5A8D9545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15E0-BB94-4E3C-995B-513BA26A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C773-93C0-4ADD-B4DB-B0E67261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B63C-7BC2-4085-8418-F7A4CCEF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0AD7-AD8C-4B74-B26D-90C77118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2139-26BB-4B31-A2CA-D55BDDFF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C6AB-4998-4821-A5D1-AFAE4CABE32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8DBB-3578-41BE-A9D3-399E0F416C4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0&amp;img_url=http%3A%2F%2Fwww.avala.com.vn%2Fwp-content%2Fuploads%2F2013%2F02%2FRosti.jpg&amp;text=&#1088;&#1077;&#1096;&#1090;&#1080;&amp;noreask=1&amp;pos=3&amp;lr=47&amp;rpt=simage&amp;nojs=1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ulinarnye-rezepty.ru/media/full/_________________4f6abab658d3b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45.radikal.ru/i110/0912/dd/6d4c33b0c47c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commons.wikimedia.org/wiki/File:Julius_Maggi.jpg%3Fuselang=ru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itaty.info/quote/book/258160" TargetMode="External"/><Relationship Id="rId2" Type="http://schemas.openxmlformats.org/officeDocument/2006/relationships/hyperlink" Target="http://citaty.info/tema/nastoyashee" TargetMode="External"/><Relationship Id="rId3" Type="http://schemas.openxmlformats.org/officeDocument/2006/relationships/hyperlink" Target="http://citaty.info/tema/iskusstvo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da.ru/snack/recipe20924/fondju-sirnoe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yandex.ru/yandsearch?source=wiz&amp;fp=0&amp;img_url=http%3A%2F%2Fkuking.net%2Fpictures%2Fsection%2F3%2F3_1283.jpg&amp;text=&#1092;&#1086;&#1085;&#1076;&#1102;&amp;noreask=1&amp;pos=3&amp;lr=47&amp;rpt=simage&amp;nojs=1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0&amp;img_url=http%3A%2F%2Ffashiontribes.typepad.com%2Fmain%2Fimages%2Fchocolate_fondue_set.jpg&amp;text=&#1092;&#1086;&#1085;&#1076;&#1102;&amp;noreask=1&amp;pos=0&amp;lr=47&amp;rpt=simage&amp;nojs=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yandex.ru/yandsearch?source=wiz&amp;fp=0&amp;img_url=http%3A%2F%2Fwww.housebeautiful.com%2Fcm%2Fhousebeautiful%2Fimages%2Fvl%2Fchocolate-fondue-2-0407-xlg.jpg&amp;text=&#1092;&#1086;&#1085;&#1076;&#1102;&amp;noreask=1&amp;pos=26&amp;lr=47&amp;rpt=simage&amp;nojs=1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3e3ff"/>
                </a:solidFill>
                <a:latin typeface="Arial"/>
              </a:rPr>
              <a:t>Кулинарное путешествие по Швейцарии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TextBox 1"/>
          <p:cNvSpPr/>
          <p:nvPr/>
        </p:nvSpPr>
        <p:spPr>
          <a:xfrm>
            <a:off x="114480" y="152280"/>
            <a:ext cx="87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униципальное образовательное учреждение средняя общеобразовательная школа №85 с углубленным изучением отдельных предме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4457880" y="5181480"/>
            <a:ext cx="441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а  ученица 8 «б» класса Степаненко Анастас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учный руководитель Якушкина Т.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Деликатесы на любой вкус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7200" y="153936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Rösti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6" descr="i?id=90910807-49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2209680"/>
            <a:ext cx="5333760" cy="4380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Деликатесы на любой вкус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ртофель «По - бернски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Картофель «По - бернски»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2971800"/>
            <a:ext cx="6019560" cy="3511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Деликатесы на любой вкус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юрихский шниц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6d4c33b0c47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2514600"/>
            <a:ext cx="4800600" cy="3959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Юлиус Магги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5410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Юлиус Магги - представлял собой удачное сочетание южной дерзости и северного благоразумия. В 24 года он унаследовал семейный бизнес: мельницу в городе Кемптал, недалеко от Цюриха. Узнав у своего друга доктора Шулера, что овощи при сушке не теряют своих питательных качеств, Магги оборудовал свою мельницу специальными устройствами и скоро получил результат - первый в своём роде растворимый овощной суп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5" descr="Юлиус Магги в 1900 году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752480"/>
            <a:ext cx="268776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ухой бульон «Магги»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9" name="Picture 5" descr="150px-Maggi-Fondor-2"/>
          <p:cNvPicPr/>
          <p:nvPr/>
        </p:nvPicPr>
        <p:blipFill>
          <a:blip r:embed="rId1"/>
          <a:stretch/>
        </p:blipFill>
        <p:spPr>
          <a:xfrm>
            <a:off x="685800" y="1752480"/>
            <a:ext cx="2843280" cy="3810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Maggi"/>
          <p:cNvPicPr/>
          <p:nvPr/>
        </p:nvPicPr>
        <p:blipFill>
          <a:blip r:embed="rId2"/>
          <a:stretch/>
        </p:blipFill>
        <p:spPr>
          <a:xfrm>
            <a:off x="3962520" y="1752480"/>
            <a:ext cx="4800600" cy="3754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Винная карта Швейцари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2" name="Picture 5" descr="wine"/>
          <p:cNvPicPr/>
          <p:nvPr/>
        </p:nvPicPr>
        <p:blipFill>
          <a:blip r:embed="rId1"/>
          <a:stretch/>
        </p:blipFill>
        <p:spPr>
          <a:xfrm>
            <a:off x="2057400" y="1600200"/>
            <a:ext cx="4876920" cy="4076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Z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belemärit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4" name="Picture 5" descr="1"/>
          <p:cNvPicPr/>
          <p:nvPr/>
        </p:nvPicPr>
        <p:blipFill>
          <a:blip r:embed="rId1"/>
          <a:stretch/>
        </p:blipFill>
        <p:spPr>
          <a:xfrm>
            <a:off x="914400" y="1295280"/>
            <a:ext cx="2971800" cy="2230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4"/>
          <p:cNvPicPr/>
          <p:nvPr/>
        </p:nvPicPr>
        <p:blipFill>
          <a:blip r:embed="rId2"/>
          <a:stretch/>
        </p:blipFill>
        <p:spPr>
          <a:xfrm>
            <a:off x="4952880" y="1371600"/>
            <a:ext cx="3429000" cy="2214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i?id=443742054-34-72&amp;n=21"/>
          <p:cNvPicPr/>
          <p:nvPr/>
        </p:nvPicPr>
        <p:blipFill>
          <a:blip r:embed="rId3"/>
          <a:stretch/>
        </p:blipFill>
        <p:spPr>
          <a:xfrm>
            <a:off x="1752480" y="3657600"/>
            <a:ext cx="541044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Праздничная кухня Швейцари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8" name="Рисунок 2" descr="swisspic20060109_6368813_0.jpg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0" name="Picture 7" descr="i?id=105270806-26-72&amp;n=21"/>
          <p:cNvPicPr/>
          <p:nvPr/>
        </p:nvPicPr>
        <p:blipFill>
          <a:blip r:embed="rId1"/>
          <a:stretch/>
        </p:blipFill>
        <p:spPr>
          <a:xfrm>
            <a:off x="457200" y="1523880"/>
            <a:ext cx="3962520" cy="3581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i?id=116556327-36-72&amp;n=21"/>
          <p:cNvPicPr/>
          <p:nvPr/>
        </p:nvPicPr>
        <p:blipFill>
          <a:blip r:embed="rId2"/>
          <a:stretch/>
        </p:blipFill>
        <p:spPr>
          <a:xfrm>
            <a:off x="4876920" y="1523880"/>
            <a:ext cx="4038480" cy="3581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Кадзуо Исигуро: 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« Я давно высоко ставлю кулинарию. Это </a:t>
            </a:r>
            <a:r>
              <a:rPr b="0" lang="ru-RU" sz="4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настоящее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0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искусство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, я в этом убежден, — столь же благородное, как живопись или поэзия. Его недостаточно ценят просто потому, что результат исчезает слишком быстро»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Ц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зучить особенности Швейцарской кух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дач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зучить традиционную кухню Швейцари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ссмотреть влияние Европейских стран на кулинарию Швейцари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Национальная кухня Швейцарии – это настоящий гимн здравому смыслу 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8" name="Picture 7" descr="Достопримечательности Швейцарии "/>
          <p:cNvPicPr/>
          <p:nvPr/>
        </p:nvPicPr>
        <p:blipFill>
          <a:blip r:embed="rId1"/>
          <a:stretch/>
        </p:blipFill>
        <p:spPr>
          <a:xfrm>
            <a:off x="1752480" y="2438280"/>
            <a:ext cx="5257800" cy="34959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ыр с утра и до вечер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Emmentaler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рюйер (Gruyere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Emmentaler"/>
          <p:cNvPicPr/>
          <p:nvPr/>
        </p:nvPicPr>
        <p:blipFill>
          <a:blip r:embed="rId1"/>
          <a:stretch/>
        </p:blipFill>
        <p:spPr>
          <a:xfrm>
            <a:off x="762120" y="3048120"/>
            <a:ext cx="2557440" cy="2590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Швейцарский сыр Грюйер"/>
          <p:cNvPicPr/>
          <p:nvPr/>
        </p:nvPicPr>
        <p:blipFill>
          <a:blip r:embed="rId2"/>
          <a:stretch/>
        </p:blipFill>
        <p:spPr>
          <a:xfrm>
            <a:off x="4724280" y="3048120"/>
            <a:ext cx="3733920" cy="24969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Фондю – гордость Швейцари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5" descr="Фондю сырно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828800"/>
            <a:ext cx="3353040" cy="3962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i?id=144612712-29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1828800"/>
            <a:ext cx="365760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ладкое фондю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5" descr="i?id=129244229-49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676520"/>
            <a:ext cx="3292560" cy="4114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i?id=148783159-54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24280" y="1676520"/>
            <a:ext cx="33894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Швейцарский шоколад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облерон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11" descr="Шоколад Тоблерон"/>
          <p:cNvPicPr/>
          <p:nvPr/>
        </p:nvPicPr>
        <p:blipFill>
          <a:blip r:embed="rId1"/>
          <a:stretch/>
        </p:blipFill>
        <p:spPr>
          <a:xfrm>
            <a:off x="1371600" y="2743200"/>
            <a:ext cx="6286680" cy="2629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Швейцарский шоколад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5" name="Picture 5" descr="Швейцарский шоколад"/>
          <p:cNvPicPr/>
          <p:nvPr/>
        </p:nvPicPr>
        <p:blipFill>
          <a:blip r:embed="rId1"/>
          <a:stretch/>
        </p:blipFill>
        <p:spPr>
          <a:xfrm>
            <a:off x="1219320" y="1447920"/>
            <a:ext cx="6248160" cy="4448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uren</cp:lastModifiedBy>
  <dcterms:modified xsi:type="dcterms:W3CDTF">2015-02-09T15:54:3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