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016-6398-4AC7-A0F9-2EDF911B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EBD-4C0C-49A3-BC35-9F91A181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031-26C1-47B3-A799-45687400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AA6-71F9-4352-9069-82C73E5D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6C9B-2859-4129-9781-4DA1AA4D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8B5-0209-4EA7-9F93-171BC5F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A0ED-B74A-420D-9DF5-0FF69CB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C547-DC0A-44C5-AF8B-0AADB22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C878-D950-4178-A2BC-2DFC67D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606C-B16E-4FCF-98AA-04BD646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AA3A-5288-4754-969B-49523507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7DD-0311-45FF-91A5-3850341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6ADE-6628-4AF6-82B0-15CB848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6A48-E5E8-4B84-94C0-BD66769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EF96-959E-4AC8-9265-521480E0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B5A9-AB00-4EC7-96E2-C97C42B0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F74C-16CB-485E-B4C6-5AFB3897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9C441-8B7A-4A26-AA04-1DD099D0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D85C2-D0A1-4175-9AF5-34B2465E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E5B14-50B5-4FFF-8F84-54CC800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9B618-F15D-4706-B5F4-192E1416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33254-0853-4716-ADE8-B04CE06B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EED-489C-4661-A913-94B04956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92A00-DBB3-46D0-84E6-9771296A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7018A-9AB4-48B4-A141-C1689E6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A228E-3B00-48DB-A291-A796A87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692E4-54B4-4D29-86E5-E24E414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25DD0-8501-4FF6-897B-E3E3D2B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F7889-AFF7-48DB-8C36-14B747B8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B5022-046C-46CE-906F-AE836973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13577-967A-4434-ACAD-F64573EB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ECA06-5651-47FA-897A-55F19EA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07CE2-9AC0-45ED-A714-D6898A4A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B1E-20A1-40A6-90B3-B268AC1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79CB4-137B-42D1-A66C-5A8D81E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92811-E906-448D-B88D-F40EFBA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1FBE1-F279-4085-878A-4A44589B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6EC6C-2D32-4E0D-870D-B5FD28D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03847-D959-42AA-AB17-0CA9C3C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92752-DEA1-40C9-A0F8-B4A6817F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DE941-511D-413B-8F80-5A1E3E4F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C91D4-8343-4EA7-823E-38462B42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D5A8D-004E-42BF-BCB7-15ECCB58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2A48A-B688-4273-8C1F-2240094A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3EA-5ADF-4431-B2A7-9148B835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BDE9D-8A63-44BB-A699-4C07ACB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A8E2B-CE15-4EED-B101-C5B4F113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F154C-5622-42BD-B431-559E8AA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39C52-BF98-499F-96FC-BE66A0DD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70985-84E8-4A3B-9419-3295E42F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90D30-A25C-48E7-8F6D-003A39C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EBD7C-73DD-437C-87BB-E9E3589B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49D64-DBE6-49D2-B96D-0955059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E4E56-AAA9-47C2-9858-6C305082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789D6-C418-464B-8233-A5649D89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616-7C04-4775-BB92-04C93FF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62D77-FD78-4476-B349-6D8E40C8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0CCE-05F2-4CD7-A617-6EAD595B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BD7E-D3BF-413E-B679-9B028409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8AFE-0DC7-4B53-8E28-123B45B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C207-CBB4-4FA0-AD08-68CC1D3D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FD02-4312-4C3E-BA55-8D83D814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D304-56D8-4648-A14A-977F2FA0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6EE9-3174-4D08-85EA-C89D577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DDE9-C78B-4559-8A1E-F95F50A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CCB3-D86E-45EA-B6D7-0802076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0A0-C7EC-4F40-8646-7DA0EB4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5E3E-7DFD-4318-86BA-D7C481F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D86A-CBB5-4F9D-A548-FA642275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E880-E57D-44DA-9BB3-ABFA2437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507BB-BD4A-44F1-AED3-4106055C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ACB3C-D9F5-4534-A5A3-2EB13424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BB3AF-4172-4ABC-A71B-64C19203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2366F-3F21-434F-AE42-08454161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CBC32-8DA3-41D7-BA11-BE7C1B69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A03E0-025C-4BED-82AD-751128F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C8AE7-5001-456A-9021-51EB309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645-1D10-470D-B489-158CBA8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B5386-78E1-4295-8ABB-FC61679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8963C-8027-4490-81F8-2F38246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433BF-9719-4F07-8AD3-42F29DB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9F44D-DF89-4EB7-B011-60E6A73F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9FB94-C673-4385-94F6-C86469D6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E8E7-09BE-4AC2-83F8-705606FE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4A41-2ACB-446B-9FC9-79AAF5B0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ACE1-DE25-4896-A0EA-9FA94104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31CB7-21F7-4400-995F-24D2F6E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9266-BE23-4AD9-8E01-52C7BCA4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567-6EE1-4AAC-930C-A409327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38850-1D15-4DA6-8004-341D5B7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E8510-74B9-48EE-93CD-268BCB6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6D52D-8503-4DA5-B24B-17E1784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AD93B-B857-4677-A2E1-FE57098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AED0A-C7CB-4D91-B865-42893A96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7F81-6011-42EC-9437-17493984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3B2A-DFF6-422A-8DC9-23CCB066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CEE2-EDC0-4EDA-A3A8-0F44165398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697-DC7B-474E-B536-A6299954F5E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0A5-A103-44CF-BC61-DF1AC4AF105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4C8B-361B-42C0-8FD9-25D7BFBC92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D537-34E9-4A26-A7AF-75848512FB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AC50-B92B-43FA-8AEF-9F50AB5E84C5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5516-568A-431F-9404-E529DA4E001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6B0-63D6-4678-A8D5-7FEF245FC2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l-library.com/index.cfm?pageid=82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esl-library.com/index.cfm?pageid=82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esl-library.com/index.cfm?pageid=82" TargetMode="External"/><Relationship Id="rId7" Type="http://schemas.openxmlformats.org/officeDocument/2006/relationships/image" Target="../media/image8.png"/><Relationship Id="rId8" Type="http://schemas.openxmlformats.org/officeDocument/2006/relationships/hyperlink" Target="http://www.esl-library.com/index.cfm?pageid=82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18920" y="142920"/>
            <a:ext cx="47530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MY SCHOOL</a:t>
            </a: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113440" cy="3300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C:\Documents and Settings\user\Рабочий стол\18.jpeg"/>
          <p:cNvPicPr/>
          <p:nvPr/>
        </p:nvPicPr>
        <p:blipFill>
          <a:blip r:embed="rId3"/>
          <a:stretch/>
        </p:blipFill>
        <p:spPr>
          <a:xfrm>
            <a:off x="179280" y="4941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Documents and Settings\user\Рабочий стол\10.jpeg"/>
          <p:cNvPicPr/>
          <p:nvPr/>
        </p:nvPicPr>
        <p:blipFill>
          <a:blip r:embed="rId4"/>
          <a:stretch/>
        </p:blipFill>
        <p:spPr>
          <a:xfrm>
            <a:off x="7596360" y="189000"/>
            <a:ext cx="1357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7b3d1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7b3d17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1915920"/>
            <a:ext cx="77151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p.42-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.2,3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ть кроссворд, подставить предлоги, с переводо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14" descr="C:\Documents and Settings\user\Рабочий стол\9.jpeg"/>
          <p:cNvPicPr/>
          <p:nvPr/>
        </p:nvPicPr>
        <p:blipFill>
          <a:blip r:embed="rId2"/>
          <a:stretch/>
        </p:blipFill>
        <p:spPr>
          <a:xfrm>
            <a:off x="214200" y="142920"/>
            <a:ext cx="10717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40000" y="228600"/>
            <a:ext cx="518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Arial"/>
              </a:rPr>
              <a:t>You are great!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412" name="Текст 12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2522520" cy="28814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55640" y="198900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Thank you for your work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518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Days of the week</a:t>
            </a:r>
            <a:endParaRPr b="0" lang="en-US" sz="4000" spc="-1" strike="noStrike">
              <a:solidFill>
                <a:srgbClr val="775f55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411280" y="907920"/>
          <a:ext cx="4319640" cy="404496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un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Mon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ues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Wednes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hurs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Fri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atur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 txBox="1"/>
          <p:nvPr/>
        </p:nvSpPr>
        <p:spPr>
          <a:xfrm>
            <a:off x="250920" y="5300640"/>
            <a:ext cx="8308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favourite day of the week is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16000" y="609300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have ...  on Monday.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What are your favorite subjects ? Think  and write down  the best timetable  for one day: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73000"/>
            <a:ext cx="8686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79560" indent="-79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Arial Unicode MS"/>
              </a:rPr>
              <a:t>TIMETABLE FOR THE LOVELY SCHOOL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556000" y="2276640"/>
          <a:ext cx="4429080" cy="2807640"/>
        </p:xfrm>
        <a:graphic>
          <a:graphicData uri="http://schemas.openxmlformats.org/drawingml/2006/table">
            <a:tbl>
              <a:tblPr/>
              <a:tblGrid>
                <a:gridCol w="768240"/>
                <a:gridCol w="3660840"/>
              </a:tblGrid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9" descr="C:\Documents and Settings\user\Рабочий стол\18.jpeg"/>
          <p:cNvPicPr/>
          <p:nvPr/>
        </p:nvPicPr>
        <p:blipFill>
          <a:blip r:embed="rId2"/>
          <a:stretch/>
        </p:blipFill>
        <p:spPr>
          <a:xfrm>
            <a:off x="428760" y="5429160"/>
            <a:ext cx="1428480" cy="1076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556000" y="5661000"/>
            <a:ext cx="56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y favorite subjects are 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MATCH THE SCHOOL SUBJECTS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AND THE THINGS STUDIED IN THEM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162864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sing funny so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Figures and mathematical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Learning words, grammar rules, reading, translating.</a:t>
            </a:r>
            <a:r>
              <a:rPr b="1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about nature, plants and anima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You run and jump in the G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stories and poems.</a:t>
            </a:r>
            <a:r>
              <a:rPr b="1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Gulnas Raisovna is the teacher of this subj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You draw pictures with paints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brush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Compu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nform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Natur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9" descr="C:\Documents and Settings\user\Рабочий стол\4.jpeg"/>
          <p:cNvPicPr/>
          <p:nvPr/>
        </p:nvPicPr>
        <p:blipFill>
          <a:blip r:embed="rId2"/>
          <a:stretch/>
        </p:blipFill>
        <p:spPr>
          <a:xfrm>
            <a:off x="214200" y="214200"/>
            <a:ext cx="1314720" cy="876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276720" y="1916280"/>
            <a:ext cx="417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2276640"/>
            <a:ext cx="2952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92360" y="2924280"/>
            <a:ext cx="417528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51280" y="3573360"/>
            <a:ext cx="2952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84720" y="4076640"/>
            <a:ext cx="3672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076720" y="3644640"/>
            <a:ext cx="2951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50920" y="2276640"/>
            <a:ext cx="511344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24360" y="3213000"/>
            <a:ext cx="352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716360" y="1915920"/>
            <a:ext cx="345600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MATCH THE SCHOOL SUBJECTS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AND THE THINGS STUDIED IN THEM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000" y="162864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sing funny so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Figures and mathematical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Learning words, grammar rules, reading, translating.</a:t>
            </a:r>
            <a:r>
              <a:rPr b="0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about nature, plants and anima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You run and jump in the G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stories and poems.</a:t>
            </a:r>
            <a:r>
              <a:rPr b="0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Gulnas Raisovna is the teacher of this subj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You draw pictures with paints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brush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Computers.</a:t>
            </a:r>
            <a:r>
              <a:rPr b="0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Natur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nform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9" descr="C:\Documents and Settings\user\Рабочий стол\4.jpeg"/>
          <p:cNvPicPr/>
          <p:nvPr/>
        </p:nvPicPr>
        <p:blipFill>
          <a:blip r:embed="rId2"/>
          <a:stretch/>
        </p:blipFill>
        <p:spPr>
          <a:xfrm>
            <a:off x="214200" y="214200"/>
            <a:ext cx="1314720" cy="87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80000" y="228600"/>
            <a:ext cx="230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</a:rPr>
              <a:t>Time 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84200" y="1792440"/>
            <a:ext cx="11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Овал 4"/>
          <p:cNvSpPr/>
          <p:nvPr/>
        </p:nvSpPr>
        <p:spPr>
          <a:xfrm>
            <a:off x="250920" y="1052640"/>
            <a:ext cx="3168720" cy="2376360"/>
          </a:xfrm>
          <a:prstGeom prst="ellipse">
            <a:avLst/>
          </a:prstGeom>
          <a:solidFill>
            <a:srgbClr val="e9efe8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Содержимое 6"/>
          <p:cNvSpPr/>
          <p:nvPr/>
        </p:nvSpPr>
        <p:spPr>
          <a:xfrm>
            <a:off x="5508720" y="1125360"/>
            <a:ext cx="3095640" cy="2376720"/>
          </a:xfrm>
          <a:prstGeom prst="ellipse">
            <a:avLst/>
          </a:prstGeom>
          <a:solidFill>
            <a:srgbClr val="e9efe8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Black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35280" y="1052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112536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Рисунок 11" descr="http://www.esl-library.com/../images/flashcards/colored/sm/four-C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141720"/>
            <a:ext cx="2205000" cy="1643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3" descr="http://www.esl-library.com/../images/flashcards/colored/sm/four_forty-five-CT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869000"/>
            <a:ext cx="2376360" cy="17697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0" descr="http://www.esl-library.com/../images/flashcards/colored/sm/four-ten-CT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869000"/>
            <a:ext cx="2301840" cy="17143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21" descr="http://www.esl-library.com/../images/flashcards/colored/sm/four-thirty-CT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00720" y="4869000"/>
            <a:ext cx="230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Make up the dialogue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: - Excuse me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: - Y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: - What time is it now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: - Let me see. It’s 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: - Oh, thank yo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: - You’re welco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picture"/>
          <p:cNvPicPr/>
          <p:nvPr/>
        </p:nvPicPr>
        <p:blipFill>
          <a:blip r:embed="rId2"/>
          <a:stretch/>
        </p:blipFill>
        <p:spPr>
          <a:xfrm>
            <a:off x="5435640" y="2781360"/>
            <a:ext cx="165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p.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2205000"/>
          <a:ext cx="8858520" cy="360036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498680"/>
                <a:gridCol w="1785960"/>
                <a:gridCol w="1574640"/>
                <a:gridCol w="1478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o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s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rs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45/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45/9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45/8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50/10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10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10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9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40/9: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9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55/14: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755640" y="6165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Jessica has English at a quarter to nine on Monda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32000" y="68400"/>
            <a:ext cx="6999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9000"/>
            <a:ext cx="331164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ll in the time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3168360" cy="1839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79280" y="4221000"/>
            <a:ext cx="331164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ll in the class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08720" y="115920"/>
            <a:ext cx="331128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ll in the school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32360" y="4221000"/>
            <a:ext cx="331164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rite  the school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4140360" y="4508640"/>
            <a:ext cx="1430280" cy="19065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7236000" y="2637000"/>
            <a:ext cx="1081080" cy="1439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4219560" y="62064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1835280" y="2708280"/>
            <a:ext cx="1081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ох М.В.</dc:creator>
  <dc:description/>
  <cp:keywords>school subject</cp:keywords>
  <dc:language>en-US</dc:language>
  <cp:lastModifiedBy>Разиль и Миляуша</cp:lastModifiedBy>
  <dcterms:modified xsi:type="dcterms:W3CDTF">2014-03-05T19:59:33Z</dcterms:modified>
  <cp:revision>80</cp:revision>
  <dc:subject/>
  <dc:title>MY SCHOOL</dc:title>
</cp:coreProperties>
</file>