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439-D073-40E9-87E2-BE31BB67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439-7459-46BD-8C41-E04A892D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DF2-6CC1-43C0-B8B4-CB8F6274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62A-3D02-46CC-83AF-8B4DD422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CD93-091F-4310-8028-23383581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91DF-AB0B-4D4E-9E22-3DF3BBDA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A82B-D52E-46E4-B31F-F519F1C6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6AAB-EC38-4802-BFDA-B52FCBCE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3682-E219-4BB8-AAE3-FFD11A6B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305F-9FDD-415E-A848-6D24FACD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35FC-59C0-46C5-917B-96E3783B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0BE-D09A-4BB5-A546-BE1E05C6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C95F-50B6-4D84-9CDA-5AE50C5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B94C-70BF-469A-92C7-33EF6E2D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EFBD-4205-4F09-B833-0A68B80F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32CF-6AEA-46CE-B9AA-6DDF408C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4B35-A5E4-4FA1-BE7A-C62495EC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5AAC0-472A-4EC7-9724-F4971D13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CAA78-20AF-4CC1-AF72-3AF8D4D9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19513-9411-4927-A223-13616AD4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BDB6B-360D-4DC7-B247-DB166668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DAD60-C480-4883-A371-4E1D9AEE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A76-323E-480F-94D1-4C36A0EF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26B42-809A-4589-A05E-5BF000E7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52E42-FEE8-4EEB-ACEB-A6173F62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09D95-EF05-4F91-8267-1C531F3E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2D204-7BBB-446C-B822-FFB996F2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2AB1B-946F-4475-8556-D39F9124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31F68-1286-404C-9C24-116ED555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C9D56-3606-48EC-B98D-7AF2DEE7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B07B9-622A-4019-872D-54279622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690FA-9A46-4BC3-8E0C-1591CDD8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190D02-6C84-4D51-8ADF-9499BC5C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D15-E337-40F7-943E-A6DC936B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71523-70FF-47F7-A0D0-14C7BE07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010CB-90F3-414E-B46F-40C858E7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AE75C8-CABE-4DA3-8B88-137ED3AA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87B808-F0D9-4729-88E8-161668F7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FA921-21F6-4567-9AEF-E55AD58B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FEF0E1-F7FB-40A2-92B9-78A4290C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DD58D-E477-436C-9335-A1E9C2BE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B179F-50E0-4FCC-B74C-D7C64F44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13D66-72EB-4F00-98FC-347519F6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3E017-9DA2-4C65-AAC8-8A4D8B21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431-ADD3-49FA-AF6E-39EA2340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35FFF-23CC-4399-967B-2526D31E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FA9D8-1BDB-44E0-9AD7-578CF03C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7FD1A-A59D-42C2-B137-F499E93B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A55F0-76D8-4D9D-9AF3-C6EE3397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29CF6-55EC-4CF9-92F0-0A19BDEF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F8828-CD1C-4600-BFC1-3949CBA9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E0143-7C37-41C9-A498-542263B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9195D-62A1-4FAD-8BED-C922C1E3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92516-846F-44D7-988A-B952072F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43D45-6C9E-408E-8AEE-5E462B25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C4D-9107-4A77-BF66-1245D205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513C0-9FF7-4396-8356-A3365A8F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1A8D2-1CCD-4DE1-982A-38DAC6B3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E4DD0-EE2E-4409-A40C-DB15E3F1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8AA55-B36C-43A0-83DA-CE3D19BC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D97CF-6C5E-42AE-BD6C-0CD610D0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89DD8-480B-43C3-AE67-682C75B8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0C314-B361-4370-B233-8430E31C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3C4C8-F711-4160-8189-2F9F4F29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F0AA1-A851-4441-AC4D-107E4A57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991E-5008-4610-B0B3-40A0F400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182-5165-413A-93E1-4450B435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60EAB-5E86-491A-B061-8E481C54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AF59F-F3C8-412D-A32E-9DE896A9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093E5-431A-4D77-83FB-11D332EC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15EDF-549E-462D-8875-20221442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71BE6-3999-4D83-8CCC-EF0293F7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7C531-D94F-416E-9E1A-742D54A7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203F84-DB78-4731-9229-E388D305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8C0604-99B3-4205-A92D-3B6819DA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6E426-8A80-4BE8-BD81-50099354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7030F-1BB8-4938-B6A1-26AD0469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565-C6A1-4C66-8933-C77D01C4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B230A-C126-4089-87D3-5F49FA43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18C07-13EE-4DFB-B62B-66EFCA2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2B4B5-D2CB-4261-B498-AAA9FD0E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A5484-3529-4B3E-B6A0-16269FF7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AD4D3-1F67-4564-88AD-94CE646C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7D5F5-CE98-4A23-8B08-06881C85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F984B-16BF-483D-BF48-A376CF41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19B4B-45A6-4F81-B412-6E825461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D8E06-2523-4664-BD40-6DB134CD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83E61-24B5-45BC-8FC3-F20AD4AD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147-E080-420F-B747-4225E4F8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2D2DF-B639-4032-B949-DA57F14C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B5BB1-912B-48F1-B032-16FBC9A4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48A04-A308-4A1C-BA2A-FA1C6AAA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C6B24-08EA-4DBD-9B4E-391F9CF8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A7ABB-B57B-497C-BEF8-05107B63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84800-3D4C-4607-8192-6E5CEF9D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22345-DBA7-41DD-B681-D0D334D5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EB11-9C13-4676-ADA3-E395FD2DE9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226A-CECC-49BE-9A65-7787AC40EE4C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4547-3566-4BC0-B00A-83698B9D4175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92C1-63FB-45D9-B00C-7F990AF365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5798-7E20-4643-A962-62B38A157F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D262-7BF2-4A8E-B50B-B8E92151CB0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DD54-1849-49CC-91A3-306A616EBCB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1F87-EF52-4C29-92F4-98678FD677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l-library.com/index.cfm?pageid=82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www.esl-library.com/index.cfm?pageid=82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www.esl-library.com/index.cfm?pageid=82" TargetMode="External"/><Relationship Id="rId7" Type="http://schemas.openxmlformats.org/officeDocument/2006/relationships/image" Target="../media/image8.png"/><Relationship Id="rId8" Type="http://schemas.openxmlformats.org/officeDocument/2006/relationships/hyperlink" Target="http://www.esl-library.com/index.cfm?pageid=82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18920" y="142920"/>
            <a:ext cx="47530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</a:rPr>
              <a:t>MY SCHOOL</a:t>
            </a: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113440" cy="3300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C:\Documents and Settings\user\Рабочий стол\18.jpeg"/>
          <p:cNvPicPr/>
          <p:nvPr/>
        </p:nvPicPr>
        <p:blipFill>
          <a:blip r:embed="rId3"/>
          <a:stretch/>
        </p:blipFill>
        <p:spPr>
          <a:xfrm>
            <a:off x="179280" y="494172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C:\Documents and Settings\user\Рабочий стол\10.jpeg"/>
          <p:cNvPicPr/>
          <p:nvPr/>
        </p:nvPicPr>
        <p:blipFill>
          <a:blip r:embed="rId4"/>
          <a:stretch/>
        </p:blipFill>
        <p:spPr>
          <a:xfrm>
            <a:off x="7596360" y="189000"/>
            <a:ext cx="1357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400" spc="-1" strike="noStrike">
                <a:solidFill>
                  <a:srgbClr val="7b3d1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7b3d17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71280" y="1915920"/>
            <a:ext cx="77151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p.42-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.2,3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адать кроссворд, подставить предлоги, с переводо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14" descr="C:\Documents and Settings\user\Рабочий стол\9.jpeg"/>
          <p:cNvPicPr/>
          <p:nvPr/>
        </p:nvPicPr>
        <p:blipFill>
          <a:blip r:embed="rId2"/>
          <a:stretch/>
        </p:blipFill>
        <p:spPr>
          <a:xfrm>
            <a:off x="214200" y="142920"/>
            <a:ext cx="107172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340000" y="228600"/>
            <a:ext cx="5184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Arial"/>
              </a:rPr>
              <a:t>You are great!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412" name="Текст 12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2522520" cy="28814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55640" y="198900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Thank you for your work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518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Days of the week</a:t>
            </a:r>
            <a:endParaRPr b="0" lang="en-US" sz="4000" spc="-1" strike="noStrike">
              <a:solidFill>
                <a:srgbClr val="775f55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411280" y="907920"/>
          <a:ext cx="4319640" cy="404496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Sund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Monday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Tuesday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Wednesday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Thursday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Friday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Saturday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 txBox="1"/>
          <p:nvPr/>
        </p:nvSpPr>
        <p:spPr>
          <a:xfrm>
            <a:off x="250920" y="5300640"/>
            <a:ext cx="8308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y favourite day of the week is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116000" y="609300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have ...  on Monday.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What are your favorite subjects ? Think  and write down  the best timetable  for one day: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73000"/>
            <a:ext cx="8686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79560" indent="-79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Arial Unicode MS"/>
              </a:rPr>
              <a:t>TIMETABLE FOR THE LOVELY SCHOOL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79560" indent="-79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556000" y="2276640"/>
          <a:ext cx="4429080" cy="2807640"/>
        </p:xfrm>
        <a:graphic>
          <a:graphicData uri="http://schemas.openxmlformats.org/drawingml/2006/table">
            <a:tbl>
              <a:tblPr/>
              <a:tblGrid>
                <a:gridCol w="768240"/>
                <a:gridCol w="3660840"/>
              </a:tblGrid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361" name="Picture 9" descr="C:\Documents and Settings\user\Рабочий стол\18.jpeg"/>
          <p:cNvPicPr/>
          <p:nvPr/>
        </p:nvPicPr>
        <p:blipFill>
          <a:blip r:embed="rId2"/>
          <a:stretch/>
        </p:blipFill>
        <p:spPr>
          <a:xfrm>
            <a:off x="428760" y="5429160"/>
            <a:ext cx="1428480" cy="10764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2556000" y="5661000"/>
            <a:ext cx="561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y favorite subjects are 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MATCH THE SCHOOL SUBJECTS 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AND THE THINGS STUDIED IN THEM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000" y="1628640"/>
            <a:ext cx="5040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We sing funny so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Figures and mathematical probl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Learning words, grammar rules, reading, translating.</a:t>
            </a:r>
            <a:r>
              <a:rPr b="1" lang="ru-RU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We read about nature, plants and anima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</a:rPr>
              <a:t>You run and jump in the Gy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We read stories and poems.</a:t>
            </a:r>
            <a:r>
              <a:rPr b="1" lang="ru-RU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</a:rPr>
              <a:t>Gulnas Raisovna is the teacher of this subj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</a:rPr>
              <a:t>You draw pictures with paints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43661c"/>
                </a:solidFill>
                <a:latin typeface="Times New Roman"/>
              </a:rPr>
              <a:t>brush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661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Comput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Informatio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Natural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9" descr="C:\Documents and Settings\user\Рабочий стол\4.jpeg"/>
          <p:cNvPicPr/>
          <p:nvPr/>
        </p:nvPicPr>
        <p:blipFill>
          <a:blip r:embed="rId2"/>
          <a:stretch/>
        </p:blipFill>
        <p:spPr>
          <a:xfrm>
            <a:off x="214200" y="214200"/>
            <a:ext cx="1314720" cy="876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276720" y="1916280"/>
            <a:ext cx="4174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59280" y="2276640"/>
            <a:ext cx="2952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92360" y="2924280"/>
            <a:ext cx="417528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51280" y="3573360"/>
            <a:ext cx="2952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84720" y="4076640"/>
            <a:ext cx="3672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076720" y="3644640"/>
            <a:ext cx="2951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050920" y="2276640"/>
            <a:ext cx="511344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924360" y="3213000"/>
            <a:ext cx="35272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716360" y="1915920"/>
            <a:ext cx="345600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MATCH THE SCHOOL SUBJECTS 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AND THE THINGS STUDIED IN THEM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8000" y="1628640"/>
            <a:ext cx="5040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We sing funny so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Figures and mathematical probl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Learning words, grammar rules, reading, translating.</a:t>
            </a:r>
            <a:r>
              <a:rPr b="0" lang="ru-RU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We read about nature, plants and anima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</a:rPr>
              <a:t>You run and jump in the Gy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We read stories and poems.</a:t>
            </a:r>
            <a:r>
              <a:rPr b="0" lang="ru-RU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</a:rPr>
              <a:t>Gulnas Raisovna is the teacher of this subj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</a:rPr>
              <a:t>You draw pictures with paints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43661c"/>
                </a:solidFill>
                <a:latin typeface="Times New Roman"/>
              </a:rPr>
              <a:t>brush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61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Computers.</a:t>
            </a:r>
            <a:r>
              <a:rPr b="0" lang="ru-RU" sz="2200" spc="-1" strike="noStrike">
                <a:solidFill>
                  <a:srgbClr val="43661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Natural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Informatio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9" descr="C:\Documents and Settings\user\Рабочий стол\4.jpeg"/>
          <p:cNvPicPr/>
          <p:nvPr/>
        </p:nvPicPr>
        <p:blipFill>
          <a:blip r:embed="rId2"/>
          <a:stretch/>
        </p:blipFill>
        <p:spPr>
          <a:xfrm>
            <a:off x="214200" y="214200"/>
            <a:ext cx="1314720" cy="87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780000" y="228600"/>
            <a:ext cx="2304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Arial"/>
              </a:rPr>
              <a:t>Time 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84200" y="1792440"/>
            <a:ext cx="11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Овал 4"/>
          <p:cNvSpPr/>
          <p:nvPr/>
        </p:nvSpPr>
        <p:spPr>
          <a:xfrm>
            <a:off x="250920" y="1052640"/>
            <a:ext cx="3168720" cy="2376360"/>
          </a:xfrm>
          <a:prstGeom prst="ellipse">
            <a:avLst/>
          </a:prstGeom>
          <a:solidFill>
            <a:srgbClr val="e9efe8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Содержимое 6"/>
          <p:cNvSpPr/>
          <p:nvPr/>
        </p:nvSpPr>
        <p:spPr>
          <a:xfrm>
            <a:off x="5508720" y="1125360"/>
            <a:ext cx="3095640" cy="2376720"/>
          </a:xfrm>
          <a:prstGeom prst="ellipse">
            <a:avLst/>
          </a:prstGeom>
          <a:solidFill>
            <a:srgbClr val="e9efe8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 Black"/>
              </a:rPr>
              <a:t>t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35280" y="1052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93080" y="112536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Рисунок 11" descr="http://www.esl-library.com/../images/flashcards/colored/sm/four-CT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141720"/>
            <a:ext cx="2205000" cy="16430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3" descr="http://www.esl-library.com/../images/flashcards/colored/sm/four_forty-five-CT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4869000"/>
            <a:ext cx="2376360" cy="17697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0" descr="http://www.esl-library.com/../images/flashcards/colored/sm/four-ten-CT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4869000"/>
            <a:ext cx="2301840" cy="171432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21" descr="http://www.esl-library.com/../images/flashcards/colored/sm/four-thirty-CT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00720" y="4869000"/>
            <a:ext cx="230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Make up the dialogue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: - Excuse me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: - Y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: - What time is it now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: - Let me see. It’s 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: - Oh, thank you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: - You’re welco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3" descr="picture"/>
          <p:cNvPicPr/>
          <p:nvPr/>
        </p:nvPicPr>
        <p:blipFill>
          <a:blip r:embed="rId2"/>
          <a:stretch/>
        </p:blipFill>
        <p:spPr>
          <a:xfrm>
            <a:off x="5435640" y="2781360"/>
            <a:ext cx="1655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Arial"/>
              </a:rPr>
              <a:t>Listening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400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p.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9280" y="2205000"/>
          <a:ext cx="8858520" cy="3600360"/>
        </p:xfrm>
        <a:graphic>
          <a:graphicData uri="http://schemas.openxmlformats.org/drawingml/2006/table">
            <a:tbl>
              <a:tblPr/>
              <a:tblGrid>
                <a:gridCol w="1224000"/>
                <a:gridCol w="1297080"/>
                <a:gridCol w="1498680"/>
                <a:gridCol w="1785960"/>
                <a:gridCol w="1574640"/>
                <a:gridCol w="1478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o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da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sda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nesda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rsda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da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45/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45/9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45/8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i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:50/10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40/10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40/10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40/9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:40/9: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40/9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:55/14: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"/>
          <p:cNvSpPr/>
          <p:nvPr/>
        </p:nvSpPr>
        <p:spPr>
          <a:xfrm>
            <a:off x="755640" y="616572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Jessica has English at a quarter to nine on Monda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32000" y="68400"/>
            <a:ext cx="6999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89000"/>
            <a:ext cx="3311640" cy="24480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ll in the time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3168360" cy="1839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79280" y="4221000"/>
            <a:ext cx="3311640" cy="24480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ll in the class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08720" y="115920"/>
            <a:ext cx="3311280" cy="24480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ll in the schoolb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32360" y="4221000"/>
            <a:ext cx="3311640" cy="244800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rite  the school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1081080" cy="14400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4140360" y="4508640"/>
            <a:ext cx="1430280" cy="19065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7236000" y="2637000"/>
            <a:ext cx="1081080" cy="14396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6"/>
          <a:stretch/>
        </p:blipFill>
        <p:spPr>
          <a:xfrm>
            <a:off x="4219560" y="62064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7"/>
          <a:stretch/>
        </p:blipFill>
        <p:spPr>
          <a:xfrm>
            <a:off x="1835280" y="2708280"/>
            <a:ext cx="10810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ох М.В.</dc:creator>
  <dc:description/>
  <cp:keywords>school subject</cp:keywords>
  <dc:language>en-US</dc:language>
  <cp:lastModifiedBy>Разиль и Миляуша</cp:lastModifiedBy>
  <dcterms:modified xsi:type="dcterms:W3CDTF">2014-03-05T19:59:33Z</dcterms:modified>
  <cp:revision>80</cp:revision>
  <dc:subject/>
  <dc:title>MY SCHOOL</dc:title>
</cp:coreProperties>
</file>