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6BA-8B8E-4790-9BDF-D670DA2B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37D-3CD2-4468-8CE4-DDAD7A2C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FEE-EBEC-4B0C-A74C-F4AC6A7E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282-9323-4B69-9D3C-B381E7A3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A73-3496-4D93-86F2-CB965D34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A41-88E5-42CE-807D-51C2668F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E7B-22F9-4F2E-9025-7F19037F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0E4-6FA5-4BDB-816C-547DB9E4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7A5-57FE-4D35-80CE-EE1C4D16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9D7-1A2F-418D-B10C-F1B3B47B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B52-1692-4670-9263-7F378396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713-5E18-4244-9DB9-F9FBB27E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A2F1-B8A2-4519-9C53-3CCC9D72A8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1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Геометрия полна приключений, потому что за каждой задачей скрывается приключение мысли.</a:t>
            </a:r>
            <a:br>
              <a:rPr sz="3600"/>
            </a:b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В. Произволов</a:t>
            </a:r>
            <a:br>
              <a:rPr sz="3600"/>
            </a:b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7232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6" descr="http://www.zaitseva-irina.ru/images/pic3.gif"/>
          <p:cNvPicPr/>
          <p:nvPr/>
        </p:nvPicPr>
        <p:blipFill>
          <a:blip r:embed="rId1"/>
          <a:stretch/>
        </p:blipFill>
        <p:spPr>
          <a:xfrm>
            <a:off x="3710160" y="5016600"/>
            <a:ext cx="2095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12139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Рефлексия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1428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0" i="1" lang="ru-RU" sz="3600" spc="-1" strike="noStrike">
                <a:solidFill>
                  <a:srgbClr val="990033"/>
                </a:solidFill>
                <a:latin typeface="Arial"/>
              </a:rPr>
              <a:t>Дорогу осилит идущий, а математику - мыслящий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1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Неравенство треугольника</a:t>
            </a:r>
            <a:br>
              <a:rPr sz="4800"/>
            </a:br>
            <a:br>
              <a:rPr sz="4800"/>
            </a:b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Учитель математики 1 категории</a:t>
            </a:r>
            <a:br>
              <a:rPr sz="2000"/>
            </a:b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Коллегаева Н.М.</a:t>
            </a:r>
            <a:br>
              <a:rPr sz="2000"/>
            </a:b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БОУ «СОШ №6 им. К. Минина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. Балахна</a:t>
            </a:r>
            <a:br>
              <a:rPr sz="3600"/>
            </a:b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45" name="Picture 2" descr="pic6"/>
          <p:cNvPicPr/>
          <p:nvPr/>
        </p:nvPicPr>
        <p:blipFill>
          <a:blip r:embed="rId1"/>
          <a:stretch/>
        </p:blipFill>
        <p:spPr>
          <a:xfrm>
            <a:off x="7018200" y="1052640"/>
            <a:ext cx="21146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26920" y="1835280"/>
            <a:ext cx="83124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раздаточного материала собрать  треугольники со сторон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см, 4 см, 5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см, 1 см, 2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см,  2 см, 1 с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см, 3 см, 4 с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см, 1 см, 1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см, 1 см, 4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81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14240" y="1500120"/>
            <a:ext cx="8229600" cy="514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внобедренный треугольник 8"/>
          <p:cNvSpPr/>
          <p:nvPr/>
        </p:nvSpPr>
        <p:spPr>
          <a:xfrm>
            <a:off x="1071720" y="1857240"/>
            <a:ext cx="1500120" cy="1000440"/>
          </a:xfrm>
          <a:prstGeom prst="triangle">
            <a:avLst>
              <a:gd name="adj" fmla="val 5067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1"/>
          <p:cNvSpPr/>
          <p:nvPr/>
        </p:nvSpPr>
        <p:spPr>
          <a:xfrm>
            <a:off x="3714840" y="2786040"/>
            <a:ext cx="1071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3"/>
          <p:cNvSpPr/>
          <p:nvPr/>
        </p:nvSpPr>
        <p:spPr>
          <a:xfrm flipV="1">
            <a:off x="3714840" y="2285640"/>
            <a:ext cx="35712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5"/>
          <p:cNvSpPr/>
          <p:nvPr/>
        </p:nvSpPr>
        <p:spPr>
          <a:xfrm flipH="1" flipV="1">
            <a:off x="4357800" y="2285640"/>
            <a:ext cx="42840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5"/>
          <p:cNvSpPr/>
          <p:nvPr/>
        </p:nvSpPr>
        <p:spPr>
          <a:xfrm>
            <a:off x="5857920" y="2857680"/>
            <a:ext cx="11430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30"/>
          <p:cNvSpPr/>
          <p:nvPr/>
        </p:nvSpPr>
        <p:spPr>
          <a:xfrm flipV="1">
            <a:off x="5857920" y="2643120"/>
            <a:ext cx="428760" cy="21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32"/>
          <p:cNvSpPr/>
          <p:nvPr/>
        </p:nvSpPr>
        <p:spPr>
          <a:xfrm flipH="1" flipV="1">
            <a:off x="6429240" y="2571840"/>
            <a:ext cx="571680" cy="28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Равнобедренный треугольник 33"/>
          <p:cNvSpPr/>
          <p:nvPr/>
        </p:nvSpPr>
        <p:spPr>
          <a:xfrm>
            <a:off x="3571920" y="3929040"/>
            <a:ext cx="988920" cy="857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Равнобедренный треугольник 34"/>
          <p:cNvSpPr/>
          <p:nvPr/>
        </p:nvSpPr>
        <p:spPr>
          <a:xfrm>
            <a:off x="1214280" y="3929040"/>
            <a:ext cx="192888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36"/>
          <p:cNvSpPr/>
          <p:nvPr/>
        </p:nvSpPr>
        <p:spPr>
          <a:xfrm>
            <a:off x="5286240" y="4786200"/>
            <a:ext cx="15004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38"/>
          <p:cNvSpPr/>
          <p:nvPr/>
        </p:nvSpPr>
        <p:spPr>
          <a:xfrm flipV="1">
            <a:off x="5285520" y="4429080"/>
            <a:ext cx="357480" cy="357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40"/>
          <p:cNvSpPr/>
          <p:nvPr/>
        </p:nvSpPr>
        <p:spPr>
          <a:xfrm flipH="1" flipV="1">
            <a:off x="6286320" y="4429080"/>
            <a:ext cx="500040" cy="357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41"/>
          <p:cNvSpPr/>
          <p:nvPr/>
        </p:nvSpPr>
        <p:spPr>
          <a:xfrm flipH="1">
            <a:off x="6057720" y="2857680"/>
            <a:ext cx="228600" cy="842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2"/>
          <p:cNvSpPr/>
          <p:nvPr/>
        </p:nvSpPr>
        <p:spPr>
          <a:xfrm>
            <a:off x="714240" y="2643120"/>
            <a:ext cx="6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3"/>
          <p:cNvSpPr/>
          <p:nvPr/>
        </p:nvSpPr>
        <p:spPr>
          <a:xfrm>
            <a:off x="3286080" y="25718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4"/>
          <p:cNvSpPr/>
          <p:nvPr/>
        </p:nvSpPr>
        <p:spPr>
          <a:xfrm>
            <a:off x="5500800" y="25718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5"/>
          <p:cNvSpPr/>
          <p:nvPr/>
        </p:nvSpPr>
        <p:spPr>
          <a:xfrm>
            <a:off x="928800" y="450072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6"/>
          <p:cNvSpPr/>
          <p:nvPr/>
        </p:nvSpPr>
        <p:spPr>
          <a:xfrm>
            <a:off x="3286080" y="4572000"/>
            <a:ext cx="6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7"/>
          <p:cNvSpPr/>
          <p:nvPr/>
        </p:nvSpPr>
        <p:spPr>
          <a:xfrm>
            <a:off x="4786200" y="4643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зультаты исследования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11280" y="2060640"/>
          <a:ext cx="8229600" cy="3941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сторон треуголь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ость постро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2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1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1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ет гипотеза,  что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ждая сторона треугольника должна быть меньше суммы двух других стор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Теорема о неравенстве треугольника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99640" y="2205000"/>
            <a:ext cx="80852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ая сторона треугольника меньше суммы двух других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Следствие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18572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любых трех точек  А, В, С, не лежащих на одной прямой, справедливы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C+CB,  AC&lt;AB+BC, BC&lt;BA+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. С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77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уществует ли треугольник  со сторонам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 м, 2,5м, 1,5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5 м, 6м, 3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4 дм, 10 см, 25 см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Можно ли из проволоки, длина которой 20 см согнуть треугольник, одна сторона которого рав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8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2 см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9:09:27Z</dcterms:created>
  <dc:creator>Kollegaev</dc:creator>
  <dc:description/>
  <cp:keywords/>
  <dc:language>en-US</dc:language>
  <cp:lastModifiedBy>koll76@mail.ru</cp:lastModifiedBy>
  <dcterms:modified xsi:type="dcterms:W3CDTF">2015-01-25T18:08:53Z</dcterms:modified>
  <cp:revision>35</cp:revision>
  <dc:subject/>
  <dc:title>Теория чисел. Признак делимости на 4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41049</vt:lpwstr>
  </property>
</Properties>
</file>