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B9E-9451-48A1-A1F2-C5CF295B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107-3ED8-4E70-9AF7-000BFD5D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55E-2699-4F07-9EAB-7D3E7D0A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F13-C9B4-4F7F-8D09-59EABB5D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034-7AA1-4469-AF25-F317A309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46F-5483-47AD-B899-9343172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FF4-E24F-4A8C-8A76-B9C92D9B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920-A4C5-4F80-896F-43A8C631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6B5-44A2-4FD7-9D95-BC45FB48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7FB-1725-4818-AF8F-EDB91F3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2E8-3169-4A86-A0B5-0DAFC13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EA8-6204-4207-BA45-BCB96426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05EA-4651-4DFD-A988-421E14352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Геометрия полна приключений, потому что за каждой задачей скрывается приключение мысли.</a:t>
            </a:r>
            <a:br>
              <a:rPr sz="3600"/>
            </a:b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В. Произволов</a:t>
            </a:r>
            <a:br>
              <a:rPr sz="3600"/>
            </a:b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7232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6" descr="http://www.zaitseva-irina.ru/images/pic3.gif"/>
          <p:cNvPicPr/>
          <p:nvPr/>
        </p:nvPicPr>
        <p:blipFill>
          <a:blip r:embed="rId1"/>
          <a:stretch/>
        </p:blipFill>
        <p:spPr>
          <a:xfrm>
            <a:off x="3710160" y="5016600"/>
            <a:ext cx="2095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2139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1428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Дорогу осилит идущий, а математику - мыслящий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Неравенство треугольника</a:t>
            </a:r>
            <a:br>
              <a:rPr sz="4800"/>
            </a:br>
            <a:br>
              <a:rPr sz="48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читель математики 1 категории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Коллегаева Н.М.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БОУ «СОШ №6 им. К. Минина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 Балахна</a:t>
            </a:r>
            <a:br>
              <a:rPr sz="3600"/>
            </a:br>
            <a:endParaRPr b="0" lang="en-US" sz="2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45" name="Picture 2" descr="pic6"/>
          <p:cNvPicPr/>
          <p:nvPr/>
        </p:nvPicPr>
        <p:blipFill>
          <a:blip r:embed="rId1"/>
          <a:stretch/>
        </p:blipFill>
        <p:spPr>
          <a:xfrm>
            <a:off x="7018200" y="1052640"/>
            <a:ext cx="21146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26920" y="1835280"/>
            <a:ext cx="831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раздаточного материала собрать  треугольники со сторон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м, 4 см, 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м, 1 см, 2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м,  2 см, 1 с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м, 3 см, 4 с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м, 1 см, 1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см, 1 см, 4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81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14240" y="1500120"/>
            <a:ext cx="8229600" cy="514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8"/>
          <p:cNvSpPr/>
          <p:nvPr/>
        </p:nvSpPr>
        <p:spPr>
          <a:xfrm>
            <a:off x="1071720" y="1857240"/>
            <a:ext cx="1500120" cy="1000440"/>
          </a:xfrm>
          <a:prstGeom prst="triangle">
            <a:avLst>
              <a:gd name="adj" fmla="val 5067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1"/>
          <p:cNvSpPr/>
          <p:nvPr/>
        </p:nvSpPr>
        <p:spPr>
          <a:xfrm>
            <a:off x="3714840" y="2786040"/>
            <a:ext cx="1071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3"/>
          <p:cNvSpPr/>
          <p:nvPr/>
        </p:nvSpPr>
        <p:spPr>
          <a:xfrm flipV="1">
            <a:off x="3714840" y="2285640"/>
            <a:ext cx="35712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 flipH="1" flipV="1">
            <a:off x="4357800" y="2285640"/>
            <a:ext cx="42840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5"/>
          <p:cNvSpPr/>
          <p:nvPr/>
        </p:nvSpPr>
        <p:spPr>
          <a:xfrm>
            <a:off x="5857920" y="2857680"/>
            <a:ext cx="1143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0"/>
          <p:cNvSpPr/>
          <p:nvPr/>
        </p:nvSpPr>
        <p:spPr>
          <a:xfrm flipV="1">
            <a:off x="5857920" y="2643120"/>
            <a:ext cx="428760" cy="21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2"/>
          <p:cNvSpPr/>
          <p:nvPr/>
        </p:nvSpPr>
        <p:spPr>
          <a:xfrm flipH="1" flipV="1">
            <a:off x="6429240" y="2571840"/>
            <a:ext cx="571680" cy="28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внобедренный треугольник 33"/>
          <p:cNvSpPr/>
          <p:nvPr/>
        </p:nvSpPr>
        <p:spPr>
          <a:xfrm>
            <a:off x="3571920" y="3929040"/>
            <a:ext cx="988920" cy="857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Равнобедренный треугольник 34"/>
          <p:cNvSpPr/>
          <p:nvPr/>
        </p:nvSpPr>
        <p:spPr>
          <a:xfrm>
            <a:off x="1214280" y="3929040"/>
            <a:ext cx="192888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6"/>
          <p:cNvSpPr/>
          <p:nvPr/>
        </p:nvSpPr>
        <p:spPr>
          <a:xfrm>
            <a:off x="5286240" y="4786200"/>
            <a:ext cx="15004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38"/>
          <p:cNvSpPr/>
          <p:nvPr/>
        </p:nvSpPr>
        <p:spPr>
          <a:xfrm flipV="1">
            <a:off x="5285520" y="4429080"/>
            <a:ext cx="35748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0"/>
          <p:cNvSpPr/>
          <p:nvPr/>
        </p:nvSpPr>
        <p:spPr>
          <a:xfrm flipH="1" flipV="1">
            <a:off x="6286320" y="4429080"/>
            <a:ext cx="50004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41"/>
          <p:cNvSpPr/>
          <p:nvPr/>
        </p:nvSpPr>
        <p:spPr>
          <a:xfrm flipH="1">
            <a:off x="6057720" y="2857680"/>
            <a:ext cx="228600" cy="842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2"/>
          <p:cNvSpPr/>
          <p:nvPr/>
        </p:nvSpPr>
        <p:spPr>
          <a:xfrm>
            <a:off x="714240" y="2643120"/>
            <a:ext cx="6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3"/>
          <p:cNvSpPr/>
          <p:nvPr/>
        </p:nvSpPr>
        <p:spPr>
          <a:xfrm>
            <a:off x="3286080" y="2571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4"/>
          <p:cNvSpPr/>
          <p:nvPr/>
        </p:nvSpPr>
        <p:spPr>
          <a:xfrm>
            <a:off x="5500800" y="25718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5"/>
          <p:cNvSpPr/>
          <p:nvPr/>
        </p:nvSpPr>
        <p:spPr>
          <a:xfrm>
            <a:off x="928800" y="45007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6"/>
          <p:cNvSpPr/>
          <p:nvPr/>
        </p:nvSpPr>
        <p:spPr>
          <a:xfrm>
            <a:off x="3286080" y="4572000"/>
            <a:ext cx="6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7"/>
          <p:cNvSpPr/>
          <p:nvPr/>
        </p:nvSpPr>
        <p:spPr>
          <a:xfrm>
            <a:off x="4786200" y="4643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езультаты исследования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11280" y="2060640"/>
          <a:ext cx="8229600" cy="394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сторон треуголь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постр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2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1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ет гипотеза,  что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ждая сторона треугольника должна быть меньше суммы двух других сто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Теорема о неравенстве треугольник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99640" y="2205000"/>
            <a:ext cx="80852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ая сторона треугольника меньше суммы двух других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Следствие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18572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ых трех точек  А, В, С, не лежащих на одной прямой, справедливы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C+CB,  AC&lt;AB+BC, BC&lt;BA+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 С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77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уществует ли треугольник  со сторонам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 м, 2,5м, 1,5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5 м, 6м, 3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4 дм, 10 см, 25 с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жно ли из проволоки, длина которой 20 см согнуть треугольник, одна сторона которого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2 с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9:09:27Z</dcterms:created>
  <dc:creator>Kollegaev</dc:creator>
  <dc:description/>
  <cp:keywords/>
  <dc:language>en-US</dc:language>
  <cp:lastModifiedBy>koll76@mail.ru</cp:lastModifiedBy>
  <dcterms:modified xsi:type="dcterms:W3CDTF">2015-01-25T18:08:53Z</dcterms:modified>
  <cp:revision>35</cp:revision>
  <dc:subject/>
  <dc:title>Теория чисел. Признак делимости на 4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41049</vt:lpwstr>
  </property>
</Properties>
</file>