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i="1" lang="ru-RU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i="1" lang="ru-RU" sz="2160" spc="-1" strike="noStrike">
                <a:solidFill>
                  <a:srgbClr val="000000"/>
                </a:solidFill>
                <a:latin typeface="Calibri"/>
              </a:rPr>
              <a:t>Интеграция образовательных областей</a:t>
            </a:r>
          </a:p>
        </c:rich>
      </c:tx>
      <c:layout>
        <c:manualLayout>
          <c:xMode val="edge"/>
          <c:yMode val="edge"/>
          <c:x val="0.243267716535433"/>
          <c:y val="0.07249343832021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320866141732284"/>
          <c:y val="0.124724409448819"/>
          <c:w val="0.911062992125984"/>
          <c:h val="0.84041994750656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истема образовательной деятельности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spPr>
              <a:solidFill>
                <a:srgbClr val="00b05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8064a2"/>
              </a:solidFill>
              <a:ln w="0">
                <a:noFill/>
              </a:ln>
            </c:spPr>
          </c:dPt>
          <c:dPt>
            <c:idx val="4"/>
            <c:spPr>
              <a:solidFill>
                <a:srgbClr val="92d050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5"/>
                <c:pt idx="0">
                  <c:v>Кв. 1</c:v>
                </c:pt>
                <c:pt idx="1">
                  <c:v>Кв. 2</c:v>
                </c:pt>
                <c:pt idx="2">
                  <c:v>Кв. 3</c:v>
                </c:pt>
                <c:pt idx="3">
                  <c:v>Кв. 4</c:v>
                </c:pt>
                <c:pt idx="4">
                  <c:v>Кв.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6</c:v>
                </c:pt>
                <c:pt idx="1">
                  <c:v>2</c:v>
                </c:pt>
                <c:pt idx="2">
                  <c:v>6.8</c:v>
                </c:pt>
                <c:pt idx="3">
                  <c:v>4.7</c:v>
                </c:pt>
                <c:pt idx="4">
                  <c:v>4.3</c:v>
                </c:pt>
              </c:numCache>
            </c:numRef>
          </c:val>
        </c:ser>
      </c:pie3DChart>
    </c:plotArea>
    <c:plotVisOnly val="1"/>
    <c:dispBlanksAs val="gap"/>
  </c:chart>
  <c:spPr>
    <a:noFill/>
    <a:ln w="0">
      <a:noFill/>
    </a:ln>
  </c:spPr>
  <c:userShapes r:id="rId1"/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403188976377953</cdr:x>
      <cdr:y>0.531916010498688</cdr:y>
    </cdr:from>
    <cdr:to>
      <cdr:x>0.782165354330709</cdr:x>
      <cdr:y>0.691443569553806</cdr:y>
    </cdr:to>
    <cdr:sp>
      <cdr:nvSpPr>
        <cdr:cNvPr id="133" name="TextBox 1"/>
        <cdr:cNvSpPr/>
      </cdr:nvSpPr>
      <cdr:spPr>
        <a:xfrm>
          <a:off x="3686760" y="3647880"/>
          <a:ext cx="3465360" cy="109404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Социально-коммуникативно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развити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570275590551181</cdr:x>
      <cdr:y>0.24997375328084</cdr:y>
    </cdr:from>
    <cdr:to>
      <cdr:x>0.673464566929134</cdr:x>
      <cdr:y>0.386089238845144</cdr:y>
    </cdr:to>
    <cdr:sp>
      <cdr:nvSpPr>
        <cdr:cNvPr id="134" name="TextBox 2"/>
        <cdr:cNvSpPr/>
      </cdr:nvSpPr>
      <cdr:spPr>
        <a:xfrm>
          <a:off x="5214600" y="1714320"/>
          <a:ext cx="943560" cy="9334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600" spc="-1" strike="noStrike">
              <a:solidFill>
                <a:srgbClr val="000000"/>
              </a:solidFill>
              <a:latin typeface="Times New Roman"/>
            </a:rPr>
            <a:t>Художественно-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600" spc="-1" strike="noStrike">
              <a:solidFill>
                <a:srgbClr val="000000"/>
              </a:solidFill>
              <a:latin typeface="Times New Roman"/>
            </a:rPr>
            <a:t>эстетическое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600" spc="-1" strike="noStrike">
              <a:solidFill>
                <a:srgbClr val="000000"/>
              </a:solidFill>
              <a:latin typeface="Times New Roman"/>
            </a:rPr>
            <a:t>развитие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195314960629921</cdr:x>
      <cdr:y>0.447874015748032</cdr:y>
    </cdr:from>
    <cdr:to>
      <cdr:x>0.298503937007874</cdr:x>
      <cdr:y>0.605249343832021</cdr:y>
    </cdr:to>
    <cdr:sp>
      <cdr:nvSpPr>
        <cdr:cNvPr id="135" name="TextBox 3"/>
        <cdr:cNvSpPr/>
      </cdr:nvSpPr>
      <cdr:spPr>
        <a:xfrm>
          <a:off x="1785960" y="3071520"/>
          <a:ext cx="943560" cy="10792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Физическо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развити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18748031496063</cdr:x>
      <cdr:y>0.302047244094488</cdr:y>
    </cdr:from>
    <cdr:to>
      <cdr:x>0.290669291338583</cdr:x>
      <cdr:y>0.438162729658793</cdr:y>
    </cdr:to>
    <cdr:sp>
      <cdr:nvSpPr>
        <cdr:cNvPr id="136" name="TextBox 4"/>
        <cdr:cNvSpPr/>
      </cdr:nvSpPr>
      <cdr:spPr>
        <a:xfrm>
          <a:off x="1714320" y="2071440"/>
          <a:ext cx="943560" cy="9334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Познавательное развити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351535433070866</cdr:x>
      <cdr:y>0.208293963254593</cdr:y>
    </cdr:from>
    <cdr:to>
      <cdr:x>0.454724409448819</cdr:x>
      <cdr:y>0.344409448818898</cdr:y>
    </cdr:to>
    <cdr:sp>
      <cdr:nvSpPr>
        <cdr:cNvPr id="137" name="TextBox 5"/>
        <cdr:cNvSpPr/>
      </cdr:nvSpPr>
      <cdr:spPr>
        <a:xfrm>
          <a:off x="3214440" y="1428480"/>
          <a:ext cx="943560" cy="9334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400" spc="-1" strike="noStrike">
              <a:solidFill>
                <a:srgbClr val="000000"/>
              </a:solidFill>
              <a:latin typeface="Times New Roman"/>
            </a:rPr>
            <a:t> 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726535433070866</cdr:x>
      <cdr:y>0.406246719160105</cdr:y>
    </cdr:from>
    <cdr:to>
      <cdr:x>0.829724409448819</cdr:x>
      <cdr:y>0.542362204724409</cdr:y>
    </cdr:to>
    <cdr:sp>
      <cdr:nvSpPr>
        <cdr:cNvPr id="138" name="TextBox 6"/>
        <cdr:cNvSpPr/>
      </cdr:nvSpPr>
      <cdr:spPr>
        <a:xfrm>
          <a:off x="6643440" y="2786040"/>
          <a:ext cx="943560" cy="93348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Речево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  <a:p>
          <a:pPr>
            <a:lnSpc>
              <a:spcPct val="100000"/>
            </a:lnSpc>
          </a:pPr>
          <a:r>
            <a:rPr b="1" lang="ru-RU" sz="1800" spc="-1" strike="noStrike">
              <a:solidFill>
                <a:srgbClr val="000000"/>
              </a:solidFill>
              <a:latin typeface="Times New Roman"/>
            </a:rPr>
            <a:t>развитие</a:t>
          </a:r>
          <a:endParaRPr b="0" sz="18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27D53-0744-4A82-943C-C4E2E4C94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815A76-1E92-4D81-8F54-38D9501282C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DDB-5020-4DD7-A0B0-24761BA6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898-33C9-44B2-89FB-1BB506AB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341-878E-43C4-A5DF-71B98500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0D3-7F80-4CD7-BE7F-2305FB63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03F0-1782-45CE-B34D-D649F4DA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6A5F-8FC4-43DE-8CF5-21A6FC63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5CCA-57F2-4523-84DE-AEA35EA6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E637-5458-48ED-9D02-70F55030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C056-C329-4243-AB13-95E2DA2A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733D-06CD-4F8E-AEA9-52B317E4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6D69-F6D4-4EA0-A1CD-7C9491CF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908-EF85-4530-AF55-35313546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A6C3-E515-42C0-9815-09E43B5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BAC5-B524-4C91-9066-782C2B16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A8F9-52F3-4BFD-8322-49654D7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A8FA-373C-4A8B-9A3D-55B11F12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7530-44B4-464C-898E-AB6C9BDA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3A6D-B911-48DE-ADDD-E9EA3DC6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5ABF-FF19-44D3-926B-9300140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A08D-9DD1-436F-8BB0-D0183A6F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9DA8-862F-4422-A128-02578C3B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6B7D-FBAB-4E9C-A9DB-DD86CF47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E30-9B98-44AA-AACD-08B376AF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B0E5-59EC-4AA9-9D8C-E9E59E6D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C129-4596-440D-95B1-F204D153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7A7F-0A98-47DB-902F-1DBD8621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98EF-54F2-4AF3-8E1F-A38212E2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1552-0295-4932-8FE2-4DDB73D2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5566-B0F7-4B90-A66B-40087B59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9151-8945-4CDA-9153-3FB8F0A9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8A2-4158-4A8E-A009-6D11874C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90F-61CF-4721-A32B-9A8D295D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642-4E8D-4407-805E-A78A3283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C35-7844-4E40-9BA6-5A30D9CF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7DE-D334-41D5-AA29-A95FF31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BDD-519D-4BD2-AA87-ED43A45A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3FFBB6-903E-4D98-8279-3584771C700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01B7DF-A951-4985-861A-FF99780A677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07D65B-727C-4851-BB68-CE406CF9482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857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4286160" y="4357800"/>
            <a:ext cx="4571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Презентацию 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воспитатель группы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МДОАУ «ДС№3 «Тополё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г. Я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Абдулгалеева А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no Pro Smbd Subhea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640" y="161280"/>
            <a:ext cx="8715240" cy="686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бота с детьми: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дактические иг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иды транспорта» (разрезные картинки), «Цветные автомобили», «Кто назовет больше», «Правильно-неправильно».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вижные иг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езд», «Воробушки и автомобиль», «Такси», «Цветные автомобили».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южетно-ролевые иг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Едем к бабушке», «Я машина»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 Заходер «Шоферы»; Дорохов А. «Пассажир»;А.Барто « Грузовик», загадывание загадок о транспорте.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тивная деятельнос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ние – «Отремонтируйте машине колеса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пликация – «Ракета», Лепка - «Вертолет»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640" y="332640"/>
            <a:ext cx="8715240" cy="33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 родителями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я «Посмотри направо – посмотри налево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ьбом «Виды транспорта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авка детских работ «Транспорт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еда на тему «Как я ехал на автобусе», «На чем люди ездят», «Как вести себя вблизи машин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806436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66"/>
                </a:solidFill>
                <a:latin typeface="Georgia"/>
              </a:rPr>
              <a:t>Транспорт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- это машины, которые перевозят людей,  животных и грузы по воде, земле и воздуху.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1259640" y="4005000"/>
            <a:ext cx="6624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Виды транспорта:</a:t>
            </a:r>
            <a:br>
              <a:rPr sz="36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4200" y="332640"/>
            <a:ext cx="871524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Общественный транспорт</a:t>
            </a: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одержимое 13"/>
          <p:cNvSpPr/>
          <p:nvPr/>
        </p:nvSpPr>
        <p:spPr>
          <a:xfrm>
            <a:off x="179640" y="1052640"/>
            <a:ext cx="3348000" cy="2232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держимое 3"/>
          <p:cNvSpPr/>
          <p:nvPr/>
        </p:nvSpPr>
        <p:spPr>
          <a:xfrm>
            <a:off x="5508000" y="980640"/>
            <a:ext cx="3276000" cy="2448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3"/>
          <p:cNvSpPr/>
          <p:nvPr/>
        </p:nvSpPr>
        <p:spPr>
          <a:xfrm>
            <a:off x="2915640" y="3789000"/>
            <a:ext cx="3600000" cy="2664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640" y="332640"/>
            <a:ext cx="833220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Грузовой транспорт</a:t>
            </a: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одержимое 4"/>
          <p:cNvSpPr/>
          <p:nvPr/>
        </p:nvSpPr>
        <p:spPr>
          <a:xfrm>
            <a:off x="323640" y="1340640"/>
            <a:ext cx="3636720" cy="2412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5292000" y="1340640"/>
            <a:ext cx="3607200" cy="2448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original"/>
          <p:cNvPicPr/>
          <p:nvPr/>
        </p:nvPicPr>
        <p:blipFill>
          <a:blip r:embed="rId4"/>
          <a:stretch/>
        </p:blipFill>
        <p:spPr>
          <a:xfrm>
            <a:off x="2627640" y="4149000"/>
            <a:ext cx="3801960" cy="22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Служебные машины</a:t>
            </a: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одержимое 4"/>
          <p:cNvSpPr/>
          <p:nvPr/>
        </p:nvSpPr>
        <p:spPr>
          <a:xfrm>
            <a:off x="2843640" y="4005000"/>
            <a:ext cx="3429720" cy="2664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одержимое 5"/>
          <p:cNvSpPr/>
          <p:nvPr/>
        </p:nvSpPr>
        <p:spPr>
          <a:xfrm>
            <a:off x="5436000" y="1340640"/>
            <a:ext cx="3390840" cy="2555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3"/>
          <p:cNvSpPr/>
          <p:nvPr/>
        </p:nvSpPr>
        <p:spPr>
          <a:xfrm>
            <a:off x="251640" y="1412640"/>
            <a:ext cx="3565800" cy="2520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ши работы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F:\DCIM\101OLYMP\P3310003.JPG"/>
          <p:cNvPicPr/>
          <p:nvPr/>
        </p:nvPicPr>
        <p:blipFill>
          <a:blip r:embed="rId2"/>
          <a:stretch/>
        </p:blipFill>
        <p:spPr>
          <a:xfrm>
            <a:off x="323640" y="1484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DCIM\101OLYMP\P3310004.JPG"/>
          <p:cNvPicPr/>
          <p:nvPr/>
        </p:nvPicPr>
        <p:blipFill>
          <a:blip r:embed="rId3"/>
          <a:stretch/>
        </p:blipFill>
        <p:spPr>
          <a:xfrm>
            <a:off x="3251880" y="1484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F:\DCIM\101OLYMP\P3310006.JPG"/>
          <p:cNvPicPr/>
          <p:nvPr/>
        </p:nvPicPr>
        <p:blipFill>
          <a:blip r:embed="rId4"/>
          <a:stretch/>
        </p:blipFill>
        <p:spPr>
          <a:xfrm>
            <a:off x="6228360" y="1484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F:\DCIM\101OLYMP\P3310007.JPG"/>
          <p:cNvPicPr/>
          <p:nvPr/>
        </p:nvPicPr>
        <p:blipFill>
          <a:blip r:embed="rId5"/>
          <a:stretch/>
        </p:blipFill>
        <p:spPr>
          <a:xfrm>
            <a:off x="251640" y="4005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F:\DCIM\101OLYMP\P3310008.JPG"/>
          <p:cNvPicPr/>
          <p:nvPr/>
        </p:nvPicPr>
        <p:blipFill>
          <a:blip r:embed="rId6"/>
          <a:stretch/>
        </p:blipFill>
        <p:spPr>
          <a:xfrm>
            <a:off x="3276000" y="4005000"/>
            <a:ext cx="2664000" cy="199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F:\DCIM\101OLYMP\P3310009.JPG"/>
          <p:cNvPicPr/>
          <p:nvPr/>
        </p:nvPicPr>
        <p:blipFill>
          <a:blip r:embed="rId7"/>
          <a:stretch/>
        </p:blipFill>
        <p:spPr>
          <a:xfrm>
            <a:off x="6228360" y="4005000"/>
            <a:ext cx="268776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F:\DCIM\101OLYMP\P3310037.JPG"/>
          <p:cNvPicPr/>
          <p:nvPr/>
        </p:nvPicPr>
        <p:blipFill>
          <a:blip r:embed="rId2"/>
          <a:stretch/>
        </p:blipFill>
        <p:spPr>
          <a:xfrm>
            <a:off x="323640" y="620640"/>
            <a:ext cx="2783880" cy="208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:\DCIM\101OLYMP\P3310047.JPG"/>
          <p:cNvPicPr/>
          <p:nvPr/>
        </p:nvPicPr>
        <p:blipFill>
          <a:blip r:embed="rId3"/>
          <a:stretch/>
        </p:blipFill>
        <p:spPr>
          <a:xfrm>
            <a:off x="3276000" y="620640"/>
            <a:ext cx="2839680" cy="2129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F:\DCIM\101OLYMP\P3310039.JPG"/>
          <p:cNvPicPr/>
          <p:nvPr/>
        </p:nvPicPr>
        <p:blipFill>
          <a:blip r:embed="rId4"/>
          <a:stretch/>
        </p:blipFill>
        <p:spPr>
          <a:xfrm>
            <a:off x="6303960" y="620640"/>
            <a:ext cx="2839680" cy="212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F:\DCIM\101OLYMP\P3310063.JPG"/>
          <p:cNvPicPr/>
          <p:nvPr/>
        </p:nvPicPr>
        <p:blipFill>
          <a:blip r:embed="rId5"/>
          <a:stretch/>
        </p:blipFill>
        <p:spPr>
          <a:xfrm>
            <a:off x="3492000" y="3357000"/>
            <a:ext cx="2232000" cy="2976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F:\DCIM\101OLYMP\P3310066.JPG"/>
          <p:cNvPicPr/>
          <p:nvPr/>
        </p:nvPicPr>
        <p:blipFill>
          <a:blip r:embed="rId6"/>
          <a:stretch/>
        </p:blipFill>
        <p:spPr>
          <a:xfrm>
            <a:off x="251640" y="3789000"/>
            <a:ext cx="297612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F:\DCIM\101OLYMP\P3310055.JPG"/>
          <p:cNvPicPr/>
          <p:nvPr/>
        </p:nvPicPr>
        <p:blipFill>
          <a:blip r:embed="rId7"/>
          <a:stretch/>
        </p:blipFill>
        <p:spPr>
          <a:xfrm>
            <a:off x="6012000" y="3717000"/>
            <a:ext cx="297612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2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F:\DCIM\101OLYMP\P3310023.JPG"/>
          <p:cNvPicPr/>
          <p:nvPr/>
        </p:nvPicPr>
        <p:blipFill>
          <a:blip r:embed="rId2"/>
          <a:stretch/>
        </p:blipFill>
        <p:spPr>
          <a:xfrm>
            <a:off x="227520" y="1052640"/>
            <a:ext cx="2783880" cy="208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F:\DCIM\101OLYMP\P3310025.JPG"/>
          <p:cNvPicPr/>
          <p:nvPr/>
        </p:nvPicPr>
        <p:blipFill>
          <a:blip r:embed="rId3"/>
          <a:stretch/>
        </p:blipFill>
        <p:spPr>
          <a:xfrm>
            <a:off x="3323880" y="1052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:\DCIM\101OLYMP\P3310026.JPG"/>
          <p:cNvPicPr/>
          <p:nvPr/>
        </p:nvPicPr>
        <p:blipFill>
          <a:blip r:embed="rId4"/>
          <a:stretch/>
        </p:blipFill>
        <p:spPr>
          <a:xfrm>
            <a:off x="6372360" y="1052640"/>
            <a:ext cx="2695320" cy="2021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F:\DCIM\101OLYMP\P3310028.JPG"/>
          <p:cNvPicPr/>
          <p:nvPr/>
        </p:nvPicPr>
        <p:blipFill>
          <a:blip r:embed="rId5"/>
          <a:stretch/>
        </p:blipFill>
        <p:spPr>
          <a:xfrm>
            <a:off x="323640" y="3933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F:\DCIM\101OLYMP\P3310029.JPG"/>
          <p:cNvPicPr/>
          <p:nvPr/>
        </p:nvPicPr>
        <p:blipFill>
          <a:blip r:embed="rId6"/>
          <a:stretch/>
        </p:blipFill>
        <p:spPr>
          <a:xfrm>
            <a:off x="3395880" y="3933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F:\DCIM\101OLYMP\P3310032.JPG"/>
          <p:cNvPicPr/>
          <p:nvPr/>
        </p:nvPicPr>
        <p:blipFill>
          <a:blip r:embed="rId7"/>
          <a:stretch/>
        </p:blipFill>
        <p:spPr>
          <a:xfrm>
            <a:off x="6444360" y="3933000"/>
            <a:ext cx="2699280" cy="202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32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928800"/>
            <a:ext cx="8229240" cy="41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воды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знают и называют правильно виды транспорта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могут дать элементарную оценку по внешним признакам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умеют организовывать сюжетно – ролевые игры на основе имеющихся знаний.</a:t>
            </a:r>
            <a:br>
              <a:rPr sz="32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428760" y="1500120"/>
            <a:ext cx="87148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Диаграмма 9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59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писок литератур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акова О.С. «Занятия по развитию речи» М.: 2009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ынова В.К. и др. Основы безопасности жизнедеятельности детей дошкольного возраста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ыкова И.А. «Изобразительная деятельность  в детском саду» М.:2007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то А.Л. Игрушки. Стихи для мл.возраста//М.: «Фламинго», 2006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анова Л.А. Методические рекомендации по организации и проведению прогулок для детей 3-7лет, 2003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4"/>
          <p:cNvSpPr txBox="1"/>
          <p:nvPr/>
        </p:nvSpPr>
        <p:spPr>
          <a:xfrm>
            <a:off x="714240" y="1785960"/>
            <a:ext cx="7836840" cy="923040"/>
          </a:xfrm>
          <a:prstGeom prst="rect">
            <a:avLst/>
          </a:prstGeom>
        </p:spPr>
        <p:txBody>
          <a:bodyPr wrap="none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 cap="all">
                <a:ln w="0">
                  <a:noFill/>
                </a:ln>
                <a:solidFill>
                  <a:srgbClr val="30fa8b"/>
                </a:solidFill>
                <a:effectLst>
                  <a:innerShdw blurRad="63500" dir="5400000" dist="50800">
                    <a:srgbClr val="000000">
                      <a:alpha val="50000"/>
                    </a:srgbClr>
                  </a:innerShdw>
                </a:effectLst>
                <a:latin typeface="Calibri"/>
              </a:rPr>
              <a:t>Спасибо за внимание.</a:t>
            </a:r>
            <a:endParaRPr b="0" lang="en-US" sz="5400" spc="-1" strike="noStrike">
              <a:ln w="0">
                <a:noFill/>
              </a:ln>
              <a:solidFill>
                <a:srgbClr val="30fa8b"/>
              </a:solidFill>
              <a:effectLst>
                <a:innerShdw blurRad="63500" dir="5400000" dist="50800">
                  <a:srgbClr val="000000">
                    <a:alpha val="50000"/>
                  </a:srgbClr>
                </a:innerShdw>
              </a:effectLst>
              <a:latin typeface="Arial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4"/>
          <p:cNvSpPr/>
          <p:nvPr/>
        </p:nvSpPr>
        <p:spPr>
          <a:xfrm>
            <a:off x="571320" y="1143000"/>
            <a:ext cx="8064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в недостаточной степени знают виды транспорта, недостаточно полно владеют обобщенными понятиями, не всегда могут максимально обогатить знания и представления о видах тран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2"/>
          <p:cNvSpPr/>
          <p:nvPr/>
        </p:nvSpPr>
        <p:spPr>
          <a:xfrm>
            <a:off x="214200" y="1285920"/>
            <a:ext cx="87127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облема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Для чего нам нужен транспорт? Какие виды транспорта бывают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79640" y="260640"/>
            <a:ext cx="8784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ид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вательный, иг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озраст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ая младшая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дети второй младшей группы №11, воспитатели группы, родит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ериод выполнения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ткосрочный (1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214200" y="1571760"/>
            <a:ext cx="8784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ь детям представление о разновидностях  транспорта; различать основные части транспорта; уметь дифференцировать транспорт по назначе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4"/>
          <p:cNvSpPr/>
          <p:nvPr/>
        </p:nvSpPr>
        <p:spPr>
          <a:xfrm>
            <a:off x="0" y="0"/>
            <a:ext cx="91436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учающ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асширять и закреплять представления детей о транспорте, учить различать основные части транспорта(кабина, кузов, колес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азвивающ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формировать умения различать транспорт по внешнему виду и знать его назна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развивать продуктивную деятельность детей, совершенствовать навыки и умения в рисовании, аппликации; развивать творческие способ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питатель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спитывать умение общаться  со сверстниками в процессе игровой деятельности; расширять кругозор детей; воспитывать наблюда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Таблица 1"/>
          <p:cNvGraphicFramePr/>
          <p:nvPr/>
        </p:nvGraphicFramePr>
        <p:xfrm>
          <a:off x="0" y="447840"/>
          <a:ext cx="9143640" cy="5952240"/>
        </p:xfrm>
        <a:graphic>
          <a:graphicData uri="http://schemas.openxmlformats.org/drawingml/2006/table">
            <a:tbl>
              <a:tblPr/>
              <a:tblGrid>
                <a:gridCol w="634680"/>
                <a:gridCol w="793800"/>
                <a:gridCol w="857160"/>
                <a:gridCol w="928440"/>
                <a:gridCol w="853200"/>
                <a:gridCol w="792000"/>
                <a:gridCol w="854640"/>
                <a:gridCol w="873000"/>
                <a:gridCol w="1008000"/>
                <a:gridCol w="936000"/>
                <a:gridCol w="611280"/>
              </a:tblGrid>
              <a:tr h="8114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ое 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че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о – коммуникативное 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дожественно – эстетическ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уник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у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худ. лит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опас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д. твор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оро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и. «Правильно – неправильно», «Кто назовет больше», «Собери машину». С.р.и. «Автобус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людение за грузовым и легковым транспортом, сходства и различия. Подвижная игра «Паровозик»,«Трамва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ссажирский транспорт»; «Грузовой транспорт»; «Специализированный транспорт»; «Как нам транспорт помога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руирование: «Ворота для машины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И. Мирясова «Легковой автомобиль». Б. Заходер «Шофер».В.И. Мирясова «Автобус», «Троллейбус». Заучивание стихотво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ция общения : «Что я знаю о транспорте»; «Пожарная машина». Игра имитация: «Я шофер»; С.р.и. «Едем к бабушке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ывать интерес к жизни и труду взрослых, рассказывать детям о понятных им профессиях  (шофер), расширять и обогащать о трудовых действ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а имитация «Я машина». Ситуация общения «Как я ехал на автобусе».Д.и. «Дети на прогулке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ование «Отремонтируйте машине колеса», «Рельса для паровоза» Аппликация «Ракета».Лепка «Вертоле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Раухвергера «Воробушки и автомобиль» .Е.Тиличевой,Н. Найденовой «Самоле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ь начинать ходьбу по сигналу. Воспитывать выдержку совершенствовать умения передвигаться в определенном направл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ливание по схем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2"/>
          <p:cNvSpPr/>
          <p:nvPr/>
        </p:nvSpPr>
        <p:spPr>
          <a:xfrm>
            <a:off x="2881800" y="0"/>
            <a:ext cx="43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держание работ по теме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7152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едварительная работа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одобрать методическую литературу по тем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одобрать художественную литературу по тем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одобрать дидактический материал, наглядные пособия (альбомы для рассматривания, картины, настольные игр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  <Words>512</Words>
  <Paragraphs>8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7:38:43Z</dcterms:created>
  <dc:creator>кк</dc:creator>
  <dc:description/>
  <dc:language>en-US</dc:language>
  <cp:lastModifiedBy>О.Н.</cp:lastModifiedBy>
  <dcterms:modified xsi:type="dcterms:W3CDTF">2015-02-09T11:00:31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1</vt:r8>
  </property>
</Properties>
</file>