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charts/_rels/chart1.xml.rels" ContentType="application/vnd.openxmlformats-package.relationships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drawings/drawing1.xml" ContentType="application/vnd.openxmlformats-officedocument.drawingml.chartshape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charts/_rels/chart1.xml.rels><?xml version="1.0" encoding="UTF-8"?>
<Relationships xmlns="http://schemas.openxmlformats.org/package/2006/relationships"><Relationship Id="rId1" Type="http://schemas.openxmlformats.org/officeDocument/2006/relationships/chartUserShapes" Target="../drawings/drawing1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i="1" lang="ru-RU" sz="2160" spc="-1" strike="noStrike">
                <a:solidFill>
                  <a:srgbClr val="000000"/>
                </a:solidFill>
                <a:latin typeface="Calibri"/>
              </a:defRPr>
            </a:pPr>
            <a:r>
              <a:rPr b="1" i="1" lang="ru-RU" sz="2160" spc="-1" strike="noStrike">
                <a:solidFill>
                  <a:srgbClr val="000000"/>
                </a:solidFill>
                <a:latin typeface="Calibri"/>
              </a:rPr>
              <a:t>Интеграция образовательных областей</a:t>
            </a:r>
          </a:p>
        </c:rich>
      </c:tx>
      <c:layout>
        <c:manualLayout>
          <c:xMode val="edge"/>
          <c:yMode val="edge"/>
          <c:x val="0.243267716535433"/>
          <c:y val="0.07249343832021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320866141732284"/>
          <c:y val="0.124724409448819"/>
          <c:w val="0.911062992125984"/>
          <c:h val="0.840419947506562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истема образовательной деятельности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2"/>
            <c:spPr>
              <a:solidFill>
                <a:srgbClr val="00b05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8064a2"/>
              </a:solidFill>
              <a:ln w="0">
                <a:noFill/>
              </a:ln>
            </c:spPr>
          </c:dPt>
          <c:dPt>
            <c:idx val="4"/>
            <c:spPr>
              <a:solidFill>
                <a:srgbClr val="92d050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5"/>
                <c:pt idx="0">
                  <c:v>Кв. 1</c:v>
                </c:pt>
                <c:pt idx="1">
                  <c:v>Кв. 2</c:v>
                </c:pt>
                <c:pt idx="2">
                  <c:v>Кв. 3</c:v>
                </c:pt>
                <c:pt idx="3">
                  <c:v>Кв. 4</c:v>
                </c:pt>
                <c:pt idx="4">
                  <c:v>Кв.5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6</c:v>
                </c:pt>
                <c:pt idx="1">
                  <c:v>2</c:v>
                </c:pt>
                <c:pt idx="2">
                  <c:v>6.8</c:v>
                </c:pt>
                <c:pt idx="3">
                  <c:v>4.7</c:v>
                </c:pt>
                <c:pt idx="4">
                  <c:v>4.3</c:v>
                </c:pt>
              </c:numCache>
            </c:numRef>
          </c:val>
        </c:ser>
      </c:pie3DChart>
    </c:plotArea>
    <c:plotVisOnly val="1"/>
    <c:dispBlanksAs val="gap"/>
  </c:chart>
  <c:spPr>
    <a:noFill/>
    <a:ln w="0">
      <a:noFill/>
    </a:ln>
  </c:spPr>
  <c:userShapes r:id="rId1"/>
</c:chartSpace>
</file>

<file path=ppt/drawings/drawing1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403188976377953</cdr:x>
      <cdr:y>0.531916010498688</cdr:y>
    </cdr:from>
    <cdr:to>
      <cdr:x>0.782165354330709</cdr:x>
      <cdr:y>0.691443569553806</cdr:y>
    </cdr:to>
    <cdr:sp>
      <cdr:nvSpPr>
        <cdr:cNvPr id="133" name="TextBox 1"/>
        <cdr:cNvSpPr/>
      </cdr:nvSpPr>
      <cdr:spPr>
        <a:xfrm>
          <a:off x="3686760" y="3647880"/>
          <a:ext cx="3465360" cy="109404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wrap="none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1" lang="ru-RU" sz="1800" spc="-1" strike="noStrike">
              <a:solidFill>
                <a:srgbClr val="000000"/>
              </a:solidFill>
              <a:latin typeface="Times New Roman"/>
            </a:rPr>
            <a:t>Социально-коммуникативное</a:t>
          </a:r>
          <a:endParaRPr b="0" sz="1800" spc="-1" strike="noStrike">
            <a:solidFill>
              <a:srgbClr val="000000"/>
            </a:solidFill>
            <a:latin typeface="Times New Roman"/>
          </a:endParaRPr>
        </a:p>
        <a:p>
          <a:pPr>
            <a:lnSpc>
              <a:spcPct val="100000"/>
            </a:lnSpc>
          </a:pPr>
          <a:r>
            <a:rPr b="1" lang="ru-RU" sz="1800" spc="-1" strike="noStrike">
              <a:solidFill>
                <a:srgbClr val="000000"/>
              </a:solidFill>
              <a:latin typeface="Times New Roman"/>
            </a:rPr>
            <a:t>развитие</a:t>
          </a:r>
          <a:endParaRPr b="0" sz="1800" spc="-1" strike="noStrike">
            <a:solidFill>
              <a:srgbClr val="000000"/>
            </a:solidFill>
            <a:latin typeface="Times New Roman"/>
          </a:endParaRPr>
        </a:p>
      </cdr:txBody>
    </cdr:sp>
  </cdr:relSizeAnchor>
  <cdr:relSizeAnchor>
    <cdr:from>
      <cdr:x>0.570275590551181</cdr:x>
      <cdr:y>0.24997375328084</cdr:y>
    </cdr:from>
    <cdr:to>
      <cdr:x>0.673464566929134</cdr:x>
      <cdr:y>0.386089238845144</cdr:y>
    </cdr:to>
    <cdr:sp>
      <cdr:nvSpPr>
        <cdr:cNvPr id="134" name="TextBox 2"/>
        <cdr:cNvSpPr/>
      </cdr:nvSpPr>
      <cdr:spPr>
        <a:xfrm>
          <a:off x="5214600" y="1714320"/>
          <a:ext cx="943560" cy="93348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wrap="none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1" lang="ru-RU" sz="1600" spc="-1" strike="noStrike">
              <a:solidFill>
                <a:srgbClr val="000000"/>
              </a:solidFill>
              <a:latin typeface="Times New Roman"/>
            </a:rPr>
            <a:t>Художественно-</a:t>
          </a:r>
          <a:endParaRPr b="0" sz="1600" spc="-1" strike="noStrike">
            <a:solidFill>
              <a:srgbClr val="000000"/>
            </a:solidFill>
            <a:latin typeface="Times New Roman"/>
          </a:endParaRPr>
        </a:p>
        <a:p>
          <a:pPr>
            <a:lnSpc>
              <a:spcPct val="100000"/>
            </a:lnSpc>
          </a:pPr>
          <a:r>
            <a:rPr b="1" lang="ru-RU" sz="1600" spc="-1" strike="noStrike">
              <a:solidFill>
                <a:srgbClr val="000000"/>
              </a:solidFill>
              <a:latin typeface="Times New Roman"/>
            </a:rPr>
            <a:t>эстетическое</a:t>
          </a:r>
          <a:endParaRPr b="0" sz="1600" spc="-1" strike="noStrike">
            <a:solidFill>
              <a:srgbClr val="000000"/>
            </a:solidFill>
            <a:latin typeface="Times New Roman"/>
          </a:endParaRPr>
        </a:p>
        <a:p>
          <a:pPr>
            <a:lnSpc>
              <a:spcPct val="100000"/>
            </a:lnSpc>
          </a:pPr>
          <a:r>
            <a:rPr b="1" lang="ru-RU" sz="1600" spc="-1" strike="noStrike">
              <a:solidFill>
                <a:srgbClr val="000000"/>
              </a:solidFill>
              <a:latin typeface="Times New Roman"/>
            </a:rPr>
            <a:t>развитие</a:t>
          </a:r>
          <a:endParaRPr b="0" sz="1600" spc="-1" strike="noStrike">
            <a:solidFill>
              <a:srgbClr val="000000"/>
            </a:solidFill>
            <a:latin typeface="Times New Roman"/>
          </a:endParaRPr>
        </a:p>
      </cdr:txBody>
    </cdr:sp>
  </cdr:relSizeAnchor>
  <cdr:relSizeAnchor>
    <cdr:from>
      <cdr:x>0.195314960629921</cdr:x>
      <cdr:y>0.447874015748032</cdr:y>
    </cdr:from>
    <cdr:to>
      <cdr:x>0.298503937007874</cdr:x>
      <cdr:y>0.605249343832021</cdr:y>
    </cdr:to>
    <cdr:sp>
      <cdr:nvSpPr>
        <cdr:cNvPr id="135" name="TextBox 3"/>
        <cdr:cNvSpPr/>
      </cdr:nvSpPr>
      <cdr:spPr>
        <a:xfrm>
          <a:off x="1785960" y="3071520"/>
          <a:ext cx="943560" cy="107928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wrap="none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1" lang="ru-RU" sz="1800" spc="-1" strike="noStrike">
              <a:solidFill>
                <a:srgbClr val="000000"/>
              </a:solidFill>
              <a:latin typeface="Times New Roman"/>
            </a:rPr>
            <a:t>Физическое</a:t>
          </a:r>
          <a:endParaRPr b="0" sz="1800" spc="-1" strike="noStrike">
            <a:solidFill>
              <a:srgbClr val="000000"/>
            </a:solidFill>
            <a:latin typeface="Times New Roman"/>
          </a:endParaRPr>
        </a:p>
        <a:p>
          <a:pPr>
            <a:lnSpc>
              <a:spcPct val="100000"/>
            </a:lnSpc>
          </a:pPr>
          <a:r>
            <a:rPr b="1" lang="ru-RU" sz="1800" spc="-1" strike="noStrike">
              <a:solidFill>
                <a:srgbClr val="000000"/>
              </a:solidFill>
              <a:latin typeface="Times New Roman"/>
            </a:rPr>
            <a:t>развитие</a:t>
          </a:r>
          <a:endParaRPr b="0" sz="1800" spc="-1" strike="noStrike">
            <a:solidFill>
              <a:srgbClr val="000000"/>
            </a:solidFill>
            <a:latin typeface="Times New Roman"/>
          </a:endParaRPr>
        </a:p>
      </cdr:txBody>
    </cdr:sp>
  </cdr:relSizeAnchor>
  <cdr:relSizeAnchor>
    <cdr:from>
      <cdr:x>0.18748031496063</cdr:x>
      <cdr:y>0.302047244094488</cdr:y>
    </cdr:from>
    <cdr:to>
      <cdr:x>0.290669291338583</cdr:x>
      <cdr:y>0.438162729658793</cdr:y>
    </cdr:to>
    <cdr:sp>
      <cdr:nvSpPr>
        <cdr:cNvPr id="136" name="TextBox 4"/>
        <cdr:cNvSpPr/>
      </cdr:nvSpPr>
      <cdr:spPr>
        <a:xfrm>
          <a:off x="1714320" y="2071440"/>
          <a:ext cx="943560" cy="93348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wrap="none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1" lang="ru-RU" sz="1800" spc="-1" strike="noStrike">
              <a:solidFill>
                <a:srgbClr val="000000"/>
              </a:solidFill>
              <a:latin typeface="Times New Roman"/>
            </a:rPr>
            <a:t>Познавательное развитие</a:t>
          </a:r>
          <a:endParaRPr b="0" sz="1800" spc="-1" strike="noStrike">
            <a:solidFill>
              <a:srgbClr val="000000"/>
            </a:solidFill>
            <a:latin typeface="Times New Roman"/>
          </a:endParaRPr>
        </a:p>
        <a:p>
          <a:pPr>
            <a:lnSpc>
              <a:spcPct val="100000"/>
            </a:lnSpc>
          </a:pPr>
          <a:endParaRPr b="0" sz="1800" spc="-1" strike="noStrike">
            <a:solidFill>
              <a:srgbClr val="000000"/>
            </a:solidFill>
            <a:latin typeface="Times New Roman"/>
          </a:endParaRPr>
        </a:p>
      </cdr:txBody>
    </cdr:sp>
  </cdr:relSizeAnchor>
  <cdr:relSizeAnchor>
    <cdr:from>
      <cdr:x>0.351535433070866</cdr:x>
      <cdr:y>0.208293963254593</cdr:y>
    </cdr:from>
    <cdr:to>
      <cdr:x>0.454724409448819</cdr:x>
      <cdr:y>0.344409448818898</cdr:y>
    </cdr:to>
    <cdr:sp>
      <cdr:nvSpPr>
        <cdr:cNvPr id="137" name="TextBox 5"/>
        <cdr:cNvSpPr/>
      </cdr:nvSpPr>
      <cdr:spPr>
        <a:xfrm>
          <a:off x="3214440" y="1428480"/>
          <a:ext cx="943560" cy="93348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wrap="none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1" lang="ru-RU" sz="1400" spc="-1" strike="noStrike">
              <a:solidFill>
                <a:srgbClr val="000000"/>
              </a:solidFill>
              <a:latin typeface="Times New Roman"/>
            </a:rPr>
            <a:t> </a:t>
          </a:r>
          <a:endParaRPr b="0" sz="1400" spc="-1" strike="noStrike">
            <a:solidFill>
              <a:srgbClr val="000000"/>
            </a:solidFill>
            <a:latin typeface="Times New Roman"/>
          </a:endParaRPr>
        </a:p>
      </cdr:txBody>
    </cdr:sp>
  </cdr:relSizeAnchor>
  <cdr:relSizeAnchor>
    <cdr:from>
      <cdr:x>0.726535433070866</cdr:x>
      <cdr:y>0.406246719160105</cdr:y>
    </cdr:from>
    <cdr:to>
      <cdr:x>0.829724409448819</cdr:x>
      <cdr:y>0.542362204724409</cdr:y>
    </cdr:to>
    <cdr:sp>
      <cdr:nvSpPr>
        <cdr:cNvPr id="138" name="TextBox 6"/>
        <cdr:cNvSpPr/>
      </cdr:nvSpPr>
      <cdr:spPr>
        <a:xfrm>
          <a:off x="6643440" y="2786040"/>
          <a:ext cx="943560" cy="93348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wrap="none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1" lang="ru-RU" sz="1800" spc="-1" strike="noStrike">
              <a:solidFill>
                <a:srgbClr val="000000"/>
              </a:solidFill>
              <a:latin typeface="Times New Roman"/>
            </a:rPr>
            <a:t>Речевое</a:t>
          </a:r>
          <a:endParaRPr b="0" sz="1800" spc="-1" strike="noStrike">
            <a:solidFill>
              <a:srgbClr val="000000"/>
            </a:solidFill>
            <a:latin typeface="Times New Roman"/>
          </a:endParaRPr>
        </a:p>
        <a:p>
          <a:pPr>
            <a:lnSpc>
              <a:spcPct val="100000"/>
            </a:lnSpc>
          </a:pPr>
          <a:r>
            <a:rPr b="1" lang="ru-RU" sz="1800" spc="-1" strike="noStrike">
              <a:solidFill>
                <a:srgbClr val="000000"/>
              </a:solidFill>
              <a:latin typeface="Times New Roman"/>
            </a:rPr>
            <a:t>развитие</a:t>
          </a:r>
          <a:endParaRPr b="0" sz="18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26ABC6-F829-4523-A340-32D3FD5C2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65B3BA-2582-4646-A345-7B4A808AC16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D10-94CA-4B4B-9D01-3EB5F3C1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828-1F56-454D-9067-61DE66FE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682-D244-47F4-B454-3A260027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F2F-7832-4082-AC67-BDF14400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83FE-F241-45BE-9CBC-5982F792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50AB-7020-435D-91E2-91FEF8BC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80A0-7C04-4979-B9BF-E6370F5E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5CE3-A2A2-4FF2-95DB-4914951C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4956-3D9E-4F3F-8DC9-449DCACD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3DE4-D22C-482A-9903-465AD45D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FF95-2C5C-4E1E-AB67-7AA78DE1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AF3-F3F5-4024-BFC6-836CA55F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B70D-E6F5-441D-8707-DB8EA0E6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565B-9AA0-4B3A-837F-341E887A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4817-1C44-4399-BF14-462CA577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74A3-33F9-418B-9BCC-E28217D6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0BFC-CD56-41D9-895D-5F911075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5C9A9-24AE-4136-B56C-71FD44BA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645A-7B0C-4D82-8682-F64AF443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78D34-CE95-4D51-8869-E8D288F0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2BB9B-4986-4B90-B5F8-22E2998F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3ED8-CF66-4058-BE6D-8D4F5EC0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0A0-37CF-4118-997C-755B3C4C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C9A5C-43C6-4532-A5DB-94E90A73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A5464-4D7A-427E-BE1C-E717182B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18B7-22F7-4861-B305-521A406D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DEAD-4337-4078-95AB-6CFB8731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DC1A0-706E-43CE-ADD7-F3D6C79C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85A6B-684B-45EE-AF44-4363E55C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995D-5788-42BA-B72F-A554BAD5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B76-E7AA-48CF-95F5-F8A930F1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FC7-3F0C-4AA6-BC7F-5EA3F624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74BD-94C7-43CA-BC2F-DB08DA97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38E-BF1F-4170-B1F6-1D8CAF62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57D-6CBC-4E52-8B43-50187369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AFD-05FA-4381-ACC0-97CAEE65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F25F8E-D08E-44DF-9F09-B18AAF9A549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B7A59A-AB99-4488-A6F6-FADB2A86ABC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585233-88C6-46CF-9051-BAAF4BE2A27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1857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4286160" y="4357800"/>
            <a:ext cx="4571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no Pro Smbd Subhead"/>
              </a:rPr>
              <a:t>Презентацию подгото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no Pro Smbd Subhead"/>
              </a:rPr>
              <a:t>воспитатель группы №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no Pro Smbd Subhead"/>
              </a:rPr>
              <a:t>МДОАУ «ДС№3 «Тополё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no Pro Smbd Subhead"/>
              </a:rPr>
              <a:t>г. Я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no Pro Smbd Subhead"/>
              </a:rPr>
              <a:t>Абдулгалеева А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no Pro Smbd Subhea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640" y="161280"/>
            <a:ext cx="8715240" cy="686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абота с детьми: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дактические игр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иды транспорта» (разрезные картинки), «Цветные автомобили», «Кто назовет больше», «Правильно-неправильно».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вижные игр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езд», «Воробушки и автомобиль», «Такси», «Цветные автомобили».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южетно-ролевые игр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Едем к бабушке», «Я машина»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. Заходер «Шоферы»; Дорохов А. «Пассажир»;А.Барто « Грузовик», загадывание загадок о транспорте.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уктивная деятельност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ние – «Отремонтируйте машине колеса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ппликация – «Ракета», Лепка - «Вертолет»</a:t>
            </a:r>
            <a:br>
              <a:rPr sz="2800"/>
            </a:b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640" y="332640"/>
            <a:ext cx="8715240" cy="33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бота с родителями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я «Посмотри направо – посмотри налево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ьбом «Виды транспорта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тавка детских работ «Транспорт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еда на тему «Как я ехал на автобусе», «На чем люди ездят», «Как вести себя вблизи машин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2640"/>
            <a:ext cx="806436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66"/>
                </a:solidFill>
                <a:latin typeface="Georgia"/>
              </a:rPr>
              <a:t>Транспорт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- это машины, которые перевозят людей,  животных и грузы по воде, земле и воздуху.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1259640" y="4005000"/>
            <a:ext cx="6624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Виды транспорта:</a:t>
            </a:r>
            <a:br>
              <a:rPr sz="36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4200" y="332640"/>
            <a:ext cx="871524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000" spc="-1" strike="noStrike">
                <a:solidFill>
                  <a:srgbClr val="000000"/>
                </a:solidFill>
                <a:latin typeface="Calibri"/>
              </a:rPr>
              <a:t>Общественный транспорт</a:t>
            </a:r>
            <a:endParaRPr b="0" lang="ru-RU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одержимое 13"/>
          <p:cNvSpPr/>
          <p:nvPr/>
        </p:nvSpPr>
        <p:spPr>
          <a:xfrm>
            <a:off x="179640" y="1052640"/>
            <a:ext cx="3348000" cy="2232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одержимое 3"/>
          <p:cNvSpPr/>
          <p:nvPr/>
        </p:nvSpPr>
        <p:spPr>
          <a:xfrm>
            <a:off x="5508000" y="980640"/>
            <a:ext cx="3276000" cy="24480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одержимое 3"/>
          <p:cNvSpPr/>
          <p:nvPr/>
        </p:nvSpPr>
        <p:spPr>
          <a:xfrm>
            <a:off x="2915640" y="3789000"/>
            <a:ext cx="3600000" cy="2664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640" y="332640"/>
            <a:ext cx="8332200" cy="9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000" spc="-1" strike="noStrike">
                <a:solidFill>
                  <a:srgbClr val="000000"/>
                </a:solidFill>
                <a:latin typeface="Calibri"/>
              </a:rPr>
              <a:t>Грузовой транспорт</a:t>
            </a:r>
            <a:endParaRPr b="0" lang="ru-RU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одержимое 4"/>
          <p:cNvSpPr/>
          <p:nvPr/>
        </p:nvSpPr>
        <p:spPr>
          <a:xfrm>
            <a:off x="323640" y="1340640"/>
            <a:ext cx="3636720" cy="2412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3"/>
          <p:cNvSpPr/>
          <p:nvPr/>
        </p:nvSpPr>
        <p:spPr>
          <a:xfrm>
            <a:off x="5292000" y="1340640"/>
            <a:ext cx="3607200" cy="24480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original"/>
          <p:cNvPicPr/>
          <p:nvPr/>
        </p:nvPicPr>
        <p:blipFill>
          <a:blip r:embed="rId4"/>
          <a:stretch/>
        </p:blipFill>
        <p:spPr>
          <a:xfrm>
            <a:off x="2627640" y="4149000"/>
            <a:ext cx="3801960" cy="227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000" spc="-1" strike="noStrike">
                <a:solidFill>
                  <a:srgbClr val="000000"/>
                </a:solidFill>
                <a:latin typeface="Calibri"/>
              </a:rPr>
              <a:t>Служебные машины</a:t>
            </a:r>
            <a:endParaRPr b="0" lang="ru-RU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одержимое 4"/>
          <p:cNvSpPr/>
          <p:nvPr/>
        </p:nvSpPr>
        <p:spPr>
          <a:xfrm>
            <a:off x="2843640" y="4005000"/>
            <a:ext cx="3429720" cy="2664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одержимое 5"/>
          <p:cNvSpPr/>
          <p:nvPr/>
        </p:nvSpPr>
        <p:spPr>
          <a:xfrm>
            <a:off x="5436000" y="1340640"/>
            <a:ext cx="3390840" cy="25552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одержимое 3"/>
          <p:cNvSpPr/>
          <p:nvPr/>
        </p:nvSpPr>
        <p:spPr>
          <a:xfrm>
            <a:off x="251640" y="1412640"/>
            <a:ext cx="3565800" cy="2520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аши работы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F:\DCIM\101OLYMP\P3310003.JPG"/>
          <p:cNvPicPr/>
          <p:nvPr/>
        </p:nvPicPr>
        <p:blipFill>
          <a:blip r:embed="rId2"/>
          <a:stretch/>
        </p:blipFill>
        <p:spPr>
          <a:xfrm>
            <a:off x="323640" y="148464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F:\DCIM\101OLYMP\P3310004.JPG"/>
          <p:cNvPicPr/>
          <p:nvPr/>
        </p:nvPicPr>
        <p:blipFill>
          <a:blip r:embed="rId3"/>
          <a:stretch/>
        </p:blipFill>
        <p:spPr>
          <a:xfrm>
            <a:off x="3251880" y="148464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F:\DCIM\101OLYMP\P3310006.JPG"/>
          <p:cNvPicPr/>
          <p:nvPr/>
        </p:nvPicPr>
        <p:blipFill>
          <a:blip r:embed="rId4"/>
          <a:stretch/>
        </p:blipFill>
        <p:spPr>
          <a:xfrm>
            <a:off x="6228360" y="148464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F:\DCIM\101OLYMP\P3310007.JPG"/>
          <p:cNvPicPr/>
          <p:nvPr/>
        </p:nvPicPr>
        <p:blipFill>
          <a:blip r:embed="rId5"/>
          <a:stretch/>
        </p:blipFill>
        <p:spPr>
          <a:xfrm>
            <a:off x="251640" y="400500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F:\DCIM\101OLYMP\P3310008.JPG"/>
          <p:cNvPicPr/>
          <p:nvPr/>
        </p:nvPicPr>
        <p:blipFill>
          <a:blip r:embed="rId6"/>
          <a:stretch/>
        </p:blipFill>
        <p:spPr>
          <a:xfrm>
            <a:off x="3276000" y="4005000"/>
            <a:ext cx="2664000" cy="199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F:\DCIM\101OLYMP\P3310009.JPG"/>
          <p:cNvPicPr/>
          <p:nvPr/>
        </p:nvPicPr>
        <p:blipFill>
          <a:blip r:embed="rId7"/>
          <a:stretch/>
        </p:blipFill>
        <p:spPr>
          <a:xfrm>
            <a:off x="6228360" y="4005000"/>
            <a:ext cx="2687760" cy="201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F:\DCIM\101OLYMP\P3310037.JPG"/>
          <p:cNvPicPr/>
          <p:nvPr/>
        </p:nvPicPr>
        <p:blipFill>
          <a:blip r:embed="rId2"/>
          <a:stretch/>
        </p:blipFill>
        <p:spPr>
          <a:xfrm>
            <a:off x="323640" y="620640"/>
            <a:ext cx="2783880" cy="208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F:\DCIM\101OLYMP\P3310047.JPG"/>
          <p:cNvPicPr/>
          <p:nvPr/>
        </p:nvPicPr>
        <p:blipFill>
          <a:blip r:embed="rId3"/>
          <a:stretch/>
        </p:blipFill>
        <p:spPr>
          <a:xfrm>
            <a:off x="3276000" y="620640"/>
            <a:ext cx="2839680" cy="2129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F:\DCIM\101OLYMP\P3310039.JPG"/>
          <p:cNvPicPr/>
          <p:nvPr/>
        </p:nvPicPr>
        <p:blipFill>
          <a:blip r:embed="rId4"/>
          <a:stretch/>
        </p:blipFill>
        <p:spPr>
          <a:xfrm>
            <a:off x="6303960" y="620640"/>
            <a:ext cx="2839680" cy="2129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F:\DCIM\101OLYMP\P3310063.JPG"/>
          <p:cNvPicPr/>
          <p:nvPr/>
        </p:nvPicPr>
        <p:blipFill>
          <a:blip r:embed="rId5"/>
          <a:stretch/>
        </p:blipFill>
        <p:spPr>
          <a:xfrm>
            <a:off x="3492000" y="3357000"/>
            <a:ext cx="2232000" cy="2976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F:\DCIM\101OLYMP\P3310066.JPG"/>
          <p:cNvPicPr/>
          <p:nvPr/>
        </p:nvPicPr>
        <p:blipFill>
          <a:blip r:embed="rId6"/>
          <a:stretch/>
        </p:blipFill>
        <p:spPr>
          <a:xfrm>
            <a:off x="251640" y="3789000"/>
            <a:ext cx="2976120" cy="223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F:\DCIM\101OLYMP\P3310055.JPG"/>
          <p:cNvPicPr/>
          <p:nvPr/>
        </p:nvPicPr>
        <p:blipFill>
          <a:blip r:embed="rId7"/>
          <a:stretch/>
        </p:blipFill>
        <p:spPr>
          <a:xfrm>
            <a:off x="6012000" y="3717000"/>
            <a:ext cx="2976120" cy="22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25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F:\DCIM\101OLYMP\P3310023.JPG"/>
          <p:cNvPicPr/>
          <p:nvPr/>
        </p:nvPicPr>
        <p:blipFill>
          <a:blip r:embed="rId2"/>
          <a:stretch/>
        </p:blipFill>
        <p:spPr>
          <a:xfrm>
            <a:off x="227520" y="1052640"/>
            <a:ext cx="2783880" cy="208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F:\DCIM\101OLYMP\P3310025.JPG"/>
          <p:cNvPicPr/>
          <p:nvPr/>
        </p:nvPicPr>
        <p:blipFill>
          <a:blip r:embed="rId3"/>
          <a:stretch/>
        </p:blipFill>
        <p:spPr>
          <a:xfrm>
            <a:off x="3323880" y="105264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:\DCIM\101OLYMP\P3310026.JPG"/>
          <p:cNvPicPr/>
          <p:nvPr/>
        </p:nvPicPr>
        <p:blipFill>
          <a:blip r:embed="rId4"/>
          <a:stretch/>
        </p:blipFill>
        <p:spPr>
          <a:xfrm>
            <a:off x="6372360" y="1052640"/>
            <a:ext cx="2695320" cy="2021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F:\DCIM\101OLYMP\P3310028.JPG"/>
          <p:cNvPicPr/>
          <p:nvPr/>
        </p:nvPicPr>
        <p:blipFill>
          <a:blip r:embed="rId5"/>
          <a:stretch/>
        </p:blipFill>
        <p:spPr>
          <a:xfrm>
            <a:off x="323640" y="393300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F:\DCIM\101OLYMP\P3310029.JPG"/>
          <p:cNvPicPr/>
          <p:nvPr/>
        </p:nvPicPr>
        <p:blipFill>
          <a:blip r:embed="rId6"/>
          <a:stretch/>
        </p:blipFill>
        <p:spPr>
          <a:xfrm>
            <a:off x="3395880" y="393300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F:\DCIM\101OLYMP\P3310032.JPG"/>
          <p:cNvPicPr/>
          <p:nvPr/>
        </p:nvPicPr>
        <p:blipFill>
          <a:blip r:embed="rId7"/>
          <a:stretch/>
        </p:blipFill>
        <p:spPr>
          <a:xfrm>
            <a:off x="6444360" y="3933000"/>
            <a:ext cx="2699280" cy="202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32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7120" y="928800"/>
            <a:ext cx="8229240" cy="41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воды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знают и называют правильно виды транспорта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могут дать элементарную оценку по внешним признакам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умеют организовывать сюжетно – ролевые игры на основе имеющихся знаний.</a:t>
            </a:r>
            <a:br>
              <a:rPr sz="32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4"/>
          <p:cNvSpPr/>
          <p:nvPr/>
        </p:nvSpPr>
        <p:spPr>
          <a:xfrm>
            <a:off x="428760" y="1500120"/>
            <a:ext cx="871488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Диаграмма 9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59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писок литератур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шакова О.С. «Занятия по развитию речи» М.: 2009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ынова В.К. и др. Основы безопасности жизнедеятельности детей дошкольного возраста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ыкова И.А. «Изобразительная деятельность  в детском саду» М.:2007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то А.Л. Игрушки. Стихи для мл.возраста//М.: «Фламинго», 2006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ланова Л.А. Методические рекомендации по организации и проведению прогулок для детей 3-7лет, 2003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олилиния 4"/>
          <p:cNvSpPr txBox="1"/>
          <p:nvPr/>
        </p:nvSpPr>
        <p:spPr>
          <a:xfrm>
            <a:off x="714240" y="1785960"/>
            <a:ext cx="7836840" cy="923040"/>
          </a:xfrm>
          <a:prstGeom prst="rect">
            <a:avLst/>
          </a:prstGeom>
        </p:spPr>
        <p:txBody>
          <a:bodyPr wrap="none" anchor="b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i="1" lang="ru-RU" sz="5400" spc="-1" strike="noStrike" cap="all">
                <a:ln w="0">
                  <a:noFill/>
                </a:ln>
                <a:solidFill>
                  <a:srgbClr val="30fa8b"/>
                </a:solidFill>
                <a:effectLst>
                  <a:innerShdw blurRad="63500" dir="5400000" dist="50800">
                    <a:srgbClr val="000000">
                      <a:alpha val="50000"/>
                    </a:srgbClr>
                  </a:innerShdw>
                </a:effectLst>
                <a:latin typeface="Calibri"/>
              </a:rPr>
              <a:t>Спасибо за внимание.</a:t>
            </a:r>
            <a:endParaRPr b="0" lang="en-US" sz="5400" spc="-1" strike="noStrike">
              <a:ln w="0">
                <a:noFill/>
              </a:ln>
              <a:solidFill>
                <a:srgbClr val="30fa8b"/>
              </a:solidFill>
              <a:effectLst>
                <a:innerShdw blurRad="63500" dir="5400000" dist="50800">
                  <a:srgbClr val="000000">
                    <a:alpha val="50000"/>
                  </a:srgbClr>
                </a:innerShdw>
              </a:effectLst>
              <a:latin typeface="Arial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4"/>
          <p:cNvSpPr/>
          <p:nvPr/>
        </p:nvSpPr>
        <p:spPr>
          <a:xfrm>
            <a:off x="571320" y="1143000"/>
            <a:ext cx="8064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ктуальность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и в недостаточной степени знают виды транспорта, недостаточно полно владеют обобщенными понятиями, не всегда могут максимально обогатить знания и представления о видах транспо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2"/>
          <p:cNvSpPr/>
          <p:nvPr/>
        </p:nvSpPr>
        <p:spPr>
          <a:xfrm>
            <a:off x="214200" y="1285920"/>
            <a:ext cx="87127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роблема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Для чего нам нужен транспорт? Какие виды транспорта бывают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179640" y="260640"/>
            <a:ext cx="87847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ид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вательный, игр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озраст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ая младшая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 проект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дети второй младшей группы №11, воспитатели группы, родит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ериод выполнения проек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ткосрочный (1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214200" y="1571760"/>
            <a:ext cx="87847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ть детям представление о разновидностях  транспорта; различать основные части транспорта; уметь дифференцировать транспорт по назначе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4"/>
          <p:cNvSpPr/>
          <p:nvPr/>
        </p:nvSpPr>
        <p:spPr>
          <a:xfrm>
            <a:off x="0" y="0"/>
            <a:ext cx="91436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бучающ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расширять и закреплять представления детей о транспорте, учить различать основные части транспорта(кабина, кузов, колес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азвивающ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формировать умения различать транспорт по внешнему виду и знать его назнач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развивать продуктивную деятельность детей, совершенствовать навыки и умения в рисовании, аппликации; развивать творческие способ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н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оспитывать умение общаться  со сверстниками в процессе игровой деятельности; расширять кругозор детей; воспитывать наблюда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Таблица 1"/>
          <p:cNvGraphicFramePr/>
          <p:nvPr/>
        </p:nvGraphicFramePr>
        <p:xfrm>
          <a:off x="0" y="447840"/>
          <a:ext cx="9143640" cy="5952240"/>
        </p:xfrm>
        <a:graphic>
          <a:graphicData uri="http://schemas.openxmlformats.org/drawingml/2006/table">
            <a:tbl>
              <a:tblPr/>
              <a:tblGrid>
                <a:gridCol w="634680"/>
                <a:gridCol w="793800"/>
                <a:gridCol w="857160"/>
                <a:gridCol w="928440"/>
                <a:gridCol w="853200"/>
                <a:gridCol w="792000"/>
                <a:gridCol w="854640"/>
                <a:gridCol w="873000"/>
                <a:gridCol w="1008000"/>
                <a:gridCol w="936000"/>
                <a:gridCol w="611280"/>
              </a:tblGrid>
              <a:tr h="8114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навательное 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че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о – коммуникативное 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удожественно – эстетическое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ое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уник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ул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н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 худ. лите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опас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уд. твор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оров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.и. «Правильно – неправильно», «Кто назовет больше», «Собери машину». С.р.и. «Автобус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блюдение за грузовым и легковым транспортом, сходства и различия. Подвижная игра «Паровозик»,«Трамва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ассажирский транспорт»; «Грузовой транспорт»; «Специализированный транспорт»; «Как нам транспорт помога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труирование: «Ворота для машины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.И. Мирясова «Легковой автомобиль». Б. Заходер «Шофер».В.И. Мирясова «Автобус», «Троллейбус». Заучивание стихотво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туация общения : «Что я знаю о транспорте»; «Пожарная машина». Игра имитация: «Я шофер»; С.р.и. «Едем к бабушке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ывать интерес к жизни и труду взрослых, рассказывать детям о понятных им профессиях  (шофер), расширять и обогащать о трудовых действи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гра имитация «Я машина». Ситуация общения «Как я ехал на автобусе».Д.и. «Дети на прогулке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ование «Отремонтируйте машине колеса», «Рельса для паровоза» Аппликация «Ракета».Лепка «Вертоле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.Раухвергера «Воробушки и автомобиль» .Е.Тиличевой,Н. Найденовой «Самоле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ь начинать ходьбу по сигналу. Воспитывать выдержку совершенствовать умения передвигаться в определенном направл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аливание по схем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Box 2"/>
          <p:cNvSpPr/>
          <p:nvPr/>
        </p:nvSpPr>
        <p:spPr>
          <a:xfrm>
            <a:off x="2881800" y="0"/>
            <a:ext cx="432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держание работ по теме 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71524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едварительная работа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одобрать методическую литературу по тем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Подобрать художественную литературу по тем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одобрать дидактический материал, наглядные пособия (альбомы для рассматривания, картины, настольные игры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  <Words>512</Words>
  <Paragraphs>85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7:38:43Z</dcterms:created>
  <dc:creator>кк</dc:creator>
  <dc:description/>
  <dc:language>en-US</dc:language>
  <cp:lastModifiedBy>О.Н.</cp:lastModifiedBy>
  <dcterms:modified xsi:type="dcterms:W3CDTF">2015-02-09T11:00:31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1</vt:r8>
  </property>
</Properties>
</file>