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C23-7332-4DAC-B341-E91E3BF7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6A52-3C7B-4C1A-991E-6FB0C93E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233-1BB7-4B2C-A60F-A55163ABC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90DF-3862-45CD-9A31-522C93B2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EC98-93E7-4894-8F7A-F38E72AE4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28B1-1F2D-47B3-A920-E8B75D29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CECD-A344-4F85-A4D4-1E830999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E42C-8634-4ACF-8B5A-BDF6C8E7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58BE-6850-452B-A392-A394C398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A6DA-BFCA-44CF-A49F-989B3289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716-0305-4E3F-912E-839EB42B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3D60-F17F-42ED-B74C-3AC058BA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E283-6FF5-45A9-8093-C6C2A8D967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dikul.net/units/diagnostic/mrt/" TargetMode="External"/><Relationship Id="rId2" Type="http://schemas.openxmlformats.org/officeDocument/2006/relationships/hyperlink" Target="http://www.dikul.net/units/diagnostic/mrt/" TargetMode="External"/><Relationship Id="rId3" Type="http://schemas.openxmlformats.org/officeDocument/2006/relationships/hyperlink" Target="http://www.dikul.net/units/diagnostic/mrt/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2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6720" y="2130120"/>
            <a:ext cx="73407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теопор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Прогрессирующее уменьшение плотности (разрежение) костей, приводящее к снижению их прочности, благодаря чему увеличивается вероятность перелом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1247760" cy="1428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81680" y="457200"/>
            <a:ext cx="193356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62120" y="4648320"/>
            <a:ext cx="1238040" cy="123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Магнитно-резонансная</a:t>
            </a: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томограф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мпьютерная томограф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льтразвуковые исследо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мпьютерно-оптическая диагностика (КОД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нситометрия (измерение плотности костной ткани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химическое исследование крови и мо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гомеостаза, кальция, фосфора, щелочной фосфатаз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точное выделение кальция и фосфора с моч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57200" y="22860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04960" y="274320"/>
            <a:ext cx="518148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нтгеновская денситометрия – золотой стандар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333600" cy="44481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5715000" cy="42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71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Остеопороз"/>
          <p:cNvPicPr/>
          <p:nvPr/>
        </p:nvPicPr>
        <p:blipFill>
          <a:blip r:embed="rId1"/>
          <a:stretch/>
        </p:blipFill>
        <p:spPr>
          <a:xfrm>
            <a:off x="228600" y="1523880"/>
            <a:ext cx="4591080" cy="3095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257800" y="914400"/>
            <a:ext cx="3600360" cy="57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филактика остеопороз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за нормальным потреблением кальция с детского возраста, обеспечение кальцием во время беременности и грудного вскармлив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лица суточной потребности организма в каль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11 -24 лет - 1200м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25 –до менопаузы - 1000 м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ремя менопаузы - 1200 м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- 1500 м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781680" y="4343400"/>
            <a:ext cx="2009880" cy="14288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1676520" cy="1428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620120" y="762120"/>
            <a:ext cx="1361880" cy="1295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800600" y="5429160"/>
            <a:ext cx="1428840" cy="13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0320" y="274320"/>
            <a:ext cx="792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филактика остеопороз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ый образ жизни с умеренными физическими нагрузками (верховая езда и велосипед, бег и ходьба, теннис и скакалка, аэробика и танцы -отличное средство для сохранения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епления костной ткан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аз от злоупотребления алкоголем, ку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ем препаратов кальция, физиологических доз витамина D (пребывание на солнц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ит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отребление кофе и кока-кол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ыточное употребление грубоволокнист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щи, содержащей много клетчатки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одит к уменьшению всасывания кальция в кишечн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84320" y="3109320"/>
            <a:ext cx="2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560" cy="1428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467480" y="4114800"/>
            <a:ext cx="1524240" cy="14288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467480" y="2209680"/>
            <a:ext cx="1524240" cy="12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филактика остеопороз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2133720" cy="14302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33520" y="411480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-3701880" y="324576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мпионами по содерж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426708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мпионами по содержанию кальция являются молочные продукты и рыба, а из продуктов растительного происхождения - капуста броколли и фасо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3960" y="152316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держание нормального веса те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ечение остеопороз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цели терапии (лечения) остеопоро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пирование болевого синдрома и увеличение двигательной активност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рмализация костного ремоделирования, за счет подавления костной резорбции и стимуляции сниженного костеобразо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ышение МПК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твращение остеопоротических перелом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чение основных заболеваний, которые привели к развитию остеопоро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Немедикаментозная корре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пражнения, диета, отказ от вредных привыч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ечение остеопороз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икаментозное лечение остеопороза включает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 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тирезорбтивные средства (эстрогены, кальцитонин, бифосфонаты) - замедляющие или останавливающие разрушение костной ткани. Они не влияют на образование костной ткани, а помогают усилить эффективность процессов новообразования костной ткани остеобластам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 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болические средства (препараты тестостерона, терипаратид, ралоксифен) -стимулирующие процессы активного образования костной ткан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 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араты кальция (кальцитонин, миакальцик) - замедляет или прекращает потерю костной ткани, а также облегчает болевой синдром после перелом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  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е метаболиты витамина D , комбинированные препараты кальция и витамина D (кальций-D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362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теопор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1 октября 2011 г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ь всемирной  борь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остеопороз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3333600" cy="2962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1466640" cy="142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6400" y="1095480"/>
            <a:ext cx="3476520" cy="57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284040"/>
            <a:ext cx="69357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теопор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6400800" cy="3809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609840"/>
            <a:ext cx="221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 заболевание занимает четвертое место в мире среди неинфекционных болезней по смертности и инвалидиз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7010280"/>
            <a:ext cx="82296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теопор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теопороз обнаруживается в мире у каждой третьей женщины после наступления менопау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более половины всех лиц в возрасте старше семидесяти л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343400" y="3733920"/>
            <a:ext cx="4286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теопоро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остеопорозе происходит уменьшение костной массы вследствие снижения содержания кальция как в губчатом, так и в твердом веществе кости. Кости выглядят пористыми, они становятся хрупкими, ломкими и слабы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809880" cy="2819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19320" y="4724280"/>
            <a:ext cx="264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сти подвержены переломам. Особенно часто он возникает в позвонках, костях таза, запястья и предплеч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чин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теопор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ервичный (идиопатический) остеопороз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нетический фактор (расовая принадлежность, пол, возраст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- и постменопаузальный период у женщин (естественный или искусственный, вызванный овариэктомией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менорея и/или олигоменорея, ановуляция (бесплодие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фицит андрогенов у мужчин 40-55 лет (выявляется при тесте на гормоны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раст старше 65 лет для пациентов обоих пол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торая половина беременности и период лактации (остеопороз беременных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достаточное поступление кальция и витамина D с пищей (диета, беспорядочное питание, расстройство пищевого поведения типа анорексии и булимии); диаб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зкий коэффициент массы тела (BMI - Body Mass Index) – менее 18,5 кг/м2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иподинамия, вынужденное ограничение подвижности из-за иммобилизации (после переломов), артритов, парез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резмерная физическая активность (развиваться рабочая гипертрофия костей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зкая инсоляция, недостаточная для синтеза необходимого количества витамина D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коголизм, курение, наркотики; злоупотребление кофеином (крепкий кофе или чай, кока-кола) и продуктами с содержанием ортофосфорной кислоты (безалкогольные газированные напитки) и высоким содержанием фосфатов натрия (регулятор кислотности, эмульгирующая соль, фиксатор окраски, влагоудерживающий агент, стабилизатор, синергисты антиоксидантов, консервы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16192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чин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теопоро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торичный остеопороз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болевания, связанные с дисфункцией эндокринных желёз (эндокринопатии): сахарный диабет, гиперкортицизм, тиреотоксикоз, пролактиномы и т.д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тологии пищеварительной системы (дисбактериоз, заболевания печен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усваиваемость кальция, гиполактазия (непереносимость лактоз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болевания почек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болевания кров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ем глюкокортикоидов (стероидных гормонов) с лечебной целью; применение антиконвульсивных медицинских препара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вматические заболевания, заболевания соединительной ткани, хронического обструктивного заболевая лёгки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кологические заболевания; лучевая терапия, химиотерап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еречень факторов ри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ледственный фактор. У Вас астеническое телосложение и тонкая кожа, а в родне у кого-нибудь есть болезнь остеопоро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анное время менопауза,  или были операции на яични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актор питания: употребление алкоголя, безалкогольных газированных напитков, кофе, соленой пищи, переедание, кур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оподвижный образ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мональный фактор- принимаете кортикостерои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010280" y="4876920"/>
            <a:ext cx="1962360" cy="142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4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имптомы остеопороз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и в костях и в области сустав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ще локализующиеся в спине, ребр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тях та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 усиливается при физиче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груз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 и легко возникают перело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ается походка, которая напоминает «утиную». (поражение тазобедренных сустав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меньшение роста взрослых больных на 2—3 см, а при длительном течении заболевания до 10—15 см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быточный зубной нал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пкость и расслоение ногт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нее посед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62920" y="5410080"/>
            <a:ext cx="1676160" cy="1447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&amp;Ocy;&amp;scy;&amp;tcy;&amp;iecy;&amp;ocy;&amp;pcy;&amp;ocy;&amp;rcy;&amp;ocy;&amp;zcy;"/>
          <p:cNvPicPr/>
          <p:nvPr/>
        </p:nvPicPr>
        <p:blipFill>
          <a:blip r:embed="rId2"/>
          <a:stretch/>
        </p:blipFill>
        <p:spPr>
          <a:xfrm>
            <a:off x="6629400" y="990720"/>
            <a:ext cx="23716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аша</cp:lastModifiedBy>
  <dcterms:modified xsi:type="dcterms:W3CDTF">2012-09-15T18:36:0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