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94C-EE79-4B9E-9EE5-D2D1B0D5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4CB-3B2D-4A33-B1DE-571EE80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278-8701-44A0-8DC8-B8A8CB25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5B3-2302-4F52-87A9-B73A8048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EFB-5812-428B-BF33-B178E176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105-FD5D-40F8-A202-9F98E76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169-0439-4A20-8F64-1EEF64C2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DA2-C490-496B-974A-16E30222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5F6-BB63-4501-BE72-440AB7C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19D-A534-4B47-9C16-3218CA1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127-FAC1-4E99-9FD1-2B0A058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12D-8193-4C64-8E0E-0617C051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649-2B48-4681-A955-5101C1840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kul.net/units/diagnostic/mrt/" TargetMode="External"/><Relationship Id="rId2" Type="http://schemas.openxmlformats.org/officeDocument/2006/relationships/hyperlink" Target="http://www.dikul.net/units/diagnostic/mrt/" TargetMode="External"/><Relationship Id="rId3" Type="http://schemas.openxmlformats.org/officeDocument/2006/relationships/hyperlink" Target="http://www.dikul.net/units/diagnostic/mrt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720" y="2130120"/>
            <a:ext cx="7340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грессирующее уменьшение плотности (разрежение) костей, приводящее к снижению их прочности, благодаря чему увеличивается вероятность перелом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Магнитно-резонансная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томограф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ьютерная томограф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ьтразвуковые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ьютерно-оптическая диагностика (КОД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ситометрия (измерение плотности костной ткан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химическое исследование крови и м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гомеостаза, кальция, фосфора, щелочной фосфата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очное выделение кальция и фосфора с моч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тгеновская денситометрия – золотой станд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333600" cy="444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571500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Остеопороз"/>
          <p:cNvPicPr/>
          <p:nvPr/>
        </p:nvPicPr>
        <p:blipFill>
          <a:blip r:embed="rId1"/>
          <a:stretch/>
        </p:blipFill>
        <p:spPr>
          <a:xfrm>
            <a:off x="228600" y="1523880"/>
            <a:ext cx="459108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60036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нормальным потреблением кальция с детского возраста, обеспечение кальцием во время беременности и грудного вскармли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суточной потребности организма в каль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1 -24 лет - 1200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25 –до менопаузы - 10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менопаузы - 12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- 15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20120" y="762120"/>
            <a:ext cx="13618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00600" y="54291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0320" y="274320"/>
            <a:ext cx="792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й образ жизни с умеренными физическими нагрузками (верховая езда и велосипед, бег и ходьба, теннис и скакалка, аэробика и танцы -отличное средство для сохран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я костной ткан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злоупотребления алкоголем, 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препаратов кальция, физиологических доз витамина D (пребывание на сол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требление кофе и кока-к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чное употребление грубоволокн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и, содержащей много клетчатк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 к уменьшению всасывания кальция в кишечн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4320" y="31093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67480" y="4114800"/>
            <a:ext cx="15242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67480" y="2209680"/>
            <a:ext cx="15242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701880" y="32457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пионами по содерж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267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пионами по содержанию кальция являются молочные продукты и рыба, а из продуктов растительного происхождения - капуста броколли и фасо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3960" y="152316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ание нормального веса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чение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терапии (лечения) остеопор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рование болевого синдрома и увеличение двигательной актив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изация костного ремоделирования, за счет подавления костной резорбции и стимуляции сниженного косте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МПК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остеопоротических перелом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новных заболеваний, которые привели к развитию остеопор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емедикаментозная 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жнения, диета, отказ от вредных привы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чение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каментозное лечение остеопороза вклю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резорбтивные средства (эстрогены, кальцитонин, бифосфонаты) - замедляющие или останавливающие разрушение костной ткани. Они не влияют на образование костной ткани, а помогают усилить эффективность процессов новообразования костной ткани остеобласт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болические средства (препараты тестостерона, терипаратид, ралоксифен) -стимулирующие процессы активного образования костной тка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араты кальция (кальцитонин, миакальцик) - замедляет или прекращает потерю костной ткани, а также облегчает болевой синдром после перелом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е метаболиты витамина D , комбинированные препараты кальция и витамина D (кальций-D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октября 201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всемирной  борь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теопор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29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146664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6400" y="1095480"/>
            <a:ext cx="347652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84040"/>
            <a:ext cx="6935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640080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60984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 заболевание занимает четвертое место в мире среди неинфекционных болезней по смертности и инвалид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010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 обнаруживается в мире у каждой третьей женщины после наступления менопау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олее половины всех лиц в возрасте старше семидесяти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4286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остеопорозе происходит уменьшение костной массы вследствие снижения содержания кальция как в губчатом, так и в твердом веществе кости. Кости выглядят пористыми, они становятся хрупкими, ломкими и слаб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472428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ти подвержены переломам. Особенно часто он возникает в позвонках, костях таза, запястья и предплеч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ервичный (идиопатический) остеопороз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тический фактор (расовая принадлежность, пол, возраст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- и постменопаузальный период у женщин (естественный или искусственный, вызванный овариэктомией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менорея и/или олигоменорея, ановуляция (бесплодие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фицит андрогенов у мужчин 40-55 лет (выявляется при тесте на гормоны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раст старше 65 лет для пациентов обоих пол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ая половина беременности и период лактации (остеопороз беременных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статочное поступление кальция и витамина D с пищей (диета, беспорядочное питание, расстройство пищевого поведения типа анорексии и булимии); диаб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кий коэффициент массы тела (BMI - Body Mass Index) – менее 18,5 кг/м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одинамия, вынужденное ограничение подвижности из-за иммобилизации (после переломов), артритов, парез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резмерная физическая активность (развиваться рабочая гипертрофия костей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кая инсоляция, недостаточная для синтеза необходимого количества витамина 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коголизм, курение, наркотики; злоупотребление кофеином (крепкий кофе или чай, кока-кола) и продуктами с содержанием ортофосфорной кислоты (безалкогольные газированные напитки) и высоким содержанием фосфатов натрия (регулятор кислотности, эмульгирующая соль, фиксатор окраски, влагоудерживающий агент, стабилизатор, синергисты антиоксидантов, консерв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торичный остеопороз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, связанные с дисфункцией эндокринных желёз (эндокринопатии): сахарный диабет, гиперкортицизм, тиреотоксикоз, пролактиномы и т.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ологии пищеварительной системы (дисбактериоз, заболевания печен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сваиваемость кальция, гиполактазия (непереносимость лактоз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 поче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 кров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глюкокортикоидов (стероидных гормонов) с лечебной целью; применение антиконвульсивных медицинских препар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вматические заболевания, заболевания соединительной ткани, хронического обструктивного заболевая лёгк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кологические заболевания; лучевая терапия, химиотерап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чень факторов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ственный фактор. У Вас астеническое телосложение и тонкая кожа, а в родне у кого-нибудь есть болезнь остеопоро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е время менопауза,  или были операции на яич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питания: употребление алкоголя, безалкогольных газированных напитков, кофе, соленой пищи, переедание, ку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подвижный обра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мональный фактор- принимаете кортикостеро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4876920"/>
            <a:ext cx="19623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мптомы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костях и в области сустав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локализующиеся в спине, ребр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ях т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 усиливается при физ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уз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и легко возникают перел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ается походка, которая напоминает «утиную». (поражение тазобедренных сустав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роста взрослых больных на 2—3 см, а при длительном течении заболевания до 10—15 с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ыточный зубной на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пкость и расслоение ног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нее пос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&amp;Ocy;&amp;scy;&amp;tcy;&amp;iecy;&amp;ocy;&amp;pcy;&amp;ocy;&amp;rcy;&amp;ocy;&amp;zcy;"/>
          <p:cNvPicPr/>
          <p:nvPr/>
        </p:nvPicPr>
        <p:blipFill>
          <a:blip r:embed="rId2"/>
          <a:stretch/>
        </p:blipFill>
        <p:spPr>
          <a:xfrm>
            <a:off x="6629400" y="990720"/>
            <a:ext cx="2371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12-09-15T18:36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