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508-1FD8-4481-BBE1-D5F709AB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708-6F30-4327-853E-EC81AEC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FEC-1A33-4148-AB5A-A2F5B49F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3E6-05C0-4FBD-A84F-FC89BEFB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FA9-6407-4596-A4EE-032720A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3A71-EB50-4A5B-A873-8B3D9B63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A02-153E-4C36-B0ED-019ED86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D8EE-5097-49DB-A67C-46B53C5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9ABB-DFDA-41AA-8251-456159D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BE9-E371-451A-A08E-B037133C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C6DF-A974-4C5F-A497-FA2D999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F7C-BA34-4695-A0D3-0448134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425-33A9-4D85-8D3E-1CD07543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D1B3-F513-4F32-8F24-92DFDEC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326-1904-4914-9D27-BE3A025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FD3-844D-4ED4-BDA8-61F5A4B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F39-EF17-4411-8D9E-6401FA76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E2E-9302-4B6E-939A-36C0FBEF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F81-54DB-44CC-BB6F-CB04CF0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01B-3D22-4890-A939-C2177D49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7F6-4165-47A1-892E-B207992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434-F4DC-4630-86AE-2C7C630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26D-55AF-4DC7-923D-DE32FB1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A13-D2BF-4204-B0B3-D16E22F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BB7B-D0B3-46C1-B382-CE08C05B6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A0B-D390-41CD-A578-35DBDF8DF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0884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риро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нтаркти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1704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пские голуб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336000" cy="513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чур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88360" cy="413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мператорские пингв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859280" cy="327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В летние месяцы на берегах Антарктиды гнездятся буревестники, чайки-поморники, бакланы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274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72600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95640" y="3933720"/>
            <a:ext cx="1925640" cy="256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7210800">
            <a:off x="1798920" y="116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012000">
            <a:off x="4246920" y="116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907920"/>
            <a:ext cx="1979640" cy="5950080"/>
          </a:xfrm>
          <a:custGeom>
            <a:avLst/>
            <a:gdLst>
              <a:gd name="textAreaLeft" fmla="*/ 264960 w 1979640"/>
              <a:gd name="textAreaRight" fmla="*/ 1714680 w 1979640"/>
              <a:gd name="textAreaTop" fmla="*/ 1235160 h 5950080"/>
              <a:gd name="textAreaBottom" fmla="*/ 4041720 h 595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68" stAng="-5400000" swAng="5400000"/>
                <a:lnTo>
                  <a:pt x="21600" y="10189"/>
                </a:lnTo>
                <a:arcTo wR="21600" hR="8968" stAng="0" swAng="2974930"/>
                <a:lnTo>
                  <a:pt x="7200" y="21087"/>
                </a:lnTo>
                <a:lnTo>
                  <a:pt x="0" y="18546"/>
                </a:lnTo>
                <a:lnTo>
                  <a:pt x="7200" y="14978"/>
                </a:lnTo>
                <a:lnTo>
                  <a:pt x="7200" y="17422"/>
                </a:lnTo>
                <a:arcTo wR="21600" hR="8968" stAng="2974930" swAng="-2877566"/>
                <a:lnTo>
                  <a:pt x="21550" y="9578"/>
                </a:lnTo>
                <a:arcTo wR="21600" hR="8968" stAng="-97364" swAng="-5302636"/>
                <a:close/>
              </a:path>
              <a:path fill="darkenLess" w="21600" h="21600">
                <a:moveTo>
                  <a:pt x="0" y="0"/>
                </a:moveTo>
                <a:arcTo wR="21600" hR="8968" stAng="-5400000" swAng="5400000"/>
                <a:lnTo>
                  <a:pt x="21600" y="10189"/>
                </a:lnTo>
                <a:arcTo wR="21600" hR="8968" stAng="0" swAng="-97364"/>
                <a:lnTo>
                  <a:pt x="21550" y="9578"/>
                </a:lnTo>
                <a:arcTo wR="21600" hR="8968" stAng="-97364" swAng="-530263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1511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водах Антарктиды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живают ки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564080" cy="417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5640" y="4581360"/>
            <a:ext cx="540072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Растительный и животный мир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зона антарктической пустыни. Большая ее часть лишена растительного покрова и живот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 у берегов на возвышенных местах поверхность земли, обдуваемый ветрами, успевает немного прогреться и освободиться от снега. Такие участки называю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азис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сухие и холодные каменистые пусты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в прибрежных районах материка и на островах расту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хи, лишайники и низшие водоросл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46960" y="4941720"/>
            <a:ext cx="1415880" cy="17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06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ехметровый тюлень Уэддел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752720" cy="312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605480" cy="2406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ищные морские леопар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36760" cy="310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32360" y="4365720"/>
            <a:ext cx="1676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7920"/>
            <a:ext cx="6656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орские сло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76720" y="4286160"/>
            <a:ext cx="38689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юлень-крабои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5184720" cy="394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4135320"/>
            <a:ext cx="3614760" cy="254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732720" y="8366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игантские альбатро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000920" cy="4649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нежные буревест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36000" cy="483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2:18:00Z</dcterms:created>
  <dc:creator>1</dc:creator>
  <dc:description/>
  <dc:language>en-US</dc:language>
  <cp:lastModifiedBy>1</cp:lastModifiedBy>
  <dcterms:modified xsi:type="dcterms:W3CDTF">2015-02-09T13:52:30Z</dcterms:modified>
  <cp:revision>4</cp:revision>
  <dc:subject/>
  <dc:title>Природа</dc:title>
</cp:coreProperties>
</file>