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379-C5D8-46E6-A626-D87A52AC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399-96A8-438F-91A8-80785511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C33-4390-401B-B722-8C9E84A8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3D7-7E23-488E-9BE3-200FCDE0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FD8C-8D76-44ED-BD8B-9CB29CF8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C6F8-3856-4EDF-A00D-A9CFEE74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B0B7-60A0-42FE-B263-99186F2D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CF9C-CC8C-42D1-8043-B22E9E72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9923-999C-4921-AAB1-21002B09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F586-0AC0-4292-AACF-FAD2E6F6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A05D-65A4-4795-BEC8-9E63A4A3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12D-9E09-496F-B2A1-92160511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37AE-CCF9-4EC3-820B-6E5F6B6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7293-57A5-4BB8-9699-3F42CFA2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763D-C612-4350-A0BE-F52449E0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ABE1-463C-414F-9121-C4109A2C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5B9F-133D-46DC-BD66-CAE29DED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54F-8F07-4092-A780-9096C3DB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9DD-62C2-4CA8-AC62-84EB19D3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26F-3172-45DF-A587-E09CA39D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EC0-EC84-4982-8488-A1EA8559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99E-1687-4F24-B93C-287EA5A4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FC8-9D6A-4916-8455-C5C27A8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46E-5029-4C5F-9CB0-C758436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0E73-ADC9-4E9A-8883-BF4142E513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F915-12F3-422B-888E-3C6ECDFDB0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0884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Природ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Антаркти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1704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апские голуб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336000" cy="5138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ачур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488360" cy="4133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мператорские пингви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4859280" cy="327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867280" y="134136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В летние месяцы на берегах Антарктиды гнездятся буревестники, чайки-поморники, бакланы.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960720" cy="2741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726000" cy="266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995640" y="3933720"/>
            <a:ext cx="1925640" cy="2568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7210800">
            <a:off x="1798920" y="1161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012000">
            <a:off x="4246920" y="1161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907920"/>
            <a:ext cx="1979640" cy="5950080"/>
          </a:xfrm>
          <a:custGeom>
            <a:avLst/>
            <a:gdLst>
              <a:gd name="textAreaLeft" fmla="*/ 264960 w 1979640"/>
              <a:gd name="textAreaRight" fmla="*/ 1714680 w 1979640"/>
              <a:gd name="textAreaTop" fmla="*/ 1235160 h 5950080"/>
              <a:gd name="textAreaBottom" fmla="*/ 4041720 h 595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68" stAng="-5400000" swAng="5400000"/>
                <a:lnTo>
                  <a:pt x="21600" y="10189"/>
                </a:lnTo>
                <a:arcTo wR="21600" hR="8968" stAng="0" swAng="2974930"/>
                <a:lnTo>
                  <a:pt x="7200" y="21087"/>
                </a:lnTo>
                <a:lnTo>
                  <a:pt x="0" y="18546"/>
                </a:lnTo>
                <a:lnTo>
                  <a:pt x="7200" y="14978"/>
                </a:lnTo>
                <a:lnTo>
                  <a:pt x="7200" y="17422"/>
                </a:lnTo>
                <a:arcTo wR="21600" hR="8968" stAng="2974930" swAng="-2877566"/>
                <a:lnTo>
                  <a:pt x="21550" y="9578"/>
                </a:lnTo>
                <a:arcTo wR="21600" hR="8968" stAng="-97364" swAng="-5302636"/>
                <a:close/>
              </a:path>
              <a:path fill="darkenLess" w="21600" h="21600">
                <a:moveTo>
                  <a:pt x="0" y="0"/>
                </a:moveTo>
                <a:arcTo wR="21600" hR="8968" stAng="-5400000" swAng="5400000"/>
                <a:lnTo>
                  <a:pt x="21600" y="10189"/>
                </a:lnTo>
                <a:arcTo wR="21600" hR="8968" stAng="0" swAng="-97364"/>
                <a:lnTo>
                  <a:pt x="21550" y="9578"/>
                </a:lnTo>
                <a:arcTo wR="21600" hR="8968" stAng="-97364" swAng="-530263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39640" y="4797360"/>
            <a:ext cx="1511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 водах Антарктиды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живают кит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564080" cy="417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95640" y="4581360"/>
            <a:ext cx="540072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Растительный и животный мир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нтаркт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зона антарктической пустыни. Большая ее часть лишена растительного покрова и живот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ом у берегов на возвышенных местах поверхность земли, обдуваемый ветрами, успевает немного прогреться и освободиться от снега. Такие участки называют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азис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сухие и холодные каменистые пусты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в прибрежных районах материка и на островах растут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хи, лишайники и низшие водоросл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46960" y="4941720"/>
            <a:ext cx="1415880" cy="172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006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рехметровый тюлень Уэдделл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752720" cy="312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4605480" cy="2406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43640" y="16286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ищные морские леопар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537080" cy="3065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136760" cy="310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32360" y="4365720"/>
            <a:ext cx="16765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7920"/>
            <a:ext cx="6656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орские сло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5111640" cy="4087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76720" y="4286160"/>
            <a:ext cx="3868920" cy="2417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43640" y="16286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юлень-крабои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5184720" cy="394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4135320"/>
            <a:ext cx="3614760" cy="254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732720" y="83664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игантские альбатрос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000920" cy="4649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нежные буревест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236000" cy="4838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2:18:00Z</dcterms:created>
  <dc:creator>1</dc:creator>
  <dc:description/>
  <dc:language>en-US</dc:language>
  <cp:lastModifiedBy>1</cp:lastModifiedBy>
  <dcterms:modified xsi:type="dcterms:W3CDTF">2015-02-09T13:52:30Z</dcterms:modified>
  <cp:revision>4</cp:revision>
  <dc:subject/>
  <dc:title>Природа</dc:title>
</cp:coreProperties>
</file>