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099-F096-48BC-8138-F681BDF2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4EC-9D3F-45FE-BE0C-0F298EDF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3B545-9F08-4A66-B092-59DDF664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109DF-427A-4BCF-BF54-339E2CBC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2DEAE-036B-4AFD-947F-02034CEE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7D083-7BF8-4994-9AB3-50C46A8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2944D-6B54-4B25-82E5-8A73B3FA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E851D-5436-481C-8BCE-DA8FE27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59E76-6E07-4F3A-8BF4-BB0CB2D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DE0C4-03E8-4B2E-8B4F-94DEBFB1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0CF1C-5025-4693-986F-81481AA3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37E-3BE4-4E8A-8413-4AD2A19A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FF3-C4E7-4F10-BF9D-976C24BD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D76A-D363-4C56-A558-633687DF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CF22-30AE-4039-91A4-7A252C20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90F5-60C0-4C96-A835-251D77DA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6EC8-763F-4509-AE7A-451D94F6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C966-0A8F-4309-834A-D09A2FD9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AF19-8892-4DF1-9D4E-DB367A52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5248-1E08-494E-AF05-2954F2BF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FD1-EE5A-4657-A702-B444A25B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88D2-E6EB-4AA3-A914-B63727F9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0533-557E-4435-9583-B91BA6A4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4670-52B0-46C5-B551-1A72C65F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EBB3-CAF3-4010-992A-F5DB1012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F46D-FE7F-4225-BAFA-1AB004F4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F8A3-E181-4626-B073-D4F4E5DE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6B35-940F-41B5-90B0-B49E3216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4BDBC-6DB2-48B4-BD2B-D63CD6A7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A3B9-9573-426F-AECD-A41A1E91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5429-D9C8-48E2-8BD9-020E010F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235-6A06-4CB1-B4AB-8EDA30D2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7048-89AD-4578-883E-B4BE84DB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C8C14-EF00-4E54-893D-94C36CE3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C3698-D96F-4D72-B4E4-C562E806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ABF1E-4EB9-4A49-9806-637F30EF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2218-85CB-44EE-803C-66E59740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D17D6-9D3D-422D-902F-B19F7848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1456F-1200-4917-960F-84D683F6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61EC3-C2D7-41E2-A87C-5F12A623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77B5-155E-43B8-B698-FA9C529B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76E60-2434-4E67-B60E-AC69EC2A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D3A-F7BA-4C7E-8DAE-DB2D9AA4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F0CF5-E8BD-4AD9-9AFD-9B73B6E8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F242E-09C1-4568-8ADF-2E96071A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E7CC8-0E9F-4BE9-B1AD-1BC7E099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9916-851F-4E6A-9541-39905602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A4307-A60D-4D2E-B959-B53377A4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7419-2020-4A6E-AF63-510CC74F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3B89-A477-4108-9ED5-0EA6E58D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20E8E-F7BD-4C76-A8EB-2FF004C0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554C-58C3-4056-B5D1-ADE7A0D5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B03E1-05F2-4094-B9CE-69B8FCF4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7ED-A2AD-4EA3-9750-BD1A662F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AFDE-31F5-4D86-B8FD-5C3C7D13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1E590-C186-41E6-86B9-F2C6E960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BC17A-498B-40C3-BD65-B6CB8083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A3DDC-0CD2-48FE-995D-CBE2B2C6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1C612-2E0E-4046-9C29-1B223828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096A0-0924-4C67-AF3C-D83D8901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9F7F0-15F2-462C-91BF-96C781A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86D6F-418C-4594-8C0F-808396AD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C9590-D599-4232-97AC-76B6715F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25167-8526-40CA-B91D-D727070D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BBB-E49D-487C-8A9E-C5078D0E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990D2-A9C3-440C-9594-8C7A57E1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5E1F5-57D6-4787-897E-09BC8DF1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B44E0-C1D2-415F-90B4-8804A618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96D62-2D4D-4D12-9F1B-1157D9A1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A3B76-1F2D-459F-8BE3-ED2A6556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6C8DA-358C-43CB-9DAE-5F546433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3199D-54D3-425D-BB41-D9F1C6E4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EC983-880E-4019-8BFF-910C71E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1159B-EC18-4DB6-9BA1-EC0A5CA9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F1C26-B47B-4043-BAAC-595BA82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631-02A7-4316-8980-1CEC2484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B7CAE-C503-427F-84C9-5BED0041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A4875-7A2A-42EB-9455-FC054A1C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5E0F5-CC34-4907-8B79-A3DB81E3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2A5AE-C588-48F4-BEDE-8645146E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690EC-0390-4251-BFEC-19EA8BEE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FF53F-5B40-4182-B323-2F2B1CFE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C255C-1A8F-4CE3-A18F-3F57B1E5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B0E56-49C9-45E6-814D-2C344092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72E3C-E770-43D2-B5B8-4AC6CEC1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0E30C-2D0E-4866-9D0E-A9DBBCBC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79D-2CDF-44F0-ADD8-EF434417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C2A1D-CF6B-4688-A412-C008B70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59E8B-B096-44E6-AC44-BB7CF72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D3CCA-CBC8-4E1B-A352-88303490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3E900-25ED-4349-BEEA-69C56941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8261E-F7D8-4EF0-9FBA-12A16975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F22C1-2A01-4108-A921-02DFB785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44607-BFC6-4184-9E96-95B83863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975E0-3C42-4159-A4AF-4574FEBB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76D76-FEEE-49A1-8C28-1B8490D2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11DFC-5CAD-42AC-817A-B62BB01F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3FE-D4A2-4D32-AF25-36250CA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7B197-05AB-4002-95F4-B7B5D1E2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84266-EFF4-4E82-B2FE-E7418E4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D1385-1332-4E01-8467-98C11F15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B8B26-0B10-47EE-8B5A-5FB492D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B142-EA01-496E-A410-AD40034E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848C2-9BFA-4FD9-86AA-87B1D8C0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EC3C6-50F8-465F-8AF5-4E11FA74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ACDEC-0B9F-443F-AF4C-ADD9B02D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1B34A-0524-43F2-9D0B-91DDA382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3A74E-6565-4581-99DD-21541A39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B8FD-E0AF-4795-BC6A-2BE9980F2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C7ED-1C36-4AE5-B4E5-96E8A07E15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2C45-6C7A-41A5-802E-EEECD0CE4AB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6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7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0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F7AE-2BAD-40DD-A459-E96F0A9581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994C-C977-443E-8EDE-F7AA9E87471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B829-D0DB-471E-809A-8C798AB0173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E375-FE6E-4480-9523-E94BAC1953F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AE67-5886-4117-9AEE-EDBF9309995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4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ACCE-A787-45F4-85D0-4BFA50078E1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9900"/>
                </a:solidFill>
                <a:latin typeface="Arial"/>
              </a:rPr>
              <a:t>Русский</a:t>
            </a:r>
            <a:br>
              <a:rPr sz="12900"/>
            </a:br>
            <a:r>
              <a:rPr b="0" lang="en-US" sz="12900" spc="-1" strike="noStrike">
                <a:solidFill>
                  <a:srgbClr val="009900"/>
                </a:solidFill>
                <a:latin typeface="Arial"/>
              </a:rPr>
              <a:t>язык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00b8"/>
                </a:solidFill>
                <a:latin typeface="Calibri"/>
              </a:rPr>
              <a:t>Проверь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50560" y="1934640"/>
            <a:ext cx="8893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000b8"/>
                </a:solidFill>
                <a:latin typeface="Arial"/>
              </a:rPr>
              <a:t>      </a:t>
            </a: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Деревья в лесу стояли в краси-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вом снежном уборе. </a:t>
            </a:r>
            <a:r>
              <a:rPr b="1" i="1" lang="ru-RU" sz="3800" spc="-1" strike="noStrike">
                <a:solidFill>
                  <a:srgbClr val="00ff00"/>
                </a:solidFill>
                <a:latin typeface="Arial"/>
              </a:rPr>
              <a:t>Они</a:t>
            </a: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 были уб-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раны серебристым инеем. На од-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ном из деревьев </a:t>
            </a:r>
            <a:r>
              <a:rPr b="1" i="1" lang="ru-RU" sz="3800" spc="-1" strike="noStrike">
                <a:solidFill>
                  <a:srgbClr val="00ff00"/>
                </a:solidFill>
                <a:latin typeface="Arial"/>
              </a:rPr>
              <a:t>я</a:t>
            </a: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 увидел птичье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гнездо.  </a:t>
            </a:r>
            <a:r>
              <a:rPr b="1" i="1" lang="ru-RU" sz="3800" spc="-1" strike="noStrike">
                <a:solidFill>
                  <a:srgbClr val="00ff00"/>
                </a:solidFill>
                <a:latin typeface="Arial"/>
              </a:rPr>
              <a:t>Оно</a:t>
            </a: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 было засыпано пу-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шистым снегом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2050920" y="1700280"/>
            <a:ext cx="59058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95280" y="1989000"/>
            <a:ext cx="8209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тор: Фокин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атьяна Юрьев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итель высшей категор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СОШ №1 г. Фрязи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omic Sans MS"/>
              </a:rPr>
              <a:t>Обобщение знаний о местоимении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Чистописание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Calligraphy"/>
              </a:rPr>
              <a:t>Пп   па   пр    ап   пе   п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4" name="Picture 4" descr="пальто"/>
          <p:cNvPicPr/>
          <p:nvPr/>
        </p:nvPicPr>
        <p:blipFill>
          <a:blip r:embed="rId2"/>
          <a:srcRect l="1679" t="2631" r="0" b="1562"/>
          <a:stretch/>
        </p:blipFill>
        <p:spPr>
          <a:xfrm>
            <a:off x="2655720" y="2536920"/>
            <a:ext cx="3429000" cy="43210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379080" y="2673360"/>
            <a:ext cx="199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40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ль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" descr="пенал"/>
          <p:cNvPicPr/>
          <p:nvPr/>
        </p:nvPicPr>
        <p:blipFill>
          <a:blip r:embed="rId3"/>
          <a:stretch/>
        </p:blipFill>
        <p:spPr>
          <a:xfrm>
            <a:off x="1908000" y="3284640"/>
            <a:ext cx="5112000" cy="35733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7"/>
          <p:cNvSpPr/>
          <p:nvPr/>
        </p:nvSpPr>
        <p:spPr>
          <a:xfrm>
            <a:off x="2629440" y="2708280"/>
            <a:ext cx="158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4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8" descr="посуда"/>
          <p:cNvPicPr/>
          <p:nvPr/>
        </p:nvPicPr>
        <p:blipFill>
          <a:blip r:embed="rId4"/>
          <a:stretch/>
        </p:blipFill>
        <p:spPr>
          <a:xfrm>
            <a:off x="1990800" y="3340080"/>
            <a:ext cx="5029200" cy="351792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9"/>
          <p:cNvSpPr/>
          <p:nvPr/>
        </p:nvSpPr>
        <p:spPr>
          <a:xfrm>
            <a:off x="5058360" y="2673360"/>
            <a:ext cx="18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40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0" descr="песок"/>
          <p:cNvPicPr/>
          <p:nvPr/>
        </p:nvPicPr>
        <p:blipFill>
          <a:blip r:embed="rId5"/>
          <a:srcRect l="0" t="0" r="0" b="863"/>
          <a:stretch/>
        </p:blipFill>
        <p:spPr>
          <a:xfrm>
            <a:off x="3203640" y="3429000"/>
            <a:ext cx="2676600" cy="33591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11"/>
          <p:cNvSpPr/>
          <p:nvPr/>
        </p:nvSpPr>
        <p:spPr>
          <a:xfrm>
            <a:off x="7382880" y="2637000"/>
            <a:ext cx="15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4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198000" y="4365720"/>
            <a:ext cx="87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имнее пальто висело на вешал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15"/>
          <p:cNvSpPr/>
          <p:nvPr/>
        </p:nvSpPr>
        <p:spPr>
          <a:xfrm>
            <a:off x="2214720" y="4929120"/>
            <a:ext cx="178596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7"/>
          <p:cNvSpPr/>
          <p:nvPr/>
        </p:nvSpPr>
        <p:spPr>
          <a:xfrm>
            <a:off x="2790720" y="42148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211640" y="5013360"/>
            <a:ext cx="1584000" cy="154080"/>
            <a:chOff x="4211640" y="5013360"/>
            <a:chExt cx="1584000" cy="154080"/>
          </a:xfrm>
        </p:grpSpPr>
        <p:sp>
          <p:nvSpPr>
            <p:cNvPr id="516" name=""/>
            <p:cNvSpPr/>
            <p:nvPr/>
          </p:nvSpPr>
          <p:spPr>
            <a:xfrm>
              <a:off x="4225680" y="5013360"/>
              <a:ext cx="156996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11640" y="5166000"/>
              <a:ext cx="15699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718160" y="42210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4941720"/>
            <a:ext cx="1655640" cy="73080"/>
          </a:xfrm>
          <a:custGeom>
            <a:avLst/>
            <a:gdLst/>
            <a:ahLst/>
            <a:rect l="l" t="t" r="r" b="b"/>
            <a:pathLst>
              <a:path w="2540" h="181">
                <a:moveTo>
                  <a:pt x="0" y="181"/>
                </a:moveTo>
                <a:cubicBezTo>
                  <a:pt x="75" y="90"/>
                  <a:pt x="151" y="0"/>
                  <a:pt x="227" y="0"/>
                </a:cubicBezTo>
                <a:cubicBezTo>
                  <a:pt x="303" y="0"/>
                  <a:pt x="371" y="181"/>
                  <a:pt x="454" y="181"/>
                </a:cubicBezTo>
                <a:cubicBezTo>
                  <a:pt x="537" y="181"/>
                  <a:pt x="643" y="0"/>
                  <a:pt x="726" y="0"/>
                </a:cubicBezTo>
                <a:cubicBezTo>
                  <a:pt x="809" y="0"/>
                  <a:pt x="870" y="181"/>
                  <a:pt x="953" y="181"/>
                </a:cubicBezTo>
                <a:cubicBezTo>
                  <a:pt x="1036" y="181"/>
                  <a:pt x="1142" y="0"/>
                  <a:pt x="1225" y="0"/>
                </a:cubicBezTo>
                <a:cubicBezTo>
                  <a:pt x="1308" y="0"/>
                  <a:pt x="1369" y="181"/>
                  <a:pt x="1452" y="181"/>
                </a:cubicBezTo>
                <a:cubicBezTo>
                  <a:pt x="1535" y="181"/>
                  <a:pt x="1649" y="0"/>
                  <a:pt x="1724" y="0"/>
                </a:cubicBezTo>
                <a:cubicBezTo>
                  <a:pt x="1799" y="0"/>
                  <a:pt x="1837" y="181"/>
                  <a:pt x="1905" y="181"/>
                </a:cubicBezTo>
                <a:cubicBezTo>
                  <a:pt x="1973" y="181"/>
                  <a:pt x="2064" y="0"/>
                  <a:pt x="2132" y="0"/>
                </a:cubicBezTo>
                <a:cubicBezTo>
                  <a:pt x="2200" y="0"/>
                  <a:pt x="2245" y="181"/>
                  <a:pt x="2313" y="181"/>
                </a:cubicBezTo>
                <a:cubicBezTo>
                  <a:pt x="2381" y="181"/>
                  <a:pt x="2502" y="30"/>
                  <a:pt x="2540" y="0"/>
                </a:cubicBezTo>
              </a:path>
            </a:pathLst>
          </a:custGeom>
          <a:noFill/>
          <a:ln w="37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51840" y="421488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04000" y="5013360"/>
            <a:ext cx="1944720" cy="0"/>
          </a:xfrm>
          <a:prstGeom prst="line">
            <a:avLst/>
          </a:prstGeom>
          <a:ln w="349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217640" y="421488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37640" y="41432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Пословицы и поговор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Живи для людей, поживут и люди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хал к вам, да заехал к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сть запас, да не пр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му разжуй, да в рот пол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елать не я, работать не я, а есть кисель нет против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185040" y="6093000"/>
            <a:ext cx="80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Выпиши местоимения, определи лицо и паде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9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90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9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90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9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9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00b8"/>
                </a:solidFill>
                <a:latin typeface="Arial"/>
              </a:rPr>
              <a:t>Провер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еб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вам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нам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 вас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му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 мен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60000" y="138420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л.,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40000" y="206064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л., 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411280" y="263700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л., 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680560" y="32036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л., 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71480" y="378000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л., 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640" y="4365720"/>
            <a:ext cx="17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л., 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59840" y="50036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л., 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f62c"/>
                </a:solidFill>
                <a:latin typeface="Arial"/>
              </a:rPr>
              <a:t>Исправьте ошиб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Вася и Миша приехали в село. Перед ими большой  пруд. В нём водятся карпы. Мальчики решили порыбачить. У их были удочки и наживка. Ребята поймали много карпов. К им прибежал кот Мурзик. У его хитрые гла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Провер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250920" y="134136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Вася и Миша приехали в село. Перед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ними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 большой  пруд. В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нём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 водятся карпы. Мальчики решили порыбачить. У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них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 были удочки и наживка. Ребята поймали много карпов. К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ним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 прибежал кот Мур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зик. У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него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 хитрые гла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733680" y="5724360"/>
            <a:ext cx="65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7fbd"/>
                </a:solidFill>
                <a:latin typeface="Arial"/>
              </a:rPr>
              <a:t>Определи падеж местои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2269800" y="177336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fbd"/>
                </a:solidFill>
                <a:latin typeface="Arial"/>
              </a:rPr>
              <a:t>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7453080" y="1700280"/>
            <a:ext cx="6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fbd"/>
                </a:solidFill>
                <a:latin typeface="Arial"/>
              </a:rPr>
              <a:t>П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4142160" y="285264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fbd"/>
                </a:solidFill>
                <a:latin typeface="Arial"/>
              </a:rPr>
              <a:t>Р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2772720" y="393372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fbd"/>
                </a:solidFill>
                <a:latin typeface="Arial"/>
              </a:rPr>
              <a:t>Д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2052720" y="450864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fbd"/>
                </a:solidFill>
                <a:latin typeface="Arial"/>
              </a:rPr>
              <a:t>Р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00b8"/>
                </a:solidFill>
                <a:latin typeface="Arial"/>
              </a:rPr>
              <a:t>Вставьте местоимения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79280" y="2637000"/>
          <a:ext cx="1728720" cy="517320"/>
        </p:xfrm>
        <a:graphic>
          <a:graphicData uri="http://schemas.openxmlformats.org/drawingml/2006/table">
            <a:tbl>
              <a:tblPr/>
              <a:tblGrid>
                <a:gridCol w="641520"/>
                <a:gridCol w="51120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908000" y="3141720"/>
          <a:ext cx="1727280" cy="517320"/>
        </p:xfrm>
        <a:graphic>
          <a:graphicData uri="http://schemas.openxmlformats.org/drawingml/2006/table">
            <a:tbl>
              <a:tblPr/>
              <a:tblGrid>
                <a:gridCol w="57636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3635280" y="2624040"/>
          <a:ext cx="1800360" cy="517680"/>
        </p:xfrm>
        <a:graphic>
          <a:graphicData uri="http://schemas.openxmlformats.org/drawingml/2006/table">
            <a:tbl>
              <a:tblPr/>
              <a:tblGrid>
                <a:gridCol w="600120"/>
                <a:gridCol w="600120"/>
                <a:gridCol w="600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435640" y="3141720"/>
          <a:ext cx="1800360" cy="517320"/>
        </p:xfrm>
        <a:graphic>
          <a:graphicData uri="http://schemas.openxmlformats.org/drawingml/2006/table">
            <a:tbl>
              <a:tblPr/>
              <a:tblGrid>
                <a:gridCol w="600120"/>
                <a:gridCol w="600120"/>
                <a:gridCol w="600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7242120" y="2565360"/>
          <a:ext cx="1793880" cy="576360"/>
        </p:xfrm>
        <a:graphic>
          <a:graphicData uri="http://schemas.openxmlformats.org/drawingml/2006/table">
            <a:tbl>
              <a:tblPr/>
              <a:tblGrid>
                <a:gridCol w="596880"/>
                <a:gridCol w="600120"/>
                <a:gridCol w="5968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Text Box 174"/>
          <p:cNvSpPr/>
          <p:nvPr/>
        </p:nvSpPr>
        <p:spPr>
          <a:xfrm>
            <a:off x="447120" y="454968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00b8"/>
                </a:solidFill>
                <a:latin typeface="Arial"/>
              </a:rPr>
              <a:t>1) 1л, мн. ч., Р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82"/>
          <p:cNvSpPr/>
          <p:nvPr/>
        </p:nvSpPr>
        <p:spPr>
          <a:xfrm>
            <a:off x="467640" y="496260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00b8"/>
                </a:solidFill>
                <a:latin typeface="Arial"/>
              </a:rPr>
              <a:t>2) 2 л., мн. ч., Д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83"/>
          <p:cNvSpPr/>
          <p:nvPr/>
        </p:nvSpPr>
        <p:spPr>
          <a:xfrm>
            <a:off x="2051280" y="1268280"/>
            <a:ext cx="15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в  а  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84"/>
          <p:cNvSpPr/>
          <p:nvPr/>
        </p:nvSpPr>
        <p:spPr>
          <a:xfrm>
            <a:off x="467640" y="534204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00b8"/>
                </a:solidFill>
                <a:latin typeface="Arial"/>
              </a:rPr>
              <a:t>3) 2 л., мн ч., Р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85"/>
          <p:cNvSpPr/>
          <p:nvPr/>
        </p:nvSpPr>
        <p:spPr>
          <a:xfrm>
            <a:off x="318456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6"/>
          <p:cNvSpPr/>
          <p:nvPr/>
        </p:nvSpPr>
        <p:spPr>
          <a:xfrm>
            <a:off x="3709440" y="105264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в   а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87"/>
          <p:cNvSpPr/>
          <p:nvPr/>
        </p:nvSpPr>
        <p:spPr>
          <a:xfrm>
            <a:off x="467640" y="5700600"/>
            <a:ext cx="31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00b8"/>
                </a:solidFill>
                <a:latin typeface="Arial"/>
              </a:rPr>
              <a:t>4) 1 л., ед ч., Д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88"/>
          <p:cNvSpPr/>
          <p:nvPr/>
        </p:nvSpPr>
        <p:spPr>
          <a:xfrm>
            <a:off x="5580720" y="82692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м   н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89"/>
          <p:cNvSpPr/>
          <p:nvPr/>
        </p:nvSpPr>
        <p:spPr>
          <a:xfrm>
            <a:off x="438120" y="601812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00b8"/>
                </a:solidFill>
                <a:latin typeface="Arial"/>
              </a:rPr>
              <a:t>5) 3 л., ед ч., 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90"/>
          <p:cNvSpPr/>
          <p:nvPr/>
        </p:nvSpPr>
        <p:spPr>
          <a:xfrm>
            <a:off x="7309080" y="39528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е  м  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3640" y="33336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н   а  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57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592 L -0.00191 0.27382 E">
                                      <p:cBhvr>
                                        <p:cTn id="485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12488 L 0.00139 0.20814 E">
                                      <p:cBhvr>
                                        <p:cTn id="513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541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0.01966 L -0.00486 0.31336 E">
                                      <p:cBhvr>
                                        <p:cTn id="569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844920" y="714240"/>
            <a:ext cx="750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6422"/>
                </a:solidFill>
                <a:latin typeface="Arial"/>
              </a:rPr>
              <a:t>Вставь подходящие по смысл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6422"/>
                </a:solidFill>
                <a:latin typeface="Arial"/>
              </a:rPr>
              <a:t>местоим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071720" y="2928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263700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Деревья в лесу стояли в краси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вом снежном уборе. …были убраны серебристым инеем. На одном из деревьев … увидел птичье гнездо.  …  было засыпано пушистым сн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г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5:28:37Z</dcterms:created>
  <dc:creator>Татьяна</dc:creator>
  <dc:description/>
  <dc:language>en-US</dc:language>
  <cp:lastModifiedBy>Татьяна</cp:lastModifiedBy>
  <dcterms:modified xsi:type="dcterms:W3CDTF">2009-02-24T10:30:38Z</dcterms:modified>
  <cp:revision>14</cp:revision>
  <dc:subject/>
  <dc:title>Русский язык.</dc:title>
</cp:coreProperties>
</file>