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C20C-FC73-46E3-B9A4-7EC74634C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0C7B-DA60-4D35-91AC-E5717ADB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2A010-11D9-43F8-BD66-ECCB04BD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C546C-6B2A-419D-AA8A-07C93267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22D92-EB8D-4947-A4BF-4DE82471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1BCDD-2660-4CFF-9F8A-B1B17C44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AD1CF-0D20-4DBC-A31A-2551F868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48D58-4914-46D1-BB31-6E5B4B5C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1EFF9-F478-4CBE-8F54-240F959B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302D8-981A-4546-8923-1B9A73FA2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A41C3-8F32-4220-AC34-201112E81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46A8-F062-4B36-8351-CDA6A50FB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7CF2-F4F3-4616-9405-729365F89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722A-DB61-4C3C-8A57-C3A51E599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6B35-2B68-4E38-AAAC-3178C1AC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62C9-8C56-4A6F-82EE-7917729E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9719-2E27-4377-9FE5-7CB1DBCE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E0F3-93F4-43FD-AC09-13570F87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3F01-AAC7-479C-8A38-C5F0E89D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5340-913A-4523-B18F-EE124DCB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51C3-10A2-43EE-BDB8-646256D0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3288-52BA-47D9-AFD2-9ADCF77F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6F0B-E1F9-45E5-8860-CF0444F2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3E7E-A0B1-4336-B358-CB2A3A0F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AF52-901E-4031-B255-D4BC992A1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79D9-5413-468E-A1BC-BC4D861D8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E3282-2F65-45B3-A5F5-7C2717A8B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C73F7-4338-4F56-9318-DD7B9ED6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8750E-DF7A-4354-B6C2-91633223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C97F0-52EA-463C-A7D9-3DC3752B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8CEA6-F592-4894-85A8-2602642B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33BA-2871-477E-B200-C92E1E5A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B8B01-4D12-4FCB-9E7E-ED1BC041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3E28C-0CFD-49B8-B370-535E7810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26AE4-0A2C-43CB-A52A-E9C6C790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7E44B-E2F9-42E2-A4E0-21604020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231C2-5CE4-4D3C-A3D6-EC7091BC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B5539-BCF3-4D73-A70D-CC7FB928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2A033-1188-4BE9-B7B3-93D6E6514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93C69-A4E0-44AB-9784-2753DE0D3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C9233-1028-4386-8092-753046B9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A4D64-B2F8-4252-B7BE-DD76FFCB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64FE-4C68-4C85-91EC-BDBA0C1C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2BC74-6DE8-49C3-A48D-ADB8BEFF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85BB9-A2FB-46AE-AC88-3D5C5A00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2DBC9-EFBF-4E1B-B628-C63E53F4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F5059-F986-4761-9F6F-6DDC78E4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B9019-B54C-4445-A028-63A1AD07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CB809-F08D-4447-8ED7-BC100890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BA303-334E-4C25-8763-8FEFAC0F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2C5C8-8390-4FC1-AF1B-3497433A0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6B2E8-8518-4569-AC94-28BC456A5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68A2B-CF92-4509-8D45-0F5030C01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F9B4-E1DC-400E-B745-4DEB3902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EB7E6-59C8-4A49-8273-53E564E2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207F5-D17F-45EA-B701-200115FD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8A15C-58A5-4C00-9DC8-E6E50B3A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E04D3-89F0-4472-ACBF-7E2F3EA7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1C5D9-EB1A-4A19-B6BF-050F7248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D0561-64D5-4042-9903-CCCF79F7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F599E-7D95-4939-80D1-A5387D05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01065-014E-4E93-80AE-9B306798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EC59B-8805-4E17-AC5F-4EA4E127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835E9-92CC-48E2-B366-C5755CD1C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9273-B78E-44CC-AAE8-E19A1079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BAAE4-60DE-48D0-9CBB-090F3F1C7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A3609-7C75-4760-AC62-A8208D22F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8AB52-FEF2-4975-8136-BCB91BCB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A2220-6C9E-4FC5-8C2C-4DF3B11B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E0A17-0460-4E40-AB8E-F95C8D17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39E0F-C3FB-408D-9023-DCEC868C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5A30C-C71B-4489-9CA5-990F800D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82B59-5181-4839-9588-59BA520F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8CE42-7C14-4CC9-93A3-24A439A9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54DBA-CAC5-46CB-A05A-C29B6DD7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0771-0EA1-4DCB-A301-217F9321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9CEAD-EF8B-47FD-80BF-C45B93BC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D7EA5-45F9-4410-9FBA-259509911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426AB-6B51-4E1B-865F-429C77A3D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E1004-580C-40E5-90A8-FF5756264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BBCEB-298A-4192-8EA8-1A9B3797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F11CA-B69D-4CDE-956B-57F511D3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ABB6D-10CA-48BF-A2CF-09AAF6BC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5AA9B-4CE6-4561-9F4F-F434122E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94ABC-C93F-48F3-AF22-FE859E74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EEBFF-103B-406B-989F-8EDBE780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12C2-D297-44F3-BDBC-7202582B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68B85-732D-4DF8-84B3-5443FB80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22926-9087-4F4F-BF92-B942BB48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3E01E-6129-4384-BDC9-575F6FDE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97AC4-A6BC-420D-BCDD-04CF372A2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85AD1-0D28-4C9B-9E38-AE32F6AFF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A7F68-34A6-44B1-B6DA-1CE26F338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9E98C-9BB4-4039-B997-82E7EF7C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C275D-189E-4680-B542-4590C6C1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F98F7-F203-43C5-BDBF-E6F6D446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F64AF-1FFF-4D48-B1B4-A0188404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817D-F37E-4E29-9339-8153E8BF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1ADFD-36C3-4F12-88A2-A274FE7C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04458-A43D-4A1A-B0CF-3A68A1FA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A130D-E394-4CA9-97A2-8F8BE107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6CD48-B1E3-4388-95D2-FB7828EB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8720B-D8A4-4EC1-A8F0-6D610F7F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F6CA3-B45B-4D3B-9BB3-4149A66CC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38047-4B79-4C59-8D6E-D615960B9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9527A0-C414-4BA9-B014-B0F84EB7E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2E172-F364-4D85-8409-8B4D2A53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CC5094-9919-4FBD-A82F-044E0326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66A2-6926-420A-A0DE-B09AD72E0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F4C8-659A-46F8-9461-1574E44F2BF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0180-055D-46EE-A0A2-D60F55A5961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6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37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40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80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90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9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0C36-7712-4799-BB45-736E541D1D1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4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32F5-8EB1-42EA-BE05-09365273815A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9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9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50ED-1249-4FA7-B3F5-3A69BC4A2E6A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6891-21D9-418D-813C-3481B60F6FF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8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7F1A-D7B6-40B7-8425-0F1FB595556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4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6A1D-D9A8-4817-9DBC-54B22D288FE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9900"/>
                </a:solidFill>
                <a:latin typeface="Arial"/>
              </a:rPr>
              <a:t>Русский</a:t>
            </a:r>
            <a:br>
              <a:rPr sz="12900"/>
            </a:br>
            <a:r>
              <a:rPr b="0" lang="en-US" sz="12900" spc="-1" strike="noStrike">
                <a:solidFill>
                  <a:srgbClr val="009900"/>
                </a:solidFill>
                <a:latin typeface="Arial"/>
              </a:rPr>
              <a:t>язык.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00b8"/>
                </a:solidFill>
                <a:latin typeface="Calibri"/>
              </a:rPr>
              <a:t>Проверь</a:t>
            </a: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50560" y="1934640"/>
            <a:ext cx="88930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000b8"/>
                </a:solidFill>
                <a:latin typeface="Arial"/>
              </a:rPr>
              <a:t>      </a:t>
            </a:r>
            <a:r>
              <a:rPr b="1" i="1" lang="ru-RU" sz="3800" spc="-1" strike="noStrike">
                <a:solidFill>
                  <a:srgbClr val="3000b8"/>
                </a:solidFill>
                <a:latin typeface="Arial"/>
              </a:rPr>
              <a:t>Деревья в лесу стояли в краси-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3000b8"/>
                </a:solidFill>
                <a:latin typeface="Arial"/>
              </a:rPr>
              <a:t>вом снежном уборе. </a:t>
            </a:r>
            <a:r>
              <a:rPr b="1" i="1" lang="ru-RU" sz="3800" spc="-1" strike="noStrike">
                <a:solidFill>
                  <a:srgbClr val="00ff00"/>
                </a:solidFill>
                <a:latin typeface="Arial"/>
              </a:rPr>
              <a:t>Они</a:t>
            </a:r>
            <a:r>
              <a:rPr b="1" i="1" lang="ru-RU" sz="3800" spc="-1" strike="noStrike">
                <a:solidFill>
                  <a:srgbClr val="3000b8"/>
                </a:solidFill>
                <a:latin typeface="Arial"/>
              </a:rPr>
              <a:t> были уб-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3000b8"/>
                </a:solidFill>
                <a:latin typeface="Arial"/>
              </a:rPr>
              <a:t>раны серебристым инеем. На од-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3000b8"/>
                </a:solidFill>
                <a:latin typeface="Arial"/>
              </a:rPr>
              <a:t>ном из деревьев </a:t>
            </a:r>
            <a:r>
              <a:rPr b="1" i="1" lang="ru-RU" sz="3800" spc="-1" strike="noStrike">
                <a:solidFill>
                  <a:srgbClr val="00ff00"/>
                </a:solidFill>
                <a:latin typeface="Arial"/>
              </a:rPr>
              <a:t>я</a:t>
            </a:r>
            <a:r>
              <a:rPr b="1" i="1" lang="ru-RU" sz="3800" spc="-1" strike="noStrike">
                <a:solidFill>
                  <a:srgbClr val="3000b8"/>
                </a:solidFill>
                <a:latin typeface="Arial"/>
              </a:rPr>
              <a:t> увидел птичье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3000b8"/>
                </a:solidFill>
                <a:latin typeface="Arial"/>
              </a:rPr>
              <a:t>гнездо.  </a:t>
            </a:r>
            <a:r>
              <a:rPr b="1" i="1" lang="ru-RU" sz="3800" spc="-1" strike="noStrike">
                <a:solidFill>
                  <a:srgbClr val="00ff00"/>
                </a:solidFill>
                <a:latin typeface="Arial"/>
              </a:rPr>
              <a:t>Оно</a:t>
            </a:r>
            <a:r>
              <a:rPr b="1" i="1" lang="ru-RU" sz="3800" spc="-1" strike="noStrike">
                <a:solidFill>
                  <a:srgbClr val="3000b8"/>
                </a:solidFill>
                <a:latin typeface="Arial"/>
              </a:rPr>
              <a:t> было засыпано пу-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3000b8"/>
                </a:solidFill>
                <a:latin typeface="Arial"/>
              </a:rPr>
              <a:t>шистым снегом.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2050920" y="1700280"/>
            <a:ext cx="590580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diamond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395280" y="1989000"/>
            <a:ext cx="820908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втор: Фокина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атьяна Юрьевн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читель высшей категори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У СОШ №1 г. Фрязин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diamond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24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Comic Sans MS"/>
              </a:rPr>
              <a:t>Обобщение знаний о местоимении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amond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Comic Sans MS"/>
              </a:rPr>
              <a:t>Чистописание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Lucida Calligraph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Lucida Calligraphy"/>
              </a:rPr>
              <a:t>Пп   па   пр    ап   пе   п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4" name="Picture 4" descr="пальто"/>
          <p:cNvPicPr/>
          <p:nvPr/>
        </p:nvPicPr>
        <p:blipFill>
          <a:blip r:embed="rId2"/>
          <a:srcRect l="1679" t="2631" r="0" b="1562"/>
          <a:stretch/>
        </p:blipFill>
        <p:spPr>
          <a:xfrm>
            <a:off x="2655720" y="2536920"/>
            <a:ext cx="3429000" cy="432108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5"/>
          <p:cNvSpPr/>
          <p:nvPr/>
        </p:nvSpPr>
        <p:spPr>
          <a:xfrm>
            <a:off x="379080" y="2673360"/>
            <a:ext cx="199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i="1" lang="en-US" sz="4000" spc="-1" strike="noStrike">
                <a:solidFill>
                  <a:srgbClr val="009900"/>
                </a:solidFill>
                <a:latin typeface="Arial"/>
              </a:rPr>
              <a:t>а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ль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6" descr="пенал"/>
          <p:cNvPicPr/>
          <p:nvPr/>
        </p:nvPicPr>
        <p:blipFill>
          <a:blip r:embed="rId3"/>
          <a:stretch/>
        </p:blipFill>
        <p:spPr>
          <a:xfrm>
            <a:off x="1908000" y="3284640"/>
            <a:ext cx="5112000" cy="3573360"/>
          </a:xfrm>
          <a:prstGeom prst="rect">
            <a:avLst/>
          </a:prstGeom>
          <a:ln w="0">
            <a:noFill/>
          </a:ln>
        </p:spPr>
      </p:pic>
      <p:sp>
        <p:nvSpPr>
          <p:cNvPr id="507" name="Text Box 7"/>
          <p:cNvSpPr/>
          <p:nvPr/>
        </p:nvSpPr>
        <p:spPr>
          <a:xfrm>
            <a:off x="2629440" y="2708280"/>
            <a:ext cx="158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i="1" lang="en-US" sz="4000" spc="-1" strike="noStrike">
                <a:solidFill>
                  <a:srgbClr val="009900"/>
                </a:solidFill>
                <a:latin typeface="Arial"/>
              </a:rPr>
              <a:t>е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н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8" descr="посуда"/>
          <p:cNvPicPr/>
          <p:nvPr/>
        </p:nvPicPr>
        <p:blipFill>
          <a:blip r:embed="rId4"/>
          <a:stretch/>
        </p:blipFill>
        <p:spPr>
          <a:xfrm>
            <a:off x="1990800" y="3340080"/>
            <a:ext cx="5029200" cy="351792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9"/>
          <p:cNvSpPr/>
          <p:nvPr/>
        </p:nvSpPr>
        <p:spPr>
          <a:xfrm>
            <a:off x="5058360" y="2673360"/>
            <a:ext cx="181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i="1" lang="en-US" sz="4000" spc="-1" strike="noStrike">
                <a:solidFill>
                  <a:srgbClr val="009900"/>
                </a:solidFill>
                <a:latin typeface="Arial"/>
              </a:rPr>
              <a:t>о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су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10" descr="песок"/>
          <p:cNvPicPr/>
          <p:nvPr/>
        </p:nvPicPr>
        <p:blipFill>
          <a:blip r:embed="rId5"/>
          <a:srcRect l="0" t="0" r="0" b="863"/>
          <a:stretch/>
        </p:blipFill>
        <p:spPr>
          <a:xfrm>
            <a:off x="3203640" y="3429000"/>
            <a:ext cx="2676600" cy="335916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11"/>
          <p:cNvSpPr/>
          <p:nvPr/>
        </p:nvSpPr>
        <p:spPr>
          <a:xfrm>
            <a:off x="7382880" y="2637000"/>
            <a:ext cx="151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i="1" lang="en-US" sz="4000" spc="-1" strike="noStrike">
                <a:solidFill>
                  <a:srgbClr val="009900"/>
                </a:solidFill>
                <a:latin typeface="Arial"/>
              </a:rPr>
              <a:t>е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с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2"/>
          <p:cNvSpPr/>
          <p:nvPr/>
        </p:nvSpPr>
        <p:spPr>
          <a:xfrm>
            <a:off x="198000" y="4365720"/>
            <a:ext cx="876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Зимнее пальто висело на вешал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ая соединительная линия 15"/>
          <p:cNvSpPr/>
          <p:nvPr/>
        </p:nvSpPr>
        <p:spPr>
          <a:xfrm>
            <a:off x="2214720" y="4929120"/>
            <a:ext cx="1785960" cy="18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17"/>
          <p:cNvSpPr/>
          <p:nvPr/>
        </p:nvSpPr>
        <p:spPr>
          <a:xfrm>
            <a:off x="2790720" y="421488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4211640" y="5013360"/>
            <a:ext cx="1584000" cy="154080"/>
            <a:chOff x="4211640" y="5013360"/>
            <a:chExt cx="1584000" cy="154080"/>
          </a:xfrm>
        </p:grpSpPr>
        <p:sp>
          <p:nvSpPr>
            <p:cNvPr id="516" name=""/>
            <p:cNvSpPr/>
            <p:nvPr/>
          </p:nvSpPr>
          <p:spPr>
            <a:xfrm>
              <a:off x="4225680" y="5013360"/>
              <a:ext cx="156996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211640" y="5166000"/>
              <a:ext cx="156996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4718160" y="422100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г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95280" y="4941720"/>
            <a:ext cx="1655640" cy="73080"/>
          </a:xfrm>
          <a:custGeom>
            <a:avLst/>
            <a:gdLst/>
            <a:ahLst/>
            <a:rect l="l" t="t" r="r" b="b"/>
            <a:pathLst>
              <a:path w="2540" h="181">
                <a:moveTo>
                  <a:pt x="0" y="181"/>
                </a:moveTo>
                <a:cubicBezTo>
                  <a:pt x="75" y="90"/>
                  <a:pt x="151" y="0"/>
                  <a:pt x="227" y="0"/>
                </a:cubicBezTo>
                <a:cubicBezTo>
                  <a:pt x="303" y="0"/>
                  <a:pt x="371" y="181"/>
                  <a:pt x="454" y="181"/>
                </a:cubicBezTo>
                <a:cubicBezTo>
                  <a:pt x="537" y="181"/>
                  <a:pt x="643" y="0"/>
                  <a:pt x="726" y="0"/>
                </a:cubicBezTo>
                <a:cubicBezTo>
                  <a:pt x="809" y="0"/>
                  <a:pt x="870" y="181"/>
                  <a:pt x="953" y="181"/>
                </a:cubicBezTo>
                <a:cubicBezTo>
                  <a:pt x="1036" y="181"/>
                  <a:pt x="1142" y="0"/>
                  <a:pt x="1225" y="0"/>
                </a:cubicBezTo>
                <a:cubicBezTo>
                  <a:pt x="1308" y="0"/>
                  <a:pt x="1369" y="181"/>
                  <a:pt x="1452" y="181"/>
                </a:cubicBezTo>
                <a:cubicBezTo>
                  <a:pt x="1535" y="181"/>
                  <a:pt x="1649" y="0"/>
                  <a:pt x="1724" y="0"/>
                </a:cubicBezTo>
                <a:cubicBezTo>
                  <a:pt x="1799" y="0"/>
                  <a:pt x="1837" y="181"/>
                  <a:pt x="1905" y="181"/>
                </a:cubicBezTo>
                <a:cubicBezTo>
                  <a:pt x="1973" y="181"/>
                  <a:pt x="2064" y="0"/>
                  <a:pt x="2132" y="0"/>
                </a:cubicBezTo>
                <a:cubicBezTo>
                  <a:pt x="2200" y="0"/>
                  <a:pt x="2245" y="181"/>
                  <a:pt x="2313" y="181"/>
                </a:cubicBezTo>
                <a:cubicBezTo>
                  <a:pt x="2381" y="181"/>
                  <a:pt x="2502" y="30"/>
                  <a:pt x="2540" y="0"/>
                </a:cubicBezTo>
              </a:path>
            </a:pathLst>
          </a:custGeom>
          <a:noFill/>
          <a:ln w="378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51840" y="4214880"/>
            <a:ext cx="87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и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804000" y="5013360"/>
            <a:ext cx="1944720" cy="0"/>
          </a:xfrm>
          <a:prstGeom prst="line">
            <a:avLst/>
          </a:prstGeom>
          <a:ln w="3492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217640" y="4214880"/>
            <a:ext cx="67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137640" y="4143240"/>
            <a:ext cx="4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Пословицы и поговор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Живи для людей, поживут и люди дл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Ехал к вам, да заехал к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Есть запас, да не про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Ему разжуй, да в рот полож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Делать не я, работать не я, а есть кисель нет против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185040" y="6093000"/>
            <a:ext cx="80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Выпиши местоимения, определи лицо и паде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900"/>
                            </p:stCondLst>
                            <p:childTnLst>
                              <p:par>
                                <p:cTn id="1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900"/>
                            </p:stCondLst>
                            <p:childTnLst>
                              <p:par>
                                <p:cTn id="1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900"/>
                            </p:stCondLst>
                            <p:childTnLst>
                              <p:par>
                                <p:cTn id="1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900"/>
                            </p:stCondLst>
                            <p:childTnLst>
                              <p:par>
                                <p:cTn id="1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900"/>
                            </p:stCondLst>
                            <p:childTnLst>
                              <p:par>
                                <p:cTn id="1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79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00b8"/>
                </a:solidFill>
                <a:latin typeface="Arial"/>
              </a:rPr>
              <a:t>Провер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тебя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 вам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 нам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 вас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му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тив меня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060000" y="1384200"/>
            <a:ext cx="15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л.,Р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340000" y="2060640"/>
            <a:ext cx="170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л., Д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411280" y="2637000"/>
            <a:ext cx="170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л., Д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680560" y="320364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л., В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671480" y="3780000"/>
            <a:ext cx="170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л., Д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403640" y="4365720"/>
            <a:ext cx="172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л., И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759840" y="500364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л., Р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4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f62c"/>
                </a:solidFill>
                <a:latin typeface="Arial"/>
              </a:rPr>
              <a:t>Исправьте ошиб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3600" spc="-1" strike="noStrike">
                <a:solidFill>
                  <a:srgbClr val="3000b8"/>
                </a:solidFill>
                <a:latin typeface="Arial"/>
              </a:rPr>
              <a:t>Вася и Миша приехали в село. Перед ими большой  пруд. В нём водятся карпы. Мальчики решили порыбачить. У их были удочки и наживка. Ребята поймали много карпов. К им прибежал кот Мурзик. У его хитрые глаз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Провер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250920" y="1341360"/>
            <a:ext cx="856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3000b8"/>
                </a:solidFill>
                <a:latin typeface="Arial"/>
              </a:rPr>
              <a:t>Вася и Миша приехали в село. Перед </a:t>
            </a:r>
            <a:r>
              <a:rPr b="1" i="1" lang="ru-RU" sz="3600" spc="-1" strike="noStrike">
                <a:solidFill>
                  <a:srgbClr val="009900"/>
                </a:solidFill>
                <a:latin typeface="Arial"/>
              </a:rPr>
              <a:t>ними</a:t>
            </a:r>
            <a:r>
              <a:rPr b="1" i="1" lang="ru-RU" sz="3600" spc="-1" strike="noStrike">
                <a:solidFill>
                  <a:srgbClr val="3000b8"/>
                </a:solidFill>
                <a:latin typeface="Arial"/>
              </a:rPr>
              <a:t> большой  пруд. В </a:t>
            </a:r>
            <a:r>
              <a:rPr b="1" i="1" lang="ru-RU" sz="3600" spc="-1" strike="noStrike">
                <a:solidFill>
                  <a:srgbClr val="009900"/>
                </a:solidFill>
                <a:latin typeface="Arial"/>
              </a:rPr>
              <a:t>нём</a:t>
            </a:r>
            <a:r>
              <a:rPr b="1" i="1" lang="ru-RU" sz="3600" spc="-1" strike="noStrike">
                <a:solidFill>
                  <a:srgbClr val="3000b8"/>
                </a:solidFill>
                <a:latin typeface="Arial"/>
              </a:rPr>
              <a:t> водятся карпы. Мальчики решили порыбачить. У </a:t>
            </a:r>
            <a:r>
              <a:rPr b="1" i="1" lang="ru-RU" sz="3600" spc="-1" strike="noStrike">
                <a:solidFill>
                  <a:srgbClr val="009900"/>
                </a:solidFill>
                <a:latin typeface="Arial"/>
              </a:rPr>
              <a:t>них</a:t>
            </a:r>
            <a:r>
              <a:rPr b="1" i="1" lang="ru-RU" sz="3600" spc="-1" strike="noStrike">
                <a:solidFill>
                  <a:srgbClr val="3000b8"/>
                </a:solidFill>
                <a:latin typeface="Arial"/>
              </a:rPr>
              <a:t> были удочки и наживка. Ребята поймали много карпов. К </a:t>
            </a:r>
            <a:r>
              <a:rPr b="1" i="1" lang="ru-RU" sz="3600" spc="-1" strike="noStrike">
                <a:solidFill>
                  <a:srgbClr val="009900"/>
                </a:solidFill>
                <a:latin typeface="Arial"/>
              </a:rPr>
              <a:t>ним</a:t>
            </a:r>
            <a:r>
              <a:rPr b="1" i="1" lang="ru-RU" sz="3600" spc="-1" strike="noStrike">
                <a:solidFill>
                  <a:srgbClr val="3000b8"/>
                </a:solidFill>
                <a:latin typeface="Arial"/>
              </a:rPr>
              <a:t> прибежал кот Мур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000b8"/>
                </a:solidFill>
                <a:latin typeface="Arial"/>
              </a:rPr>
              <a:t>зик. У </a:t>
            </a:r>
            <a:r>
              <a:rPr b="1" i="1" lang="ru-RU" sz="3600" spc="-1" strike="noStrike">
                <a:solidFill>
                  <a:srgbClr val="009900"/>
                </a:solidFill>
                <a:latin typeface="Arial"/>
              </a:rPr>
              <a:t>него</a:t>
            </a:r>
            <a:r>
              <a:rPr b="1" i="1" lang="ru-RU" sz="3600" spc="-1" strike="noStrike">
                <a:solidFill>
                  <a:srgbClr val="3000b8"/>
                </a:solidFill>
                <a:latin typeface="Arial"/>
              </a:rPr>
              <a:t> хитрые глаз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5"/>
          <p:cNvSpPr/>
          <p:nvPr/>
        </p:nvSpPr>
        <p:spPr>
          <a:xfrm>
            <a:off x="733680" y="5724360"/>
            <a:ext cx="651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37fbd"/>
                </a:solidFill>
                <a:latin typeface="Arial"/>
              </a:rPr>
              <a:t>Определи падеж местоим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6"/>
          <p:cNvSpPr/>
          <p:nvPr/>
        </p:nvSpPr>
        <p:spPr>
          <a:xfrm>
            <a:off x="2269800" y="1773360"/>
            <a:ext cx="6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7fbd"/>
                </a:solidFill>
                <a:latin typeface="Arial"/>
              </a:rPr>
              <a:t>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7"/>
          <p:cNvSpPr/>
          <p:nvPr/>
        </p:nvSpPr>
        <p:spPr>
          <a:xfrm>
            <a:off x="7453080" y="1700280"/>
            <a:ext cx="6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7fbd"/>
                </a:solidFill>
                <a:latin typeface="Arial"/>
              </a:rPr>
              <a:t>П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8"/>
          <p:cNvSpPr/>
          <p:nvPr/>
        </p:nvSpPr>
        <p:spPr>
          <a:xfrm>
            <a:off x="4142160" y="2852640"/>
            <a:ext cx="6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7fbd"/>
                </a:solidFill>
                <a:latin typeface="Arial"/>
              </a:rPr>
              <a:t>Р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9"/>
          <p:cNvSpPr/>
          <p:nvPr/>
        </p:nvSpPr>
        <p:spPr>
          <a:xfrm>
            <a:off x="2772720" y="3933720"/>
            <a:ext cx="65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7fbd"/>
                </a:solidFill>
                <a:latin typeface="Arial"/>
              </a:rPr>
              <a:t>Д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0"/>
          <p:cNvSpPr/>
          <p:nvPr/>
        </p:nvSpPr>
        <p:spPr>
          <a:xfrm>
            <a:off x="2052720" y="4508640"/>
            <a:ext cx="6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7fbd"/>
                </a:solidFill>
                <a:latin typeface="Arial"/>
              </a:rPr>
              <a:t>Р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000b8"/>
                </a:solidFill>
                <a:latin typeface="Arial"/>
              </a:rPr>
              <a:t>Вставьте местоимения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179280" y="2637000"/>
          <a:ext cx="1728720" cy="517320"/>
        </p:xfrm>
        <a:graphic>
          <a:graphicData uri="http://schemas.openxmlformats.org/drawingml/2006/table">
            <a:tbl>
              <a:tblPr/>
              <a:tblGrid>
                <a:gridCol w="641520"/>
                <a:gridCol w="511200"/>
                <a:gridCol w="57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1908000" y="3141720"/>
          <a:ext cx="1727280" cy="517320"/>
        </p:xfrm>
        <a:graphic>
          <a:graphicData uri="http://schemas.openxmlformats.org/drawingml/2006/table">
            <a:tbl>
              <a:tblPr/>
              <a:tblGrid>
                <a:gridCol w="576360"/>
                <a:gridCol w="574920"/>
                <a:gridCol w="57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9" name=""/>
          <p:cNvGraphicFramePr/>
          <p:nvPr/>
        </p:nvGraphicFramePr>
        <p:xfrm>
          <a:off x="3635280" y="2624040"/>
          <a:ext cx="1800360" cy="517680"/>
        </p:xfrm>
        <a:graphic>
          <a:graphicData uri="http://schemas.openxmlformats.org/drawingml/2006/table">
            <a:tbl>
              <a:tblPr/>
              <a:tblGrid>
                <a:gridCol w="600120"/>
                <a:gridCol w="600120"/>
                <a:gridCol w="600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5435640" y="3141720"/>
          <a:ext cx="1800360" cy="517320"/>
        </p:xfrm>
        <a:graphic>
          <a:graphicData uri="http://schemas.openxmlformats.org/drawingml/2006/table">
            <a:tbl>
              <a:tblPr/>
              <a:tblGrid>
                <a:gridCol w="600120"/>
                <a:gridCol w="600120"/>
                <a:gridCol w="600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1" name=""/>
          <p:cNvGraphicFramePr/>
          <p:nvPr/>
        </p:nvGraphicFramePr>
        <p:xfrm>
          <a:off x="7242120" y="2565360"/>
          <a:ext cx="1793880" cy="576360"/>
        </p:xfrm>
        <a:graphic>
          <a:graphicData uri="http://schemas.openxmlformats.org/drawingml/2006/table">
            <a:tbl>
              <a:tblPr/>
              <a:tblGrid>
                <a:gridCol w="596880"/>
                <a:gridCol w="600120"/>
                <a:gridCol w="59688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2" name="Text Box 174"/>
          <p:cNvSpPr/>
          <p:nvPr/>
        </p:nvSpPr>
        <p:spPr>
          <a:xfrm>
            <a:off x="447120" y="4549680"/>
            <a:ext cx="30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00b8"/>
                </a:solidFill>
                <a:latin typeface="Arial"/>
              </a:rPr>
              <a:t>1) 1л, мн. ч., Р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82"/>
          <p:cNvSpPr/>
          <p:nvPr/>
        </p:nvSpPr>
        <p:spPr>
          <a:xfrm>
            <a:off x="467640" y="4962600"/>
            <a:ext cx="32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00b8"/>
                </a:solidFill>
                <a:latin typeface="Arial"/>
              </a:rPr>
              <a:t>2) 2 л., мн. ч., Д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83"/>
          <p:cNvSpPr/>
          <p:nvPr/>
        </p:nvSpPr>
        <p:spPr>
          <a:xfrm>
            <a:off x="2051280" y="1268280"/>
            <a:ext cx="152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в  а  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84"/>
          <p:cNvSpPr/>
          <p:nvPr/>
        </p:nvSpPr>
        <p:spPr>
          <a:xfrm>
            <a:off x="467640" y="5342040"/>
            <a:ext cx="31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00b8"/>
                </a:solidFill>
                <a:latin typeface="Arial"/>
              </a:rPr>
              <a:t>3) 2 л., мн ч., Р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85"/>
          <p:cNvSpPr/>
          <p:nvPr/>
        </p:nvSpPr>
        <p:spPr>
          <a:xfrm>
            <a:off x="3184560" y="114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86"/>
          <p:cNvSpPr/>
          <p:nvPr/>
        </p:nvSpPr>
        <p:spPr>
          <a:xfrm>
            <a:off x="3709440" y="105264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в   а  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87"/>
          <p:cNvSpPr/>
          <p:nvPr/>
        </p:nvSpPr>
        <p:spPr>
          <a:xfrm>
            <a:off x="467640" y="5700600"/>
            <a:ext cx="31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00b8"/>
                </a:solidFill>
                <a:latin typeface="Arial"/>
              </a:rPr>
              <a:t>4) 1 л., ед ч., Д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88"/>
          <p:cNvSpPr/>
          <p:nvPr/>
        </p:nvSpPr>
        <p:spPr>
          <a:xfrm>
            <a:off x="5580720" y="826920"/>
            <a:ext cx="151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м   н  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89"/>
          <p:cNvSpPr/>
          <p:nvPr/>
        </p:nvSpPr>
        <p:spPr>
          <a:xfrm>
            <a:off x="438120" y="601812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000b8"/>
                </a:solidFill>
                <a:latin typeface="Arial"/>
              </a:rPr>
              <a:t>5) 3 л., ед ч., Д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90"/>
          <p:cNvSpPr/>
          <p:nvPr/>
        </p:nvSpPr>
        <p:spPr>
          <a:xfrm>
            <a:off x="7309080" y="395280"/>
            <a:ext cx="149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е  м   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23640" y="333360"/>
            <a:ext cx="13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н   а  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9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457" dur="2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000"/>
                            </p:stCondLst>
                            <p:childTnLst>
                              <p:par>
                                <p:cTn id="48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-0.0592 L -0.00191 0.27382 E">
                                      <p:cBhvr>
                                        <p:cTn id="485" dur="2000" fill="hold"/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12488 L 0.00139 0.20814 E">
                                      <p:cBhvr>
                                        <p:cTn id="513" dur="2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2000"/>
                            </p:stCondLst>
                            <p:childTnLst>
                              <p:par>
                                <p:cTn id="54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541" dur="20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86 -0.01966 L -0.00486 0.31336 E">
                                      <p:cBhvr>
                                        <p:cTn id="569" dur="2000" fill="hold"/>
                                        <p:tgtEl>
                                          <p:spTgt spid="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Box 3"/>
          <p:cNvSpPr/>
          <p:nvPr/>
        </p:nvSpPr>
        <p:spPr>
          <a:xfrm>
            <a:off x="844920" y="714240"/>
            <a:ext cx="750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6422"/>
                </a:solidFill>
                <a:latin typeface="Arial"/>
              </a:rPr>
              <a:t>Вставь подходящие по смысл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6422"/>
                </a:solidFill>
                <a:latin typeface="Arial"/>
              </a:rPr>
              <a:t>местоим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4"/>
          <p:cNvSpPr/>
          <p:nvPr/>
        </p:nvSpPr>
        <p:spPr>
          <a:xfrm>
            <a:off x="1071720" y="29289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2637000"/>
            <a:ext cx="87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3600" spc="-1" strike="noStrike">
                <a:solidFill>
                  <a:srgbClr val="3000b8"/>
                </a:solidFill>
                <a:latin typeface="Arial"/>
              </a:rPr>
              <a:t>Деревья в лесу стояли в краси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000b8"/>
                </a:solidFill>
                <a:latin typeface="Arial"/>
              </a:rPr>
              <a:t>вом снежном уборе. …были убраны серебристым инеем. На одном из деревьев … увидел птичье гнездо.  …  было засыпано пушистым сне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000b8"/>
                </a:solidFill>
                <a:latin typeface="Arial"/>
              </a:rPr>
              <a:t>г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6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0T05:28:37Z</dcterms:created>
  <dc:creator>Татьяна</dc:creator>
  <dc:description/>
  <dc:language>en-US</dc:language>
  <cp:lastModifiedBy>Татьяна</cp:lastModifiedBy>
  <dcterms:modified xsi:type="dcterms:W3CDTF">2009-02-24T10:30:38Z</dcterms:modified>
  <cp:revision>14</cp:revision>
  <dc:subject/>
  <dc:title>Русский язык.</dc:title>
</cp:coreProperties>
</file>