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8F8-38C2-40F9-8DF6-D3603516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ACA-22AB-4B22-85B1-AFC255A5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D97-685B-4D3D-A66C-CC6949A0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EC5-1790-4705-B285-F7731727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6358-2265-4187-AE26-7B848956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6C7C-63E2-49A7-AF87-AC2766CE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C081-1875-45EF-8BD6-5CC58F44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28D-E407-4F7B-952D-44E347BF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A5B-5171-4F59-8A41-0841FBCB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14CD-273D-42DE-9447-090F82CE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B9F7-37B6-4A04-A755-22F012E8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C235-36C1-41DA-AF7E-4CB8F9D9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1BC0-EDAB-42FC-8030-A8C707072CC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1"/>
          <a:stretch/>
        </p:blipFill>
        <p:spPr>
          <a:xfrm>
            <a:off x="317520" y="1116000"/>
            <a:ext cx="818028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357120" y="428760"/>
            <a:ext cx="8786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1 . </a:t>
            </a: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лотное образование, ограничивает клетку, определяет её фор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цитопл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ваку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ласт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Мельчайшие отверстия в оболочке клетки, через которые осуществляется обмен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ваку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ласт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хлор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хром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лейк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357120" y="35712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3.          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Небольшое плотное тель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цитопл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я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ласт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олость, заполненная клеточным со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ваку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хром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цитопл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лейк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500120" y="642960"/>
            <a:ext cx="74296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Зеленые пласт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лейк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хром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хлор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ваку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я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6.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Оранжево-красные пласт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лейк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хром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хлор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ваку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я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357120" y="571680"/>
            <a:ext cx="8501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7.       Бесцветные пласт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лейк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ваку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хром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8.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Бесцветное вязкое вещество, заполняющее кле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цитопл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ласт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ваку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я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18630" t="15685" r="21571" b="7186"/>
          <a:stretch/>
        </p:blipFill>
        <p:spPr>
          <a:xfrm>
            <a:off x="1857240" y="785880"/>
            <a:ext cx="4357800" cy="42148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6046920" y="3889440"/>
            <a:ext cx="1854000" cy="6462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3"/>
          <a:stretch/>
        </p:blipFill>
        <p:spPr>
          <a:xfrm>
            <a:off x="-79200" y="1816200"/>
            <a:ext cx="2189160" cy="6458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5" descr=""/>
          <p:cNvPicPr/>
          <p:nvPr/>
        </p:nvPicPr>
        <p:blipFill>
          <a:blip r:embed="rId4"/>
          <a:stretch/>
        </p:blipFill>
        <p:spPr>
          <a:xfrm>
            <a:off x="268200" y="3103560"/>
            <a:ext cx="163980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6" descr=""/>
          <p:cNvPicPr/>
          <p:nvPr/>
        </p:nvPicPr>
        <p:blipFill>
          <a:blip r:embed="rId5"/>
          <a:stretch/>
        </p:blipFill>
        <p:spPr>
          <a:xfrm>
            <a:off x="6114960" y="2030400"/>
            <a:ext cx="309564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7" descr=""/>
          <p:cNvPicPr/>
          <p:nvPr/>
        </p:nvPicPr>
        <p:blipFill>
          <a:blip r:embed="rId6"/>
          <a:stretch/>
        </p:blipFill>
        <p:spPr>
          <a:xfrm>
            <a:off x="1414440" y="4956120"/>
            <a:ext cx="2451240" cy="6462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8" descr=""/>
          <p:cNvPicPr/>
          <p:nvPr/>
        </p:nvPicPr>
        <p:blipFill>
          <a:blip r:embed="rId7"/>
          <a:stretch/>
        </p:blipFill>
        <p:spPr>
          <a:xfrm>
            <a:off x="554040" y="-171360"/>
            <a:ext cx="7993080" cy="1457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rcRect l="39140" t="33781" r="38570" b="44453"/>
          <a:stretch/>
        </p:blipFill>
        <p:spPr>
          <a:xfrm>
            <a:off x="5357880" y="2143080"/>
            <a:ext cx="3566880" cy="27860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2395440" y="189000"/>
            <a:ext cx="4164120" cy="1457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8"/>
          <p:cNvSpPr/>
          <p:nvPr/>
        </p:nvSpPr>
        <p:spPr>
          <a:xfrm>
            <a:off x="357120" y="1714680"/>
            <a:ext cx="4786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Прочная, бесцветная, прозрачная, легко пропускает свет внутрь кле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Придает клетке определенную форму, защищает ее содержимо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rcRect l="41026" t="33371" r="40870" b="34944"/>
          <a:stretch/>
        </p:blipFill>
        <p:spPr>
          <a:xfrm>
            <a:off x="285840" y="1571760"/>
            <a:ext cx="2857320" cy="40003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6" descr=""/>
          <p:cNvPicPr/>
          <p:nvPr/>
        </p:nvPicPr>
        <p:blipFill>
          <a:blip r:embed="rId2"/>
          <a:stretch/>
        </p:blipFill>
        <p:spPr>
          <a:xfrm>
            <a:off x="2541600" y="255600"/>
            <a:ext cx="4962600" cy="1457280"/>
          </a:xfrm>
          <a:prstGeom prst="rect">
            <a:avLst/>
          </a:prstGeom>
          <a:ln w="0">
            <a:noFill/>
          </a:ln>
        </p:spPr>
      </p:pic>
      <p:sp>
        <p:nvSpPr>
          <p:cNvPr id="54" name="TextBox 8"/>
          <p:cNvSpPr/>
          <p:nvPr/>
        </p:nvSpPr>
        <p:spPr>
          <a:xfrm>
            <a:off x="3214800" y="1928880"/>
            <a:ext cx="564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Бесцветное густое, тягучее обра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Цитоплазма – внутренняя среда, в которой располагаются все другие части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В ней протекают различные биохимические процессы, обеспечивающие жизнедеятельность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Она постоянна движется по всему объему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rcRect l="39833" t="33161" r="38086" b="33984"/>
          <a:stretch/>
        </p:blipFill>
        <p:spPr>
          <a:xfrm>
            <a:off x="6429240" y="2071800"/>
            <a:ext cx="2519640" cy="30002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6" descr=""/>
          <p:cNvPicPr/>
          <p:nvPr/>
        </p:nvPicPr>
        <p:blipFill>
          <a:blip r:embed="rId2"/>
          <a:stretch/>
        </p:blipFill>
        <p:spPr>
          <a:xfrm>
            <a:off x="2755800" y="-30240"/>
            <a:ext cx="3681360" cy="1457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214200" y="1571760"/>
            <a:ext cx="6000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олости в цитоплаз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Вакуоль – резервуар в котором содержится клеточный сок, накапливаются запасные питательные вещества и ненужные клетки продукты жизне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Клеточный сок – жидкость с растворенными в ней сахарами, минеральными со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С увеличением размеров вакуоли увеличивается и размер клетки, она рас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rcRect l="40701" t="34623" r="40217" b="36543"/>
          <a:stretch/>
        </p:blipFill>
        <p:spPr>
          <a:xfrm>
            <a:off x="285840" y="1571760"/>
            <a:ext cx="3071880" cy="37144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2"/>
          <a:stretch/>
        </p:blipFill>
        <p:spPr>
          <a:xfrm>
            <a:off x="1047600" y="-30240"/>
            <a:ext cx="7048800" cy="1457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3643200" y="2000160"/>
            <a:ext cx="5214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Ядро с ядрышком располагаются в центре или вдоль оболочки кле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Ядро всегда окружено цитоплазмой.  Оно несет в себе наследственную информацию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Ядро – центр жизнедеятельности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rcRect l="40855" t="42903" r="37994" b="42467"/>
          <a:stretch/>
        </p:blipFill>
        <p:spPr>
          <a:xfrm>
            <a:off x="5500800" y="3786120"/>
            <a:ext cx="2968560" cy="16430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6" descr=""/>
          <p:cNvPicPr/>
          <p:nvPr/>
        </p:nvPicPr>
        <p:blipFill>
          <a:blip r:embed="rId2"/>
          <a:stretch/>
        </p:blipFill>
        <p:spPr>
          <a:xfrm>
            <a:off x="1689120" y="2255760"/>
            <a:ext cx="5522760" cy="145728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9" descr=""/>
          <p:cNvPicPr/>
          <p:nvPr/>
        </p:nvPicPr>
        <p:blipFill>
          <a:blip r:embed="rId3"/>
          <a:stretch/>
        </p:blipFill>
        <p:spPr>
          <a:xfrm>
            <a:off x="1901880" y="115920"/>
            <a:ext cx="4316400" cy="1457280"/>
          </a:xfrm>
          <a:prstGeom prst="rect">
            <a:avLst/>
          </a:prstGeom>
          <a:ln w="0">
            <a:noFill/>
          </a:ln>
        </p:spPr>
      </p:pic>
      <p:sp>
        <p:nvSpPr>
          <p:cNvPr id="64" name="TextBox 10"/>
          <p:cNvSpPr/>
          <p:nvPr/>
        </p:nvSpPr>
        <p:spPr>
          <a:xfrm>
            <a:off x="714240" y="1500120"/>
            <a:ext cx="821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Мелкие тельца. Бесцветные, но чаще окрашенные в зеленый  или красно-оранжевый 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571680" y="3857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Зеленые пласт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Зеленый цвет получают благодаря хлорофил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18630" t="15685" r="21571" b="7186"/>
          <a:stretch/>
        </p:blipFill>
        <p:spPr>
          <a:xfrm>
            <a:off x="1857240" y="785880"/>
            <a:ext cx="4357800" cy="421488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3" descr=""/>
          <p:cNvPicPr/>
          <p:nvPr/>
        </p:nvPicPr>
        <p:blipFill>
          <a:blip r:embed="rId2"/>
          <a:stretch/>
        </p:blipFill>
        <p:spPr>
          <a:xfrm>
            <a:off x="6046920" y="3889440"/>
            <a:ext cx="1854000" cy="646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4" descr=""/>
          <p:cNvPicPr/>
          <p:nvPr/>
        </p:nvPicPr>
        <p:blipFill>
          <a:blip r:embed="rId3"/>
          <a:stretch/>
        </p:blipFill>
        <p:spPr>
          <a:xfrm>
            <a:off x="-79200" y="1816200"/>
            <a:ext cx="2189160" cy="64584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5" descr=""/>
          <p:cNvPicPr/>
          <p:nvPr/>
        </p:nvPicPr>
        <p:blipFill>
          <a:blip r:embed="rId4"/>
          <a:stretch/>
        </p:blipFill>
        <p:spPr>
          <a:xfrm>
            <a:off x="268200" y="3103560"/>
            <a:ext cx="1639800" cy="6462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6" descr=""/>
          <p:cNvPicPr/>
          <p:nvPr/>
        </p:nvPicPr>
        <p:blipFill>
          <a:blip r:embed="rId5"/>
          <a:stretch/>
        </p:blipFill>
        <p:spPr>
          <a:xfrm>
            <a:off x="6114960" y="2030400"/>
            <a:ext cx="3095640" cy="6462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7" descr=""/>
          <p:cNvPicPr/>
          <p:nvPr/>
        </p:nvPicPr>
        <p:blipFill>
          <a:blip r:embed="rId6"/>
          <a:stretch/>
        </p:blipFill>
        <p:spPr>
          <a:xfrm>
            <a:off x="1414440" y="4956120"/>
            <a:ext cx="2451240" cy="6462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8" descr=""/>
          <p:cNvPicPr/>
          <p:nvPr/>
        </p:nvPicPr>
        <p:blipFill>
          <a:blip r:embed="rId7"/>
          <a:stretch/>
        </p:blipFill>
        <p:spPr>
          <a:xfrm>
            <a:off x="554040" y="-171360"/>
            <a:ext cx="7993080" cy="1457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1" descr=""/>
          <p:cNvPicPr/>
          <p:nvPr/>
        </p:nvPicPr>
        <p:blipFill>
          <a:blip r:embed="rId1"/>
          <a:stretch/>
        </p:blipFill>
        <p:spPr>
          <a:xfrm>
            <a:off x="566640" y="-171360"/>
            <a:ext cx="8253360" cy="145728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428760" y="1643040"/>
            <a:ext cx="778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Рассмотрите препарат под микроскопом. Найдите в клетках клеточную оболочку, цитоплазму, ядро и вакуоль. Рассмотрите при малом увелич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Рассмотрите при большом увелич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Зарисуйте в тетради строение клетки и надпишите ее ч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3:58:57Z</dcterms:created>
  <dc:creator>Женечка</dc:creator>
  <dc:description/>
  <dc:language>en-US</dc:language>
  <cp:lastModifiedBy>я</cp:lastModifiedBy>
  <dcterms:modified xsi:type="dcterms:W3CDTF">2014-09-23T11:23:13Z</dcterms:modified>
  <cp:revision>10</cp:revision>
  <dc:subject/>
  <dc:title>Ядро с ядрышком</dc:title>
</cp:coreProperties>
</file>