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9A6D-891F-4685-B15D-58BB5547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EE2-8C87-4900-A1C2-67AE5A5D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003C-58ED-4308-8512-18CF90B6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26EB-A5C5-4DA6-B1BC-95ECF9AB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41A1-78C8-4E43-A700-2243E3C0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450A-A469-4CD5-8E3D-BDE98F7C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C6E5-1282-4FB5-9B9E-1C96EC4E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FC4A-9135-4534-BA80-D51E24DB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BD6-ACEB-4AD2-BD18-06D0E36F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AF06-BFDC-406C-9CC4-8FAE80A0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D276-CF24-4C67-B3E4-74ECF2BD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56AA-15E8-4A41-8E09-AFB20D00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A243-A19D-499C-9087-EDBE53AEBEE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1"/>
          <a:stretch/>
        </p:blipFill>
        <p:spPr>
          <a:xfrm>
            <a:off x="317520" y="1116000"/>
            <a:ext cx="8180280" cy="2279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357120" y="428760"/>
            <a:ext cx="8786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1 . </a:t>
            </a: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лотное образование, ограничивает клетку, определяет её фор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цитопла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обо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п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ваку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пласт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Мельчайшие отверстия в оболочке клетки, через которые осуществляется обмен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обо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п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ваку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пласт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хлор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хром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лейк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357120" y="357120"/>
            <a:ext cx="8501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3.           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Небольшое плотное тель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цитопла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обо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п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яд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пласт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олость, заполненная клеточным со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ваку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хром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цитопла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обо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лейк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1500120" y="642960"/>
            <a:ext cx="74296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Зеленые пласти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лейк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хром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хлор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ваку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яд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6. 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Оранжево-красные пласт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лейк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хром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хлор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ваку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яд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357120" y="571680"/>
            <a:ext cx="8501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7.       Бесцветные пласт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п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лейк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ваку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хром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обо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8. 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Бесцветное вязкое вещество, заполняющее кле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цитопла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пласт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ваку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обо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яд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rcRect l="18630" t="15685" r="21571" b="7186"/>
          <a:stretch/>
        </p:blipFill>
        <p:spPr>
          <a:xfrm>
            <a:off x="1857240" y="785880"/>
            <a:ext cx="4357800" cy="42148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6046920" y="3889440"/>
            <a:ext cx="1854000" cy="6462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3"/>
          <a:stretch/>
        </p:blipFill>
        <p:spPr>
          <a:xfrm>
            <a:off x="-79200" y="1816200"/>
            <a:ext cx="2189160" cy="64584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5" descr=""/>
          <p:cNvPicPr/>
          <p:nvPr/>
        </p:nvPicPr>
        <p:blipFill>
          <a:blip r:embed="rId4"/>
          <a:stretch/>
        </p:blipFill>
        <p:spPr>
          <a:xfrm>
            <a:off x="268200" y="3103560"/>
            <a:ext cx="163980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6" descr=""/>
          <p:cNvPicPr/>
          <p:nvPr/>
        </p:nvPicPr>
        <p:blipFill>
          <a:blip r:embed="rId5"/>
          <a:stretch/>
        </p:blipFill>
        <p:spPr>
          <a:xfrm>
            <a:off x="6114960" y="2030400"/>
            <a:ext cx="3095640" cy="6462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7" descr=""/>
          <p:cNvPicPr/>
          <p:nvPr/>
        </p:nvPicPr>
        <p:blipFill>
          <a:blip r:embed="rId6"/>
          <a:stretch/>
        </p:blipFill>
        <p:spPr>
          <a:xfrm>
            <a:off x="1414440" y="4956120"/>
            <a:ext cx="2451240" cy="64620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8" descr=""/>
          <p:cNvPicPr/>
          <p:nvPr/>
        </p:nvPicPr>
        <p:blipFill>
          <a:blip r:embed="rId7"/>
          <a:stretch/>
        </p:blipFill>
        <p:spPr>
          <a:xfrm>
            <a:off x="554040" y="-171360"/>
            <a:ext cx="7993080" cy="1457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rcRect l="39140" t="33781" r="38570" b="44453"/>
          <a:stretch/>
        </p:blipFill>
        <p:spPr>
          <a:xfrm>
            <a:off x="5357880" y="2143080"/>
            <a:ext cx="3566880" cy="27860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6" descr=""/>
          <p:cNvPicPr/>
          <p:nvPr/>
        </p:nvPicPr>
        <p:blipFill>
          <a:blip r:embed="rId2"/>
          <a:stretch/>
        </p:blipFill>
        <p:spPr>
          <a:xfrm>
            <a:off x="2395440" y="189000"/>
            <a:ext cx="4164120" cy="1457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8"/>
          <p:cNvSpPr/>
          <p:nvPr/>
        </p:nvSpPr>
        <p:spPr>
          <a:xfrm>
            <a:off x="357120" y="1714680"/>
            <a:ext cx="4786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"/>
              </a:rPr>
              <a:t>Прочная, бесцветная, прозрачная, легко пропускает свет внутрь кле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"/>
              </a:rPr>
              <a:t>Придает клетке определенную форму, защищает ее содержимо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rcRect l="41026" t="33371" r="40870" b="34944"/>
          <a:stretch/>
        </p:blipFill>
        <p:spPr>
          <a:xfrm>
            <a:off x="285840" y="1571760"/>
            <a:ext cx="2857320" cy="400032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6" descr=""/>
          <p:cNvPicPr/>
          <p:nvPr/>
        </p:nvPicPr>
        <p:blipFill>
          <a:blip r:embed="rId2"/>
          <a:stretch/>
        </p:blipFill>
        <p:spPr>
          <a:xfrm>
            <a:off x="2541600" y="255600"/>
            <a:ext cx="4962600" cy="1457280"/>
          </a:xfrm>
          <a:prstGeom prst="rect">
            <a:avLst/>
          </a:prstGeom>
          <a:ln w="0">
            <a:noFill/>
          </a:ln>
        </p:spPr>
      </p:pic>
      <p:sp>
        <p:nvSpPr>
          <p:cNvPr id="54" name="TextBox 8"/>
          <p:cNvSpPr/>
          <p:nvPr/>
        </p:nvSpPr>
        <p:spPr>
          <a:xfrm>
            <a:off x="3214800" y="1928880"/>
            <a:ext cx="564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Бесцветное густое, тягучее образ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Цитоплазма – внутренняя среда, в которой располагаются все другие части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В ней протекают различные биохимические процессы, обеспечивающие жизнедеятельность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Она постоянна движется по всему объему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rcRect l="39833" t="33161" r="38086" b="33984"/>
          <a:stretch/>
        </p:blipFill>
        <p:spPr>
          <a:xfrm>
            <a:off x="6429240" y="2071800"/>
            <a:ext cx="2519640" cy="30002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6" descr=""/>
          <p:cNvPicPr/>
          <p:nvPr/>
        </p:nvPicPr>
        <p:blipFill>
          <a:blip r:embed="rId2"/>
          <a:stretch/>
        </p:blipFill>
        <p:spPr>
          <a:xfrm>
            <a:off x="2755800" y="-30240"/>
            <a:ext cx="3681360" cy="1457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214200" y="1571760"/>
            <a:ext cx="6000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олости в цитоплаз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Вакуоль – резервуар в котором содержится клеточный сок, накапливаются запасные питательные вещества и ненужные клетки продукты жизне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Клеточный сок – жидкость с растворенными в ней сахарами, минеральными со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С увеличением размеров вакуоли увеличивается и размер клетки, она рас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1"/>
          <a:srcRect l="40701" t="34623" r="40217" b="36543"/>
          <a:stretch/>
        </p:blipFill>
        <p:spPr>
          <a:xfrm>
            <a:off x="285840" y="1571760"/>
            <a:ext cx="3071880" cy="371448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5" descr=""/>
          <p:cNvPicPr/>
          <p:nvPr/>
        </p:nvPicPr>
        <p:blipFill>
          <a:blip r:embed="rId2"/>
          <a:stretch/>
        </p:blipFill>
        <p:spPr>
          <a:xfrm>
            <a:off x="1047600" y="-30240"/>
            <a:ext cx="7048800" cy="1457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8"/>
          <p:cNvSpPr/>
          <p:nvPr/>
        </p:nvSpPr>
        <p:spPr>
          <a:xfrm>
            <a:off x="3643200" y="2000160"/>
            <a:ext cx="5214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Ядро с ядрышком располагаются в центре или вдоль оболочки клет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Ядро всегда окружено цитоплазмой.  Оно несет в себе наследственную информацию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Ядро – центр жизнедеятельности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rcRect l="40855" t="42903" r="37994" b="42467"/>
          <a:stretch/>
        </p:blipFill>
        <p:spPr>
          <a:xfrm>
            <a:off x="5500800" y="3786120"/>
            <a:ext cx="2968560" cy="16430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6" descr=""/>
          <p:cNvPicPr/>
          <p:nvPr/>
        </p:nvPicPr>
        <p:blipFill>
          <a:blip r:embed="rId2"/>
          <a:stretch/>
        </p:blipFill>
        <p:spPr>
          <a:xfrm>
            <a:off x="1689120" y="2255760"/>
            <a:ext cx="5522760" cy="145728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9" descr=""/>
          <p:cNvPicPr/>
          <p:nvPr/>
        </p:nvPicPr>
        <p:blipFill>
          <a:blip r:embed="rId3"/>
          <a:stretch/>
        </p:blipFill>
        <p:spPr>
          <a:xfrm>
            <a:off x="1901880" y="115920"/>
            <a:ext cx="4316400" cy="1457280"/>
          </a:xfrm>
          <a:prstGeom prst="rect">
            <a:avLst/>
          </a:prstGeom>
          <a:ln w="0">
            <a:noFill/>
          </a:ln>
        </p:spPr>
      </p:pic>
      <p:sp>
        <p:nvSpPr>
          <p:cNvPr id="64" name="TextBox 10"/>
          <p:cNvSpPr/>
          <p:nvPr/>
        </p:nvSpPr>
        <p:spPr>
          <a:xfrm>
            <a:off x="714240" y="1500120"/>
            <a:ext cx="821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Мелкие тельца. Бесцветные, но чаще окрашенные в зеленый  или красно-оранжевый 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571680" y="38577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Зеленые пласти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Зеленый цвет получают благодаря хлорофил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rcRect l="18630" t="15685" r="21571" b="7186"/>
          <a:stretch/>
        </p:blipFill>
        <p:spPr>
          <a:xfrm>
            <a:off x="1857240" y="785880"/>
            <a:ext cx="4357800" cy="421488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3" descr=""/>
          <p:cNvPicPr/>
          <p:nvPr/>
        </p:nvPicPr>
        <p:blipFill>
          <a:blip r:embed="rId2"/>
          <a:stretch/>
        </p:blipFill>
        <p:spPr>
          <a:xfrm>
            <a:off x="6046920" y="3889440"/>
            <a:ext cx="1854000" cy="6462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4" descr=""/>
          <p:cNvPicPr/>
          <p:nvPr/>
        </p:nvPicPr>
        <p:blipFill>
          <a:blip r:embed="rId3"/>
          <a:stretch/>
        </p:blipFill>
        <p:spPr>
          <a:xfrm>
            <a:off x="-79200" y="1816200"/>
            <a:ext cx="2189160" cy="64584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5" descr=""/>
          <p:cNvPicPr/>
          <p:nvPr/>
        </p:nvPicPr>
        <p:blipFill>
          <a:blip r:embed="rId4"/>
          <a:stretch/>
        </p:blipFill>
        <p:spPr>
          <a:xfrm>
            <a:off x="268200" y="3103560"/>
            <a:ext cx="1639800" cy="64620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6" descr=""/>
          <p:cNvPicPr/>
          <p:nvPr/>
        </p:nvPicPr>
        <p:blipFill>
          <a:blip r:embed="rId5"/>
          <a:stretch/>
        </p:blipFill>
        <p:spPr>
          <a:xfrm>
            <a:off x="6114960" y="2030400"/>
            <a:ext cx="3095640" cy="6462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7" descr=""/>
          <p:cNvPicPr/>
          <p:nvPr/>
        </p:nvPicPr>
        <p:blipFill>
          <a:blip r:embed="rId6"/>
          <a:stretch/>
        </p:blipFill>
        <p:spPr>
          <a:xfrm>
            <a:off x="1414440" y="4956120"/>
            <a:ext cx="2451240" cy="6462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8" descr=""/>
          <p:cNvPicPr/>
          <p:nvPr/>
        </p:nvPicPr>
        <p:blipFill>
          <a:blip r:embed="rId7"/>
          <a:stretch/>
        </p:blipFill>
        <p:spPr>
          <a:xfrm>
            <a:off x="554040" y="-171360"/>
            <a:ext cx="7993080" cy="1457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Прямоугольник 1" descr=""/>
          <p:cNvPicPr/>
          <p:nvPr/>
        </p:nvPicPr>
        <p:blipFill>
          <a:blip r:embed="rId1"/>
          <a:stretch/>
        </p:blipFill>
        <p:spPr>
          <a:xfrm>
            <a:off x="566640" y="-171360"/>
            <a:ext cx="8253360" cy="145728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428760" y="1643040"/>
            <a:ext cx="7786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Рассмотрите препарат под микроскопом. Найдите в клетках клеточную оболочку, цитоплазму, ядро и вакуоль. Рассмотрите при малом увелич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Рассмотрите при большом увелич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Зарисуйте в тетради строение клетки и надпишите ее ч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3:58:57Z</dcterms:created>
  <dc:creator>Женечка</dc:creator>
  <dc:description/>
  <dc:language>en-US</dc:language>
  <cp:lastModifiedBy>я</cp:lastModifiedBy>
  <dcterms:modified xsi:type="dcterms:W3CDTF">2014-09-23T11:23:13Z</dcterms:modified>
  <cp:revision>10</cp:revision>
  <dc:subject/>
  <dc:title>Ядро с ядрышком</dc:title>
</cp:coreProperties>
</file>