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929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92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05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90440" y="-360"/>
            <a:ext cx="29005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7800" y="4686480"/>
            <a:ext cx="5356440" cy="4441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005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90440" y="9372240"/>
            <a:ext cx="29005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4CC8-0FD7-4E1E-AD3F-46B9E769BA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AE3E-6400-4F94-906A-B821E6B348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7769-B80B-4A30-97A0-22B4450946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6A34-E018-47DC-BFCC-CA5F11963A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1939-5544-4901-A2F2-B76975E1D9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1B96-6AE4-4E31-A7DC-08F7D9DD76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E674-82C7-4767-8A67-97542ED746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686E-3596-4CF5-9EC5-B5BEB93201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F3D9-2A1E-4FE6-AD0F-FC049016E4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1DC7-C8D2-4FC9-898E-EB675F2661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98A9-29B4-4B00-97A9-F49896054B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08AF-7104-43E8-8BA9-5FA15A1E90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9453-44A4-4EBC-B089-0D29F361CD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2EF5-3E70-4CB0-AB36-CE40898150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C4BD-1E39-4628-BD88-B50893C171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2D89-F7F7-4656-9634-937156A589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00B1-FD06-4908-9F89-64D1AD5896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8D2-00C7-4BA3-A80B-77EBD061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0777-C078-4508-AC6D-0389B48B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E34-1C02-4489-85C3-CAFE087A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97E7-AD5A-4D60-A4E6-669C47FB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8AB-A652-4A79-8E1F-3276DE6F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7C80-93F6-4BD1-BDCF-9067E8B8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DC5-3379-4103-9BB4-65E5F811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BDA-D51A-47AD-9537-F1A39B44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91FE-B96D-4FC1-9CD7-48692471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BA77-95CB-4CF4-8FB4-1B9E1902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063-CBC6-485A-ABB1-268CFDEF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A47-767D-48AA-BBF6-DF3E2643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214F-12BE-45DB-B361-4161CF504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8EE6-A70A-4DAD-8F4F-C860610FE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95280" y="1989000"/>
            <a:ext cx="82454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Гуманитарные технологии коллективного взаимодействия и совместной творческой деятельности на уроках изобразительного искусства</a:t>
            </a:r>
            <a:br>
              <a:rPr sz="2800"/>
            </a:br>
            <a:br>
              <a:rPr sz="3200"/>
            </a:b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Ю.В. Терешк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очетный работник общего образования РФ, учитель изобразительного искусства и художественного труда Международной школы Российского государственного педагогического университета им. А.И. Герц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ябрь 2011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OurNewSchool"/>
          <p:cNvPicPr/>
          <p:nvPr/>
        </p:nvPicPr>
        <p:blipFill>
          <a:blip r:embed="rId1"/>
          <a:stretch/>
        </p:blipFill>
        <p:spPr>
          <a:xfrm>
            <a:off x="0" y="0"/>
            <a:ext cx="2484360" cy="177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59A8-614D-4176-8993-F973D599F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ли технологии коллективного взаимо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совместной твор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50920" y="1598760"/>
            <a:ext cx="86421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Целями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технологии коллективного взаимодействия и совместной творческой деятельност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луж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азвитие предметных компетенций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(достижение высокого результата усвоения знаний, умений и навык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азвитие социальных компетенций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(развитие коммуникативных качеств и умения взаимодействова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азвитие личностных компетенций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(развитие учебно-организационных умений, умений самоорганизации, самореализа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47A7-9FFC-4FFC-8979-CD35C21486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хнологии коллективного взаимо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совместной твор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50920" y="2565360"/>
            <a:ext cx="864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остановка единой це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аспределение обязаннос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взаимоответственность и взаимоконтро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ориентация на конечный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60D1-91F1-4202-8639-475DB5DCB6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уппового взаимо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50920" y="206064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ление класса на группы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(группа может состоять от 2 и более человек, оптимально  4-6 челове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лучение каждой группой творческого задания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и выполнение его под руководством лидера группы или педагог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заимный контроль и ответственность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перед классом и групп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епостоянство состава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B32C-83E1-49BD-BBB3-26C3D5774F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ассификация фо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мест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79280" y="1484280"/>
            <a:ext cx="864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уществуют различные классификации форм совмест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Одной из первых классификаций коллективных работ по изобразительному искусству  была классификация, предложенная исследователем М.Н.Турро в начале 70-х годов, в основе ее одна из главных особенностей коллективной изобразительной деятельности – форма организации совместн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 данному признаку автор выделяет три группы коллективных раб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фрон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работы, полученные путем соединения индивидуальных рисунков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комплексные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работы, выполняемые по общему решению на одном лист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коллективно-производственные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работы, при выполнении которых каждый учащийся делает только одну определенную операцию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2F05-303E-49EE-A138-9B94CADE4F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ассификация фо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мест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9280" y="1484280"/>
            <a:ext cx="864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Наиболее точной по формулировке представляется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классификация совместной изобразительной творческой деятельности, предложенная Т.С. Комаровой и А.И. Савенковы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ыделены три основные формы ее организ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оместно-индивидуальная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участники деятельности в начале работают индивидуально, с учетом общего замысла, и лишь на завершающем этапе работа каждого становится частью общей композиции)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овместно-последовательная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предполагает работу по принципу конвейера (эстафеты), когда результат действий одного участника находится в тесной зависимости от результатов предыдущего и последующего участников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овместно-взаимоддействующ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самая сложная в плане организации, когда работа выполняется всеми участниками одновременно, согласование их действий осуществляется на всех этап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B6D9-E61B-4216-8C7E-CF3BAAA5C4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ассификация фо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мест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79280" y="1125360"/>
            <a:ext cx="8642520" cy="46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Три основные формы организации совместной деятельности могут быть дифференцированы более тон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собенно разнообразна совместно-взаимодействующая форма организации, так как взаимодействие может осуществляться в паре, в небольшой группе (3-6 человек) и в большой группе (больше 10 челове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озможна также реализация взаимодействия между парами и групп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Форма организации совмест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овместно-индивидуальная                   совместно-последов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овместно-взаимодейству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Взаимодействие      Взаимодействие       Взаимодействие в          Взаимо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в паре                     в большой группе       небольшой группе          между парами 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групп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 flipH="1" rot="21447600">
            <a:off x="4427640" y="3933360"/>
            <a:ext cx="247680" cy="432000"/>
          </a:xfrm>
          <a:prstGeom prst="downArrow">
            <a:avLst>
              <a:gd name="adj1" fmla="val 50000"/>
              <a:gd name="adj2" fmla="val 43605"/>
            </a:avLst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 rot="10800000">
            <a:off x="4140360" y="4076280"/>
            <a:ext cx="863280" cy="606600"/>
          </a:xfrm>
          <a:custGeom>
            <a:avLst/>
            <a:gdLst>
              <a:gd name="textAreaLeft" fmla="*/ 86040 w 863280"/>
              <a:gd name="textAreaRight" fmla="*/ 777240 w 863280"/>
              <a:gd name="textAreaTop" fmla="*/ 346680 h 606600"/>
              <a:gd name="textAreaBottom" fmla="*/ 520200 h 606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6B4A-0364-4939-AEE6-6BDC43FB0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50920" y="620640"/>
            <a:ext cx="8642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бщение в группе равных (прежде всего – сверстников) дает детям то, что в принципе не может дать общение с  взрослым - критичность к мнениям, словам, поступкам людей. А за этим стоит умение видеть позицию другого человека, оценивать ее, принимать или не принимать, соглашаться или оспаривать, а главное - иметь собственную точку зрения, отличать ее от чужой, уметь ее отстаи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менно в обществе сверстников ребенок может и смеет практиковать традиционно взрослые формы поведения (контроль, оценку). Здесь всегда есть возможность встать на точку зрения другого, координировать его действия со своими действиями, а за счет этого понимать друг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Выпускники школы должны приобрести важные черты зрелого члена общества – способность к самообучению и самовоспит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 если школа стремится к этому, то учебное общение не может ограничиваться отношениями «ученик – учитель». Уже в начальной школе формы учебного сотрудничества должны быть обязательно дополнены учебными взаимоотношениями самих детей.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Более широкое внедрение в практику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ехнологии коллективного взаимодействия, несомненно, будет способствовать эт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1664-C37A-42E0-8DB5-84FA8B0CA3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50920" y="90000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аботая в Международной школе Герценовского университета (МШГУ), начала активно внедрять в практику совместную организацию творческой деятельности учащихся с 2002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Был разработан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едагогический проект «Вместе-лучше»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в рамках которого осуществляется организация проектной деятельности учащихся по созданию совместных творческих раб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 2007 года идет работа над долговременным совместным проектом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В мире сказки»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(для учащихся 1 классов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а с 2008 года -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В мире природы»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(для учащихся 2 класс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азрабатывается проект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В мире вещей»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(для учащихся 3 класс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Данные проекты основаны на гуманитарной технологии коллективного взаимодействия с использованием совместно-индивидуальной и совместно-взаимодействующей форм организации совместной деятельности учащихся по выполнению творческих работ по художественному тр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оект совместной творческой деятельности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В мире природы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5013000"/>
            <a:ext cx="8856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2007-2008 уч. год. 2 а, б, в классы. «Времена год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Бисероплетение, текстильная аппликация, аппликация природными материалами</a:t>
            </a: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зима"/>
          <p:cNvPicPr/>
          <p:nvPr/>
        </p:nvPicPr>
        <p:blipFill>
          <a:blip r:embed="rId1"/>
          <a:stretch/>
        </p:blipFill>
        <p:spPr>
          <a:xfrm>
            <a:off x="27000" y="1405080"/>
            <a:ext cx="2189160" cy="31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весна"/>
          <p:cNvPicPr/>
          <p:nvPr/>
        </p:nvPicPr>
        <p:blipFill>
          <a:blip r:embed="rId2"/>
          <a:stretch/>
        </p:blipFill>
        <p:spPr>
          <a:xfrm>
            <a:off x="2236680" y="1413000"/>
            <a:ext cx="2237040" cy="315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лето"/>
          <p:cNvPicPr/>
          <p:nvPr/>
        </p:nvPicPr>
        <p:blipFill>
          <a:blip r:embed="rId3"/>
          <a:stretch/>
        </p:blipFill>
        <p:spPr>
          <a:xfrm>
            <a:off x="4546440" y="1411200"/>
            <a:ext cx="2230560" cy="3160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осень"/>
          <p:cNvPicPr/>
          <p:nvPr/>
        </p:nvPicPr>
        <p:blipFill>
          <a:blip r:embed="rId4"/>
          <a:stretch/>
        </p:blipFill>
        <p:spPr>
          <a:xfrm>
            <a:off x="6840360" y="1417680"/>
            <a:ext cx="2195640" cy="3119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оект совместной творческой деятельности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В мире природы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092640"/>
            <a:ext cx="83628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2007-2008 уч. год. 2 а, б, в классы. «Времена года. Фрагменты, элементы работы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Бисероплетение, текстильная аппликация, аппликация природными материал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синица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3645000"/>
            <a:ext cx="286884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дятел2"/>
          <p:cNvPicPr/>
          <p:nvPr/>
        </p:nvPicPr>
        <p:blipFill>
          <a:blip r:embed="rId2"/>
          <a:stretch/>
        </p:blipFill>
        <p:spPr>
          <a:xfrm>
            <a:off x="6829560" y="3502080"/>
            <a:ext cx="1860480" cy="2482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дятел"/>
          <p:cNvPicPr/>
          <p:nvPr/>
        </p:nvPicPr>
        <p:blipFill>
          <a:blip r:embed="rId3"/>
          <a:stretch/>
        </p:blipFill>
        <p:spPr>
          <a:xfrm>
            <a:off x="755640" y="1268280"/>
            <a:ext cx="2927520" cy="2187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цветы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3924360" y="3860640"/>
            <a:ext cx="2644560" cy="1981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калина3"/>
          <p:cNvPicPr/>
          <p:nvPr/>
        </p:nvPicPr>
        <p:blipFill>
          <a:blip r:embed="rId5"/>
          <a:stretch/>
        </p:blipFill>
        <p:spPr>
          <a:xfrm>
            <a:off x="4140360" y="1557360"/>
            <a:ext cx="207324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Jeremuxa3"/>
          <p:cNvPicPr/>
          <p:nvPr/>
        </p:nvPicPr>
        <p:blipFill>
          <a:blip r:embed="rId6"/>
          <a:stretch/>
        </p:blipFill>
        <p:spPr>
          <a:xfrm>
            <a:off x="6443640" y="981000"/>
            <a:ext cx="2203560" cy="244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8CAD-559C-4CD0-9AF5-6C168CEEFB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ктуальность  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50920" y="836640"/>
            <a:ext cx="8642160" cy="54583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Развитие у детей способности творчески работать в коллективе – одна из важнейших задач современ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Глубокие социально-экономические преобразования, происходящие в нашей стране, предопределили необходимость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азработки теоретических и методических основ формирования самостоятельной, инициативной, творчески ориентированной личности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ступил в силу Федеральный государственный стандарт начального общего образования (ФГОС)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Федеральный государственный образовательный стандарт определил требования к результатам освоения, условиям реализации и структуре основной образовательной програм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ыделены личностные, метапредметные и предметные требования к результатам освоения основной образовательной програм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оект совместной творческой деятельности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В мире природы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5300640"/>
            <a:ext cx="8856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2008-2009 уч. год. 2 а, б, в классы. «Человек и мор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Бисероплетение, текстильная аппликация, аппликация природными материалами</a:t>
            </a: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1 054"/>
          <p:cNvPicPr/>
          <p:nvPr/>
        </p:nvPicPr>
        <p:blipFill>
          <a:blip r:embed="rId1"/>
          <a:stretch/>
        </p:blipFill>
        <p:spPr>
          <a:xfrm>
            <a:off x="3349800" y="1343160"/>
            <a:ext cx="2519280" cy="3598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1 012"/>
          <p:cNvPicPr/>
          <p:nvPr/>
        </p:nvPicPr>
        <p:blipFill>
          <a:blip r:embed="rId2"/>
          <a:stretch/>
        </p:blipFill>
        <p:spPr>
          <a:xfrm>
            <a:off x="5940360" y="2854440"/>
            <a:ext cx="3132360" cy="2082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1 018"/>
          <p:cNvPicPr/>
          <p:nvPr/>
        </p:nvPicPr>
        <p:blipFill>
          <a:blip r:embed="rId3"/>
          <a:stretch/>
        </p:blipFill>
        <p:spPr>
          <a:xfrm>
            <a:off x="179280" y="2854440"/>
            <a:ext cx="3095640" cy="206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оект совместной творческой деятельности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В мире природы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6021000"/>
            <a:ext cx="8856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2009-2010 уч. год. 2 а, б классы. «В мире цветов и насекомых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Бисероплетение, текстильная апплик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PIC_1864"/>
          <p:cNvPicPr/>
          <p:nvPr/>
        </p:nvPicPr>
        <p:blipFill>
          <a:blip r:embed="rId1"/>
          <a:stretch/>
        </p:blipFill>
        <p:spPr>
          <a:xfrm>
            <a:off x="611280" y="1052640"/>
            <a:ext cx="3814560" cy="4897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работы 021"/>
          <p:cNvPicPr/>
          <p:nvPr/>
        </p:nvPicPr>
        <p:blipFill>
          <a:blip r:embed="rId2"/>
          <a:stretch/>
        </p:blipFill>
        <p:spPr>
          <a:xfrm>
            <a:off x="4630680" y="1052640"/>
            <a:ext cx="4089600" cy="4903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оект совместной творческой деятельности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В мире природы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6164280"/>
            <a:ext cx="84358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2010-2011 уч. год. 2 а, б классы. «Цапля». Бисероплетение, текстильная аппликация, аппликация природными материал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PIC_2642"/>
          <p:cNvPicPr/>
          <p:nvPr/>
        </p:nvPicPr>
        <p:blipFill>
          <a:blip r:embed="rId1"/>
          <a:stretch/>
        </p:blipFill>
        <p:spPr>
          <a:xfrm>
            <a:off x="4643280" y="1052640"/>
            <a:ext cx="4322880" cy="5184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PIC_2646"/>
          <p:cNvPicPr/>
          <p:nvPr/>
        </p:nvPicPr>
        <p:blipFill>
          <a:blip r:embed="rId2"/>
          <a:stretch/>
        </p:blipFill>
        <p:spPr>
          <a:xfrm>
            <a:off x="324000" y="2205000"/>
            <a:ext cx="4176720" cy="2965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256B-6203-4ADD-90BB-F8A7F85E39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лагодарю за внимание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Терешкина Юлия Владимировна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Почетный работник общего образования РФ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учитель изобразительного искусства и художественного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тел. (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812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) 6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01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80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-6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E-mail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juliter@rambler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народная школа Герценовского универс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97B9-897E-4AD1-9579-0549759C40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50920" y="836640"/>
            <a:ext cx="864216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Цели общего образования, в условиях изменения государственных образовательных стандартов,  задаются через ключевые компетенции, среди которых основными 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личностные компетенции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(готовность и способность к саморазвити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мотивация к обучению и познанию, ценностно-смысловые установ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оциальные компетенции, личностные качеств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оциальные компетенции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(универсальные учебные действ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знавательные, регулятивные, коммуникативны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редметные компетенции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(базовые умения, обеспечивающие социальную адаптацию, опыт деятельности специфической для данной предметной области, система основополагающих элементов научного зна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18DF-288A-4B9D-BD1A-9F9A5335BE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533520"/>
            <a:ext cx="864216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уманитарная технологии коллективного взаимодействия эффективно позволяет развивать личностные, социальные и предметные компетенции в их единств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 взаимосвязи.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азвитие у детей способностей творчески работать в коллективе - одна из важнейших задач современного образ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ысокий уровень развития творческих способностей в наше время все чаще рассматривается как необходимое условие выживания в постоянно меняющемся окружении. Особенно значима для современного человека, способность творчески работать в коллекти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Коллективная форма организации учебной деятельности в целом, как и совместная форма организации творческой деятельности учащихся на уроках изобразительного искусства, как нельзя лучше отвечает современным требованиям модернизации общего образования и требует более активного ее внедрения в учебный процесс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4BA8-1D6B-45B0-A39F-F6DBF016C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79280" y="785880"/>
            <a:ext cx="864252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овместная творческая деятельность  имеет огромное значение в  воспитании школьников как средство, активизирующее развитие их творческого потенциала и социальной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ри совместной творческой деятельности проис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формирование и совершенствование коммуникативных навы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формирование навыков самоорганизации и совмест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своение учащимися социальных навыков и практических умений, обеспечивающих их социальную мобильность, способность к возможной быстрой смене социальных и экономических ролей, возможность активного и творческого участия в общественном процесс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азвитие потребности в эстетическом общении и интереса к            изобрази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8B92-7B67-4BF4-8E45-7BDBB4D93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79280" y="1341360"/>
            <a:ext cx="864252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Коллективная форма организации учебной деятельности в целом, как и совместная форма организации творческой деятельности учащихся на уроках изобразительного искусства, как нельзя лучше отвечает современным требованиям модернизации общего образования и требует более активного ее внедрения в учебный процесс.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1415-8A1C-42E8-B45F-62FF3C2E92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хнология коллективного взаимодейст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совместной твор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79280" y="1341360"/>
            <a:ext cx="864252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 гуманитарной технологии коллективного взаимодействия на уроках изобразительного искусства и художественного труда делается акцент на самостоятельную практическую работу учащихся (так как большую часть урока по изобразительному искусству и труду отводится на самостоятельную практическую деятельность учащихс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 рамках гуманитарной технологии коллективного взаимодействия учащиеся совместно выполняют творческую рабо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Таким образом, можно говорить о технологии совместной творческой деятельности как частном случае технологии коллективного взаимодейств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8B57-7F02-4353-B05B-29A7D02F47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хнология коллективного взаимодейст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совместной твор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50920" y="155736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уманитарная технология коллективного взаимодействия -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(технология, основанная на взаимодействии членов коллектив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 технология совместной творческой деятельности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(технология, основанная на совместной форме организации выполнения учащимися творческой работы)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тносятся к инновационным гуманитарным технологиям, основанным на организации хода учебного занятия в соответствии с учебными ц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D3A7-2DDB-45FE-9342-3E14B4E20A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хнология коллективного взаимодейст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совместной твор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79280" y="2460600"/>
            <a:ext cx="86425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уманитарная технология коллективного взаимодействия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это совокупность задач и методов, обеспечивающих создание развивающей гуманистической самоуправляющейся общности детей и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2:23:48Z</dcterms:created>
  <dc:creator>Терешкина Ю.В.</dc:creator>
  <dc:description/>
  <dc:language>en-US</dc:language>
  <cp:lastModifiedBy>Юлия</cp:lastModifiedBy>
  <dcterms:modified xsi:type="dcterms:W3CDTF">2015-02-09T19:59:53Z</dcterms:modified>
  <cp:revision>140</cp:revision>
  <dc:subject/>
  <dc:title>Технология коллективного взаимодействия</dc:title>
</cp:coreProperties>
</file>