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929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92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90440" y="-36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7800" y="4686480"/>
            <a:ext cx="5356440" cy="44416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90440" y="9372240"/>
            <a:ext cx="290052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7182-E69C-4FD1-997C-C21833BD68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1212-3CFA-4DFD-BBD2-15F9FCF99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894-DBB7-4D64-B2D2-5E93537B8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CB95-48BE-4DE7-9775-B93076FB32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BA25-9737-4BCC-9EBE-5F01A8107E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EF57-6626-4587-BA6C-28ECA4EB8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7E5-C317-4ABA-9678-475F50F1E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BB1F-6AF3-46F9-9281-E5D993E733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DE62-E909-4067-A229-6E3E3B89E5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831-0951-4C8F-8457-4F4DB10623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860-CF9F-4205-A881-29BAA9DEDF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0FE2-ADD6-4711-A670-DF0D7B62C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81DD-BEF6-4C7E-A392-165662462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629-322A-4DCF-A5F9-3FBF4B106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BC40-6C13-40A4-BA60-113D8525C7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BF3-D903-42BA-BD72-B6A1C3CD08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90800" y="9372600"/>
            <a:ext cx="2900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1177-D341-4740-A4FF-170098C449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794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893880" y="4686480"/>
            <a:ext cx="49053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32B8-CFE0-446B-86D0-877E0AFE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F28-808E-4C4E-8FFF-C19E34AF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675-14EB-41F3-BA17-3B57B17A2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D890-C393-46AE-8E3C-00EE4A38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0F5-6CC2-4FEE-8B83-74E2B0A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F7E5-A87D-415C-9C14-5ECFF6B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19E2-015E-4A59-A15F-8113421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F13-ED83-45C5-AC4F-65B3DE41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C5B-BA70-4AF0-B25D-423F9C5C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D90-29F5-4DC7-A5F1-0E159FB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59D-10C8-49EB-8B15-CE7BA88F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EC8-1E75-4A9A-8AA6-70099A1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B03B-578A-4176-94A9-321DDE88A7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A6FA-CE53-4AF6-8D85-BA54E4D8D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95280" y="1989000"/>
            <a:ext cx="82454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уманитарные технологии коллективного взаимодействия и совместной творческой деятельности на уроках изобразительного искусства</a:t>
            </a:r>
            <a:br>
              <a:rPr sz="2800"/>
            </a:br>
            <a:br>
              <a:rPr sz="3200"/>
            </a:b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Ю.В. Терешк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почетный работник общего образования РФ, учитель изобразительного искусства и художественного труда Международной школы Российского государственного педагогического университета им. А.И. Герц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ябрь 2011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2484360" cy="177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1531-12B0-4B58-B46B-031D0F80A7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Цели технологии коллектив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50920" y="1598760"/>
            <a:ext cx="86421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Целями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ехнологии коллективного взаимодействия и совместной творческой деятельности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лужа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предмет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достижение высокого результата усвоения знаний, умений и навык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социаль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развитие коммуникативных качеств и умения взаимодействова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развитие личностных компетенций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развитие учебно-организационных умений, умений самоорганизации, самореализац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A66E-741C-4D09-A30E-FC12EF950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и коллективн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50920" y="256536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остановка единой це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распределение обязаннос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взаимоответственность и взаимоконтрол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ориентация на конечн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FF81-EE71-4780-8389-96CFB0D56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руппового взаимо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50920" y="206064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ление класса на групп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(группа может состоять от 2 и более человек, оптимально  4-6 челове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лучение каждой группой творческого задания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и выполнение его под руководством лидера группы или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заимный контроль и ответственность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перед классом и групп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непостоянство состава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775A-3860-4BBC-BF1D-5E865D78A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79280" y="148428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уществуют различные классификации форм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Одной из первых классификаций коллективных работ по изобразительному искусству  была классификация, предложенная исследователем М.Н.Турро в начале 70-х годов, в основе ее одна из главных особенностей коллективной изобразительной деятельности – форма организации совместной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данному признаку автор выделяет три группы коллективных рабо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фронта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полученные путем соединения индивидуальных рисунков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омплексные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выполняемые по общему решению на одном листе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оллективно-производственные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работы, при выполнении которых каждый учащийся делает только одну определенную операцию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75D-E4C8-4678-9A68-F3C2D8A3B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9280" y="1484280"/>
            <a:ext cx="864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Наиболее точной по формулировке представляется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классификация совместной изобразительной творческой деятельности, предложенная Т.С. Комаровой и А.И. Савенковы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делены три основные формы ее организ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местно-индивидуальная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участники деятельности в начале работают индивидуально, с учетом общего замысла, и лишь на завершающем этапе работа каждого становится частью общей композиции)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последовательная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предполагает работу по принципу конвейера (эстафеты), когда результат действий одного участника находится в тесной зависимости от результатов предыдущего и последующего участников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взаимоддействующ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(самая сложная в плане организации, когда работа выполняется всеми участниками одновременно, согласование их действий осуществляется на всех этап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A7B-6908-4035-AF3A-925B0C5F1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ассификация фор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ст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79280" y="1125360"/>
            <a:ext cx="8642520" cy="46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ри основные формы организации совместной деятельности могут быть дифференцированы более тон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обенно разнообразна совместно-взаимодействующая форма организации, так как взаимодействие может осуществляться в паре, в небольшой группе (3-6 человек) и в большой группе (больше 10 человек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а также реализация взаимодействия между парами и груп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Форма организации совмест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индивидуальная                   совместно-последовате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вместно-взаимодейству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Взаимодействие      Взаимодействие       Взаимодействие в          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в паре                     в большой группе       небольшой группе          между парами 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групп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 flipH="1" rot="21447600">
            <a:off x="4427640" y="3933360"/>
            <a:ext cx="247680" cy="432000"/>
          </a:xfrm>
          <a:prstGeom prst="downArrow">
            <a:avLst>
              <a:gd name="adj1" fmla="val 50000"/>
              <a:gd name="adj2" fmla="val 43605"/>
            </a:avLst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7"/>
          <p:cNvSpPr/>
          <p:nvPr/>
        </p:nvSpPr>
        <p:spPr>
          <a:xfrm rot="10800000">
            <a:off x="4140360" y="4076280"/>
            <a:ext cx="863280" cy="606600"/>
          </a:xfrm>
          <a:custGeom>
            <a:avLst/>
            <a:gdLst>
              <a:gd name="textAreaLeft" fmla="*/ 86040 w 863280"/>
              <a:gd name="textAreaRight" fmla="*/ 777240 w 863280"/>
              <a:gd name="textAreaTop" fmla="*/ 346680 h 606600"/>
              <a:gd name="textAreaBottom" fmla="*/ 520200 h 606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A3AA-3824-4E4B-8B34-6ACE1459B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250920" y="620640"/>
            <a:ext cx="86421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щение в группе равных (прежде всего – сверстников) дает детям то, что в принципе не может дать общение с  взрослым - критичность к мнениям, словам, поступкам людей. А за этим стоит умение видеть позицию другого человека, оценивать ее, принимать или не принимать, соглашаться или оспаривать, а главное - иметь собственную точку зрения, отличать ее от чужой, уметь ее отстаи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менно в обществе сверстников ребенок может и смеет практиковать традиционно взрослые формы поведения (контроль, оценку). Здесь всегда есть возможность встать на точку зрения другого, координировать его действия со своими действиями, а за счет этого понимать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Выпускники школы должны приобрести важные черты зрелого члена общества – способность к самообучению и самовоспита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 если школа стремится к этому, то учебное общение не может ограничиваться отношениями «ученик – учитель». Уже в начальной школе формы учебного сотрудничества должны быть обязательно дополнены учебными взаимоотношениями самих детей.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Более широкое внедрение в практику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технологии коллективного взаимодействия, несомненно, будет способствовать эт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3FD7-EA7A-41DA-95B9-C0B7F2F9D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50920" y="90000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ботая в Международной школе Герценовского университета (МШГУ), начала активно внедрять в практику совместную организацию творческой деятельности учащихся с 2002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ыл разработан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едагогический проект «Вместе-лучше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в рамках которого осуществляется организация проектной деятельности учащихся по созданию совместных творческих раб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 2007 года идет работа над долговременным совместным проектом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сказки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для учащихся 1 классов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а с 2008 года -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природы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для учащихся 2 клас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рабатывается проект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«В мире вещей»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(для учащихся 3 классов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анные проекты основаны на гуманитарной технологии коллективного взаимодействия с использованием совместно-индивидуальной и совместно-взаимодействующей форм организации совместной деятельности учащихся по выполнению творческих работ по художественному тр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5013000"/>
            <a:ext cx="8856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2007-2008 уч. год. 2 а, б, в классы. «Времена год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зима"/>
          <p:cNvPicPr/>
          <p:nvPr/>
        </p:nvPicPr>
        <p:blipFill>
          <a:blip r:embed="rId1"/>
          <a:stretch/>
        </p:blipFill>
        <p:spPr>
          <a:xfrm>
            <a:off x="27000" y="1405080"/>
            <a:ext cx="2189160" cy="31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весна"/>
          <p:cNvPicPr/>
          <p:nvPr/>
        </p:nvPicPr>
        <p:blipFill>
          <a:blip r:embed="rId2"/>
          <a:stretch/>
        </p:blipFill>
        <p:spPr>
          <a:xfrm>
            <a:off x="2236680" y="1413000"/>
            <a:ext cx="2237040" cy="3159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лето"/>
          <p:cNvPicPr/>
          <p:nvPr/>
        </p:nvPicPr>
        <p:blipFill>
          <a:blip r:embed="rId3"/>
          <a:stretch/>
        </p:blipFill>
        <p:spPr>
          <a:xfrm>
            <a:off x="4546440" y="1411200"/>
            <a:ext cx="2230560" cy="3160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осень"/>
          <p:cNvPicPr/>
          <p:nvPr/>
        </p:nvPicPr>
        <p:blipFill>
          <a:blip r:embed="rId4"/>
          <a:stretch/>
        </p:blipFill>
        <p:spPr>
          <a:xfrm>
            <a:off x="6840360" y="1417680"/>
            <a:ext cx="2195640" cy="3119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092640"/>
            <a:ext cx="83628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07-2008 уч. год. 2 а, б, в классы. «Времена года. Фрагменты, элементы работ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синица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3645000"/>
            <a:ext cx="28688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дятел2"/>
          <p:cNvPicPr/>
          <p:nvPr/>
        </p:nvPicPr>
        <p:blipFill>
          <a:blip r:embed="rId2"/>
          <a:stretch/>
        </p:blipFill>
        <p:spPr>
          <a:xfrm>
            <a:off x="6829560" y="3502080"/>
            <a:ext cx="1860480" cy="2482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дятел"/>
          <p:cNvPicPr/>
          <p:nvPr/>
        </p:nvPicPr>
        <p:blipFill>
          <a:blip r:embed="rId3"/>
          <a:stretch/>
        </p:blipFill>
        <p:spPr>
          <a:xfrm>
            <a:off x="755640" y="1268280"/>
            <a:ext cx="2927520" cy="218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цветы1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3924360" y="3860640"/>
            <a:ext cx="2644560" cy="1981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калина3"/>
          <p:cNvPicPr/>
          <p:nvPr/>
        </p:nvPicPr>
        <p:blipFill>
          <a:blip r:embed="rId5"/>
          <a:stretch/>
        </p:blipFill>
        <p:spPr>
          <a:xfrm>
            <a:off x="4140360" y="1557360"/>
            <a:ext cx="2073240" cy="1981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Jeremuxa3"/>
          <p:cNvPicPr/>
          <p:nvPr/>
        </p:nvPicPr>
        <p:blipFill>
          <a:blip r:embed="rId6"/>
          <a:stretch/>
        </p:blipFill>
        <p:spPr>
          <a:xfrm>
            <a:off x="6443640" y="981000"/>
            <a:ext cx="2203560" cy="244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980-D2AF-4BD7-9AA0-1211FC07A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Актуальность  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0920" y="836640"/>
            <a:ext cx="8642160" cy="54583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азвитие у детей способности творчески работать в коллективе – одна из важнейших задач совреме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3399"/>
                </a:solidFill>
                <a:latin typeface="Arial"/>
              </a:rPr>
              <a:t>Глубокие социально-экономические преобразования, происходящие в нашей стране, предопределили необходимость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работки теоретических и методических основ формирования самостоятельной, инициативной, творчески ориентированной личности.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ступил в силу Федеральный государственный стандарт начального общего образования (ФГОС)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едеральный государственный образовательный стандарт определил требования к результатам освоения, условиям реализации и структуре основной образовательной програм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делены личностные, метапредметные и предметные требования к результатам освоения основной образовательной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5300640"/>
            <a:ext cx="8856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2008-2009 уч. год. 2 а, б, в классы. «Человек и море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, аппликация природными материалами</a:t>
            </a:r>
            <a:r>
              <a:rPr b="1" lang="ru-RU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 054"/>
          <p:cNvPicPr/>
          <p:nvPr/>
        </p:nvPicPr>
        <p:blipFill>
          <a:blip r:embed="rId1"/>
          <a:stretch/>
        </p:blipFill>
        <p:spPr>
          <a:xfrm>
            <a:off x="3349800" y="1343160"/>
            <a:ext cx="2519280" cy="3598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 012"/>
          <p:cNvPicPr/>
          <p:nvPr/>
        </p:nvPicPr>
        <p:blipFill>
          <a:blip r:embed="rId2"/>
          <a:stretch/>
        </p:blipFill>
        <p:spPr>
          <a:xfrm>
            <a:off x="5940360" y="2854440"/>
            <a:ext cx="3132360" cy="2082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 018"/>
          <p:cNvPicPr/>
          <p:nvPr/>
        </p:nvPicPr>
        <p:blipFill>
          <a:blip r:embed="rId3"/>
          <a:stretch/>
        </p:blipFill>
        <p:spPr>
          <a:xfrm>
            <a:off x="179280" y="2854440"/>
            <a:ext cx="3095640" cy="206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6021000"/>
            <a:ext cx="8856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09-2010 уч. год. 2 а, б классы. «В мире цветов и насекомых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Бисероплетение, текстильная апплик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PIC_1864"/>
          <p:cNvPicPr/>
          <p:nvPr/>
        </p:nvPicPr>
        <p:blipFill>
          <a:blip r:embed="rId1"/>
          <a:stretch/>
        </p:blipFill>
        <p:spPr>
          <a:xfrm>
            <a:off x="611280" y="1052640"/>
            <a:ext cx="3814560" cy="489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работы 021"/>
          <p:cNvPicPr/>
          <p:nvPr/>
        </p:nvPicPr>
        <p:blipFill>
          <a:blip r:embed="rId2"/>
          <a:stretch/>
        </p:blipFill>
        <p:spPr>
          <a:xfrm>
            <a:off x="4630680" y="1052640"/>
            <a:ext cx="4089600" cy="490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ект совместной творческой деятельности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В мире природы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616428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imes New Roman"/>
              </a:rPr>
              <a:t>2010-2011 уч. год. 2 а, б классы. «Цапля». Бисероплетение, текстильная аппликация, аппликация природными матери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PIC_2642"/>
          <p:cNvPicPr/>
          <p:nvPr/>
        </p:nvPicPr>
        <p:blipFill>
          <a:blip r:embed="rId1"/>
          <a:stretch/>
        </p:blipFill>
        <p:spPr>
          <a:xfrm>
            <a:off x="4643280" y="1052640"/>
            <a:ext cx="4322880" cy="518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PIC_2646"/>
          <p:cNvPicPr/>
          <p:nvPr/>
        </p:nvPicPr>
        <p:blipFill>
          <a:blip r:embed="rId2"/>
          <a:stretch/>
        </p:blipFill>
        <p:spPr>
          <a:xfrm>
            <a:off x="324000" y="2205000"/>
            <a:ext cx="4176720" cy="2965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042F-74A3-428C-B90D-2512593ACC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Благодарю за внимание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3399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Терешкина Юлия Владимировна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Почетный работник общего образования РФ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учитель изобразительного искусства и художественного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тел. (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812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) 6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01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80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</a:rPr>
              <a:t>-6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E-mail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juliter@rambler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народная школа Герценов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591E-3AF5-4361-A117-6E39A5F0E8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50920" y="836640"/>
            <a:ext cx="8642160" cy="62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Цели общего образования, в условиях изменения государственных образовательных стандартов,  задаются через ключевые компетенции, среди которых основными явля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личност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готовность и способность к саморазвити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мотивация к обучению и познанию, ценностно-смысловые установ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оциальные компетенции, личностные качеств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социаль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универсальные учебные действ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знавательные, регулятивные, коммуникативны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едметные компетенци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(базовые умения, обеспечивающие социальную адаптацию, опыт деятельности специфической для данной предметной области, система основополагающих элементов научного зна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9FD2-581D-4F9B-8F23-C08F8F89D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533520"/>
            <a:ext cx="864216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уманитарная технологии коллективного взаимодействия эффективно позволяет развивать личностные, социальные и предметные компетенции в их единств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 взаимосвязи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е у детей способностей творчески работать в коллективе - одна из важнейших задач современного образ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ысокий уровень развития творческих способностей в наше время все чаще рассматривается как необходимое условие выживания в постоянно меняющемся окружении. Особенно значима для современного человека, способность творчески работать в коллект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ллективная форма организации учебной деятельности в целом, как и совместная форма организации творческой деятельности учащихся на уроках изобразительного искусства, как нельзя лучше отвечает современным требованиям модернизации общего образования и требует более активного ее внедрения в учебный процесс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DC48-B958-44A2-882B-7252DE40A5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79280" y="785880"/>
            <a:ext cx="864252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вместная творческая деятельность  имеет огромное значение в  воспитании школьников как средство, активизирующее развитие их творческого потенциала и социальной 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При совместной творческой деятельности проис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ирование и совершенствование коммуникативных навы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формирование навыков самоорганизации и совмест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своение учащимися социальных навыков и практических умений, обеспечивающих их социальную мобильность, способность к возможной быстрой смене социальных и экономических ролей, возможность активного и творческого участия в общественном процесс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азвитие потребности в эстетическом общении и интереса к            изобрази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FAA7-4681-43AB-B2CF-46DD167A45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79280" y="1341360"/>
            <a:ext cx="8642520" cy="46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Коллективная форма организации учебной деятельности в целом, как и совместная форма организации творческой деятельности учащихся на уроках изобразительного искусства, как нельзя лучше отвечает современным требованиям модернизации общего образования и требует более активного ее внедрения в учебный процесс.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9A21-413A-4EBD-9CA5-06C0510C73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79280" y="1341360"/>
            <a:ext cx="864252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гуманитарной технологии коллективного взаимодействия на уроках изобразительного искусства и художественного труда делается акцент на самостоятельную практическую работу учащихся (так как большую часть урока по изобразительному искусству и труду отводится на самостоятельную практическую деятельность учащих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 рамках гуманитарной технологии коллективного взаимодействия учащиеся совместно выполняют творческую рабо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Таким образом, можно говорить о технологии совместной творческой деятельности как частном случае технологии коллективного взаимодейств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8066-5659-48C9-ABA4-1F9C75911F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50920" y="1557360"/>
            <a:ext cx="8642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уманитарная технология коллективного взаимодействия -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(технология, основанная на взаимодействии членов коллектив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 технология совместной творческой деятельности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(технология, основанная на совместной форме организации выполнения учащимися творческой работы)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тносятся к инновационным гуманитарным технологиям, основанным на организации хода учебного занятия в соответствии с учебными ц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B2E1-7EC3-40F2-8338-DEB20DF5F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ехнология коллективного взаимодейст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совместной твор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79280" y="2460600"/>
            <a:ext cx="864252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уманитарная технология коллективного взаимодействия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это совокупность задач и методов, обеспечивающих создание развивающей гуманистической самоуправляющейся общности детей 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Терешкина Ю.В.</dc:creator>
  <dc:description/>
  <dc:language>en-US</dc:language>
  <cp:lastModifiedBy>Юлия</cp:lastModifiedBy>
  <dcterms:modified xsi:type="dcterms:W3CDTF">2015-02-09T19:59:53Z</dcterms:modified>
  <cp:revision>140</cp:revision>
  <dc:subject/>
  <dc:title>Технология коллективного взаимодействия</dc:title>
</cp:coreProperties>
</file>