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B6C-C64B-4D76-B941-39E2C05A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E09-E86B-45F1-B763-377538D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536-C020-413B-B77B-0AF3F9B1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5AC-0652-4B9D-A36E-BEB3CE87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F9B-4F10-4342-991C-8A8BE6F9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0C1-542F-4E05-99F5-4E201167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0BA-AA45-44B8-992B-3E24FC5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CE2-A07E-4BDE-9277-1E2C7E24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412-EE3A-46C4-9523-9D90EEAB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182-0319-444F-914F-EB75334F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AD2-12DD-4D04-BCC6-1EEA5EF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59A-5AC4-4B61-ABBF-DFC6EA55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EFC0-ABCB-4299-A6F4-C342261D1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ема: «Решение задач на применение уравнения состояния идеального газа и газовых зако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аучиться решать задачи с использованием газовых законов и уравнения Менделеева – Клапейр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43000" y="3733920"/>
          <a:ext cx="6553080" cy="2073240"/>
        </p:xfrm>
        <a:graphic>
          <a:graphicData uri="http://schemas.openxmlformats.org/drawingml/2006/table">
            <a:tbl>
              <a:tblPr/>
              <a:tblGrid>
                <a:gridCol w="1600200"/>
                <a:gridCol w="1676520"/>
                <a:gridCol w="1638360"/>
                <a:gridCol w="163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-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- 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7" name="Прямая со стрелкой 5"/>
          <p:cNvCxnSpPr/>
          <p:nvPr/>
        </p:nvCxnSpPr>
        <p:spPr>
          <a:xfrm flipV="1">
            <a:off x="6629040" y="434268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7"/>
          <p:cNvCxnSpPr/>
          <p:nvPr/>
        </p:nvCxnSpPr>
        <p:spPr>
          <a:xfrm flipV="1">
            <a:off x="3276720" y="5333760"/>
            <a:ext cx="3052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8"/>
          <p:cNvCxnSpPr/>
          <p:nvPr/>
        </p:nvCxnSpPr>
        <p:spPr>
          <a:xfrm>
            <a:off x="4952520" y="434304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9"/>
          <p:cNvCxnSpPr/>
          <p:nvPr/>
        </p:nvCxnSpPr>
        <p:spPr>
          <a:xfrm>
            <a:off x="6629040" y="4876920"/>
            <a:ext cx="30564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10"/>
          <p:cNvCxnSpPr/>
          <p:nvPr/>
        </p:nvCxnSpPr>
        <p:spPr>
          <a:xfrm>
            <a:off x="4952520" y="540972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11"/>
          <p:cNvCxnSpPr/>
          <p:nvPr/>
        </p:nvCxnSpPr>
        <p:spPr>
          <a:xfrm flipV="1">
            <a:off x="3276720" y="4876560"/>
            <a:ext cx="3052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3" name="Группа 47"/>
          <p:cNvGrpSpPr/>
          <p:nvPr/>
        </p:nvGrpSpPr>
        <p:grpSpPr>
          <a:xfrm>
            <a:off x="858240" y="685800"/>
            <a:ext cx="2696040" cy="2425680"/>
            <a:chOff x="858240" y="685800"/>
            <a:chExt cx="2696040" cy="2425680"/>
          </a:xfrm>
        </p:grpSpPr>
        <p:sp>
          <p:nvSpPr>
            <p:cNvPr id="74" name="Arc 14"/>
            <p:cNvSpPr/>
            <p:nvPr/>
          </p:nvSpPr>
          <p:spPr>
            <a:xfrm rot="10800000">
              <a:off x="1599840" y="1142280"/>
              <a:ext cx="1448280" cy="1447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5"/>
            <p:cNvGrpSpPr/>
            <p:nvPr/>
          </p:nvGrpSpPr>
          <p:grpSpPr>
            <a:xfrm>
              <a:off x="858240" y="685800"/>
              <a:ext cx="2696040" cy="2425680"/>
              <a:chOff x="858240" y="685800"/>
              <a:chExt cx="2696040" cy="2425680"/>
            </a:xfrm>
          </p:grpSpPr>
          <p:grpSp>
            <p:nvGrpSpPr>
              <p:cNvPr id="76" name="Group 16"/>
              <p:cNvGrpSpPr/>
              <p:nvPr/>
            </p:nvGrpSpPr>
            <p:grpSpPr>
              <a:xfrm>
                <a:off x="1143000" y="914040"/>
                <a:ext cx="2031480" cy="2175840"/>
                <a:chOff x="1143000" y="914040"/>
                <a:chExt cx="2031480" cy="2175840"/>
              </a:xfrm>
            </p:grpSpPr>
            <p:sp>
              <p:nvSpPr>
                <p:cNvPr id="77" name="Line 17"/>
                <p:cNvSpPr/>
                <p:nvPr/>
              </p:nvSpPr>
              <p:spPr>
                <a:xfrm flipV="1">
                  <a:off x="1143000" y="914040"/>
                  <a:ext cx="0" cy="217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18"/>
                <p:cNvSpPr/>
                <p:nvPr/>
              </p:nvSpPr>
              <p:spPr>
                <a:xfrm>
                  <a:off x="1143000" y="3089880"/>
                  <a:ext cx="2031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Text Box 19"/>
              <p:cNvSpPr/>
              <p:nvPr/>
            </p:nvSpPr>
            <p:spPr>
              <a:xfrm>
                <a:off x="858240" y="685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0"/>
              <p:cNvSpPr/>
              <p:nvPr/>
            </p:nvSpPr>
            <p:spPr>
              <a:xfrm>
                <a:off x="3221280" y="27432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56"/>
            <p:cNvSpPr/>
            <p:nvPr/>
          </p:nvSpPr>
          <p:spPr>
            <a:xfrm flipV="1" rot="7851600">
              <a:off x="1845360" y="2054160"/>
              <a:ext cx="271440" cy="16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33"/>
            <p:cNvSpPr/>
            <p:nvPr/>
          </p:nvSpPr>
          <p:spPr>
            <a:xfrm>
              <a:off x="1600200" y="1371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34"/>
            <p:cNvSpPr/>
            <p:nvPr/>
          </p:nvSpPr>
          <p:spPr>
            <a:xfrm flipV="1">
              <a:off x="2895840" y="13712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Прямая со стрелкой 41"/>
            <p:cNvCxnSpPr/>
            <p:nvPr/>
          </p:nvCxnSpPr>
          <p:spPr>
            <a:xfrm>
              <a:off x="2057040" y="1371240"/>
              <a:ext cx="5338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Прямая со стрелкой 42"/>
            <p:cNvCxnSpPr/>
            <p:nvPr/>
          </p:nvCxnSpPr>
          <p:spPr>
            <a:xfrm>
              <a:off x="2895480" y="159912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Прямоугольник 44"/>
            <p:cNvSpPr/>
            <p:nvPr/>
          </p:nvSpPr>
          <p:spPr>
            <a:xfrm>
              <a:off x="2899080" y="22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45"/>
            <p:cNvSpPr/>
            <p:nvPr/>
          </p:nvSpPr>
          <p:spPr>
            <a:xfrm>
              <a:off x="2822760" y="12189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46"/>
            <p:cNvSpPr/>
            <p:nvPr/>
          </p:nvSpPr>
          <p:spPr>
            <a:xfrm>
              <a:off x="1298160" y="1218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Группа 58"/>
          <p:cNvGrpSpPr/>
          <p:nvPr/>
        </p:nvGrpSpPr>
        <p:grpSpPr>
          <a:xfrm>
            <a:off x="2743200" y="4267080"/>
            <a:ext cx="4952880" cy="1524240"/>
            <a:chOff x="2743200" y="4267080"/>
            <a:chExt cx="4952880" cy="1524240"/>
          </a:xfrm>
        </p:grpSpPr>
        <p:sp>
          <p:nvSpPr>
            <p:cNvPr id="90" name="Прямоугольник 49"/>
            <p:cNvSpPr/>
            <p:nvPr/>
          </p:nvSpPr>
          <p:spPr>
            <a:xfrm>
              <a:off x="2743200" y="4267080"/>
              <a:ext cx="4952880" cy="152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51"/>
            <p:cNvSpPr/>
            <p:nvPr/>
          </p:nvSpPr>
          <p:spPr>
            <a:xfrm>
              <a:off x="4419360" y="4267080"/>
              <a:ext cx="0" cy="152424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53"/>
            <p:cNvSpPr/>
            <p:nvPr/>
          </p:nvSpPr>
          <p:spPr>
            <a:xfrm>
              <a:off x="6070680" y="4267080"/>
              <a:ext cx="0" cy="152424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55"/>
            <p:cNvSpPr/>
            <p:nvPr/>
          </p:nvSpPr>
          <p:spPr>
            <a:xfrm>
              <a:off x="2743200" y="4800600"/>
              <a:ext cx="4952880" cy="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57"/>
            <p:cNvSpPr/>
            <p:nvPr/>
          </p:nvSpPr>
          <p:spPr>
            <a:xfrm>
              <a:off x="2743200" y="5257800"/>
              <a:ext cx="4952880" cy="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40"/>
          <p:cNvGrpSpPr/>
          <p:nvPr/>
        </p:nvGrpSpPr>
        <p:grpSpPr>
          <a:xfrm>
            <a:off x="3449160" y="914400"/>
            <a:ext cx="2672640" cy="2260440"/>
            <a:chOff x="3449160" y="914400"/>
            <a:chExt cx="2672640" cy="2260440"/>
          </a:xfrm>
        </p:grpSpPr>
        <p:sp>
          <p:nvSpPr>
            <p:cNvPr id="96" name="Text Box 19"/>
            <p:cNvSpPr/>
            <p:nvPr/>
          </p:nvSpPr>
          <p:spPr>
            <a:xfrm>
              <a:off x="3449160" y="914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"/>
            <p:cNvSpPr/>
            <p:nvPr/>
          </p:nvSpPr>
          <p:spPr>
            <a:xfrm>
              <a:off x="5801040" y="2806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Прямая со стрелкой 76"/>
          <p:cNvCxnSpPr/>
          <p:nvPr/>
        </p:nvCxnSpPr>
        <p:spPr>
          <a:xfrm flipH="1">
            <a:off x="4800240" y="1294920"/>
            <a:ext cx="915120" cy="83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9" name="Группа 39"/>
          <p:cNvGrpSpPr/>
          <p:nvPr/>
        </p:nvGrpSpPr>
        <p:grpSpPr>
          <a:xfrm>
            <a:off x="3767040" y="914040"/>
            <a:ext cx="2386440" cy="2176560"/>
            <a:chOff x="3767040" y="914040"/>
            <a:chExt cx="2386440" cy="2176560"/>
          </a:xfrm>
        </p:grpSpPr>
        <p:grpSp>
          <p:nvGrpSpPr>
            <p:cNvPr id="100" name="Group 16"/>
            <p:cNvGrpSpPr/>
            <p:nvPr/>
          </p:nvGrpSpPr>
          <p:grpSpPr>
            <a:xfrm>
              <a:off x="3767040" y="914040"/>
              <a:ext cx="2031480" cy="2176560"/>
              <a:chOff x="3767040" y="914040"/>
              <a:chExt cx="2031480" cy="2176560"/>
            </a:xfrm>
          </p:grpSpPr>
          <p:sp>
            <p:nvSpPr>
              <p:cNvPr id="101" name="Line 17"/>
              <p:cNvSpPr/>
              <p:nvPr/>
            </p:nvSpPr>
            <p:spPr>
              <a:xfrm flipV="1">
                <a:off x="3767040" y="914040"/>
                <a:ext cx="0" cy="217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3767040" y="3090600"/>
                <a:ext cx="203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Прямая соединительная линия 63"/>
            <p:cNvSpPr/>
            <p:nvPr/>
          </p:nvSpPr>
          <p:spPr>
            <a:xfrm>
              <a:off x="4419360" y="12952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Группа 37"/>
            <p:cNvGrpSpPr/>
            <p:nvPr/>
          </p:nvGrpSpPr>
          <p:grpSpPr>
            <a:xfrm>
              <a:off x="4117320" y="990360"/>
              <a:ext cx="2036160" cy="1816200"/>
              <a:chOff x="4117320" y="990360"/>
              <a:chExt cx="2036160" cy="1816200"/>
            </a:xfrm>
          </p:grpSpPr>
          <p:sp>
            <p:nvSpPr>
              <p:cNvPr id="105" name="Прямая соединительная линия 64"/>
              <p:cNvSpPr/>
              <p:nvPr/>
            </p:nvSpPr>
            <p:spPr>
              <a:xfrm flipV="1">
                <a:off x="4419360" y="129456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Прямая со стрелкой 65"/>
              <p:cNvCxnSpPr/>
              <p:nvPr/>
            </p:nvCxnSpPr>
            <p:spPr>
              <a:xfrm>
                <a:off x="4876560" y="1294560"/>
                <a:ext cx="5342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7" name="Прямая со стрелкой 66"/>
              <p:cNvCxnSpPr/>
              <p:nvPr/>
            </p:nvCxnSpPr>
            <p:spPr>
              <a:xfrm flipV="1">
                <a:off x="4419000" y="1523520"/>
                <a:ext cx="1080" cy="5342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8" name="Прямоугольник 67"/>
              <p:cNvSpPr/>
              <p:nvPr/>
            </p:nvSpPr>
            <p:spPr>
              <a:xfrm>
                <a:off x="4117320" y="243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Прямоугольник 68"/>
              <p:cNvSpPr/>
              <p:nvPr/>
            </p:nvSpPr>
            <p:spPr>
              <a:xfrm>
                <a:off x="5718240" y="99036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оугольник 69"/>
              <p:cNvSpPr/>
              <p:nvPr/>
            </p:nvSpPr>
            <p:spPr>
              <a:xfrm>
                <a:off x="4117320" y="990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Прямая соединительная линия 78"/>
              <p:cNvSpPr/>
              <p:nvPr/>
            </p:nvSpPr>
            <p:spPr>
              <a:xfrm flipH="1">
                <a:off x="4419000" y="1294920"/>
                <a:ext cx="129564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Box 102"/>
          <p:cNvSpPr/>
          <p:nvPr/>
        </p:nvSpPr>
        <p:spPr>
          <a:xfrm>
            <a:off x="862380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38"/>
          <p:cNvGrpSpPr/>
          <p:nvPr/>
        </p:nvGrpSpPr>
        <p:grpSpPr>
          <a:xfrm>
            <a:off x="6482520" y="958680"/>
            <a:ext cx="2689920" cy="2260080"/>
            <a:chOff x="6482520" y="958680"/>
            <a:chExt cx="2689920" cy="2260080"/>
          </a:xfrm>
        </p:grpSpPr>
        <p:grpSp>
          <p:nvGrpSpPr>
            <p:cNvPr id="114" name="Группа 36"/>
            <p:cNvGrpSpPr/>
            <p:nvPr/>
          </p:nvGrpSpPr>
          <p:grpSpPr>
            <a:xfrm>
              <a:off x="6482520" y="958680"/>
              <a:ext cx="2689920" cy="2260080"/>
              <a:chOff x="6482520" y="958680"/>
              <a:chExt cx="2689920" cy="2260080"/>
            </a:xfrm>
          </p:grpSpPr>
          <p:grpSp>
            <p:nvGrpSpPr>
              <p:cNvPr id="115" name="Group 15"/>
              <p:cNvGrpSpPr/>
              <p:nvPr/>
            </p:nvGrpSpPr>
            <p:grpSpPr>
              <a:xfrm>
                <a:off x="6482520" y="958680"/>
                <a:ext cx="2689920" cy="2260080"/>
                <a:chOff x="6482520" y="958680"/>
                <a:chExt cx="2689920" cy="2260080"/>
              </a:xfrm>
            </p:grpSpPr>
            <p:grpSp>
              <p:nvGrpSpPr>
                <p:cNvPr id="116" name="Group 16"/>
                <p:cNvGrpSpPr/>
                <p:nvPr/>
              </p:nvGrpSpPr>
              <p:grpSpPr>
                <a:xfrm>
                  <a:off x="6818040" y="958680"/>
                  <a:ext cx="2031120" cy="2175120"/>
                  <a:chOff x="6818040" y="958680"/>
                  <a:chExt cx="2031120" cy="2175120"/>
                </a:xfrm>
              </p:grpSpPr>
              <p:sp>
                <p:nvSpPr>
                  <p:cNvPr id="117" name="Line 17"/>
                  <p:cNvSpPr/>
                  <p:nvPr/>
                </p:nvSpPr>
                <p:spPr>
                  <a:xfrm flipV="1">
                    <a:off x="6818040" y="958680"/>
                    <a:ext cx="0" cy="2175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8"/>
                  <p:cNvSpPr/>
                  <p:nvPr/>
                </p:nvSpPr>
                <p:spPr>
                  <a:xfrm>
                    <a:off x="6818040" y="3133800"/>
                    <a:ext cx="2031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Text Box 19"/>
                <p:cNvSpPr/>
                <p:nvPr/>
              </p:nvSpPr>
              <p:spPr>
                <a:xfrm>
                  <a:off x="6482520" y="95868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20"/>
                <p:cNvSpPr/>
                <p:nvPr/>
              </p:nvSpPr>
              <p:spPr>
                <a:xfrm>
                  <a:off x="8851680" y="285048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1" name="Прямая со стрелкой 98"/>
              <p:cNvCxnSpPr/>
              <p:nvPr/>
            </p:nvCxnSpPr>
            <p:spPr>
              <a:xfrm flipH="1">
                <a:off x="7470000" y="1370880"/>
                <a:ext cx="1205640" cy="226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Прямая со стрелкой 99"/>
              <p:cNvCxnSpPr/>
              <p:nvPr/>
            </p:nvCxnSpPr>
            <p:spPr>
              <a:xfrm>
                <a:off x="7470360" y="1369440"/>
                <a:ext cx="1080" cy="12106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3" name="Прямая соединительная линия 100"/>
              <p:cNvSpPr/>
              <p:nvPr/>
            </p:nvSpPr>
            <p:spPr>
              <a:xfrm flipH="1">
                <a:off x="7470360" y="1393560"/>
                <a:ext cx="1204920" cy="112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101"/>
              <p:cNvSpPr/>
              <p:nvPr/>
            </p:nvSpPr>
            <p:spPr>
              <a:xfrm>
                <a:off x="7386480" y="2558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Box 103"/>
              <p:cNvSpPr/>
              <p:nvPr/>
            </p:nvSpPr>
            <p:spPr>
              <a:xfrm>
                <a:off x="7386480" y="105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6" name="Прямая со стрелкой 29"/>
            <p:cNvCxnSpPr/>
            <p:nvPr/>
          </p:nvCxnSpPr>
          <p:spPr>
            <a:xfrm flipV="1">
              <a:off x="7696080" y="1792440"/>
              <a:ext cx="54828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134136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а рисунке дан график изменения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идеального газа в координатах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V,T.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Представ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этот процесс на графиках в координа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, V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p,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 flipV="1">
            <a:off x="971640" y="346212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55640" y="636264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042920" y="5733720"/>
            <a:ext cx="576360" cy="576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619280" y="4097160"/>
            <a:ext cx="1657440" cy="165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3276720" y="4097160"/>
            <a:ext cx="0" cy="172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1619280" y="5753160"/>
            <a:ext cx="1657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468360" y="348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27672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125892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77164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76720" y="522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пределение изопроцес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зопроцессы – процессы, происходящие при постоянном значении одного из макропараметров (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, V, T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Закон Бойля – Мариот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цесс – изотермический (Т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ля данной массы газа произведение давления на объём есть величина постоянная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к – изоте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Закон Гей - Люсс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– изобарны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con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анной массы газа отношение объёма к температуре есть величина постоянная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 - изоб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кон Шар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Процесс – изохорный (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V=const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Для данной массы газа отношение давления к температуре есть величина постоянная при постоянном объё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График – изох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900000" y="1341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692360" y="1484280"/>
            <a:ext cx="64800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</a:rPr>
              <a:t>Изотермически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Т =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nst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= P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</a:rPr>
              <a:t>Изобар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Р =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nst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   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Т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= V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</a:rPr>
              <a:t>Изохор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nst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  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Т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 = P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332000" y="350028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BS00554A"/>
          <p:cNvPicPr/>
          <p:nvPr/>
        </p:nvPicPr>
        <p:blipFill>
          <a:blip r:embed="rId1"/>
          <a:stretch/>
        </p:blipFill>
        <p:spPr>
          <a:xfrm>
            <a:off x="395280" y="5187960"/>
            <a:ext cx="1368360" cy="117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9746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6659640" y="4592520"/>
            <a:ext cx="1706400" cy="16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6762600" y="2905200"/>
            <a:ext cx="187164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им ли закон  Бойля-Мариотта к двум состояниям воздуха в игрушечном резиновом шаре в процессе его наду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Администратор\Рабочий стол\для педсовета\news3765.jpg"/>
          <p:cNvPicPr/>
          <p:nvPr/>
        </p:nvPicPr>
        <p:blipFill>
          <a:blip r:embed="rId1"/>
          <a:stretch/>
        </p:blipFill>
        <p:spPr>
          <a:xfrm>
            <a:off x="4643280" y="3214800"/>
            <a:ext cx="37465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любое тело, опущенное в горячую воду, не нагревается выше определенной температуры, как бы долго ни держали его в в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Администратор\Рабочий стол\для педсовета\i_042.jpg"/>
          <p:cNvPicPr/>
          <p:nvPr/>
        </p:nvPicPr>
        <p:blipFill>
          <a:blip r:embed="rId1"/>
          <a:stretch/>
        </p:blipFill>
        <p:spPr>
          <a:xfrm>
            <a:off x="4214880" y="3714840"/>
            <a:ext cx="42861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количество вещества  содержится в газе, если при давлении 200 кПа и температуре 240 К его объем равен 40 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4:14:46Z</dcterms:created>
  <dc:creator>колян</dc:creator>
  <dc:description/>
  <dc:language>en-US</dc:language>
  <cp:lastModifiedBy>USER</cp:lastModifiedBy>
  <dcterms:modified xsi:type="dcterms:W3CDTF">2015-01-16T07:51:26Z</dcterms:modified>
  <cp:revision>10</cp:revision>
  <dc:subject/>
  <dc:title>Тема: «Решение задач на применение уравнения состояния идеального газа и газовых законов»</dc:title>
</cp:coreProperties>
</file>