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CDA1-3DDE-4685-966B-DC5192EC3C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карт на уроках географии- это само собой разумеющиеся понятие. Однако тему ВОВ можно поднимать практически на любой теме. Для начала- урок по изучению инфраструктурного комплек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DD57-93D8-4A70-A2B3-935D3DC318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9607-D6C3-434F-9896-03A3D1B14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6E3B-1AD4-4A17-AF5F-5A047AC1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D76A-9BE9-431B-A648-51BED0EA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3A0D-DE2D-4AB9-9A48-9D21E6803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7FD8-7A47-4A69-9B13-5687F82A5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758B-E741-4537-8549-7A14C9D6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CD87-E71D-4C5E-9FC2-7F5CF14E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1D2D-6FD4-49B7-B561-48D9E9B6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405C-B464-44CF-A1A2-A44179DF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64B2-2D13-48DA-805A-D2E63194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2B9D-7A76-46DF-9648-4E3795FE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00DC-4508-4A4F-8B35-D6481A80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299D-A5A2-4500-ABFA-5DEF2055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1C5F-35A1-4D75-BBB5-1252B537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6E97-4CE1-411E-99A5-C0300BF2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1A55-7277-4CEC-948C-6610B35B5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1714-8556-4780-8CE6-807C347AC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1848AE-1293-4B7D-8D99-4DA8B137B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FFD708-8424-4B43-821D-0E9774B7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7559DC-AE8B-401A-BB79-0762B711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8FF579-646F-45AC-8057-FA2CB3046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12F28C-DD0C-4094-BC43-1295E66E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6E6E-A0B4-4C27-8010-7C726327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4E015B-7FE1-4CB0-920B-86298EB6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5E049C-3299-4EF5-97EC-501A51ED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E4A12E-AEB7-4C04-8CA0-62BA3A4D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8229F4-F4E4-4BB8-B5B6-1E5C5E9B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A0EB60-BAD7-407D-B59F-725775CC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A102B8-1CC6-402C-BB07-2C62AE1F8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0F8FAA-5128-4DE4-93C5-0408C3162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AD4FF-7B6E-4667-9E06-8776CC173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DF449-B9B7-4E06-8A49-A0C5A9F9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91F2D-8880-4949-8016-633BA66E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9496-BB84-4597-B97D-3EA444F6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C7806-19D8-4D7B-81B2-5082568E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F2CDF-0E9A-4D43-BC22-D0E9048D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2E1B8-D479-453A-9360-E34908E1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4E33B-61C2-47FD-80B4-809D2617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6E44F-0E55-4332-95A5-3B8661D6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CE6B9-BB78-4061-A103-51339C12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CA0F3-8F3E-4923-A751-7EF69325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D534E-9F2A-4B62-A866-5B7081A07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C70BC-828F-4A66-B7A7-B5F3442A3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4986A1-5F90-4BB0-9190-83636E762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2624-2FBD-43AB-971E-9D65B038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65E6D6-294A-41F9-9608-B185C37C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8FF6EF-F647-443A-AB26-C042ABB4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2555C9-C1EE-4F4E-8ADB-A37BC5F3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0AF5E6-B9E0-4605-A28E-413AAA62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D4062D-FF42-4E13-BC15-C2FD79D1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F1D31A-92B3-45DF-82E6-78CB741B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3453AC-43CA-48D6-A465-D1645159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E75755-CD63-46DD-B8B5-D24A79FE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FF02DD-8807-49F3-8C03-0F7BA483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34F58C-8B5E-4DB9-B3E6-93A0362B8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CDB0-0905-48DE-958E-33308F3A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0307A9-0B83-4827-BBF3-480CFE06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79DBC4-A75F-4DF6-8B1B-28BEDFBE7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8F273A-2C9E-4101-B92D-ABE753E38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4375D3-582C-46D7-AB8E-E1123C4C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17199E-87F1-4852-953B-D6435139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20561D-48C9-40C9-8A6C-F3C583FB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9A6F95-CBC6-47EC-885A-D868640F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3DE529-FA44-4B0E-94DC-57D22681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F2F279-262D-42FF-9872-96A151C4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A1C566-284F-4B6E-BD07-D5E192BE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23F4-1963-4216-AFBB-5E54EB39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73A77F-6F00-484F-8AF4-616DD40B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69905B-19EE-4D02-8873-361D27262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71453B-324E-45B1-9D0A-03F6D39B3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DDF125-C8E5-46AF-9DB9-65331D48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926237-F89C-467D-B102-9863A7FC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E31D44-EBD8-41C9-9C5B-D1C4ED66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445D42-05A4-4E22-81A1-3AF5D773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6CE143-6435-4419-8C82-3F593AE6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AEFB0B-8D89-49AA-85C5-54F85662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7F1C26-144B-4EA9-BAA2-6EE07187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21A9-990D-4733-BFB6-B14E385B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20881F-164F-4E19-BDBA-634EFB14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4B81C1-108E-408E-9CF8-1DE00108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582F0E-DAD8-4857-B583-C5F7C040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F6E86A-4F0B-4E78-894F-9EC7FFF53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FCC9F8-4D30-4EDC-B09E-C53088CCA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4794-FA32-4A7D-831E-B4DCC992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920B-2DF8-464C-84D0-8459278AA01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0AAEA-1BDF-4F50-8F9C-FF615671F3D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5936F-816D-4DCD-9F3D-E7556B6E4D1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772B-A0EA-4BC2-A755-CA4A94E4C65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388F-C1E0-4718-BFEF-E96EF41D8A78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B113-59C5-48D0-BAFE-60FFD40DF15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EEFC-A9D7-42A3-AAB9-949E5B94504B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ТЕМА ВЕЛИКОЙ ВОЙНЫ НА УРОКАХ ГЕОГРАФИ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9" name="Picture 5" descr="C:\Documents and Settings\user\Рабочий стол\654px-Second_world_war_europe_1941-1942_map_de.png"/>
          <p:cNvPicPr/>
          <p:nvPr/>
        </p:nvPicPr>
        <p:blipFill>
          <a:blip r:embed="rId1"/>
          <a:stretch/>
        </p:blipFill>
        <p:spPr>
          <a:xfrm>
            <a:off x="285840" y="2286000"/>
            <a:ext cx="3786120" cy="42861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6" descr="C:\Documents and Settings\user\Рабочий стол\576px-Second_world_war_europe_1941_map_de.png"/>
          <p:cNvPicPr/>
          <p:nvPr/>
        </p:nvPicPr>
        <p:blipFill>
          <a:blip r:embed="rId2"/>
          <a:stretch/>
        </p:blipFill>
        <p:spPr>
          <a:xfrm>
            <a:off x="4714920" y="2286000"/>
            <a:ext cx="400032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1T13:44:09Z</dcterms:created>
  <dc:creator>User</dc:creator>
  <dc:description/>
  <dc:language>en-US</dc:language>
  <cp:lastModifiedBy>user</cp:lastModifiedBy>
  <dcterms:modified xsi:type="dcterms:W3CDTF">2015-02-09T13:28:44Z</dcterms:modified>
  <cp:revision>30</cp:revision>
  <dc:subject/>
  <dc:title>Связь. Сфера обслуживания</dc:title>
</cp:coreProperties>
</file>