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7A7C-2B3C-4C77-8928-941564C573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арт на уроках географии- это само собой разумеющиеся понятие. Однако тему ВОВ можно поднимать практически на любой теме. Для начала- урок по изучению инфраструктур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73BC-AD5C-47B9-A8BF-E6BC2EE47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CBC-5C84-453B-A906-9F830D63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C56-BA3E-4E46-BEB4-B26EC2C9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AD0-2B11-4A13-B46B-988C891C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A12-6075-41EF-AD79-C2137E8C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E537-EBD3-4506-9A70-805ADE47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3B7B-F51A-4939-A811-BB6E39B1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7FE4-40AD-4FF4-A40C-4D15C031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2938-1CBC-468D-A112-341B225C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A1AE-0AB3-46E8-B3AD-D054E35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F4C-AA5E-44F3-B575-6633D972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189-B2DF-464D-9E9E-473AD638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0AA-144D-41B6-A538-2395597A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74E1-CF93-47E7-B49D-5875E2B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B9B2-344F-43F3-ACEF-669B13F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12B7-31B9-4A68-AFB0-0BDFE817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59F-1678-4BF9-B752-B6BF35BB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B145-4F74-4CE0-8B68-7AD7151B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00D87-7D93-4416-BA65-83EA3408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F43D5-612C-4516-9973-8D19F4D5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8E216-4718-40C4-A4F0-54DD2F71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6DCDF-4B30-4CC6-8089-2FCFEC4F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0C1C3-E122-448E-903B-5C982CAE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150-D69F-49C6-A728-C4A85E49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0CD98-72B1-4712-B7A9-1A78DEE2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BE245-251F-4839-851F-103B3F5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2EE47-C35D-45CE-AFB0-E21A47B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C0EFD-61B1-44BA-A21A-97FFB0AF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39784-2589-4190-94F8-7DA2E829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82CD2-875F-41E5-ADF2-5CFD0441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CF8C5-94E6-48ED-8DFE-39D499AA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72E5-9FB2-47DA-AB05-738A16C1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42D9-DEBF-48CE-A482-17E11421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F53E-6B52-44E7-9B03-AB626528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8DB-0307-480F-AA7D-F98C8F6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7DB2-CE0A-4765-B4CE-2A97787C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690C-E4D3-4888-9A61-905AF87B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A4B1-D7FE-4D8A-888D-12C906C0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7FBC-EC0E-49BF-B445-DEF9CEFD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9882-44B8-4733-AFE2-101DC006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4C4E-BCB3-40AB-A48E-8F3969DA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4C81-2F59-46CB-BF0E-908B78EA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7A322-990B-47DE-A662-10F84923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41BBB-DA84-46DD-B2C9-E9BA9D55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900B7-C3AD-4492-82F6-3B04EAED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2C0-3F96-4168-9634-6B9A2783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8D715-F726-47C3-A74B-12DB3484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26013-0537-4D2F-B6E0-AB74F132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F4D18-A178-474E-A96E-8DF99B9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82EEA-1EE9-4765-9D58-43553E2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BE37A-03ED-45A0-A0A4-E08D544D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FDA87-6D6F-43E9-84DD-46104750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85DF9-6380-4DCF-8001-924BDF21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567A9-F0C5-412B-B7B6-BC070C1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104F8-31FA-4EB3-A037-53A8913E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03AC4-8F37-4C8D-B18D-D4478150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92A-FBBB-44BF-8ACB-F324E672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003EB-518A-49E1-9AA0-32235FC0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B9F89-56A1-45B8-90F3-BEE82659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61B47-7E93-484F-82E9-26B9B38C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59EB4-AF99-40BD-B22F-2234E0A4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9F74F-A20C-4524-A593-439933EC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D4A3D-64B8-4701-8FC3-02409FD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4CC0B-FE15-4963-9022-30343EC5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89ECED-E017-45D6-AF1C-2A8E485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519B0-7D12-44AF-AC7C-FE6A0C6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2CEDE-6840-47CF-B090-7A6D07A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17B-6001-4C10-9B84-8CE6DCF6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AB315-91DB-4B8B-9563-1A7F2CAD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9FD33-C5C7-4031-ABFD-196E1671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6B6BE-3B5B-40F1-8550-3DC10A7C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8CB5B-DFF2-42DD-A2D1-DEE996F2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D7F67-5C6C-4B1D-A466-F056F40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D7277-B884-4498-86ED-39916674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71682-4D0D-40C2-BC5D-EDD32D15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BC30A-39A2-4A49-AF7A-69721111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0DB0D-349E-4B66-8C66-BFBBF866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6D8C8-1B73-43A0-8D2E-F96EA91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6DB-A937-42D4-BF20-8B0027F1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5978B-E2C4-4C1D-A02A-38BDA35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44758-2DCF-47F0-A817-50772E1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C6E0F-8043-439F-8B6D-A7B72250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1DA78-D535-48C3-BEF3-2E1582D6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3F0BA-D510-4BFC-B9A7-B374FE58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906-EE27-48BF-9609-B41C939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3A1-CA6A-4535-BA0A-D1F935AF64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BF6A-E1EC-4BD8-9A31-BBF51BE66A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B28-AD79-4971-9A58-DD57150B3F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618-0AE5-4FB6-916E-5D177D25D7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858D-4132-4E3A-92CC-013F07269D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9A62-F463-47C3-A685-D3836C3BFC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6F18-4426-4B94-BB94-1D82A136B7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ВЕЛИКОЙ ВОЙНЫ НА УРОКАХ ГЕОГРАФ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5" descr="C:\Documents and Settings\user\Рабочий стол\654px-Second_world_war_europe_1941-1942_map_de.png"/>
          <p:cNvPicPr/>
          <p:nvPr/>
        </p:nvPicPr>
        <p:blipFill>
          <a:blip r:embed="rId1"/>
          <a:stretch/>
        </p:blipFill>
        <p:spPr>
          <a:xfrm>
            <a:off x="285840" y="2286000"/>
            <a:ext cx="3786120" cy="4286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Documents and Settings\user\Рабочий стол\576px-Second_world_war_europe_1941_map_de.png"/>
          <p:cNvPicPr/>
          <p:nvPr/>
        </p:nvPicPr>
        <p:blipFill>
          <a:blip r:embed="rId2"/>
          <a:stretch/>
        </p:blipFill>
        <p:spPr>
          <a:xfrm>
            <a:off x="4714920" y="2286000"/>
            <a:ext cx="4000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13:44:09Z</dcterms:created>
  <dc:creator>User</dc:creator>
  <dc:description/>
  <dc:language>en-US</dc:language>
  <cp:lastModifiedBy>user</cp:lastModifiedBy>
  <dcterms:modified xsi:type="dcterms:W3CDTF">2015-02-09T13:28:44Z</dcterms:modified>
  <cp:revision>30</cp:revision>
  <dc:subject/>
  <dc:title>Связь. Сфера обслуживания</dc:title>
</cp:coreProperties>
</file>