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AD6-F2C4-4A58-A2D3-6D4A1379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8B6-7322-4798-926D-EB194560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CCFD-8348-43B4-94B3-CCCE4D0F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557-38F8-4553-ADF1-505B5AB4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E17-2FB9-4B92-9778-BDCE19AB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B60-6547-46B2-B55E-D5AC8365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E54-386C-4BB5-BF60-033CBC3B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E95-1368-4671-9806-66C30CF2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A5B-9157-42C4-823C-35C4E6B7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7C4-7454-44F5-8011-DA69C089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457-0B80-4294-87E1-4A4ABDE9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C89-CFAA-4084-8E68-D516FAA4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4C3E-4AEA-4B35-9B0B-55ABBE0680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91440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Каждый день с ребенком начинать радостью, заканчивать мир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468360" y="189000"/>
          <a:ext cx="1406520" cy="12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140652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Rectangle 2"/>
          <p:cNvSpPr/>
          <p:nvPr/>
        </p:nvSpPr>
        <p:spPr>
          <a:xfrm>
            <a:off x="0" y="442908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Новые отношения или конфлик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85840" y="357120"/>
            <a:ext cx="9144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Организация свободного време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03:59:40Z</dcterms:created>
  <dc:creator>Лариса</dc:creator>
  <dc:description/>
  <dc:language>en-US</dc:language>
  <cp:lastModifiedBy>Лариса</cp:lastModifiedBy>
  <dcterms:modified xsi:type="dcterms:W3CDTF">2014-01-23T16:15:26Z</dcterms:modified>
  <cp:revision>1</cp:revision>
  <dc:subject/>
  <dc:title>Каждый день с ребенком начинать радостью, заканчивать миром</dc:title>
</cp:coreProperties>
</file>