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88E-3BFA-4037-B6E7-64213706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9E8-0FC0-4CE1-A1A3-B578013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FDD-F581-43D5-BF72-ADF11D4D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0E5-5737-478A-8A94-7A8A8B49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83E-B669-4236-BB25-92C81F92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B8C-B476-4186-98EA-6A91DDDF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A04-ED64-40B9-963B-148F31F7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BC6-818B-45E7-8455-D8EA17E7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5F7-CBD0-4EE8-BFAA-733387BC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4DA-ED4B-49DA-B8D4-EF83F9C9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430-C24F-43E2-9515-98862519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B3E-F362-48D0-A455-704C45F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4D8F-93A6-4C8A-8F51-E764EF0E6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Каждый день с ребенком начинать радостью, заканчивать мир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468360" y="189000"/>
          <a:ext cx="140652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140652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2"/>
          <p:cNvSpPr/>
          <p:nvPr/>
        </p:nvSpPr>
        <p:spPr>
          <a:xfrm>
            <a:off x="0" y="44290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Новые отношения или конфлик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85840" y="357120"/>
            <a:ext cx="9144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Организация свободного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3:59:40Z</dcterms:created>
  <dc:creator>Лариса</dc:creator>
  <dc:description/>
  <dc:language>en-US</dc:language>
  <cp:lastModifiedBy>Лариса</cp:lastModifiedBy>
  <dcterms:modified xsi:type="dcterms:W3CDTF">2014-01-23T16:15:26Z</dcterms:modified>
  <cp:revision>1</cp:revision>
  <dc:subject/>
  <dc:title>Каждый день с ребенком начинать радостью, заканчивать миром</dc:title>
</cp:coreProperties>
</file>