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49B-1CE1-436B-93A5-DBD79B8B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684-E27A-485F-976E-F39AAB4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F56-8914-456E-B6F5-6D404804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83B-170F-4B9C-B7B9-E7099263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77BC-7B53-47C9-8604-EC902F6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3340-B679-4CA3-B358-2D06FCC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B6A-258B-4C4F-8E90-98BD23B4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E4F3-9515-405E-91A6-325D1F9D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2549-E09D-465E-8AC4-A632BD77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74B1-046D-4B85-80BB-8E70341F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7B87-0FA2-4138-BC5B-CB2C48B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9CA-09B3-4B43-B00C-F679F3B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FC5B-BBE7-48ED-8845-DF920B4C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AAF-5ED9-49C7-8195-4864DC2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1EF-A398-4226-A2E2-645A57A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E53B-A6D7-4F6B-BC20-B2BA7E27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4839-0768-4837-8580-0A7E20C1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3DF-FEA6-41DE-B702-4783483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D09-BA63-4E86-BC29-DB76E8D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EDA-E7B6-41B4-A148-80537996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4C8-D6EC-4E17-AFF4-BABA0030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202-DBF5-419D-B2DA-7AA0B27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665-4A9A-4D05-B603-CB9C45FD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346-6214-466A-AB65-57695615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040F-1C52-4376-BAEF-296C438A80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AF8-0560-40B4-BD92-F0141E8624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1960" y="1657080"/>
            <a:ext cx="49640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66600"/>
            <a:ext cx="8718840" cy="1378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5" descr=""/>
          <p:cNvPicPr/>
          <p:nvPr/>
        </p:nvPicPr>
        <p:blipFill>
          <a:blip r:embed="rId2"/>
          <a:stretch/>
        </p:blipFill>
        <p:spPr>
          <a:xfrm>
            <a:off x="433440" y="5162400"/>
            <a:ext cx="8350200" cy="1397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2268360" y="1317600"/>
            <a:ext cx="5131080" cy="384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421000" y="1469880"/>
            <a:ext cx="513072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Участие  в заочных профессиональных конкурсах: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российских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«Конкурс методических разработок «Родительское собрание»-2013,диплом учас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«Восьмой заочный творческий конкурс учителя математики, организованный журналом «Математика»(1-сентября)-2013,сертификат учас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Общероссийский проект «Школа цифрового века» (2012 год) – диплом « Учитель цифрового ве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Общероссийский проект «Школа цифрового века» (2013 год) – диплом «Учитель цифрового ве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Достижения учащихся в конкурсах по предмету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836640"/>
          <a:ext cx="8353440" cy="5805360"/>
        </p:xfrm>
        <a:graphic>
          <a:graphicData uri="http://schemas.openxmlformats.org/drawingml/2006/table">
            <a:tbl>
              <a:tblPr/>
              <a:tblGrid>
                <a:gridCol w="2016000"/>
                <a:gridCol w="432000"/>
                <a:gridCol w="1368360"/>
                <a:gridCol w="2957400"/>
                <a:gridCol w="1579680"/>
              </a:tblGrid>
              <a:tr h="14691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конкурсного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стника/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51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олодежный  математический  чемпионат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 Одаренности за  лучший  результат  в  райо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митриева  Свет-лана Александров-на,10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734760"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олодежный  матема-тический  чемпиона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 Одарен-ности за  лучший  результат  в  райо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скарова  Илюза  Ильгамовна,    9 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олодежный  матема-тический  чемпиона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регионального  победителя Центра Развития  Одар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ибгатуллина  Али-на Ахметовна, 5 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2451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23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899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ческий кон-курс-игра «Кенгур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34 уч-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лодежный чемпио-нат по математ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за активнное учас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6 уч-ся(5,7к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12243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Мультитест   по математике, орган-изованной Институтом Развития Школьного образ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бщероссий-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( 8 мест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(10 мест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 И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Шангараева  А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1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еспубликан-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(13 уч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78598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Достижения учащихся в конкурсах по предмету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836640"/>
          <a:ext cx="8497800" cy="5748480"/>
        </p:xfrm>
        <a:graphic>
          <a:graphicData uri="http://schemas.openxmlformats.org/drawingml/2006/table">
            <a:tbl>
              <a:tblPr/>
              <a:tblGrid>
                <a:gridCol w="1800360"/>
                <a:gridCol w="504720"/>
                <a:gridCol w="1511280"/>
                <a:gridCol w="1873080"/>
                <a:gridCol w="2808360"/>
              </a:tblGrid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1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спубликан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класс(13 уч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71756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ая олимпиада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deoroku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t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ар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Шангараева А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 И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улейманов Д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Фаррахов Р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Я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Яруллина Л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9810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ая олимпиада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deo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ku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t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ар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мидуллина И.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ибгатуллина Ф., 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айтимирова А. Г. 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 математический конкурс   «Ребус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1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 Шангараева 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212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математический конкурс  «Реб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ЯруллинаЛ,6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рисов Р,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950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ческая олимпиада  «Реб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бидуллин И.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санов Р.9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2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еспубликан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-13уч,7 класс-13у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3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еспубликан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-13 уч,7 клас-13 у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Достижения учащихся в конкурсах по предмету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549360"/>
          <a:ext cx="8713800" cy="6624720"/>
        </p:xfrm>
        <a:graphic>
          <a:graphicData uri="http://schemas.openxmlformats.org/drawingml/2006/table">
            <a:tbl>
              <a:tblPr/>
              <a:tblGrid>
                <a:gridCol w="1538280"/>
                <a:gridCol w="565200"/>
                <a:gridCol w="1484280"/>
                <a:gridCol w="2195640"/>
                <a:gridCol w="2930400"/>
              </a:tblGrid>
              <a:tr h="14716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ый конкурс по математике  проекта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1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1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ангараева А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руллина л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бгатуллина А. 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иннуров И.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лиуллина И. 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исов Р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656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ukon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атематическая олимпиад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убаеров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,Шангараев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,Фаррахов Р,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26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ый конкурс по математике  проекта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1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1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Д.,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Шангараева А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Фаррахов Р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.И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улейманов Д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хметзянова А. 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фиятов С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Я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убаерова З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1963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ый конкурс по математике  проекта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айтимирова А.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афина Л.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ибгатуллина Ф. 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иззатуллина Л,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ухаметшина Л. 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бидуллин И,10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Латыйпов А.,10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24000" y="1341360"/>
          <a:ext cx="8569080" cy="4572000"/>
        </p:xfrm>
        <a:graphic>
          <a:graphicData uri="http://schemas.openxmlformats.org/drawingml/2006/table">
            <a:tbl>
              <a:tblPr/>
              <a:tblGrid>
                <a:gridCol w="873000"/>
                <a:gridCol w="1467000"/>
                <a:gridCol w="718920"/>
                <a:gridCol w="771480"/>
                <a:gridCol w="776520"/>
                <a:gridCol w="768240"/>
                <a:gridCol w="1805040"/>
                <a:gridCol w="1388880"/>
              </a:tblGrid>
              <a:tr h="3528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учащих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цен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спеваем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ач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ний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80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010– 2011 учебны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gridSpan="8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:  100                             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80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011- 2012  учебны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6"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WordArt 3327"/>
          <p:cNvSpPr txBox="1"/>
          <p:nvPr/>
        </p:nvSpPr>
        <p:spPr>
          <a:xfrm>
            <a:off x="1042920" y="189000"/>
            <a:ext cx="712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намика  успеваемости  и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чества  знаний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ающихся  в  2010– 2015  г.г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95280" y="3673440"/>
          <a:ext cx="8280360" cy="2460600"/>
        </p:xfrm>
        <a:graphic>
          <a:graphicData uri="http://schemas.openxmlformats.org/drawingml/2006/table">
            <a:tbl>
              <a:tblPr/>
              <a:tblGrid>
                <a:gridCol w="1452600"/>
                <a:gridCol w="936720"/>
                <a:gridCol w="934920"/>
                <a:gridCol w="447840"/>
                <a:gridCol w="446040"/>
                <a:gridCol w="496800"/>
                <a:gridCol w="1295280"/>
                <a:gridCol w="1293840"/>
                <a:gridCol w="976320"/>
              </a:tblGrid>
              <a:tr h="31572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 2013/2014 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46"/>
          <p:cNvSpPr/>
          <p:nvPr/>
        </p:nvSpPr>
        <p:spPr>
          <a:xfrm>
            <a:off x="1066680" y="3444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620640"/>
          <a:ext cx="8136000" cy="2594160"/>
        </p:xfrm>
        <a:graphic>
          <a:graphicData uri="http://schemas.openxmlformats.org/drawingml/2006/table">
            <a:tbl>
              <a:tblPr/>
              <a:tblGrid>
                <a:gridCol w="1482840"/>
                <a:gridCol w="946080"/>
                <a:gridCol w="946080"/>
                <a:gridCol w="430200"/>
                <a:gridCol w="428760"/>
                <a:gridCol w="477720"/>
                <a:gridCol w="1243080"/>
                <a:gridCol w="1244520"/>
                <a:gridCol w="936720"/>
              </a:tblGrid>
              <a:tr h="44424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 2012/2013 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2425680" cy="324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4751280" cy="35560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4"/>
          <p:cNvSpPr txBox="1"/>
          <p:nvPr/>
        </p:nvSpPr>
        <p:spPr>
          <a:xfrm>
            <a:off x="1476360" y="189000"/>
            <a:ext cx="696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тупления  на  конференц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785880" y="260280"/>
            <a:ext cx="76737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кабине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940120" cy="2200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6000840" y="4071960"/>
            <a:ext cx="2847960" cy="2131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3"/>
          <a:stretch/>
        </p:blipFill>
        <p:spPr>
          <a:xfrm>
            <a:off x="6143760" y="1643040"/>
            <a:ext cx="2800080" cy="2095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4"/>
          <a:stretch/>
        </p:blipFill>
        <p:spPr>
          <a:xfrm>
            <a:off x="3143160" y="271476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5"/>
          <a:stretch/>
        </p:blipFill>
        <p:spPr>
          <a:xfrm>
            <a:off x="168120" y="4095720"/>
            <a:ext cx="2926080" cy="21909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>
            <a:off x="785880" y="260280"/>
            <a:ext cx="76737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кабине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6"/>
          <a:stretch/>
        </p:blipFill>
        <p:spPr>
          <a:xfrm>
            <a:off x="214200" y="1643040"/>
            <a:ext cx="2940120" cy="220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7"/>
          <a:stretch/>
        </p:blipFill>
        <p:spPr>
          <a:xfrm>
            <a:off x="6000840" y="4071960"/>
            <a:ext cx="2847960" cy="2131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8"/>
          <a:stretch/>
        </p:blipFill>
        <p:spPr>
          <a:xfrm>
            <a:off x="6143760" y="1643040"/>
            <a:ext cx="2800080" cy="209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9"/>
          <a:stretch/>
        </p:blipFill>
        <p:spPr>
          <a:xfrm>
            <a:off x="3143160" y="271476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10"/>
          <a:stretch/>
        </p:blipFill>
        <p:spPr>
          <a:xfrm>
            <a:off x="168120" y="4095720"/>
            <a:ext cx="2926080" cy="219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11"/>
          <a:stretch/>
        </p:blipFill>
        <p:spPr>
          <a:xfrm>
            <a:off x="214200" y="1643040"/>
            <a:ext cx="2940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3987720" cy="298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324000" y="3659040"/>
            <a:ext cx="4275000" cy="319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4748040" y="3659040"/>
            <a:ext cx="4210200" cy="3152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324000" y="549360"/>
            <a:ext cx="4321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Награды: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907920"/>
          <a:ext cx="8136000" cy="5873760"/>
        </p:xfrm>
        <a:graphic>
          <a:graphicData uri="http://schemas.openxmlformats.org/drawingml/2006/table">
            <a:tbl>
              <a:tblPr/>
              <a:tblGrid>
                <a:gridCol w="431640"/>
                <a:gridCol w="6107400"/>
                <a:gridCol w="1596960"/>
              </a:tblGrid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награ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ая грамота Министерства образования и науки 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научному руководителю лауреата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Всероссийской  гуманитарно-просветительской конференции «История моей семьи-страница много-вековой истории Отечеств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Одаренности за подготовку призера Всероссийского «Молодежного математического чемпионата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научного руководителя лауреата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Всероссийской  гуманитарно-просветительской конференции «История моей семьи - страница многовековой истории Отечеств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 за подготовку учеников к Всероссийской олимпиаде по математике «Пифагор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грудный знак «За заслуги в образован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нт «Наш лучший учитель» (прем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 за  помощь в органи-зации конкурса «Кенгуру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6628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Одаренности за активное участие  во Всероссийском «Молодежном  математи-ческом чемпионат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«Учитель цифрового века»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«Учитель цифрового века»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победителю в номинации «За лучшее использование инновационных технологий» муници-пального этапа республиканского конкурса «Учитель года-2013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Образование :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Высшее профессиональное. КГПИ, 1983г., учитель математики.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Дополнительное образование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( повышение квалификации):с21 марта по 1апреля 2011г, «Методика эффективной подготовки учащихся к ЕГЭ по математике»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Должность: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Учитель математики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Квалификационная категория: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первая квалификационная категория по должности «Учитель», 2011 г.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Стаж работы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31 год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4868640"/>
            <a:ext cx="8218440" cy="12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а работы : «Развитие творческих способностей учащихся на уроке и во внеурочное врем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Награды: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280" y="981000"/>
          <a:ext cx="8640720" cy="5832720"/>
        </p:xfrm>
        <a:graphic>
          <a:graphicData uri="http://schemas.openxmlformats.org/drawingml/2006/table">
            <a:tbl>
              <a:tblPr/>
              <a:tblGrid>
                <a:gridCol w="432000"/>
                <a:gridCol w="7345440"/>
                <a:gridCol w="863280"/>
              </a:tblGrid>
              <a:tr h="5032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дарность за активное участие в работе между-народного проекта  для учителей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deourok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921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за активное участие в Восьмом заочном творческом конкурсе учителей математики, организованном журналом  «Математи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16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видетельство за подготовку призеров в работе международного проекта  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videouroki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ne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ия во 2-Всероссийском Конкурсе методических разработок «Родительское собрание» в рамках 4-Фестиваля педагогического мастерства «Дистанционная вол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03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 за организацию и проведение международной дистанционной олимпиады образовательного центра «Эдукон» по предмету «Математи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1624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ность за помощь и активное участие в работе международного проекта  для учителей 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февра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03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видетельство за подготовку призеров в работе международного проекта  для учителей 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7351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 за подготовку к участию  в дистанционной олимпиаде образовательного центра «Эдукон» по предмету «Математика» учащихся 6 классов, ставших призера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8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 за активное участие в проекте «Реб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24516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призеру районного смотра-конкурса кабинетов мате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624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победителю районного конкурса «Лучший учитель математи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6664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ность за  активное участие в работе международного проекта  для учителей 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5662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видетельство за подготовку  к участию  в Международной  дистанционной олимпиаде по математике проекта  «Инфоурок» учащихся, ставших победител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</a:tbl>
          </a:graphicData>
        </a:graphic>
      </p:graphicFrame>
      <p:sp>
        <p:nvSpPr>
          <p:cNvPr id="179" name="Rectangle 1"/>
          <p:cNvSpPr/>
          <p:nvPr/>
        </p:nvSpPr>
        <p:spPr>
          <a:xfrm>
            <a:off x="7659720" y="11959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73200" y="333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Развивать и укреплять интерес к предмет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Использовать новые педагогические технолог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Дать учащимся качественное образова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Раскрыть способности, интеллектуальный, творческий, нравственный потенциал каждого уче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Подготовить учащихся к осознанному выбору профессии, привить навыки самостоя-тельной работы, совершенствовать формы организации учебн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258920" y="333360"/>
            <a:ext cx="7058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crosoft Sans Serif"/>
              </a:rPr>
              <a:t>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395280" y="333360"/>
            <a:ext cx="8280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зультаты ЕГЭ по математик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989000"/>
          <a:ext cx="8424720" cy="3861000"/>
        </p:xfrm>
        <a:graphic>
          <a:graphicData uri="http://schemas.openxmlformats.org/drawingml/2006/table">
            <a:tbl>
              <a:tblPr/>
              <a:tblGrid>
                <a:gridCol w="1351080"/>
                <a:gridCol w="2752560"/>
                <a:gridCol w="2592360"/>
                <a:gridCol w="17287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учащихся, набравших высокие                     баллы на ЕГ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5840" y="1428840"/>
          <a:ext cx="8643960" cy="4802040"/>
        </p:xfrm>
        <a:graphic>
          <a:graphicData uri="http://schemas.openxmlformats.org/drawingml/2006/table">
            <a:tbl>
              <a:tblPr/>
              <a:tblGrid>
                <a:gridCol w="642960"/>
                <a:gridCol w="1785960"/>
                <a:gridCol w="4786200"/>
                <a:gridCol w="1428840"/>
              </a:tblGrid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милия уче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8/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гьдиев 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фин 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ттаров 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митриева 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раева 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ильмутдинов 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фина 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ннатуллина 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скарова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2340000" y="333360"/>
            <a:ext cx="4608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далисты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4360" y="1992240"/>
          <a:ext cx="7920000" cy="3637080"/>
        </p:xfrm>
        <a:graphic>
          <a:graphicData uri="http://schemas.openxmlformats.org/drawingml/2006/table">
            <a:tbl>
              <a:tblPr/>
              <a:tblGrid>
                <a:gridCol w="1979640"/>
                <a:gridCol w="3960720"/>
                <a:gridCol w="19796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д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/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гъдиев Аз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/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бгатуллина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иганшина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ебря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скарова 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упление в ВУ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7120" y="928800"/>
          <a:ext cx="8572680" cy="5708520"/>
        </p:xfrm>
        <a:graphic>
          <a:graphicData uri="http://schemas.openxmlformats.org/drawingml/2006/table">
            <a:tbl>
              <a:tblPr/>
              <a:tblGrid>
                <a:gridCol w="1428840"/>
                <a:gridCol w="2857320"/>
                <a:gridCol w="4286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милия уче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ВУ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митриева 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нститут экономики и финансов. КФ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ильмутдинов 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нститут экономики и финансов.  КФ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ннатуллина 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ФУ(факультет механико-математическ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лимуллина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У культуры  и искусств (отд. «Экономика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37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ухаметшин 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азанский энергетический универс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скарова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ФУ(факультет механико-математическ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рифуллин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АУ(механический факульт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мидуллин 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АУ(механический факульт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АУ(механический факульт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Участие в муниципальных, зональных и республиканских семинарах, на заседаниях РМО:</a:t>
            </a:r>
            <a:br>
              <a:rPr sz="2000"/>
            </a:b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764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Участие в республиканском семинаре «Реализация требований Федераль-ного государственного образовательного стандарта основного общего обра-зования  в УМК «Сферы. Математика»(5-6 классы) издательства «Просвеще-ние»-2012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Открытый урок  для учителей начальных классов (куст) на тему «Свойства сложения и умножения натуральных чисел» в 5-кл-2011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«Требования к оформлению рабочих программ по математике». Выступле-ние на секции учителей математики августовской конференции-2011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«Формулы сокращенного умножения» Открытый урок на заседании РМО учителей математики-2012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»В мире чисел», открытое мероприятие на заседании РМО учителей математики-2012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)Открытый мастер-класс  «Моя родословная –непрерывная связь поколений» на республиканском семинаре-совещании заместителей начальников по вос-питательной работе муниципальных органов управления образованием РТ-20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) «Развитие самостоятельности школьников при обучении математике» Выступление на секции учителей математики августовской конференции-2013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) «Технология устного счета на уроках математики». Выступление на секции учителей математики августовской конференции-2012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9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ногоуровневая система повышения квалификации учителей математики» Выступление на зональном семинаре учителей математики на базе Затонской СОШ-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Участие  в очных профессиональных конкурсах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ниципальных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.«Учитель года-2013»-призер муниципального этап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«Лучший кабинет математики-2014»-призер муниципального этап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«Лучший учитель математики года»-(2014)-победитель муниципального  эта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гиональ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«Наш лучший учитель-2011»-победи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российски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Приоритетный национальный проект «Образование»(ПНПО-2012)- учас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7:51:39Z</dcterms:created>
  <dc:creator>Tester</dc:creator>
  <dc:description/>
  <dc:language>en-US</dc:language>
  <cp:lastModifiedBy>ASUS_1</cp:lastModifiedBy>
  <dcterms:modified xsi:type="dcterms:W3CDTF">2015-02-03T17:39:39Z</dcterms:modified>
  <cp:revision>110</cp:revision>
  <dc:subject/>
  <dc:title>Тема: «Формирование коммуникативных умений и навыков как средство развития творческих способностей учащихся»</dc:title>
</cp:coreProperties>
</file>