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6A6-5E56-489F-8DB2-E4A9F3C5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BF9-7FE4-4936-96E3-9036972A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EC4-D01A-45E6-BEBB-22F7C194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8DD-B52A-46B4-A97A-00CBF701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428-8363-4E5D-8CE6-61EAD4F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72C-51A1-4421-85D3-B680D37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914-C3A4-4E74-9630-D71319BC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3D1-EAF8-495D-B5D7-F081F9DD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FE2-3BBD-4D9B-B51A-25510F9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066-DC53-4DD0-B3EB-B7298D4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7F7-D347-4A8E-80BC-965877A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6E5-4DE3-460B-99B0-E620224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8F8-7CEB-4A7D-A56E-69E97742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oici l`automne,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 temps des pom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ici un h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is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porte des feuille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ns sa mais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2057400"/>
            <a:ext cx="8382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Times New Roman"/>
              </a:rPr>
              <a:t>Histoire à devin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19720" y="914400"/>
            <a:ext cx="1828800" cy="990720"/>
          </a:xfrm>
          <a:prstGeom prst="cloudCallout">
            <a:avLst>
              <a:gd name="adj1" fmla="val -16231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e ciel 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91440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gri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819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2057400" cy="129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26668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3434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ns la foret les enfants cherch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5029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s champign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2193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oic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un h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ériss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3962520" cy="2605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8862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por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819520" y="3298680"/>
            <a:ext cx="3962160" cy="277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86200" y="388620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es feui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90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oici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49560" y="990720"/>
            <a:ext cx="488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ureu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58128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le aime mang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76920" y="44956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es g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En automne,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 ciel est gr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Il ple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Le vent souff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s feuilles rouges, jaunes, vertes tombent par ter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01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s enfants vont dans la for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ls cherchent des champign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ici un 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ureu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96080" cy="4419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`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ureuil aime manger les g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08T14:12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