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6A3-AB14-4289-A3AD-E762FACC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DE9-E38B-4F7E-8E6B-3881A5C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12D-C21E-44E3-914C-A94405CB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077-EC35-486B-9ED3-5D9B30E9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E63-F273-4C43-99C3-FD32730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248-C5B2-4C19-AFDA-F3AF2F48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74E-D493-4DA7-A42E-A29E6AA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1E6-F277-425B-93D5-B10A305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29D-E013-4892-A517-805958E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EDC-8B72-4D74-AB7D-3557A35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2F3-FD53-4D80-9BE1-D9FB78B8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322-4A42-463A-8C76-9C61DE1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55D-6862-46A0-B16A-B204E262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oici l`automne,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 temps des pom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ici un h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is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porte des feuille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ans sa mais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2057400"/>
            <a:ext cx="8382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Times New Roman"/>
              </a:rPr>
              <a:t>Histoire à devin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19720" y="914400"/>
            <a:ext cx="1828800" cy="990720"/>
          </a:xfrm>
          <a:prstGeom prst="cloudCallout">
            <a:avLst>
              <a:gd name="adj1" fmla="val -16231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e ciel 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91440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gri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819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2057400" cy="129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3200" y="26668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le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3434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ns la foret les enfants cherch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5029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s champign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2193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oic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un h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ériss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3962520" cy="2605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8862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por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819520" y="3298680"/>
            <a:ext cx="3962160" cy="277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86200" y="388620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es feui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90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oici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53352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49560" y="990720"/>
            <a:ext cx="488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ureu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58128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le aime mang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76920" y="44956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es g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En automne,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 ciel est gr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Il ple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1629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Le vent souff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s feuilles rouges, jaunes, vertes tombent par ter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01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s enfants vont dans la for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ls cherchent des champign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ici un 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ureu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96080" cy="4419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`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ureuil aime manger les g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08T14:12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