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1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9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28.jpeg" ContentType="image/jpeg"/>
  <Override PartName="/ppt/media/image7.jpeg" ContentType="image/jpeg"/>
  <Override PartName="/ppt/media/image2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5.png" ContentType="image/png"/>
  <Override PartName="/ppt/media/image22.gif" ContentType="image/gif"/>
  <Override PartName="/ppt/media/image34.jpeg" ContentType="image/jpeg"/>
  <Override PartName="/ppt/media/image37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1.jpeg" ContentType="image/jpeg"/>
  <Override PartName="/ppt/media/image1.gif" ContentType="image/gi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34D-2628-4D7B-9DEB-475973E9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4EA-805D-4F50-825A-DE59681A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91D-1469-4FDD-9AF7-F2E2EC57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2B8F-514A-4C41-B1AE-21C35470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DA9-BC2B-4247-A281-5B00B567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FD56-BB70-4BDD-B0C0-F2C6051C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AE03-3A6C-4F3F-9599-8B44E84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AF2-14EF-45C8-98FC-AF87F5D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FDAC-7970-4964-AD86-8663E590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F65-23B7-4938-8ACB-5D77958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9C0-CB5D-4E46-9D9E-4D86549C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84B4-D7C5-41E7-9D49-665BECA4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747B-C43C-4D2A-B8CA-83AD4782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85BD-9070-426B-982B-F4042771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C238-A827-47BE-8600-76DD7487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0AA4-1FEB-48CF-A1FF-698DD556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CE26-E67B-4F4A-AE17-23AB7624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427E4-6F8E-4B3E-B41A-16947DE8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5B2B-5F60-4098-9762-614E39DB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AB3FD-DF5D-448E-8600-0A3018CF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5B60A-AA46-4D62-A562-42694C2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3E8EA-1A49-4D3D-A4FE-EE7BB582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9A4F-6842-480D-A206-A6FCB362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D94DD-DA03-4031-BE17-ECCAB280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B10FE-FE34-408B-BEAD-84D7B38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2374-D747-4E85-94AB-D12A79F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DC023-7905-48DE-BDDB-C7354937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3C7F-624F-4D11-BB6C-042952E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5E1B-7E9A-47BB-8792-E915A0E4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7A55-F6B0-40B7-BA70-7578DE4A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134A5-9639-4DD8-8765-4A9F8552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D205B-7498-49D1-80E5-79CD521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7D3FD-2D37-449E-8F22-82E6E143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A292-7690-45F9-808F-DB5E2B35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B8E6A-544D-456B-9B29-09F29222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330DE-55FE-476F-8DB4-81B6F270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05F63-C5DF-4F80-BE97-542350F7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2D8D3-87D0-4351-9584-B6BB9F7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9FCE8-0DFA-454B-A3A0-14A1A6F3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D12FE-5A6C-4913-B500-63438C7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D3FB0-86C2-4FD4-928D-6DC78443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3E28C-A042-4EFC-95A3-138034B78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BCFAF-E688-4A45-803C-E0050CCA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5A63E-6C7D-43DC-A5A6-2C4E3E92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03DB-A3CC-494E-A5DE-2557E434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4898F-A809-4049-8E47-7FCC57EA1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9310-6664-4E1A-88DC-A6F037E8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05CE5-6D8E-493D-B3EE-D3E4857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6345E-9077-45FD-81F5-7AA21AA6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ECF5-840D-4FE6-A65F-41B04367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3B772-5816-4554-BAE5-6F1EAF0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99F8E-1CD2-4173-B6C8-944F09DF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318C-7988-4850-B7E0-41F62A0C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3A764-A859-4EB4-8836-99AF9AAE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14968-03C0-4A1C-993E-2265935D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A879-83C7-4791-A580-34B023A6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8BDD-327E-42F8-8C98-A4CD5C63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D61DC-2F24-4D47-B302-43F9287E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9709-817B-44CD-B5E9-DCEDC889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1827A-AC41-44A1-AF9A-8B707651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04872-BC8C-4D2E-A19F-F5D1A3BD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F9190-5DD5-4DA1-9C85-5BB7942C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D049A-8D5A-4F2C-8118-4A69926D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56B35-8CF3-4A32-94BC-0BC22E9A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908D-DB0B-4F11-A421-6FB9BC2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FB002-A5F0-412B-AC15-5BDE0CD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92B8-8C25-4331-B94D-772927C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EAD15-42EE-469A-9CA3-F9CA3BD8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9A75-9D35-480E-B6A2-154196C77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87A2A-DE33-457B-A00A-ADD30126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F5F16-77CD-49DD-AA3D-90E0FACC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AA490-6B0A-4356-8A86-89F25231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5AEBF-BE04-483E-A5AB-3FC5D5F3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D5A5E-BCD0-45F4-AF97-5E84BAC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CED84-C777-41D7-9CD7-1BA8156B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4CC5D-EA34-40B8-9FA7-E65912D8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7535-647A-4D5E-929D-EC90BB1E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CD0-2A3A-4E15-8BC4-EBE852F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7A9D4-A0DC-4D80-8BE4-A5FE6DAF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CD774-0C48-4CE6-97A3-83273640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F3CA-EFD2-46D7-BA38-87A687A7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6B309-C2E2-4F1D-9F34-DC7615196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5648B-3933-4BDF-BD20-16E04CB92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CE42-739A-4125-ADFB-9BB23E5F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A13F-4B42-4D8B-A94E-30EC829C22F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A0CD-A0BD-4063-920C-6C40F67BF5F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C034-6D8C-4997-80AF-9D04E10FF533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5E16-4B48-4BE7-BBE8-DC23A9B9923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2208-C253-4CBE-8BC6-5C4E8A1D14F0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AD41-065C-43B4-8F19-8BEAF41909D0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ACF7-94C2-4E37-8979-74D87D5E11C0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5"/>
          <p:cNvSpPr/>
          <p:nvPr/>
        </p:nvSpPr>
        <p:spPr>
          <a:xfrm>
            <a:off x="571680" y="78588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Урок русского язы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 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в 3 классе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по теме « Приставк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       </a:t>
            </a:r>
            <a:r>
              <a:rPr b="0" lang="ru-RU" sz="4000" spc="-1" strike="noStrike">
                <a:solidFill>
                  <a:srgbClr val="ffff00"/>
                </a:solidFill>
                <a:latin typeface="Arial Black"/>
              </a:rPr>
              <a:t>и её роль в слове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Рисунок 10" descr="56.gif"/>
          <p:cNvPicPr/>
          <p:nvPr/>
        </p:nvPicPr>
        <p:blipFill>
          <a:blip r:embed="rId1"/>
          <a:stretch/>
        </p:blipFill>
        <p:spPr>
          <a:xfrm>
            <a:off x="857160" y="3786120"/>
            <a:ext cx="1428840" cy="20718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Я хадил сегодня в 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Там на дерево за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А потом спускался внис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а нечаянно повиз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Рисунок 3" descr="1bada0379d7ea1bb7c894d4297ec6f76.jpg"/>
          <p:cNvPicPr/>
          <p:nvPr/>
        </p:nvPicPr>
        <p:blipFill>
          <a:blip r:embed="rId2"/>
          <a:stretch/>
        </p:blipFill>
        <p:spPr>
          <a:xfrm>
            <a:off x="428760" y="428760"/>
            <a:ext cx="1323720" cy="119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Я х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о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ил сегодня в ле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Там на дерево залез,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А потом спускался вни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з</a:t>
            </a:r>
            <a:br>
              <a:rPr sz="4800"/>
            </a:b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Да нечаянно пови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0" lang="ru-RU" sz="4800" spc="-1" strike="noStrike">
                <a:solidFill>
                  <a:srgbClr val="ffff00"/>
                </a:solidFill>
                <a:latin typeface="Century Gothic"/>
              </a:rPr>
              <a:t>. 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Рисунок 3" descr="1bada0379d7ea1bb7c894d4297ec6f76.jpg"/>
          <p:cNvPicPr/>
          <p:nvPr/>
        </p:nvPicPr>
        <p:blipFill>
          <a:blip r:embed="rId2"/>
          <a:stretch/>
        </p:blipFill>
        <p:spPr>
          <a:xfrm>
            <a:off x="428760" y="428760"/>
            <a:ext cx="1323720" cy="1190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213840" y="188280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а) Доказать. что приставка часть слова.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б) Исследовать, для чего служит приставка.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Century Gothic"/>
              </a:rPr>
              <a:t>в) Вспомнить отличия приставки и предлога.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5000760" y="2571840"/>
          <a:ext cx="3571920" cy="2071440"/>
        </p:xfrm>
        <a:graphic>
          <a:graphicData uri="http://schemas.openxmlformats.org/drawingml/2006/table">
            <a:tbl>
              <a:tblPr/>
              <a:tblGrid>
                <a:gridCol w="771480"/>
                <a:gridCol w="493560"/>
                <a:gridCol w="241200"/>
                <a:gridCol w="689040"/>
                <a:gridCol w="687600"/>
                <a:gridCol w="689040"/>
              </a:tblGrid>
              <a:tr h="89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  <a:tr h="453960">
                <a:tc gridSpan="6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у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928800" y="2571840"/>
          <a:ext cx="3571920" cy="2071440"/>
        </p:xfrm>
        <a:graphic>
          <a:graphicData uri="http://schemas.openxmlformats.org/drawingml/2006/table">
            <a:tbl>
              <a:tblPr/>
              <a:tblGrid>
                <a:gridCol w="812520"/>
                <a:gridCol w="581040"/>
                <a:gridCol w="725760"/>
                <a:gridCol w="726840"/>
                <a:gridCol w="725760"/>
              </a:tblGrid>
              <a:tr h="906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ере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И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Раз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Д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  <a:tr h="48564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 счит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д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От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о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На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Вы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b2ff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7"/>
          <p:cNvSpPr/>
          <p:nvPr/>
        </p:nvSpPr>
        <p:spPr>
          <a:xfrm>
            <a:off x="785880" y="142920"/>
            <a:ext cx="7429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а) Приставка часть слова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(работа в групп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642960" y="1285920"/>
            <a:ext cx="764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б) Для чего служит приставка</a:t>
            </a:r>
            <a:br>
              <a:rPr sz="3600"/>
            </a:br>
            <a:br>
              <a:rPr sz="32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Прямоугольник 9"/>
          <p:cNvSpPr/>
          <p:nvPr/>
        </p:nvSpPr>
        <p:spPr>
          <a:xfrm>
            <a:off x="928800" y="4952880"/>
            <a:ext cx="692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в) Приставки и предлоги</a:t>
            </a:r>
            <a:br>
              <a:rPr sz="3600"/>
            </a:br>
            <a:r>
              <a:rPr b="0" lang="ru-RU" sz="3600" spc="-1" strike="noStrike">
                <a:solidFill>
                  <a:srgbClr val="ff5698"/>
                </a:solidFill>
                <a:latin typeface="Century Gothic"/>
              </a:rPr>
              <a:t>Спишите, раскрывая скоб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20840" y="128520"/>
            <a:ext cx="8272440" cy="1541520"/>
          </a:xfrm>
          <a:prstGeom prst="rect">
            <a:avLst/>
          </a:prstGeom>
          <a:ln w="0">
            <a:noFill/>
          </a:ln>
        </p:spPr>
      </p:pic>
      <p:sp>
        <p:nvSpPr>
          <p:cNvPr id="380" name="Прямоугольник 7"/>
          <p:cNvSpPr/>
          <p:nvPr/>
        </p:nvSpPr>
        <p:spPr>
          <a:xfrm>
            <a:off x="642960" y="1000080"/>
            <a:ext cx="621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1. Корень эт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часть речи —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п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                                                                                                      б) часть слова — </a:t>
            </a:r>
            <a:r>
              <a:rPr b="0" i="1" lang="ru-RU" sz="2400" spc="-1" strike="noStrike">
                <a:solidFill>
                  <a:srgbClr val="0000cc"/>
                </a:solidFill>
                <a:latin typeface="Century Gothic"/>
              </a:rPr>
              <a:t>м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571680" y="1928880"/>
            <a:ext cx="6215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2. Приставка служит для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связи слов в предложении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н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для образования новых слов — </a:t>
            </a:r>
            <a:r>
              <a:rPr b="0" i="1" lang="ru-RU" sz="2400" spc="-1" strike="noStrike">
                <a:solidFill>
                  <a:srgbClr val="0000cc"/>
                </a:solidFill>
                <a:latin typeface="Century Gothic"/>
              </a:rPr>
              <a:t>о</a:t>
            </a:r>
            <a:r>
              <a:rPr b="0" i="1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571680" y="3429000"/>
            <a:ext cx="62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3. Приставка стоит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перед корнем -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л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после корня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500040" y="4643280"/>
            <a:ext cx="6357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4. Приставка эт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изменяемая часть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а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неизменяемая часть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о</a:t>
            </a: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5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Прямоугольник 3"/>
          <p:cNvSpPr/>
          <p:nvPr/>
        </p:nvSpPr>
        <p:spPr>
          <a:xfrm>
            <a:off x="500040" y="500040"/>
            <a:ext cx="635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entury Gothic"/>
              </a:rPr>
              <a:t>5. </a:t>
            </a: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Чтобы найти в слове корень надо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изменить форму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т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подобрать однокоренные слов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д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285840" y="43920"/>
            <a:ext cx="885816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6.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Times New Roman"/>
              </a:rPr>
              <a:t>Укажите правильную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схему разбора слов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А)        -  </a:t>
            </a:r>
            <a:r>
              <a:rPr b="0" lang="ru-RU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       - 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е</a:t>
            </a:r>
            <a:br>
              <a:rPr sz="16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2071800" y="2786040"/>
            <a:ext cx="2409840" cy="214308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7"/>
          <p:cNvSpPr/>
          <p:nvPr/>
        </p:nvSpPr>
        <p:spPr>
          <a:xfrm>
            <a:off x="571680" y="5072040"/>
            <a:ext cx="71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Gothic"/>
              </a:rPr>
              <a:t>7. В каких из этих слов есть приставка: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а) замок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ч 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б) записка —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ц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3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2" dur="500"/>
                                        <p:tgtEl>
                                          <p:spTgt spid="38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4"/>
          <p:cNvSpPr/>
          <p:nvPr/>
        </p:nvSpPr>
        <p:spPr>
          <a:xfrm>
            <a:off x="642960" y="50004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Путешествие по «Океану Знаний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1071720" y="17859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Привет, друзья! Примите приглашени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В нашей стране мы ждём вас с нетерпени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Познаете вы много разных тай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entury Gothic"/>
              </a:rPr>
              <a:t>Морфемы тут живут и здесь, и т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Рисунок 3" descr="Буратино.jpg"/>
          <p:cNvPicPr/>
          <p:nvPr/>
        </p:nvPicPr>
        <p:blipFill>
          <a:blip r:embed="rId1"/>
          <a:stretch/>
        </p:blipFill>
        <p:spPr>
          <a:xfrm>
            <a:off x="2000160" y="3500280"/>
            <a:ext cx="4500720" cy="30607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2357280" y="1714680"/>
            <a:ext cx="4214880" cy="27144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7"/>
          <p:cNvSpPr/>
          <p:nvPr/>
        </p:nvSpPr>
        <p:spPr>
          <a:xfrm>
            <a:off x="500040" y="5716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Что за страну мы с вами посетим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Box 6"/>
          <p:cNvSpPr/>
          <p:nvPr/>
        </p:nvSpPr>
        <p:spPr>
          <a:xfrm>
            <a:off x="2428920" y="5000760"/>
            <a:ext cx="42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entury Gothic"/>
              </a:rPr>
              <a:t>Морфем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 rot="20697000">
            <a:off x="294120" y="2606400"/>
            <a:ext cx="170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bd8"/>
                </a:solidFill>
                <a:latin typeface="Century Gothic"/>
              </a:rPr>
              <a:t>кор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 rot="1362600">
            <a:off x="6959880" y="2395440"/>
            <a:ext cx="21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3ddff"/>
                </a:solidFill>
                <a:latin typeface="Century Gothic"/>
              </a:rPr>
              <a:t>пристав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Box 10"/>
          <p:cNvSpPr/>
          <p:nvPr/>
        </p:nvSpPr>
        <p:spPr>
          <a:xfrm rot="892200">
            <a:off x="6886800" y="4684680"/>
            <a:ext cx="22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entury Gothic"/>
              </a:rPr>
              <a:t>оконч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 rot="20443200">
            <a:off x="422280" y="499572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0062"/>
                </a:solidFill>
                <a:latin typeface="Century Gothic"/>
              </a:rPr>
              <a:t>суффик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3"/>
          <p:cNvSpPr/>
          <p:nvPr/>
        </p:nvSpPr>
        <p:spPr>
          <a:xfrm>
            <a:off x="1857240" y="642960"/>
            <a:ext cx="61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Gothic"/>
              </a:rPr>
              <a:t>Игра «Верно, неверно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Прямоугольник 4"/>
          <p:cNvSpPr/>
          <p:nvPr/>
        </p:nvSpPr>
        <p:spPr>
          <a:xfrm>
            <a:off x="285840" y="2143080"/>
            <a:ext cx="86439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а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портной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и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портфель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произошли от одного исторического слова?    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…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слова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теран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            и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тч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произошли от одного исторического слова? (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верно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Прямоугольник 5"/>
          <p:cNvSpPr/>
          <p:nvPr/>
        </p:nvSpPr>
        <p:spPr>
          <a:xfrm>
            <a:off x="857160" y="128592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Century Gothic"/>
              </a:rPr>
              <a:t>-Верно ли, что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Рисунок 6" descr="12345.jpg"/>
          <p:cNvPicPr/>
          <p:nvPr/>
        </p:nvPicPr>
        <p:blipFill>
          <a:blip r:embed="rId1"/>
          <a:stretch/>
        </p:blipFill>
        <p:spPr>
          <a:xfrm>
            <a:off x="6072120" y="1928880"/>
            <a:ext cx="714600" cy="106848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7" descr="портной.jpg"/>
          <p:cNvPicPr/>
          <p:nvPr/>
        </p:nvPicPr>
        <p:blipFill>
          <a:blip r:embed="rId2"/>
          <a:stretch/>
        </p:blipFill>
        <p:spPr>
          <a:xfrm>
            <a:off x="3143160" y="2000160"/>
            <a:ext cx="857520" cy="968400"/>
          </a:xfrm>
          <a:prstGeom prst="rect">
            <a:avLst/>
          </a:prstGeom>
          <a:ln w="0">
            <a:noFill/>
          </a:ln>
        </p:spPr>
      </p:pic>
      <p:pic>
        <p:nvPicPr>
          <p:cNvPr id="331" name="Рисунок 8" descr="default.jpeg"/>
          <p:cNvPicPr/>
          <p:nvPr/>
        </p:nvPicPr>
        <p:blipFill>
          <a:blip r:embed="rId3"/>
          <a:stretch/>
        </p:blipFill>
        <p:spPr>
          <a:xfrm>
            <a:off x="3286080" y="3429000"/>
            <a:ext cx="785880" cy="10000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9" descr="default1.jpeg"/>
          <p:cNvPicPr/>
          <p:nvPr/>
        </p:nvPicPr>
        <p:blipFill>
          <a:blip r:embed="rId4"/>
          <a:stretch/>
        </p:blipFill>
        <p:spPr>
          <a:xfrm>
            <a:off x="6000840" y="3500280"/>
            <a:ext cx="1190520" cy="895680"/>
          </a:xfrm>
          <a:prstGeom prst="rect">
            <a:avLst/>
          </a:prstGeom>
          <a:ln w="0">
            <a:noFill/>
          </a:ln>
        </p:spPr>
      </p:pic>
      <p:sp>
        <p:nvSpPr>
          <p:cNvPr id="333" name="Прямоугольник 12"/>
          <p:cNvSpPr/>
          <p:nvPr/>
        </p:nvSpPr>
        <p:spPr>
          <a:xfrm>
            <a:off x="500040" y="4714920"/>
            <a:ext cx="835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о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газета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     образовано от слова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газ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Рисунок 13" descr="default2.jpeg"/>
          <p:cNvPicPr/>
          <p:nvPr/>
        </p:nvPicPr>
        <p:blipFill>
          <a:blip r:embed="rId5"/>
          <a:stretch/>
        </p:blipFill>
        <p:spPr>
          <a:xfrm>
            <a:off x="3000240" y="5000760"/>
            <a:ext cx="1123920" cy="895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3"/>
          <p:cNvSpPr/>
          <p:nvPr/>
        </p:nvSpPr>
        <p:spPr>
          <a:xfrm>
            <a:off x="1143000" y="1000080"/>
            <a:ext cx="69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слово 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мелодия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                   можно проверить словом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милый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?          (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Century Gothic"/>
              </a:rPr>
              <a:t>неверно</a:t>
            </a:r>
            <a:r>
              <a:rPr b="0" lang="ru-RU" sz="2400" spc="-1" strike="noStrike">
                <a:solidFill>
                  <a:srgbClr val="c00000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Рисунок 4" descr="default3.jpeg"/>
          <p:cNvPicPr/>
          <p:nvPr/>
        </p:nvPicPr>
        <p:blipFill>
          <a:blip r:embed="rId1"/>
          <a:stretch/>
        </p:blipFill>
        <p:spPr>
          <a:xfrm>
            <a:off x="4214880" y="500040"/>
            <a:ext cx="1152360" cy="895320"/>
          </a:xfrm>
          <a:prstGeom prst="rect">
            <a:avLst/>
          </a:prstGeom>
          <a:ln w="0">
            <a:noFill/>
          </a:ln>
        </p:spPr>
      </p:pic>
      <p:sp>
        <p:nvSpPr>
          <p:cNvPr id="337" name="Прямоугольник 5"/>
          <p:cNvSpPr/>
          <p:nvPr/>
        </p:nvSpPr>
        <p:spPr>
          <a:xfrm>
            <a:off x="1214280" y="2286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…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слова плотник                    и плот родственные?                       (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Century Gothic"/>
              </a:rPr>
              <a:t>верно</a:t>
            </a:r>
            <a:r>
              <a:rPr b="0" lang="ru-RU" sz="2400" spc="-1" strike="noStrike">
                <a:solidFill>
                  <a:srgbClr val="0000cc"/>
                </a:solidFill>
                <a:latin typeface="Century Gothic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Рисунок 6" descr="images.jpeg"/>
          <p:cNvPicPr/>
          <p:nvPr/>
        </p:nvPicPr>
        <p:blipFill>
          <a:blip r:embed="rId2"/>
          <a:stretch/>
        </p:blipFill>
        <p:spPr>
          <a:xfrm>
            <a:off x="4071960" y="2000160"/>
            <a:ext cx="1200240" cy="90504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8" descr="images2.jpeg"/>
          <p:cNvPicPr/>
          <p:nvPr/>
        </p:nvPicPr>
        <p:blipFill>
          <a:blip r:embed="rId3"/>
          <a:stretch/>
        </p:blipFill>
        <p:spPr>
          <a:xfrm>
            <a:off x="6572160" y="1928880"/>
            <a:ext cx="1238400" cy="933480"/>
          </a:xfrm>
          <a:prstGeom prst="rect">
            <a:avLst/>
          </a:prstGeom>
          <a:ln w="0">
            <a:noFill/>
          </a:ln>
        </p:spPr>
      </p:pic>
      <p:sp>
        <p:nvSpPr>
          <p:cNvPr id="340" name="TextBox 9"/>
          <p:cNvSpPr/>
          <p:nvPr/>
        </p:nvSpPr>
        <p:spPr>
          <a:xfrm>
            <a:off x="1857240" y="4071960"/>
            <a:ext cx="532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entury Gothic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Рисунок 10" descr="Рисунок3.gif"/>
          <p:cNvPicPr/>
          <p:nvPr/>
        </p:nvPicPr>
        <p:blipFill>
          <a:blip r:embed="rId4"/>
          <a:stretch/>
        </p:blipFill>
        <p:spPr>
          <a:xfrm>
            <a:off x="6429240" y="385776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11" descr="Рисунок11.gif"/>
          <p:cNvPicPr/>
          <p:nvPr/>
        </p:nvPicPr>
        <p:blipFill>
          <a:blip r:embed="rId5"/>
          <a:stretch/>
        </p:blipFill>
        <p:spPr>
          <a:xfrm>
            <a:off x="214200" y="4786200"/>
            <a:ext cx="17859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Служит для образования новых сло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Часть слова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Стоит перед корнем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Century Gothic"/>
              </a:rPr>
              <a:t>Может состоять из 1,2,3,4 букв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ru-RU" sz="4800" spc="-1" strike="noStrike">
                <a:solidFill>
                  <a:srgbClr val="c00000"/>
                </a:solidFill>
                <a:latin typeface="Century Gothic"/>
              </a:rPr>
              <a:t>Приставка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357120" y="4429080"/>
            <a:ext cx="2000160" cy="19353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6500880" y="4429080"/>
            <a:ext cx="2319120" cy="1879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28400" y="1428480"/>
            <a:ext cx="8258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cc"/>
                </a:solidFill>
                <a:latin typeface="Century Gothic"/>
              </a:rPr>
              <a:t>Девиз: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Century Gothic"/>
              </a:rPr>
              <a:t>« Я умею писать лучше всех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Gothic"/>
              </a:rPr>
              <a:t>         </a:t>
            </a:r>
            <a:r>
              <a:rPr b="1" i="1" lang="ru-RU" sz="4800" spc="-1" strike="noStrike" u="sng">
                <a:solidFill>
                  <a:srgbClr val="c00000"/>
                </a:solidFill>
                <a:uFillTx/>
                <a:latin typeface="Century Gothic"/>
              </a:rPr>
              <a:t>Зарубить на носу.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9" name="Рисунок 3" descr="1sentabra.gif"/>
          <p:cNvPicPr/>
          <p:nvPr/>
        </p:nvPicPr>
        <p:blipFill>
          <a:blip r:embed="rId2"/>
          <a:stretch/>
        </p:blipFill>
        <p:spPr>
          <a:xfrm>
            <a:off x="857160" y="3357720"/>
            <a:ext cx="2857680" cy="303372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j0398129.jpg"/>
          <p:cNvPicPr/>
          <p:nvPr/>
        </p:nvPicPr>
        <p:blipFill>
          <a:blip r:embed="rId3"/>
          <a:stretch/>
        </p:blipFill>
        <p:spPr>
          <a:xfrm>
            <a:off x="5500800" y="3357720"/>
            <a:ext cx="2887560" cy="312228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9b8b2d39a3b4.gif"/>
          <p:cNvPicPr/>
          <p:nvPr/>
        </p:nvPicPr>
        <p:blipFill>
          <a:blip r:embed="rId4"/>
          <a:stretch/>
        </p:blipFill>
        <p:spPr>
          <a:xfrm>
            <a:off x="8143920" y="1428840"/>
            <a:ext cx="380880" cy="571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28400" y="1428480"/>
            <a:ext cx="825804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соробака   </a:t>
            </a:r>
            <a:r>
              <a:rPr b="0" i="1" lang="ru-RU" sz="40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сорока,             собака              )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корозаяц  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корова,               заяц               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4" name="Рисунок 3" descr="4560.gif"/>
          <p:cNvPicPr/>
          <p:nvPr/>
        </p:nvPicPr>
        <p:blipFill>
          <a:blip r:embed="rId2"/>
          <a:stretch/>
        </p:blipFill>
        <p:spPr>
          <a:xfrm>
            <a:off x="3286080" y="4429080"/>
            <a:ext cx="1214640" cy="13208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9baa37b09769.gif1.gif"/>
          <p:cNvPicPr/>
          <p:nvPr/>
        </p:nvPicPr>
        <p:blipFill>
          <a:blip r:embed="rId3"/>
          <a:stretch/>
        </p:blipFill>
        <p:spPr>
          <a:xfrm>
            <a:off x="5786280" y="4500720"/>
            <a:ext cx="1238400" cy="1171440"/>
          </a:xfrm>
          <a:prstGeom prst="rect">
            <a:avLst/>
          </a:prstGeom>
          <a:ln w="0">
            <a:noFill/>
          </a:ln>
        </p:spPr>
      </p:pic>
      <p:pic>
        <p:nvPicPr>
          <p:cNvPr id="356" name="Рисунок 5" descr="default6.jpeg"/>
          <p:cNvPicPr/>
          <p:nvPr/>
        </p:nvPicPr>
        <p:blipFill>
          <a:blip r:embed="rId4"/>
          <a:stretch/>
        </p:blipFill>
        <p:spPr>
          <a:xfrm>
            <a:off x="3286080" y="2143080"/>
            <a:ext cx="1000080" cy="10717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6" descr="images5.jpeg"/>
          <p:cNvPicPr/>
          <p:nvPr/>
        </p:nvPicPr>
        <p:blipFill>
          <a:blip r:embed="rId5"/>
          <a:stretch/>
        </p:blipFill>
        <p:spPr>
          <a:xfrm>
            <a:off x="6215040" y="2071800"/>
            <a:ext cx="1000080" cy="11714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28400" y="285840"/>
            <a:ext cx="825804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25160" indent="-3632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              </a:t>
            </a:r>
            <a:r>
              <a:rPr b="0" i="1" lang="ru-RU" sz="4000" spc="-1" strike="noStrike">
                <a:solidFill>
                  <a:srgbClr val="ffff00"/>
                </a:solidFill>
                <a:latin typeface="Century Gothic"/>
              </a:rPr>
              <a:t>    </a:t>
            </a:r>
            <a:r>
              <a:rPr b="0" i="1" lang="ru-RU" sz="4000" spc="-1" strike="noStrike">
                <a:solidFill>
                  <a:srgbClr val="0000cc"/>
                </a:solidFill>
                <a:latin typeface="Century Gothic"/>
              </a:rPr>
              <a:t>огорбузы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огород,                   арбузы                )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                </a:t>
            </a: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помипуста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помидор,                капуста              )</a:t>
            </a:r>
            <a:r>
              <a:rPr b="0" i="1" lang="ru-RU" sz="3000" spc="-1" strike="noStrike">
                <a:solidFill>
                  <a:srgbClr val="c00000"/>
                </a:solidFill>
                <a:latin typeface="Century Gothic"/>
              </a:rPr>
              <a:t>   </a:t>
            </a: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Century Gothic"/>
              </a:rPr>
              <a:t>                     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                   </a:t>
            </a:r>
            <a:r>
              <a:rPr b="0" i="1" lang="ru-RU" sz="3600" spc="-1" strike="noStrike">
                <a:solidFill>
                  <a:srgbClr val="0000cc"/>
                </a:solidFill>
                <a:latin typeface="Century Gothic"/>
              </a:rPr>
              <a:t>моркофель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25160" indent="-36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i="1" lang="ru-RU" sz="3000" spc="-1" strike="noStrike">
                <a:solidFill>
                  <a:srgbClr val="ffff00"/>
                </a:solidFill>
                <a:latin typeface="Century Gothic"/>
              </a:rPr>
              <a:t>(морковь,              картофель              )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0" name="Рисунок 7" descr="image6.jpeg"/>
          <p:cNvPicPr/>
          <p:nvPr/>
        </p:nvPicPr>
        <p:blipFill>
          <a:blip r:embed="rId2"/>
          <a:stretch/>
        </p:blipFill>
        <p:spPr>
          <a:xfrm>
            <a:off x="3000240" y="1214280"/>
            <a:ext cx="1541520" cy="109080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8" descr="images7.jpeg"/>
          <p:cNvPicPr/>
          <p:nvPr/>
        </p:nvPicPr>
        <p:blipFill>
          <a:blip r:embed="rId3"/>
          <a:stretch/>
        </p:blipFill>
        <p:spPr>
          <a:xfrm>
            <a:off x="6357960" y="1214280"/>
            <a:ext cx="1357200" cy="121464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9" descr="images8.jpeg"/>
          <p:cNvPicPr/>
          <p:nvPr/>
        </p:nvPicPr>
        <p:blipFill>
          <a:blip r:embed="rId4"/>
          <a:stretch/>
        </p:blipFill>
        <p:spPr>
          <a:xfrm>
            <a:off x="3357720" y="3429000"/>
            <a:ext cx="1076040" cy="111456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10" descr="images9.jpeg"/>
          <p:cNvPicPr/>
          <p:nvPr/>
        </p:nvPicPr>
        <p:blipFill>
          <a:blip r:embed="rId5"/>
          <a:stretch/>
        </p:blipFill>
        <p:spPr>
          <a:xfrm>
            <a:off x="6572160" y="3429000"/>
            <a:ext cx="1238400" cy="11811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11" descr="images.11jpeg.jpeg"/>
          <p:cNvPicPr/>
          <p:nvPr/>
        </p:nvPicPr>
        <p:blipFill>
          <a:blip r:embed="rId6"/>
          <a:stretch/>
        </p:blipFill>
        <p:spPr>
          <a:xfrm>
            <a:off x="3214800" y="5715000"/>
            <a:ext cx="1238040" cy="101916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12" descr="images22.jpeg"/>
          <p:cNvPicPr/>
          <p:nvPr/>
        </p:nvPicPr>
        <p:blipFill>
          <a:blip r:embed="rId7"/>
          <a:stretch/>
        </p:blipFill>
        <p:spPr>
          <a:xfrm>
            <a:off x="6858000" y="571500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500"/>
                            </p:stCondLst>
                            <p:childTnLst>
                              <p:par>
                                <p:cTn id="3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00:43Z</dcterms:created>
  <dc:creator/>
  <dc:description/>
  <dc:language>en-US</dc:language>
  <cp:lastModifiedBy>DNA7 X64</cp:lastModifiedBy>
  <dcterms:modified xsi:type="dcterms:W3CDTF">2013-02-02T10:02:32Z</dcterms:modified>
  <cp:revision>32</cp:revision>
  <dc:subject/>
  <dc:title/>
</cp:coreProperties>
</file>