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22.gif" ContentType="image/gif"/>
  <Override PartName="/ppt/media/image34.jpeg" ContentType="image/jpeg"/>
  <Override PartName="/ppt/media/image37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1EE-0937-4DF8-8803-C12A335C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886-B48C-4D43-A727-717DBE4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531-910E-4A03-BC34-D1D541ED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3A2-AAB9-4C7D-8984-323C6436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C216-4A0E-4DCE-A707-9473FBF3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6D1-1343-4690-A304-9ED9947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7298-AB82-48BE-9F90-EA921DD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FA72-27A0-47B3-A0B5-E73ED29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71F-D124-4C86-A889-2ABDCF3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AB7A-3511-4D92-9324-5498FE3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A3FD-2A88-46B8-8F85-0E8FE31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927-8AFA-4D2B-B14B-1052D3F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2FB2-8343-464E-A7E5-BC32165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35E0-597C-480F-A627-6CBEFF6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8931-F80B-45A3-8180-899AACB6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6423-450E-4C93-9719-EBD597D9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AAAE-C4A4-4BCB-B14D-58F05060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3527-D106-40AB-A384-7D93271C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97EA-D86A-4128-A607-EF92DF91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614E-CCEE-48DB-9FEE-492C5806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2309-79D5-4927-A139-D443BC78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1D19-BB7F-419D-B937-72B4E1DC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883-D929-4D2D-962A-0F4BBFD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4784-3211-49AF-B143-15C82F7A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59BC-E698-42F4-BFA0-A21F7B1E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700D-DB33-4DDE-8017-CD041EC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775C-31EB-4052-9C73-4C80C4B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E3FE-3348-4A26-B3B3-5CCFFB04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69151-DE10-40AD-AA57-E2DDD4E4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62E5-47D4-4318-B7CB-3B6448E7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8129-AA12-4E61-94E3-DEF205DE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33BC-8260-45E4-AF1A-6C72D35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9404-2B72-4BDF-A0F8-035A7150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435-01B0-47CE-A334-7CFF4192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074A-2F6A-4676-BC85-CD88A7B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206C-DDEE-4835-B984-7F9F785B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74CA-887D-44DF-A80C-4212A89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7DB5-D1DF-458E-9795-7C049CF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1516-F420-41A4-B74F-88C9CCB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991EB-885B-40B9-BBC5-6519916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E7AA-293C-4308-8EDC-D0A90726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977D-C105-4DB2-84A7-499A3CBF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3F39-EEE6-4859-8E84-C3E3D370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FDC9-8D1C-452B-923D-A822819E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C1E-3B32-43D5-8F72-128F12B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219D-70B0-4E37-A24C-5011B7BD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0349C-8E2F-4417-8195-D0A9E624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5269-6CD3-4AD3-8159-8FD31848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0A3E-A73F-44AA-B8B4-6BA312B0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0B455-085D-429D-9E42-C0004DD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C18B-DE7A-4E7D-B04E-12C4E56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669DE-BDD1-42DB-80CC-22B472B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9741-20FA-4593-8C82-BDFE17C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A9AC7-6C21-4DF5-8737-740C2D7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FD43-C910-49B6-A1BF-A351E7B8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039-1AC5-4EC3-9ADE-D5D3F8F0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132C-0156-4864-884B-85B21D6F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5D1D-19E9-48D1-ABD3-7D4DE037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9B926-1F27-4A90-8B2E-05FD393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A028-73D1-495F-A4E0-6EE930F2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B180-530E-42C6-919F-8BCB2403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A172-2F6C-4A07-9B54-374ACF37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C3194-8B3B-4B01-9CE9-9D929924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519D-2133-43DF-88EA-72F9EB31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BBBE6-7104-46E5-9699-846FBA17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EFC1-7485-49A6-A360-3311E50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373-AD45-48CD-ACB0-77D6357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AB20-4B86-4DEF-A190-943C8AFB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2976B-251A-46C7-9630-BE6DBA62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5B13-FF2F-4B2D-A5D9-4DE7779A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7E72-AB21-41F5-A4F6-7D41C877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68D4D-CA8F-4925-B67C-FB80D86C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6E34F-4AB1-41E3-95CC-BE6F4E38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C846-46FE-4AED-ABFF-137FE11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2511-CA8D-4231-AC32-C059F48F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FB17A-6347-4FAA-81CB-9B9FC94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83764-72A3-4926-9D6F-4BD12DF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7B2-8FDF-45F0-B2DE-51719C8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D7E8-2451-4CF1-87A8-A6217CA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AA16-0FD2-4A8E-822F-FDEB7736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84EB-9D44-4C57-B36C-26A50A1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D6D9-3726-48F9-B580-491F2E2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4AFE-A4EF-48BA-8A8D-9AE12241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187-714C-4351-99CA-435C140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4DF-F3D3-41B7-9731-87607042874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D283-E379-4CAD-8F9D-EF3E4D0317E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70F-DB27-4490-AE12-EB522E3F4C0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D479-F8D9-44C1-AFC1-DB452802476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BAD0-BBE1-4D73-AA93-E41CA06ED1F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A067-1DB3-4FCF-9969-F41012E4CE2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0283-8318-4E63-807E-1052FF3F72E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5"/>
          <p:cNvSpPr/>
          <p:nvPr/>
        </p:nvSpPr>
        <p:spPr>
          <a:xfrm>
            <a:off x="571680" y="78588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Урок русского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в 3 класс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о теме « Пристав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и её роль в слов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Рисунок 10" descr="56.gif"/>
          <p:cNvPicPr/>
          <p:nvPr/>
        </p:nvPicPr>
        <p:blipFill>
          <a:blip r:embed="rId1"/>
          <a:stretch/>
        </p:blipFill>
        <p:spPr>
          <a:xfrm>
            <a:off x="857160" y="3786120"/>
            <a:ext cx="1428840" cy="207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Я хадил сегодня в 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Там на дерево за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А потом спускался внис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а нечаянно повиз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Рисунок 3" descr="1bada0379d7ea1bb7c894d4297ec6f76.jpg"/>
          <p:cNvPicPr/>
          <p:nvPr/>
        </p:nvPicPr>
        <p:blipFill>
          <a:blip r:embed="rId2"/>
          <a:stretch/>
        </p:blipFill>
        <p:spPr>
          <a:xfrm>
            <a:off x="428760" y="428760"/>
            <a:ext cx="1323720" cy="119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Я х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ил сегодня в ле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Там на дерево за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А потом спускался вни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з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а нечаянно пови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1bada0379d7ea1bb7c894d4297ec6f76.jpg"/>
          <p:cNvPicPr/>
          <p:nvPr/>
        </p:nvPicPr>
        <p:blipFill>
          <a:blip r:embed="rId2"/>
          <a:stretch/>
        </p:blipFill>
        <p:spPr>
          <a:xfrm>
            <a:off x="428760" y="428760"/>
            <a:ext cx="1323720" cy="119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213840" y="188280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а) Доказать. что приставка часть слова.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б) Исследовать, для чего служит приставка.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в) Вспомнить отличия приставки и предлог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000760" y="2571840"/>
          <a:ext cx="3571920" cy="2071440"/>
        </p:xfrm>
        <a:graphic>
          <a:graphicData uri="http://schemas.openxmlformats.org/drawingml/2006/table">
            <a:tbl>
              <a:tblPr/>
              <a:tblGrid>
                <a:gridCol w="771480"/>
                <a:gridCol w="493560"/>
                <a:gridCol w="241200"/>
                <a:gridCol w="689040"/>
                <a:gridCol w="687600"/>
                <a:gridCol w="689040"/>
              </a:tblGrid>
              <a:tr h="89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  <a:tr h="45396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у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928800" y="2571840"/>
          <a:ext cx="3571920" cy="2071440"/>
        </p:xfrm>
        <a:graphic>
          <a:graphicData uri="http://schemas.openxmlformats.org/drawingml/2006/table">
            <a:tbl>
              <a:tblPr/>
              <a:tblGrid>
                <a:gridCol w="812520"/>
                <a:gridCol w="581040"/>
                <a:gridCol w="725760"/>
                <a:gridCol w="726840"/>
                <a:gridCol w="725760"/>
              </a:tblGrid>
              <a:tr h="90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  <a:tr h="48564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счит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7"/>
          <p:cNvSpPr/>
          <p:nvPr/>
        </p:nvSpPr>
        <p:spPr>
          <a:xfrm>
            <a:off x="785880" y="142920"/>
            <a:ext cx="7429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а) Приставка часть слова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(работа в групп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642960" y="1285920"/>
            <a:ext cx="764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б) Для чего служит приставка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928800" y="495288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в) Приставки и предлоги</a:t>
            </a:r>
            <a:br>
              <a:rPr sz="3600"/>
            </a:br>
            <a:r>
              <a:rPr b="0" lang="ru-RU" sz="3600" spc="-1" strike="noStrike">
                <a:solidFill>
                  <a:srgbClr val="ff5698"/>
                </a:solidFill>
                <a:latin typeface="Century Gothic"/>
              </a:rPr>
              <a:t>Спишите, раскрывая скоб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272440" cy="15415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7"/>
          <p:cNvSpPr/>
          <p:nvPr/>
        </p:nvSpPr>
        <p:spPr>
          <a:xfrm>
            <a:off x="642960" y="10000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1. Корень эт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часть речи —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п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                                                                                                      б) часть слова — </a:t>
            </a:r>
            <a:r>
              <a:rPr b="0" i="1" lang="ru-RU" sz="2400" spc="-1" strike="noStrike">
                <a:solidFill>
                  <a:srgbClr val="0000cc"/>
                </a:solidFill>
                <a:latin typeface="Century Gothic"/>
              </a:rPr>
              <a:t>м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571680" y="1928880"/>
            <a:ext cx="6215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2. Приставка служит для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связи слов в предложении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н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для образования новых слов — </a:t>
            </a:r>
            <a:r>
              <a:rPr b="0" i="1" lang="ru-RU" sz="2400" spc="-1" strike="noStrike">
                <a:solidFill>
                  <a:srgbClr val="0000cc"/>
                </a:solidFill>
                <a:latin typeface="Century Gothic"/>
              </a:rPr>
              <a:t>о</a:t>
            </a:r>
            <a:r>
              <a:rPr b="0" i="1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571680" y="342900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3. Приставка стоит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перед корнем -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л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после корня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500040" y="464328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4. Приставка эт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изменяемая часть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а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неизменяемая часть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о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3"/>
          <p:cNvSpPr/>
          <p:nvPr/>
        </p:nvSpPr>
        <p:spPr>
          <a:xfrm>
            <a:off x="500040" y="500040"/>
            <a:ext cx="63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5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Чтобы найти в слове корень над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изменить форму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т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подобрать однокоренные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285840" y="43920"/>
            <a:ext cx="885816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6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Укажите правильн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хему разбора слов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А)        -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       - 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е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2071800" y="2786040"/>
            <a:ext cx="2409840" cy="21430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7"/>
          <p:cNvSpPr/>
          <p:nvPr/>
        </p:nvSpPr>
        <p:spPr>
          <a:xfrm>
            <a:off x="571680" y="507204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7. В каких из этих слов есть приставка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замок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ч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записк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3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642960" y="5000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Путешествие по «Океану Знани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1071720" y="17859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Привет, друзья! Примите приглаше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В нашей стране мы ждём вас с нетерп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Познаете вы много разных та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Морфемы тут живут и здесь, и 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Рисунок 3" descr="Буратино.jpg"/>
          <p:cNvPicPr/>
          <p:nvPr/>
        </p:nvPicPr>
        <p:blipFill>
          <a:blip r:embed="rId1"/>
          <a:stretch/>
        </p:blipFill>
        <p:spPr>
          <a:xfrm>
            <a:off x="2000160" y="3500280"/>
            <a:ext cx="4500720" cy="3060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357280" y="1714680"/>
            <a:ext cx="4214880" cy="27144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500040" y="5716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Что за страну мы с вами посети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428920" y="5000760"/>
            <a:ext cx="42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Морфем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 rot="20697000">
            <a:off x="294120" y="2606400"/>
            <a:ext cx="17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bd8"/>
                </a:solidFill>
                <a:latin typeface="Century Gothic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 rot="1362600">
            <a:off x="6959880" y="239544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ddff"/>
                </a:solidFill>
                <a:latin typeface="Century Gothic"/>
              </a:rPr>
              <a:t>приста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 rot="892200">
            <a:off x="6886800" y="46846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entury Gothic"/>
              </a:rPr>
              <a:t>оконч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 rot="20443200">
            <a:off x="422280" y="499572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Century Gothic"/>
              </a:rPr>
              <a:t>суффи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1857240" y="6429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Игра «Верно, неверн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285840" y="2143080"/>
            <a:ext cx="86439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а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портной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и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портфель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произошли от одного исторического слова?    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…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слова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теран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            и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т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произошли от одного исторического слова? (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рно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857160" y="12859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Century Gothic"/>
              </a:rPr>
              <a:t>-Верно ли, что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Рисунок 6" descr="12345.jpg"/>
          <p:cNvPicPr/>
          <p:nvPr/>
        </p:nvPicPr>
        <p:blipFill>
          <a:blip r:embed="rId1"/>
          <a:stretch/>
        </p:blipFill>
        <p:spPr>
          <a:xfrm>
            <a:off x="6072120" y="1928880"/>
            <a:ext cx="714600" cy="10684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портной.jpg"/>
          <p:cNvPicPr/>
          <p:nvPr/>
        </p:nvPicPr>
        <p:blipFill>
          <a:blip r:embed="rId2"/>
          <a:stretch/>
        </p:blipFill>
        <p:spPr>
          <a:xfrm>
            <a:off x="3143160" y="2000160"/>
            <a:ext cx="85752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default.jpeg"/>
          <p:cNvPicPr/>
          <p:nvPr/>
        </p:nvPicPr>
        <p:blipFill>
          <a:blip r:embed="rId3"/>
          <a:stretch/>
        </p:blipFill>
        <p:spPr>
          <a:xfrm>
            <a:off x="3286080" y="3429000"/>
            <a:ext cx="785880" cy="10000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9" descr="default1.jpeg"/>
          <p:cNvPicPr/>
          <p:nvPr/>
        </p:nvPicPr>
        <p:blipFill>
          <a:blip r:embed="rId4"/>
          <a:stretch/>
        </p:blipFill>
        <p:spPr>
          <a:xfrm>
            <a:off x="6000840" y="3500280"/>
            <a:ext cx="1190520" cy="8956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12"/>
          <p:cNvSpPr/>
          <p:nvPr/>
        </p:nvSpPr>
        <p:spPr>
          <a:xfrm>
            <a:off x="500040" y="47149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о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газета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     образовано от слова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газ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Рисунок 13" descr="default2.jpeg"/>
          <p:cNvPicPr/>
          <p:nvPr/>
        </p:nvPicPr>
        <p:blipFill>
          <a:blip r:embed="rId5"/>
          <a:stretch/>
        </p:blipFill>
        <p:spPr>
          <a:xfrm>
            <a:off x="3000240" y="5000760"/>
            <a:ext cx="1123920" cy="895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1143000" y="100008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слово 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мелодия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                  можно проверить словом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милый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?          (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Рисунок 4" descr="default3.jpeg"/>
          <p:cNvPicPr/>
          <p:nvPr/>
        </p:nvPicPr>
        <p:blipFill>
          <a:blip r:embed="rId1"/>
          <a:stretch/>
        </p:blipFill>
        <p:spPr>
          <a:xfrm>
            <a:off x="4214880" y="500040"/>
            <a:ext cx="1152360" cy="8953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5"/>
          <p:cNvSpPr/>
          <p:nvPr/>
        </p:nvSpPr>
        <p:spPr>
          <a:xfrm>
            <a:off x="1214280" y="2286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а плотник                    и плот родственные?                       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6" descr="images.jpeg"/>
          <p:cNvPicPr/>
          <p:nvPr/>
        </p:nvPicPr>
        <p:blipFill>
          <a:blip r:embed="rId2"/>
          <a:stretch/>
        </p:blipFill>
        <p:spPr>
          <a:xfrm>
            <a:off x="4071960" y="20001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images2.jpeg"/>
          <p:cNvPicPr/>
          <p:nvPr/>
        </p:nvPicPr>
        <p:blipFill>
          <a:blip r:embed="rId3"/>
          <a:stretch/>
        </p:blipFill>
        <p:spPr>
          <a:xfrm>
            <a:off x="6572160" y="19288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9"/>
          <p:cNvSpPr/>
          <p:nvPr/>
        </p:nvSpPr>
        <p:spPr>
          <a:xfrm>
            <a:off x="1857240" y="4071960"/>
            <a:ext cx="532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entury Gothic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Рисунок 10" descr="Рисунок3.gif"/>
          <p:cNvPicPr/>
          <p:nvPr/>
        </p:nvPicPr>
        <p:blipFill>
          <a:blip r:embed="rId4"/>
          <a:stretch/>
        </p:blipFill>
        <p:spPr>
          <a:xfrm>
            <a:off x="6429240" y="385776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1" descr="Рисунок11.gif"/>
          <p:cNvPicPr/>
          <p:nvPr/>
        </p:nvPicPr>
        <p:blipFill>
          <a:blip r:embed="rId5"/>
          <a:stretch/>
        </p:blipFill>
        <p:spPr>
          <a:xfrm>
            <a:off x="214200" y="4786200"/>
            <a:ext cx="1785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Служит для образования новых сл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Часть сло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Стоит перед корне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Может состоять из 1,2,3,4 бук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entury Gothic"/>
              </a:rPr>
              <a:t>Приставк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357120" y="4429080"/>
            <a:ext cx="2000160" cy="1935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6500880" y="4429080"/>
            <a:ext cx="231912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28400" y="1428480"/>
            <a:ext cx="8258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Century Gothic"/>
              </a:rPr>
              <a:t>Девиз: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« Я умею писать лучше всех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Gothic"/>
              </a:rPr>
              <a:t>        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Century Gothic"/>
              </a:rPr>
              <a:t>Зарубить на носу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Рисунок 3" descr="1sentabra.gif"/>
          <p:cNvPicPr/>
          <p:nvPr/>
        </p:nvPicPr>
        <p:blipFill>
          <a:blip r:embed="rId2"/>
          <a:stretch/>
        </p:blipFill>
        <p:spPr>
          <a:xfrm>
            <a:off x="857160" y="3357720"/>
            <a:ext cx="2857680" cy="3033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j0398129.jpg"/>
          <p:cNvPicPr/>
          <p:nvPr/>
        </p:nvPicPr>
        <p:blipFill>
          <a:blip r:embed="rId3"/>
          <a:stretch/>
        </p:blipFill>
        <p:spPr>
          <a:xfrm>
            <a:off x="5500800" y="3357720"/>
            <a:ext cx="2887560" cy="31222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9b8b2d39a3b4.gif"/>
          <p:cNvPicPr/>
          <p:nvPr/>
        </p:nvPicPr>
        <p:blipFill>
          <a:blip r:embed="rId4"/>
          <a:stretch/>
        </p:blipFill>
        <p:spPr>
          <a:xfrm>
            <a:off x="8143920" y="1428840"/>
            <a:ext cx="38088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28400" y="1428480"/>
            <a:ext cx="8258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соробака   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сорока,             собака              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корозаяц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корова,               заяц               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3" descr="4560.gif"/>
          <p:cNvPicPr/>
          <p:nvPr/>
        </p:nvPicPr>
        <p:blipFill>
          <a:blip r:embed="rId2"/>
          <a:stretch/>
        </p:blipFill>
        <p:spPr>
          <a:xfrm>
            <a:off x="3286080" y="4429080"/>
            <a:ext cx="1214640" cy="13208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9baa37b09769.gif1.gif"/>
          <p:cNvPicPr/>
          <p:nvPr/>
        </p:nvPicPr>
        <p:blipFill>
          <a:blip r:embed="rId3"/>
          <a:stretch/>
        </p:blipFill>
        <p:spPr>
          <a:xfrm>
            <a:off x="5786280" y="4500720"/>
            <a:ext cx="1238400" cy="1171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default6.jpeg"/>
          <p:cNvPicPr/>
          <p:nvPr/>
        </p:nvPicPr>
        <p:blipFill>
          <a:blip r:embed="rId4"/>
          <a:stretch/>
        </p:blipFill>
        <p:spPr>
          <a:xfrm>
            <a:off x="3286080" y="2143080"/>
            <a:ext cx="1000080" cy="1071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images5.jpeg"/>
          <p:cNvPicPr/>
          <p:nvPr/>
        </p:nvPicPr>
        <p:blipFill>
          <a:blip r:embed="rId5"/>
          <a:stretch/>
        </p:blipFill>
        <p:spPr>
          <a:xfrm>
            <a:off x="6215040" y="2071800"/>
            <a:ext cx="1000080" cy="1171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28400" y="285840"/>
            <a:ext cx="82580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</a:t>
            </a:r>
            <a:r>
              <a:rPr b="0" i="1" lang="ru-RU" sz="4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огорбузы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огород,                   арбузы                )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                </a:t>
            </a: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помипуст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помидор,                капуста              )</a:t>
            </a:r>
            <a:r>
              <a:rPr b="0" i="1" lang="ru-RU" sz="3000" spc="-1" strike="noStrike">
                <a:solidFill>
                  <a:srgbClr val="c00000"/>
                </a:solidFill>
                <a:latin typeface="Century Gothic"/>
              </a:rPr>
              <a:t>   </a:t>
            </a: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                   </a:t>
            </a: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моркофель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морковь,              картофель             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7" descr="image6.jpeg"/>
          <p:cNvPicPr/>
          <p:nvPr/>
        </p:nvPicPr>
        <p:blipFill>
          <a:blip r:embed="rId2"/>
          <a:stretch/>
        </p:blipFill>
        <p:spPr>
          <a:xfrm>
            <a:off x="3000240" y="1214280"/>
            <a:ext cx="1541520" cy="10908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8" descr="images7.jpeg"/>
          <p:cNvPicPr/>
          <p:nvPr/>
        </p:nvPicPr>
        <p:blipFill>
          <a:blip r:embed="rId3"/>
          <a:stretch/>
        </p:blipFill>
        <p:spPr>
          <a:xfrm>
            <a:off x="6357960" y="1214280"/>
            <a:ext cx="1357200" cy="1214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9" descr="images8.jpeg"/>
          <p:cNvPicPr/>
          <p:nvPr/>
        </p:nvPicPr>
        <p:blipFill>
          <a:blip r:embed="rId4"/>
          <a:stretch/>
        </p:blipFill>
        <p:spPr>
          <a:xfrm>
            <a:off x="3357720" y="342900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0" descr="images9.jpeg"/>
          <p:cNvPicPr/>
          <p:nvPr/>
        </p:nvPicPr>
        <p:blipFill>
          <a:blip r:embed="rId5"/>
          <a:stretch/>
        </p:blipFill>
        <p:spPr>
          <a:xfrm>
            <a:off x="6572160" y="3429000"/>
            <a:ext cx="1238400" cy="11811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1" descr="images.11jpeg.jpeg"/>
          <p:cNvPicPr/>
          <p:nvPr/>
        </p:nvPicPr>
        <p:blipFill>
          <a:blip r:embed="rId6"/>
          <a:stretch/>
        </p:blipFill>
        <p:spPr>
          <a:xfrm>
            <a:off x="3214800" y="5715000"/>
            <a:ext cx="1238040" cy="10191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2" descr="images22.jpeg"/>
          <p:cNvPicPr/>
          <p:nvPr/>
        </p:nvPicPr>
        <p:blipFill>
          <a:blip r:embed="rId7"/>
          <a:stretch/>
        </p:blipFill>
        <p:spPr>
          <a:xfrm>
            <a:off x="6858000" y="571500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00:43Z</dcterms:created>
  <dc:creator/>
  <dc:description/>
  <dc:language>en-US</dc:language>
  <cp:lastModifiedBy>DNA7 X64</cp:lastModifiedBy>
  <dcterms:modified xsi:type="dcterms:W3CDTF">2013-02-02T10:02:32Z</dcterms:modified>
  <cp:revision>32</cp:revision>
  <dc:subject/>
  <dc:title/>
</cp:coreProperties>
</file>