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98C-557B-49DA-A2C6-17852675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FF5-D5D8-4E1C-A949-A96A9164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4EF1-2B4C-447E-B722-868B7F91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04A7-413E-4DDC-9403-DB4DCF16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9847-B0D7-4C7B-85BA-CA92224F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11F3-29A5-4467-8773-98A58DD2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8F04-D48C-49A1-B239-4473B51B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E787-8502-4ECF-AE5C-2173F6CA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1D7C-A2C6-47A5-A623-CFF63831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C73B-F40F-4EBB-B330-31C055DF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E307-2A74-4577-9DB1-A04A0CF6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1E40-2964-41F1-833C-99804DF7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4C09-D1AF-4122-8706-ACFBC544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8CF7-8004-4E96-B064-A6AE80C2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12A2-09F4-4136-8EA5-BA2B4B9A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C742-766F-43FB-A92F-A20FF830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769A-12AA-406B-91BA-AE5409E7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C0749-C7BE-4237-BB79-F36D4383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EA585-1A17-44BF-8271-D762B850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57098-D12C-4B88-9E04-CC00EFFB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C0272-4698-458A-AE57-745E6CA1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E8794-8695-48EE-8792-EFE5D0D6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0B83-9AC3-4468-9B5B-C4980639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0ED5D-A816-41E5-8646-6C5B14FE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16683-F4C6-4362-93EB-7854F571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01E7F-B96A-4305-86E1-8468B82D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85E4D-BC55-44EA-9515-48ADFC17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96940-EF23-4328-8E33-9567EF1B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6D01F-FC9A-4CBF-A1B7-1B78C1AC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F629F-527D-4F86-92EB-26376DE5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7CC02-1CE2-4F35-B08F-7FFF0951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4BA81-BF21-4D70-B84D-9E118AE6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1FA64-D952-42C0-91CE-F94ED4CC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8F5C-0B2C-497B-8F4F-B84E69F8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8190C-C7D2-44D6-A96E-CF28052A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542FF-24BE-4676-8F72-222F0692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5BCD4-506D-4990-93CD-FDC3225E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1748A-FB05-4291-B844-DA29094E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9A7B1-C961-4826-A95C-042BCB78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76312-9E5C-48B8-B440-F5EE122E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6045B-763F-4A4C-ACF1-96777FF9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F8A52-4D62-4580-B247-489B12E6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8E94C-2580-4E1A-97CB-07B3FDC9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597BF-C234-42F5-A0F2-6C2C96A8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900-2EE0-4A66-97A4-8A2F6AAA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061B9-81D8-4AB8-AECA-7B74432E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924FE-54EE-4A87-B3FA-21A03BE2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BF11B-EA7A-4DB6-BF6F-38860118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AA809-E84A-4244-9161-FC4D1D8E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099FF-1DA1-4BFF-A977-214084F4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2072B-6741-471E-A14A-ECE58F19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877B4-CFFA-481D-9693-1270025C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3C635-BB6F-4206-92F4-5AE79F8A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BB062-50FF-4849-8D1E-415A68D4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314F8-F8DB-4CC4-ACD8-0B4B64AE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822F-C000-49E3-A7A3-01847E43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1EDE6-7D83-42EF-8FBE-B0FF2E9E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BFFA4-3ABC-4E82-BFD2-AB4186F2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68C92-FAB1-446A-BFB6-487B9254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5619C-9279-46D3-B56B-AEE61C49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B0D4F-6183-4A4C-BDDA-AE2234B8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1D9D9-E515-450C-8E35-E4AD4CD7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144CB-3A03-43FB-9687-A15D18F7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ACAC5-F3B3-47B7-96DC-161A8E1B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8B7C0-0CDF-4A22-AF22-DA24303C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B9822-2AA6-4F44-B704-35C7902A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1C4C-DA91-4A2B-AF89-E7D3FF61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5AAD3-B104-45A2-9F71-433DEE94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63BF1-832C-41B7-B862-42AF7CAB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CB733-C90C-4083-BA73-CEBF5AA4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BC3A6-B1DD-4090-A3E0-B7B89325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C0E24-62FE-429A-BB9F-E6552A7B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E332D-B64A-4CD0-AD7F-28D44B63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B7ABD-690A-431F-8F2E-231F2F71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795D5-6D23-436A-A63D-BE496A09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5E05C-8E13-44FE-B791-B83E01F2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0F2E6-866A-410A-8CF3-AA9DC4DB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3370-BDDF-4F47-81CB-A038AA36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E4AC5-0796-43EA-983B-A309A773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FE9B4-B705-4C7E-95D4-EB2FF945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CA7F2-9C05-4673-9B19-174C3B17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B8545-7BA6-4C1C-B0FA-F0478259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337DA-33EB-47DB-B3B6-49B47E5C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EE11-488A-4215-9FA5-881ABD72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1E70-ED4E-49E5-BDF6-647A425D949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78FE-A091-4BAB-AEC3-005928C5CE0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E26E-8363-4C80-B7FB-190AF4A694D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35ED-A357-4434-B72C-A2CE33D203A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AB09-FD94-45B7-AA6C-EC7925FAAC5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F080-9B25-4A82-9EBD-33950B568D8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DE87-B1B7-49EF-B7F5-91E706C908A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еличины в среде программирования КУМИР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грамма – алгоритм, записанный на языке программирова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Кумире используется алгоритмический язык – формальный язык, предназначенный для записи алгоритм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Найдите значение 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 после выполнения следующих оператор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Объект 2" descr=""/>
          <p:cNvPicPr/>
          <p:nvPr/>
        </p:nvPicPr>
        <p:blipFill>
          <a:blip r:embed="rId1"/>
          <a:stretch/>
        </p:blipFill>
        <p:spPr>
          <a:xfrm>
            <a:off x="1255680" y="1994040"/>
            <a:ext cx="75103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Объект 2" descr=""/>
          <p:cNvPicPr/>
          <p:nvPr/>
        </p:nvPicPr>
        <p:blipFill>
          <a:blip r:embed="rId1"/>
          <a:stretch/>
        </p:blipFill>
        <p:spPr>
          <a:xfrm>
            <a:off x="1109520" y="2859120"/>
            <a:ext cx="7510680" cy="306072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4"/>
          <p:cNvSpPr/>
          <p:nvPr/>
        </p:nvSpPr>
        <p:spPr>
          <a:xfrm>
            <a:off x="1042920" y="126828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ть несколько примеров величин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ь значения величин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ыполнения следующих операторов присваивани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4977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еличины -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115640" y="1125360"/>
            <a:ext cx="75819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это основной информационный объект в программировани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еличины, которые могут изменяться в процессе выполнения программы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азываются </a:t>
            </a:r>
            <a:r>
              <a:rPr b="0" i="1" lang="ru-RU" sz="3000" spc="-1" strike="noStrike">
                <a:solidFill>
                  <a:srgbClr val="ff0000"/>
                </a:solidFill>
                <a:latin typeface="Corbel"/>
              </a:rPr>
              <a:t>переменными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еличины, которые не изменяются - называются </a:t>
            </a:r>
            <a:r>
              <a:rPr b="0" i="1" lang="ru-RU" sz="3000" spc="-1" strike="noStrike">
                <a:solidFill>
                  <a:srgbClr val="ff0000"/>
                </a:solidFill>
                <a:latin typeface="Corbel"/>
              </a:rPr>
              <a:t>постоянные (константами).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Любая величина имеет 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имя, значение и тип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мя величины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разуется из одного или нескольких символов (букв латинского алфавита или цифр), причем первый символ должен быть обязательно буквой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Corbel"/>
              </a:rPr>
              <a:t>Например: </a:t>
            </a:r>
            <a:r>
              <a:rPr b="1" i="1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А, АNС, LI2, А1, SDY,VFR57,SUMMA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начение величин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31376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ждая величина должна иметь значени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 помощью значения величины можно сравнивать и отмечать изменения, которые с ними происходят, например, изменение веса, места жительства, количество отсутствующих на уроке, изменение цвет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ипы величин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Объект 3" descr=""/>
          <p:cNvPicPr/>
          <p:nvPr/>
        </p:nvPicPr>
        <p:blipFill>
          <a:blip r:embed="rId1"/>
          <a:stretch/>
        </p:blipFill>
        <p:spPr>
          <a:xfrm>
            <a:off x="1109520" y="1444680"/>
            <a:ext cx="78631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дберите подходящий тип данных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65560" indent="-48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ичество учеников в класс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лощадь прямоугольника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ичество кресел в кинотеатр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вая буква фамили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ичество букв в слов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ес мешка яблок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изведение цифр двузначного числ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звание месяц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97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оманда присваива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116000" y="1125000"/>
            <a:ext cx="7786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Corbel"/>
              </a:rPr>
              <a:t>Обозначается присваивание знаком      :=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rbel"/>
              </a:rPr>
              <a:t>!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Команда присваивания – одна из основных команд в алгоритмах работы с величинами. При присваивании переменной какого-либо значения старое значение переменной стирается и она получает новое значен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Например: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А:= 87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переменной с именем А присвоено значение 87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:= А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переменной с именем Х присвоено значение переменной А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:= 43+А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переменной с именем В присвоено значение 43+А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1:= - 3.5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переменной с именем С присвоено значение – 3,5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Y:= ‘мышь’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переменной с именем Y присвоено значение мышь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4853"/>
                </a:solidFill>
                <a:latin typeface="Arial"/>
                <a:ea typeface="Arial"/>
              </a:rPr>
              <a:t>А что обозначает запись   </a:t>
            </a:r>
            <a:r>
              <a:rPr b="1" lang="ru-RU" sz="2400" spc="-1" strike="noStrike">
                <a:solidFill>
                  <a:srgbClr val="1c4853"/>
                </a:solidFill>
                <a:latin typeface="Arial"/>
                <a:ea typeface="Arial"/>
              </a:rPr>
              <a:t>а:=а+1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76755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Запись арифметических выражени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920"/>
            <a:ext cx="749952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ля обозначения операций применяются следующие знаки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+  сложени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 вычитани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* умножени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/ делени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** возведение в степень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полните упражнения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258560" y="1196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1) Чему будет равна переменная К после выполнения следующих действий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:=5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S:=K+2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K:=S+2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K:=K+10+S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2) Чему равна переменная S в результате выполнения следующих действий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S:=10      K:=10/2+4  S:=S/2          K:=S+5-K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3) Чему равна символьная переменная L после следующих действий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X:=”2”    Y:=”5”    L:=X+Y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08:59:52Z</dcterms:created>
  <dc:creator>Ученик</dc:creator>
  <dc:description/>
  <dc:language>en-US</dc:language>
  <cp:lastModifiedBy>Администратор1</cp:lastModifiedBy>
  <dcterms:modified xsi:type="dcterms:W3CDTF">2015-02-09T02:14:53Z</dcterms:modified>
  <cp:revision>13</cp:revision>
  <dc:subject/>
  <dc:title>Структура алгоритма</dc:title>
</cp:coreProperties>
</file>