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33B-2D39-4D51-8E1A-B88A6432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890-5FE1-4649-A75A-FD12D9C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E76-21BA-4D47-99CB-B019F48A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0CC-CA13-4FF5-BFF3-2C10C156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7EB-7B72-42D9-9A4B-65537867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7DA4-5B95-45F9-A111-4FE5F8D8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0C1-FC64-4C12-8D84-3681034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5837-C83E-44D4-B79D-14D83F5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CBDD-BE28-4CAF-A57F-A493493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7AAD-5D51-4931-992C-B25E3CCC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6E2-AA6A-4C9D-BE5F-01C9C72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A27-38FA-4DA2-B0BA-4B4F4A91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C1A-1C35-4D77-8B1F-5FBF049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D490-D731-49E9-8CB9-680441F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DA18-856E-454D-94AA-F54C6CF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094-9844-47DF-9C89-499C1C12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63AF-B9D9-4336-95AF-65D77FBB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CF74-8D20-426A-9895-D2D75DF0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7614-8AD9-4565-B72D-2BD75B27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86D7-4329-4C6B-9B27-3E5A229B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698B-3EFC-445B-B475-1EF74669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58C0-8E58-4A5D-87E8-43E11C66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11E-C235-46B5-86C8-A7C24FFF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0E30-ECEA-4DB8-B01A-495271B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5F43-C492-4FD9-9EC6-1F21260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6523-13E6-4E4E-9179-EBF753C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688F-0DBF-4835-89C8-90B53DB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ABEA-2315-4060-8BAD-B7934412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77B8-A841-46C2-A2F8-02BDBBE6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F79D-4788-426E-AFD3-E1E27418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0D8B-B1F5-40CD-AC87-23963C58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883F-E666-4AA0-9848-A24B77F1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E00C-033E-4171-AFC6-1CA81B7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7DE-6C64-43BA-A170-5A7D9B3D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43AA-42B4-480A-89C2-93AEDA9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7C22-0A92-4CAC-8850-E04CF72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0706-FAD5-46C1-A769-6F151C1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B2A5-15DC-4E3F-B4F7-C537910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0780-B92B-443D-B63E-F4B5E8E6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FDDE-8E11-4D5A-A332-158E90B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11BF6-F880-4CD2-928C-E8C21D19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95ED-E494-4450-B0E0-B7ED473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E2D3-1936-4792-A540-D9DC80C5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62D7-86DC-4434-952A-5D1B3FAA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5BC-13E3-431F-B3B0-70A145A5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629B-FCC0-4337-82CB-7BFD189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9FFA-2748-4209-BEFF-7738CC92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3F44-043E-4EF0-9976-A54FA35A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B891-CBF2-4B4C-9759-AD99030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649FD-4D2E-40C6-B137-DE640DE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1001-4A5F-419C-9999-AD1C5E8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CADF2-D90E-4CA5-B9F4-02870EF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1FF4E-29FE-4E2A-90E4-4D1B362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4896-C298-48C8-8382-9293602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83BF-0DA0-47B1-9CC7-6ED00CE9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E29-319A-4A4C-9A91-51460760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37BF-81AA-4B36-BEF9-AC0CDCAA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96868-B225-4896-AF10-741E51B7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4859-45A3-477F-99B2-C54FBB4C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8CFB-9BC1-4FF9-8CB5-29A2949F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806CE-7F87-405A-B13F-DB8F1A5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09EC-2797-41E8-B21F-1426930B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5A1C-07BB-41D3-9BC5-9E4F78A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9F105-2F3E-4471-A6FE-15535DB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BD13-61F7-40EC-B4B3-F44D87F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21FC-7CC3-458A-A35F-2FE9E01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BC1-A33B-4547-8A73-06C0190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962E-953A-4E16-9811-686CF0A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504B1-DBA1-407C-B799-0E49D887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93FD6-F3E7-4395-971A-2D284D8E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F6A3-B676-4AA5-8630-1006A0DA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2174-465C-4A95-9834-797CEBC4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7475-44F3-48E5-B23E-60DF4A7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24B2-9915-4641-8CE1-6C0F75A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1FBF-D9DC-4EF2-A7B3-80FDF63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B42BE-02DE-4666-B363-D5CAEA7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C121-78ED-4448-B78A-7256617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579-4C05-4F06-80FC-58DA0B4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04E9C-0F00-491B-A82D-FDBE850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B2B0-2439-4FDB-96A3-E35B62E1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2533F-F6C6-48B8-A8D3-D455733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C468C-BE6E-4530-AA69-ADEDFFD0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E60D-C35C-42C5-9204-BDF0383C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CD8-9A2B-4881-B6E3-DDDF4A5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DE2-98A6-4009-B7B9-23E2083DC5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CC96-A8C3-4C4E-96BC-AC6E825C02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EA5E-1682-4F03-88A0-7AC55975FE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43A9-903B-4792-903B-DF26DCD1CD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6A54-67B4-4816-B3B0-F0304E6B6A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A59A-B709-4B3F-9279-37635D1832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5F6A-B6F7-4806-8F26-BE481A5536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еличины в среде программирования КУМИР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грамма – алгоритм, записанный на языке программиров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умире используется алгоритмический язык – формальный язык, предназначенный для записи алгорит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йдите значение 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после выполнения следующих оператор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Объект 2" descr=""/>
          <p:cNvPicPr/>
          <p:nvPr/>
        </p:nvPicPr>
        <p:blipFill>
          <a:blip r:embed="rId1"/>
          <a:stretch/>
        </p:blipFill>
        <p:spPr>
          <a:xfrm>
            <a:off x="1255680" y="1994040"/>
            <a:ext cx="75103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2" descr=""/>
          <p:cNvPicPr/>
          <p:nvPr/>
        </p:nvPicPr>
        <p:blipFill>
          <a:blip r:embed="rId1"/>
          <a:stretch/>
        </p:blipFill>
        <p:spPr>
          <a:xfrm>
            <a:off x="1109520" y="2859120"/>
            <a:ext cx="7510680" cy="306072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4"/>
          <p:cNvSpPr/>
          <p:nvPr/>
        </p:nvSpPr>
        <p:spPr>
          <a:xfrm>
            <a:off x="1042920" y="1268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несколько примеров величин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значения величин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полнения следующих операторов присваива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977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еличины -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115640" y="1125360"/>
            <a:ext cx="75819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это основной информационный объект в программирован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еличины, которые могут изменяться в процессе выполнения программы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зываются </a:t>
            </a:r>
            <a:r>
              <a:rPr b="0" i="1" lang="ru-RU" sz="3000" spc="-1" strike="noStrike">
                <a:solidFill>
                  <a:srgbClr val="ff0000"/>
                </a:solidFill>
                <a:latin typeface="Corbel"/>
              </a:rPr>
              <a:t>переменным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еличины, которые не изменяются - называются </a:t>
            </a:r>
            <a:r>
              <a:rPr b="0" i="1" lang="ru-RU" sz="3000" spc="-1" strike="noStrike">
                <a:solidFill>
                  <a:srgbClr val="ff0000"/>
                </a:solidFill>
                <a:latin typeface="Corbel"/>
              </a:rPr>
              <a:t>постоянные (константами).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юбая величина имеет 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имя, значение и тип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мя величины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уется из одного или нескольких символов (букв латинского алфавита или цифр), причем первый символ должен быть обязательно буквой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rbel"/>
              </a:rPr>
              <a:t>Например: </a:t>
            </a:r>
            <a:r>
              <a:rPr b="1" i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А, АNС, LI2, А1, SDY,VFR57,SUMMA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начение величин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31376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ая величина должна иметь знач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омощью значения величины можно сравнивать и отмечать изменения, которые с ними происходят, например, изменение веса, места жительства, количество отсутствующих на уроке, изменение цве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ипы велич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Объект 3" descr=""/>
          <p:cNvPicPr/>
          <p:nvPr/>
        </p:nvPicPr>
        <p:blipFill>
          <a:blip r:embed="rId1"/>
          <a:stretch/>
        </p:blipFill>
        <p:spPr>
          <a:xfrm>
            <a:off x="1109520" y="1444680"/>
            <a:ext cx="7863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берите подходящий тип данных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учеников в класс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 прямо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кресел в кинотеат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ая буква фамили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букв в слов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с мешка ябл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изведение цифр двузначного чис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звание месяц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манда присваи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16000" y="1125000"/>
            <a:ext cx="77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orbel"/>
              </a:rPr>
              <a:t>Обозначается присваивание знаком      :=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!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Команда присваивания – одна из основных команд в алгоритмах работы с величинами. При присваивании переменной какого-либо значения старое значение переменной стирается и она получает новое зна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А:= 87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А присвоено значение 87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:= 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Х присвоено значение переменной А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:= 43+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В присвоено значение 43+А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1:= - 3.5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С присвоено значение – 3,5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Y:= ‘мышь’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еременной с именем Y присвоено значение мышь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Arial"/>
                <a:ea typeface="Arial"/>
              </a:rPr>
              <a:t>А что обозначает запись   </a:t>
            </a:r>
            <a:r>
              <a:rPr b="1" lang="ru-RU" sz="2400" spc="-1" strike="noStrike">
                <a:solidFill>
                  <a:srgbClr val="1c4853"/>
                </a:solidFill>
                <a:latin typeface="Arial"/>
                <a:ea typeface="Arial"/>
              </a:rPr>
              <a:t>а:=а+1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6755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пись арифметических выраже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920"/>
            <a:ext cx="74995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обозначения операций применяются следующие знак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+  слож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 вычита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 умнож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 делени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* возведение в степен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е упражн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58560" y="1196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Чему будет равна переменная К после выполнения следующих действий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:=5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S:=K+2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K:=S+2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K:=K+10+S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Чему равна переменная S в результате выполнения следующих действий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S:=10      K:=10/2+4  S:=S/2          K:=S+5-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Чему равна символьная переменная L после следующих действий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X:=”2”    Y:=”5”    L:=X+Y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8:59:52Z</dcterms:created>
  <dc:creator>Ученик</dc:creator>
  <dc:description/>
  <dc:language>en-US</dc:language>
  <cp:lastModifiedBy>Администратор1</cp:lastModifiedBy>
  <dcterms:modified xsi:type="dcterms:W3CDTF">2015-02-09T02:14:53Z</dcterms:modified>
  <cp:revision>13</cp:revision>
  <dc:subject/>
  <dc:title>Структура алгоритма</dc:title>
</cp:coreProperties>
</file>