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7.png" ContentType="image/png"/>
  <Override PartName="/ppt/media/image33.jpeg" ContentType="image/jpeg"/>
  <Override PartName="/ppt/media/image34.gif" ContentType="image/gif"/>
  <Override PartName="/ppt/media/image4.gif" ContentType="image/gif"/>
  <Override PartName="/ppt/media/image1.jpeg" ContentType="image/jpeg"/>
  <Override PartName="/ppt/media/image36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064-E916-410B-A73A-E96A86AC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CAE-710F-4AD3-8B36-63C19C9D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5E3-01B6-4726-AF4D-614F734A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1F2-E0DA-43C2-9711-4E904EF7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371-4F8D-4D9C-BE89-DECE446B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DF1-D825-4F92-9580-A7AA0D5A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8F1-BCBD-4C72-A6F0-FB020A5A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0A6-77AC-4E6E-81AF-303AB0AA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F70-8229-46CE-B992-75077B5B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1D9-D166-46D3-B46F-905830DE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D47-24EE-4D25-891E-3835126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82B-7270-498A-8573-DA0CE9D9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B17-106A-4C53-98BE-D15CB9C7B3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iCAOD5YJ2"/>
          <p:cNvPicPr/>
          <p:nvPr/>
        </p:nvPicPr>
        <p:blipFill>
          <a:blip r:embed="rId1"/>
          <a:stretch/>
        </p:blipFill>
        <p:spPr>
          <a:xfrm>
            <a:off x="0" y="0"/>
            <a:ext cx="5072040" cy="5300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14"/>
          <p:cNvSpPr txBox="1"/>
          <p:nvPr/>
        </p:nvSpPr>
        <p:spPr>
          <a:xfrm>
            <a:off x="5364000" y="1341360"/>
            <a:ext cx="355284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ирусы</a:t>
            </a:r>
            <a:endParaRPr b="0" lang="en-US" sz="8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18"/>
          <p:cNvSpPr txBox="1"/>
          <p:nvPr/>
        </p:nvSpPr>
        <p:spPr>
          <a:xfrm>
            <a:off x="5364000" y="1341360"/>
            <a:ext cx="355284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ирусы</a:t>
            </a:r>
            <a:endParaRPr b="0" lang="en-US" sz="8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Задание 1.  Рассмотрите строение вирусов и ответьте на вопрос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                  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Чем вирусы  отличаются друг от друг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Задание 2.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 Прочитайте  перечень признаков вируса, оттметте  признаки живой материи и неживой материи. Соотнесите эти признаки в соответствующие колонки задания №2 в информационном листе (групповая работ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Задание 3.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Изучите  текст, рисунки вашего учебника, и предложенные материалы информационного листа. Какое строение  имеет вирус ТМ? Подпишите названия составных частей на рисунке. Ответьте на вопросы (индивидуальная рабо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Какое строение имеет вирус табачной мозаи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Как называется белковая оболочка вирус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Задание 4.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Рассмотрите строение бактериофага и подпишите его части. Ответьте на вопрос: Что общего и чем отличается вирус и бактериофаг? (работа в пара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9900"/>
                </a:solidFill>
                <a:uFillTx/>
                <a:latin typeface="Tahoma"/>
              </a:rPr>
              <a:t>« Виртуальная вирусная лаборатория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9900"/>
                </a:solidFill>
                <a:uFillTx/>
                <a:latin typeface="Tahoma"/>
              </a:rPr>
              <a:t>Строение вирус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1887480" cy="3816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2124000" y="162864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клеиновая </a:t>
            </a:r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118728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1187280" y="1916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3780000" y="1268280"/>
            <a:ext cx="172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имические веществ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К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пид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2195640" y="3068640"/>
            <a:ext cx="88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псид</a:t>
            </a:r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20" descr="Вирионы разных вирусов:"/>
          <p:cNvPicPr/>
          <p:nvPr/>
        </p:nvPicPr>
        <p:blipFill>
          <a:blip r:embed="rId2"/>
          <a:stretch/>
        </p:blipFill>
        <p:spPr>
          <a:xfrm>
            <a:off x="6659640" y="1197000"/>
            <a:ext cx="201600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2"/>
          <p:cNvSpPr/>
          <p:nvPr/>
        </p:nvSpPr>
        <p:spPr>
          <a:xfrm>
            <a:off x="6804000" y="4365720"/>
            <a:ext cx="165564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Вирионы разных вирусов:</a:t>
            </a:r>
            <a:br>
              <a:rPr sz="1000"/>
            </a:b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а–вирус оспа -вакцины; б–вирус простого герпеса человека,</a:t>
            </a:r>
            <a:br>
              <a:rPr sz="1000"/>
            </a:b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в–вирус гепатита В, г–аденовирус человека, д–вирус гриппа,</a:t>
            </a:r>
            <a:br>
              <a:rPr sz="1000"/>
            </a:b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е–вирус гепатита А, ж–бактериофаг лямбда</a:t>
            </a:r>
            <a:endParaRPr b="0" lang="en-US" sz="1000" spc="-1" strike="noStrike">
              <a:solidFill>
                <a:srgbClr val="e5ffff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3780000" y="3429000"/>
            <a:ext cx="165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ирусы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троению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стые или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ож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3780000" y="472428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Вирусы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оставу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НК или РНК содержащ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26" descr="iCAJZN77O"/>
          <p:cNvPicPr/>
          <p:nvPr/>
        </p:nvPicPr>
        <p:blipFill>
          <a:blip r:embed="rId3"/>
          <a:stretch/>
        </p:blipFill>
        <p:spPr>
          <a:xfrm>
            <a:off x="250920" y="5084640"/>
            <a:ext cx="1800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9900"/>
                </a:solidFill>
                <a:uFillTx/>
                <a:latin typeface="Tahoma"/>
              </a:rPr>
              <a:t>Строение вируса бактер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432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ирус бактерий- бактериофаг (фаг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Бактериофаги –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«пожиратели бактери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Открыты в 1917 году одноврем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 Франции и Англ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Используют при лечении заболева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ызываемых некоторыми бактери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ahoma"/>
              </a:rPr>
              <a:t>Схема внедрения фаговой ДНК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ahoma"/>
              </a:rPr>
              <a:t>клетку бактерии-хозя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103640" cy="4675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сканирование0005"/>
          <p:cNvPicPr/>
          <p:nvPr/>
        </p:nvPicPr>
        <p:blipFill>
          <a:blip r:embed="rId2"/>
          <a:stretch/>
        </p:blipFill>
        <p:spPr>
          <a:xfrm>
            <a:off x="468360" y="4437000"/>
            <a:ext cx="42480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Цикл развития вируса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адсорб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Вирус прикрепляется к поверхности восприимчивой клет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инъекции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Вирус вводит свою нуклеиновую кислоту в клетку или сам проникает в клетку полностью, а затем происходит отделение вируса от белковой оболочки и освобождение нуклеиновой кислот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редуплик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Самовоспроизведение  молекул нуклеиновой кислоты из нуклеотидов, накопленных в клетке хозя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синте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Синтез вирусных  белков  и фермен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самосборки вируса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Сборка вирусных частиц осуществляется из синтезированных пораженной клеткой вирусных белков, самосборка капси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лизи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Выход вирусных частиц из пораженной клетки; притом у бактерий  происходит распад клетки под  влиянием ферментов фага, а у клеток животных, растений и грибов выпячивается оболочка клетки, и вирус  выталкивается в окружающую сре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Tahoma"/>
              </a:rPr>
              <a:t>« Медицинская диагностик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5ffff"/>
                </a:solidFill>
                <a:uFillTx/>
                <a:latin typeface="Tahoma"/>
              </a:rPr>
              <a:t>Задание5.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ознакомтесь с  перечисленными вирусными  заболеваниями  и распределите их в соответствующие колон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Ящур, корь, скручивание листьев томата, чума птиц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свиней, бешенство, энцефалит, оспа, полиемилит, герпе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паротит (свинка), гепатит, краснух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e5ffff"/>
                </a:solidFill>
                <a:uFillTx/>
                <a:latin typeface="Tahoma"/>
              </a:rPr>
              <a:t>Задание6.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 Сочините синквейн на тему уро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Tahoma"/>
              </a:rPr>
              <a:t>Вирус иммунодифицита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95360" cy="97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3097080" cy="280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324000" y="1700280"/>
            <a:ext cx="8351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Многие путают два совершенно различных понятия - ВИЧ-инфицированный и больной СПИДом. Разница заключается в том, что человек, инфицированный вирусом иммунодефицита, может в течение многих лет оставаться работоспособным, относительно здоровым человеком. Такой человек не представляет никакой опасности для окружающих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smena" descr="15769"/>
          <p:cNvPicPr/>
          <p:nvPr/>
        </p:nvPicPr>
        <p:blipFill>
          <a:blip r:embed="rId3"/>
          <a:stretch/>
        </p:blipFill>
        <p:spPr>
          <a:xfrm>
            <a:off x="0" y="4460760"/>
            <a:ext cx="2700360" cy="239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ict14"/>
          <p:cNvPicPr/>
          <p:nvPr/>
        </p:nvPicPr>
        <p:blipFill>
          <a:blip r:embed="rId4"/>
          <a:stretch/>
        </p:blipFill>
        <p:spPr>
          <a:xfrm>
            <a:off x="6084720" y="3357720"/>
            <a:ext cx="3059280" cy="35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вирус СПИДа"/>
          <p:cNvPicPr/>
          <p:nvPr/>
        </p:nvPicPr>
        <p:blipFill>
          <a:blip r:embed="rId5"/>
          <a:stretch/>
        </p:blipFill>
        <p:spPr>
          <a:xfrm>
            <a:off x="250920" y="4005360"/>
            <a:ext cx="1133280" cy="69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вич"/>
          <p:cNvPicPr/>
          <p:nvPr/>
        </p:nvPicPr>
        <p:blipFill>
          <a:blip r:embed="rId6"/>
          <a:stretch/>
        </p:blipFill>
        <p:spPr>
          <a:xfrm rot="1215000">
            <a:off x="2410920" y="5876640"/>
            <a:ext cx="10875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Значение вирусов.</a:t>
            </a:r>
            <a:br>
              <a:rPr sz="3600"/>
            </a:b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cc9900"/>
                </a:solidFill>
                <a:latin typeface="Tahoma"/>
              </a:rPr>
              <a:t>Заболевания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002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корь, свинка, грипп, полиомиелит, бешенство, оспа, желт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лихорадка, трахома, энцефалит, некоторые онк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(опухолевые) болезни, СПИД, бородавки, герпе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Ребенок  больной оспой              Человек больной грипп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9" descr="pict16"/>
          <p:cNvPicPr/>
          <p:nvPr/>
        </p:nvPicPr>
        <p:blipFill>
          <a:blip r:embed="rId1"/>
          <a:stretch/>
        </p:blipFill>
        <p:spPr>
          <a:xfrm>
            <a:off x="0" y="3646440"/>
            <a:ext cx="3708360" cy="321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1"/>
          <p:cNvPicPr/>
          <p:nvPr/>
        </p:nvPicPr>
        <p:blipFill>
          <a:blip r:embed="rId2"/>
          <a:stretch/>
        </p:blipFill>
        <p:spPr>
          <a:xfrm>
            <a:off x="4537080" y="3716280"/>
            <a:ext cx="4606920" cy="3141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CAOR9OMI"/>
          <p:cNvPicPr/>
          <p:nvPr/>
        </p:nvPicPr>
        <p:blipFill>
          <a:blip r:embed="rId3"/>
          <a:stretch/>
        </p:blipFill>
        <p:spPr>
          <a:xfrm>
            <a:off x="8191440" y="0"/>
            <a:ext cx="952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1471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У животных вирусы вызывают ящур, чум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бешенство; насекомых - полиэдроз, грануломатоз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Вирус бешен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живот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Tahoma"/>
              </a:rPr>
              <a:t>Значение вирусов.</a:t>
            </a:r>
            <a:br>
              <a:rPr sz="3200"/>
            </a:br>
            <a:r>
              <a:rPr b="1" lang="ru-RU" sz="3200" spc="-1" strike="noStrike">
                <a:solidFill>
                  <a:srgbClr val="cc9900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cc9900"/>
                </a:solidFill>
                <a:latin typeface="Tahoma"/>
              </a:rPr>
              <a:t>Заболевания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Picture 7" descr="ъвирус бешенства 2"/>
          <p:cNvPicPr/>
          <p:nvPr/>
        </p:nvPicPr>
        <p:blipFill>
          <a:blip r:embed="rId1"/>
          <a:stretch/>
        </p:blipFill>
        <p:spPr>
          <a:xfrm>
            <a:off x="3708360" y="2924280"/>
            <a:ext cx="450072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Значение вирусов.</a:t>
            </a:r>
            <a:br>
              <a:rPr sz="3600"/>
            </a:b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cc9900"/>
                </a:solidFill>
                <a:latin typeface="Tahoma"/>
              </a:rPr>
              <a:t>Заболевания раст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у растений - мозаику или иные изменения окраски листь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либо цветков, курчавость листьев и другие изменения форм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карликовость; наконец, у бактерий - их расп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pict20"/>
          <p:cNvPicPr/>
          <p:nvPr/>
        </p:nvPicPr>
        <p:blipFill>
          <a:blip r:embed="rId1"/>
          <a:stretch/>
        </p:blipFill>
        <p:spPr>
          <a:xfrm>
            <a:off x="539640" y="3645000"/>
            <a:ext cx="3313080" cy="2990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iCAU0LAE5"/>
          <p:cNvPicPr/>
          <p:nvPr/>
        </p:nvPicPr>
        <p:blipFill>
          <a:blip r:embed="rId2"/>
          <a:stretch/>
        </p:blipFill>
        <p:spPr>
          <a:xfrm>
            <a:off x="5796000" y="5334120"/>
            <a:ext cx="119376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iCAZOKBCN"/>
          <p:cNvPicPr/>
          <p:nvPr/>
        </p:nvPicPr>
        <p:blipFill>
          <a:blip r:embed="rId3"/>
          <a:stretch/>
        </p:blipFill>
        <p:spPr>
          <a:xfrm>
            <a:off x="3564000" y="328464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вирус ТМозаики"/>
          <p:cNvPicPr/>
          <p:nvPr/>
        </p:nvPicPr>
        <p:blipFill>
          <a:blip r:embed="rId4"/>
          <a:stretch/>
        </p:blipFill>
        <p:spPr>
          <a:xfrm>
            <a:off x="4716360" y="44370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й вирус таб мозаики 2"/>
          <p:cNvPicPr/>
          <p:nvPr/>
        </p:nvPicPr>
        <p:blipFill>
          <a:blip r:embed="rId5"/>
          <a:stretch/>
        </p:blipFill>
        <p:spPr>
          <a:xfrm>
            <a:off x="6732720" y="3573360"/>
            <a:ext cx="21240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Tahoma"/>
              </a:rPr>
              <a:t>Домашнее задание</a:t>
            </a: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очитать параграф учебника, ответить на вопросы к нему и составить  и оформить синквейн на изучаемую те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одготовить сообщение, о вирусах используя ресурсы Интерн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оставить перечень сайтов Интернета, где можно найти информацию о вирус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иготовить презентацию,  используя    программные сред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icrosoft Word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icrosoft Power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ученик з"/>
          <p:cNvPicPr/>
          <p:nvPr/>
        </p:nvPicPr>
        <p:blipFill>
          <a:blip r:embed="rId1"/>
          <a:stretch/>
        </p:blipFill>
        <p:spPr>
          <a:xfrm>
            <a:off x="7610400" y="-963720"/>
            <a:ext cx="1533600" cy="257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nabor"/>
          <p:cNvPicPr/>
          <p:nvPr/>
        </p:nvPicPr>
        <p:blipFill>
          <a:blip r:embed="rId2"/>
          <a:stretch/>
        </p:blipFill>
        <p:spPr>
          <a:xfrm>
            <a:off x="250920" y="18900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task5"/>
          <p:cNvPicPr/>
          <p:nvPr/>
        </p:nvPicPr>
        <p:blipFill>
          <a:blip r:embed="rId3"/>
          <a:stretch/>
        </p:blipFill>
        <p:spPr>
          <a:xfrm>
            <a:off x="2700360" y="6021360"/>
            <a:ext cx="4032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3538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Тема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иру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Кто они - вещества или суще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iCAPHTNUI"/>
          <p:cNvPicPr/>
          <p:nvPr/>
        </p:nvPicPr>
        <p:blipFill>
          <a:blip r:embed="rId1"/>
          <a:stretch/>
        </p:blipFill>
        <p:spPr>
          <a:xfrm>
            <a:off x="3924360" y="2835360"/>
            <a:ext cx="5219640" cy="402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image127"/>
          <p:cNvPicPr/>
          <p:nvPr/>
        </p:nvPicPr>
        <p:blipFill>
          <a:blip r:embed="rId2"/>
          <a:stretch/>
        </p:blipFill>
        <p:spPr>
          <a:xfrm>
            <a:off x="1258920" y="544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Вирус ( от лат. </a:t>
            </a:r>
            <a:r>
              <a:rPr b="1" lang="en-US" sz="4400" spc="-1" strike="noStrike" u="sng">
                <a:solidFill>
                  <a:srgbClr val="cc9900"/>
                </a:solidFill>
                <a:uFillTx/>
                <a:latin typeface="Arial"/>
              </a:rPr>
              <a:t>virus</a:t>
            </a: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- яд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4103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ирус входит в цар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VIRA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ставляю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обой простейш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форму  жизни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Земле,  заним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огранич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оложение меж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неживой и жи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атер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7DQ93CAMU25WZCA1F6LT0CAB15TMECAE3MVJQCADZ60D2CACP65USCAVAABYHCA0C12RCCAXGQ6SHCAFA4A3RCAHD989UCARJ1PP1CAVJYDMNCAWMPXA5CA9LUE3PCAWGZRWGCAUGHNZPCAZGQQKOCA843M9G"/>
          <p:cNvPicPr/>
          <p:nvPr/>
        </p:nvPicPr>
        <p:blipFill>
          <a:blip r:embed="rId1"/>
          <a:stretch/>
        </p:blipFill>
        <p:spPr>
          <a:xfrm>
            <a:off x="4284720" y="2457360"/>
            <a:ext cx="4859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Проблемный вопро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Зная, что вирус не име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клеточного строения, ка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можно доказать - вирус жи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существо или веществ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728_b"/>
          <p:cNvPicPr/>
          <p:nvPr/>
        </p:nvPicPr>
        <p:blipFill>
          <a:blip r:embed="rId1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task1"/>
          <p:cNvPicPr/>
          <p:nvPr/>
        </p:nvPicPr>
        <p:blipFill>
          <a:blip r:embed="rId2"/>
          <a:stretch/>
        </p:blipFill>
        <p:spPr>
          <a:xfrm>
            <a:off x="1763640" y="5373720"/>
            <a:ext cx="388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Проблемный вопро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6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Почему   трудно   вести    борьб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с вирусами- возбудител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различных заболе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и полностью  их обезопасит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iCA8Y3ND6"/>
          <p:cNvPicPr/>
          <p:nvPr/>
        </p:nvPicPr>
        <p:blipFill>
          <a:blip r:embed="rId1"/>
          <a:stretch/>
        </p:blipFill>
        <p:spPr>
          <a:xfrm>
            <a:off x="0" y="4292640"/>
            <a:ext cx="2162160" cy="256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task1"/>
          <p:cNvPicPr/>
          <p:nvPr/>
        </p:nvPicPr>
        <p:blipFill>
          <a:blip r:embed="rId2"/>
          <a:stretch/>
        </p:blipFill>
        <p:spPr>
          <a:xfrm>
            <a:off x="3203640" y="5300640"/>
            <a:ext cx="3744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Tahoma"/>
              </a:rPr>
              <a:t>Цель ур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зучить строение вирус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зучить значение вирус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пределить, что это-вещество или     живое существ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ознакомится с  наиболее распространенными и опасн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ирусными заболеваниями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task4"/>
          <p:cNvPicPr/>
          <p:nvPr/>
        </p:nvPicPr>
        <p:blipFill>
          <a:blip r:embed="rId1"/>
          <a:stretch/>
        </p:blipFill>
        <p:spPr>
          <a:xfrm>
            <a:off x="3132000" y="5950080"/>
            <a:ext cx="3095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История открыт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5699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1852 год, русский бота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Дмитрий Иосиф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Иван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открыл вирус табачной мозаи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получив инфекционный экстра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из растений табака, пораж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мозаичной болезн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табачная мозаика"/>
          <p:cNvPicPr/>
          <p:nvPr/>
        </p:nvPicPr>
        <p:blipFill>
          <a:blip r:embed="rId1"/>
          <a:stretch/>
        </p:blipFill>
        <p:spPr>
          <a:xfrm rot="19640400">
            <a:off x="468360" y="501300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тбачная мозаика"/>
          <p:cNvPicPr/>
          <p:nvPr/>
        </p:nvPicPr>
        <p:blipFill>
          <a:blip r:embed="rId2"/>
          <a:stretch/>
        </p:blipFill>
        <p:spPr>
          <a:xfrm>
            <a:off x="2556000" y="501336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строение вр табачной ма"/>
          <p:cNvPicPr/>
          <p:nvPr/>
        </p:nvPicPr>
        <p:blipFill>
          <a:blip r:embed="rId3"/>
          <a:stretch/>
        </p:blipFill>
        <p:spPr>
          <a:xfrm>
            <a:off x="3924360" y="501336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й вирус таб мозаики 2"/>
          <p:cNvPicPr/>
          <p:nvPr/>
        </p:nvPicPr>
        <p:blipFill>
          <a:blip r:embed="rId4"/>
          <a:stretch/>
        </p:blipFill>
        <p:spPr>
          <a:xfrm rot="907200">
            <a:off x="6803640" y="5013360"/>
            <a:ext cx="1584360" cy="14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Д.И. Ивановский"/>
          <p:cNvPicPr/>
          <p:nvPr/>
        </p:nvPicPr>
        <p:blipFill>
          <a:blip r:embed="rId5"/>
          <a:stretch/>
        </p:blipFill>
        <p:spPr>
          <a:xfrm>
            <a:off x="6300720" y="1628640"/>
            <a:ext cx="25369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Характеристика виру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Вирусы - внутриклеточные парази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маленькая молекулярная мас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не имеют клеточного строения и просто устроен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отсутствие рибос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Не способны размножатся вне клет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нет собственного обмена веще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вне клетки хозяина не проявляют признаков живог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могут кристаллизовать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В настоящее время известны вирусы, размножающиеся в клетках растений, животных, грибов и бактер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Вызывают опасные заболе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task4"/>
          <p:cNvPicPr/>
          <p:nvPr/>
        </p:nvPicPr>
        <p:blipFill>
          <a:blip r:embed="rId1"/>
          <a:stretch/>
        </p:blipFill>
        <p:spPr>
          <a:xfrm>
            <a:off x="3132000" y="5734080"/>
            <a:ext cx="3313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9900"/>
                </a:solidFill>
                <a:uFillTx/>
                <a:latin typeface="Tahoma"/>
              </a:rPr>
              <a:t>Справочная информац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1887г. Крым, плантации табака поразила неизвестная болезнь: листья растений покрывались сложным абстрактным рисунком, растекавшимся по всему листу, словно окраска переливающаяся с одного листа на другой, от одного растения к друго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ельское     хозяйство несло убы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а место происшествия был направлен  молодой ученый. Однако задача оказалась весьма непрос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22:54:47Z</dcterms:created>
  <dc:creator>Людмила</dc:creator>
  <dc:description/>
  <dc:language>en-US</dc:language>
  <cp:lastModifiedBy>admin</cp:lastModifiedBy>
  <dcterms:modified xsi:type="dcterms:W3CDTF">2015-02-09T15:28:37Z</dcterms:modified>
  <cp:revision>15</cp:revision>
  <dc:subject/>
  <dc:title>Слайд 1</dc:title>
</cp:coreProperties>
</file>