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BB4-42EC-471E-928A-E7D78D5B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47E-38FB-456C-A402-431609A0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C84-B4D3-4536-B892-3F7AD335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752-3FB4-4A21-8EEA-AC996F6D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4DDEF-CB6B-4185-817F-B51A5038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EE72D-1C3D-446B-9F77-B2E0E662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C0FB0-D98D-4B2B-8125-CF1AFFCB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9443A-82D3-4B85-B4FD-F96E1D2A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3858B-DA43-4B86-8969-4224DB56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B8554-6D37-49C7-A9AB-4B69BD9F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C9D7D-08FF-4BDE-A9ED-F3008108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3E7-0A01-4D7C-A3DD-18D3C833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373C3-C039-449A-809F-68FE9E11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A5835-ECD6-443A-BBBD-90DDA698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79463-B01B-4849-91EA-143FD47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B949-9AC3-4562-A138-A6769DA7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EA8D3-AA55-4DA4-8800-40ABF5EE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E35-8F42-48A5-B362-121D45C2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727-5187-40C3-A0D4-D4B2D9C1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C19-A575-4CED-98B5-BB13AEC4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BA5-458E-4159-A7B6-238FD5A3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B2F-4FD8-4649-9852-5980AB76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593-704C-44AA-925B-19C8C3C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504-57B0-49C0-A09D-19C405B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6FA1-5E8C-4350-A708-3538E8BC19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00C8-77A3-47E9-A25E-B762532F8B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859360"/>
            <a:ext cx="6781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Исследовательская работа по истории 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«Александр Невский: жизнь, ставшая житием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Выполнила: ученица 11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БОУ «Гимназия №1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Чичеткина Екатер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Куратор:  преподаватель исто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Чернова И.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г. Новомосковск 2014-2015 уч.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351240" cy="42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45432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64000" y="476280"/>
            <a:ext cx="33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ремя рождения Александра Невского, внука великого князя Всеволода Большое Гнездо, в летописях не упоминается. В Н. Татищев без ссылок на источники отнес его к 1219 года, затем чаще упоминался 1220 год. В настоящее время наиболее вероятной датой рождения князя считается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13 мая 1221 года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однако и она является гипотетичес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1197000"/>
            <a:ext cx="230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еликую славу Александру принесла победа на берегу Невы в устье реки Ижоры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5 июлы 1240 года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над шведским отрядом. Он лично участвовал в этой битве. Считают, что именно из-за этой победы великого князя стали звать Невск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6048360" cy="403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7640" y="54936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Нев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765000"/>
            <a:ext cx="2374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1228 году поселился в Новгороде, а в 1230 году стал князем новгородских земель. В 1236 году, после отъезда Ярослава (его брата) стал самостоятельно защищать земли от шведов, ливонцев, литов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56000" y="560520"/>
            <a:ext cx="6192720" cy="488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68360" y="62064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712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1268280"/>
            <a:ext cx="309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5 апреля 1242 года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начался решающий бой, который произошел возле Вороньего камня на льду Чудского озера. Этот бой в истории называется Ледовым побоищем. В результате сражения разгромили немецких рыцарей. Ливонский орден должен был заключить мир: крестоносцы отказались от русской земли и передали часть Латгал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00" y="21207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435640" cy="424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95640" y="47628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Ледовое побоищ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476280"/>
            <a:ext cx="42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В 1251 году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князь Андрей выступает войском в союзе с братом Ярославом против вторгшихся на их территории татар, но проигрывает битву и бежит из Владимира. Это первое исторически зафиксированное открытое противостояние Золотой Ор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3784680" cy="5465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532320" cy="384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8900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14 ноября 1263 года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возвращаясь из Орды, Александр Невский умер. Народ долго оплакивал его кончину, они понял, что погиб великий князь владимирский, прославленный полководец и истинный патрио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170600" cy="648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428472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476280"/>
            <a:ext cx="23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За всю свою жизнь Невский не проиграл ни одного сражения. Он был талантливым дипломатом, полководцем, смог защитить Русь от многих врагов, а также предотвратить походы монголо-тат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27280" y="260280"/>
            <a:ext cx="6516720" cy="566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003640" y="4581360"/>
            <a:ext cx="36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осле смерти великого князя Александра Невского он был причислен к лику святых. Но слава о нем, его ратных подвигах и благих делах осталась в народе навеч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656320" y="189000"/>
            <a:ext cx="3487680" cy="4292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583160" cy="604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14:16:38Z</dcterms:created>
  <dc:creator>Екатерина</dc:creator>
  <dc:description/>
  <dc:language>en-US</dc:language>
  <cp:lastModifiedBy>User</cp:lastModifiedBy>
  <dcterms:modified xsi:type="dcterms:W3CDTF">2015-02-09T19:58:01Z</dcterms:modified>
  <cp:revision>31</cp:revision>
  <dc:subject/>
  <dc:title>Слайд 1</dc:title>
</cp:coreProperties>
</file>