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9CB-0554-4093-B082-4F6936EE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AA5-0034-4C30-B99C-1D802BB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B9-EFD4-4FF0-AA40-82AD36AD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831-25C9-4C78-ACE6-3C1C88D4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1F37-2891-4634-9938-CB3B08A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C4260-36B9-4421-8C88-E0EC42E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D0CA9-50A1-4EA2-9153-FCEE6C7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E34FB-E76B-4137-B6F4-4301EA5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B41CC-E647-4540-BD47-BB99D96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07817-A048-435D-B1C7-CC1C850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6805-AFFA-4AA0-8867-D931BB8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933-7F11-4E36-8041-A3F6CC1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3D1E-1185-48C7-A4E6-762E163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7453-0FE4-438A-B019-F50F17AB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722A2-7A7A-4052-ADCD-C2AD701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43AC-C0A1-4E13-B32B-E955C232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C91CF-6129-4951-A7EF-CF7C4AD0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109-21DF-4EB7-B956-434B208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E8D-ADCF-4D18-B40B-C5B38EB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BE0-2B92-4F18-9168-93C186E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EB0-C757-469C-A89A-B3A29F15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085-76A4-4894-9F13-93E19F1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8E2-7109-4801-934C-EDC52B4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66C-74CD-4EF1-823D-D8C428C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E9FB-C0F8-4C6E-B0BF-6631A33945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EC1-413F-45A2-86A7-0619E14999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859360"/>
            <a:ext cx="6781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сследовательская работа по истории 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«Александр Невский: жизнь, ставшая житие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Выполнила: ученица 11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БОУ «Гимназия №1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Чичеткина Екатер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уратор:  преподаватель ист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Чернова И.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. Новомосковск 2014-2015 уч.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351240" cy="42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4543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64000" y="476280"/>
            <a:ext cx="33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ремя рождения Александра Невского, внука великого князя Всеволода Большое Гнездо, в летописях не упоминается. В Н. Татищев без ссылок на источники отнес его к 1219 года, затем чаще упоминался 1220 год. В настоящее время наиболее вероятной датой рождения князя считается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13 мая 1221 года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однако и она является гипотетичес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197000"/>
            <a:ext cx="230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еликую славу Александру принесла победа на берегу Невы в устье реки Ижоры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15 июлы 1240 года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над шведским отрядом. Он лично участвовал в этой битве. Считают, что именно из-за этой победы великого князя стали звать Невс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549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Нев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765000"/>
            <a:ext cx="237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1228 году поселился в Новгороде, а в 1230 году стал князем новгородских земель. В 1236 году, после отъезда Ярослава (его брата) стал самостоятельно защищать земли от шведов, ливонцев, литов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56000" y="560520"/>
            <a:ext cx="6192720" cy="488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8360" y="62064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712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1268280"/>
            <a:ext cx="30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5 апреля 1242 года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начался решающий бой, который произошел возле Вороньего камня на льду Чудского озера. Этот бой в истории называется Ледовым побоищем. В результате сражения разгромили немецких рыцарей. Ливонский орден должен был заключить мир: крестоносцы отказались от русской земли и передали часть Латгал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435640" cy="424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47628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Ледовое побоищ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476280"/>
            <a:ext cx="42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В 1251 году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князь Андрей выступает войском в союзе с братом Ярославом против вторгшихся на их территории татар, но проигрывает битву и бежит из Владимира. Это первое исторически зафиксированное открытое противостояние Золотой Ор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784680" cy="5465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532320" cy="38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14 ноября 1263 года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возвращаясь из Орды, Александр Невский умер. Народ долго оплакивал его кончину, они понял, что погиб великий князь владимирский, прославленный полководец и истинный патри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170600" cy="648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4284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476280"/>
            <a:ext cx="23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За всю свою жизнь Невский не проиграл ни одного сражения. Он был талантливым дипломатом, полководцем, смог защитить Русь от многих врагов, а также предотвратить походы монголо-тат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27280" y="260280"/>
            <a:ext cx="6516720" cy="566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03640" y="4581360"/>
            <a:ext cx="36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осле смерти великого князя Александра Невского он был причислен к лику святых. Но слава о нем, его ратных подвигах и благих делах осталась в народе навеч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56320" y="189000"/>
            <a:ext cx="3487680" cy="4292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583160" cy="60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14:16:38Z</dcterms:created>
  <dc:creator>Екатерина</dc:creator>
  <dc:description/>
  <dc:language>en-US</dc:language>
  <cp:lastModifiedBy>User</cp:lastModifiedBy>
  <dcterms:modified xsi:type="dcterms:W3CDTF">2015-02-09T19:58:01Z</dcterms:modified>
  <cp:revision>31</cp:revision>
  <dc:subject/>
  <dc:title>Слайд 1</dc:title>
</cp:coreProperties>
</file>