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6434-47DB-4FB1-8305-B2EA9B45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104D-21E7-442A-AD1D-629D02B5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F3EF-F666-4234-917A-ABBA914D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011-A95B-4F09-B8DA-6C0E750D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0379-5FF1-4595-AE48-71B8E548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89C2-BB61-4BB4-9167-24135712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A3EB-5218-45FA-9FFB-58DB6180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4ADB-FF8F-463C-921F-B696589C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39F9-5984-4150-BE89-0F1D8A6D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9962-D975-48A3-94B1-72714011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2BD9-2F4A-4858-8290-775C62F4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6D5D-8695-48C9-B4A0-3AE2FCA3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6D86-41C6-4DD5-B4B7-0E91A195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A063-9928-4590-A159-E9DACD66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F312-1B11-4067-8249-3AAA2C51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DB4B-4875-4602-AA95-C8E74E5B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AF94-8C65-4682-BBA4-650AE235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D51-7D76-4863-85DF-AC03ED70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F281-E975-48F2-88C6-E8F8B60D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7E47-7CDA-4B23-893C-147522FB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8A6F-CD57-400D-8420-C42F8911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86AC-A18A-44E1-BC80-79ADA8EC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E322-F070-4A58-A009-784B1848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35AF-51E4-4E4A-A422-2D42B1AB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D5C2-2AD1-4398-AB9F-26737CBB71B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5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D092-B62B-46BB-8A7C-C2357802EB9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egalink.ru/~agb/n/numerat.htm" TargetMode="External"/><Relationship Id="rId2" Type="http://schemas.openxmlformats.org/officeDocument/2006/relationships/hyperlink" Target="http://mashavph.narod.r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WordArt 4" descr=""/>
          <p:cNvPicPr/>
          <p:nvPr/>
        </p:nvPicPr>
        <p:blipFill>
          <a:blip r:embed="rId1"/>
          <a:stretch/>
        </p:blipFill>
        <p:spPr>
          <a:xfrm>
            <a:off x="244440" y="-23760"/>
            <a:ext cx="8697960" cy="3163680"/>
          </a:xfrm>
          <a:prstGeom prst="rect">
            <a:avLst/>
          </a:prstGeom>
          <a:ln w="0">
            <a:noFill/>
          </a:ln>
        </p:spPr>
      </p:pic>
      <p:pic>
        <p:nvPicPr>
          <p:cNvPr id="97" name="WordArt 5" descr=""/>
          <p:cNvPicPr/>
          <p:nvPr/>
        </p:nvPicPr>
        <p:blipFill>
          <a:blip r:embed="rId2"/>
          <a:stretch/>
        </p:blipFill>
        <p:spPr>
          <a:xfrm>
            <a:off x="212760" y="3645000"/>
            <a:ext cx="8736120" cy="20127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501040" cy="12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ирокое распространение получила система записи чисел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торая применялась более 2,5 тыс. лет назад в Древнем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име</a:t>
            </a:r>
            <a:br>
              <a:rPr sz="20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8400" y="2133360"/>
            <a:ext cx="839124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м таблицу, в которой указаны римские цифры (их всего 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мские циф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V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х значение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     5      10       50      100       500   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28760" y="4322880"/>
          <a:ext cx="8202600" cy="1177920"/>
        </p:xfrm>
        <a:graphic>
          <a:graphicData uri="http://schemas.openxmlformats.org/drawingml/2006/table">
            <a:tbl>
              <a:tblPr/>
              <a:tblGrid>
                <a:gridCol w="2203200"/>
                <a:gridCol w="541440"/>
                <a:gridCol w="650880"/>
                <a:gridCol w="830160"/>
                <a:gridCol w="901800"/>
                <a:gridCol w="941400"/>
                <a:gridCol w="1163520"/>
                <a:gridCol w="970200"/>
              </a:tblGrid>
              <a:tr h="117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4297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исхождение римских цифр связано с соответствующими латинскими словами, которые играли роль цифр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и,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 вэ,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икс,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э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це,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D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,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э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помощью этих букв, которые выполняли роль цифр, записывали любое число до милли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В Риме"/>
          <p:cNvPicPr/>
          <p:nvPr/>
        </p:nvPicPr>
        <p:blipFill>
          <a:blip r:embed="rId1"/>
          <a:stretch/>
        </p:blipFill>
        <p:spPr>
          <a:xfrm>
            <a:off x="6443640" y="2565360"/>
            <a:ext cx="1657440" cy="1871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Римская X"/>
          <p:cNvPicPr/>
          <p:nvPr/>
        </p:nvPicPr>
        <p:blipFill>
          <a:blip r:embed="rId2"/>
          <a:stretch/>
        </p:blipFill>
        <p:spPr>
          <a:xfrm>
            <a:off x="826920" y="4149720"/>
            <a:ext cx="1343160" cy="1871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468360" y="126720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имские цифры возникли естественным путем. Римляне считали по пальцам. Один палец, два пальца, три пальца соответствовали римским  символам I, II и 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и X- эти две римские цифры взяты из человеческих р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332000" y="285084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имская цифра V (5) является выражением его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2340000" y="407304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имская цифра X (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ве руки друг к другу (10 пальцев)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скрещенные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L и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латински 100 ( centum – сто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енту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Отсюда 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ьдесят составляет половину о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0.  Похоже на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Римская C&gt; L"/>
          <p:cNvPicPr/>
          <p:nvPr/>
        </p:nvPicPr>
        <p:blipFill>
          <a:blip r:embed="rId1"/>
          <a:stretch/>
        </p:blipFill>
        <p:spPr>
          <a:xfrm>
            <a:off x="5148360" y="400536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 и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 латински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Mille –тысяча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аким образом, М -  100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0- "половину" 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этот раз 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тикали, похож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&gt; Римско M D"/>
          <p:cNvPicPr/>
          <p:nvPr/>
        </p:nvPicPr>
        <p:blipFill>
          <a:blip r:embed="rId1"/>
          <a:stretch/>
        </p:blipFill>
        <p:spPr>
          <a:xfrm>
            <a:off x="4859280" y="2924280"/>
            <a:ext cx="3529080" cy="2808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928440"/>
            <a:ext cx="7925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закрепления в памяти буквенных обозначений цифр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 порядке убыван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 мнемоническое правил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им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ные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оны,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тит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2868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имскими цифрами пользовались очень долго. Еще в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XVIII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в. в деловых бумагах разрешалось обозначать числа лишь римскими цифрами. До сих пор мы пользуемся этими цифрами для обозначения веков, например XXI ве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2260080"/>
            <a:ext cx="7925040" cy="37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ая система записи чисел была неудобная – над числами трудно было выполнять арифметические действия. Ее вытеснила знакомая система записи чисел, появившаяся в Индии примерно 1400 лет назад. В этой системе все числа обозначались с помощью 10 цифр: 1,2,3,4,5,6,7,8,9.0. При этом значение цифры зависело от занимаемого ею места, от ее позиции. Поэтому такую систему записи чисел называют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озицио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Система записи и чтения римских цифр.</a:t>
            </a:r>
            <a:br>
              <a:rPr sz="38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записи чисел римские цифры располагаются, как правило, в порядке старшинства, но иногда этот порядок меняется, так как правило предусматривает,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что одна и та же цифра не должна повторяться в записи числа более трех раз подря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- записывается так 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 единица, поставленная слева, вычитается от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ицы, же, поставленные справа, прибавляются, поэтому 6,7,8 записываются та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VI, VII,VI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записывается как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11,12,13,14,15  как 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XI,   XII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XIII,XIV, XV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узнать, какое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числ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ано римскими цифрами, достаточно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ложить  значения всех его циф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при этом, если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ладшая цифра окажется перед старшей, то значение этой младшей цифры вычитается из значения старш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9999ff"/>
                </a:solidFill>
                <a:latin typeface="Arial"/>
              </a:rPr>
              <a:t>Примеры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-684360" y="3840120"/>
            <a:ext cx="968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57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85880" y="1243440"/>
            <a:ext cx="7429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XXXVI = 10+10+10+5+1 = 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XII   = 100+ 50 +10+2 =1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L =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0 – 10 = 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XL = 100+ ( 50 -10) = 1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проект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комиться с историей возникновения и развития римской системы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ать на основные недостатки и преимущества системы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иться пользоваться римской  системой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ширение математического кругозора учащихся и привитие интереса к предмету и развитие творческих способ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2 = 100 +1+1 = C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74 = 100+100+100+ 50+ 10+10 +(5-1)= CCCL XX I V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Запись большого числ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29635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сывается следующим образ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X IXm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CXXX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«тысяча» от латинского слова «миле» - тыся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9999ff"/>
                </a:solidFill>
                <a:latin typeface="Arial"/>
              </a:rPr>
              <a:t>Тренировочные упражнения.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1428480"/>
            <a:ext cx="7925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ите арабскими цифрами чис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XXII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,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XXXIV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,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XIV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DCLXVI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,         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Запишите римскими 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цифрами числа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24, 48, 1937, 444, 3527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 одной книге указан такой год издания  </a:t>
            </a:r>
            <a:r>
              <a:rPr b="0" lang="en-US" sz="6600" spc="-1" strike="noStrike">
                <a:solidFill>
                  <a:srgbClr val="ff0066"/>
                </a:solidFill>
                <a:latin typeface="Arial"/>
              </a:rPr>
              <a:t>MDCCXLIX</a:t>
            </a:r>
            <a:r>
              <a:rPr b="0" lang="ru-RU" sz="6600" spc="-1" strike="noStrike">
                <a:solidFill>
                  <a:srgbClr val="ff0066"/>
                </a:solidFill>
                <a:latin typeface="Arial"/>
              </a:rPr>
              <a:t>.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Когда издана книга?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0" y="189000"/>
            <a:ext cx="86248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исок использованной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итературы: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560" y="1599840"/>
            <a:ext cx="849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Елена Савченко «Знакомьтесь, римские цифры», № 24/2004 газеты "Начальная школа" Издательского дома "Первое сентября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www.megalink.ru/~agb/n/numerat.ht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http://mashavph.narod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 из Википедии — свободной энциклопед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лан проект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 информации из различных источников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аботка практ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през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а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именение проект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в урочной  и внеурочной деятельности по предмету матема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1. Из истории цифр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то не знает, когда впервые появились счет и числа. Но люди, занимаясь охотой, рыбной ловлей, сбором плодов, грибов, сталкивались с вопросами, которые сейчас решаются с помощью числа и счета. Жизнь требовала от людей не только умения считать предметы, но запоминать и записывать их число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умерация – это способ записывать числа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долгую историю человечества таких способов набралось много. Многие древние народы считали, как и мы, – десятками. Десятками считали египтяне, китайцы. Десятичную систему записи чисел, которой мы пользуемся сейчас, изобрели индусы 2000 лет назад.  Но кое-где пользовались и другими системами счисления. Те же китайцы в более отдаленные времена считали пятками, а индейцы племени майя – считали двадцатками. В основе системы счисления, принятой в Вавилоне, лежало число 60, а не 10, как у нас. Числа вавилоняне обозначали клинышками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новение 60-ричной системы связано с расчетами. У шумеров, населявших ранее территорию Вавилонского царства, были разные денежные единицы: мина и шекель. Мина- крупная единица, а делилась на две, три, а иногда и шесть частей. По стоимости шестая часть мины была приравнена 10 шекелям. Но все-таки запись больших чисел в древних нумерациях была не слишком-то удоб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зять билетик с египетской нумерацией, то число 1754 у них состоит из 17 знаков, а нам с вами достаточно четырех. Мы пользуемся арабской системой счисления и обозначаем числа с помощью цифр 1,2,3,4,5,6.7,8,9,0. Изобрели эту систему индийцы, а арабы познакомили европейцев с этим изобретением в начал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015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r>
              <a:rPr b="0" i="1" lang="ru-RU" sz="2100" spc="-1" strike="noStrike">
                <a:solidFill>
                  <a:srgbClr val="ffffff"/>
                </a:solidFill>
                <a:latin typeface="Arial"/>
              </a:rPr>
              <a:t>Сегодня вы подробно познакомитесь с римскими цифрами</a:t>
            </a:r>
            <a:br>
              <a:rPr sz="2100"/>
            </a:br>
            <a:r>
              <a:rPr b="0" i="1" lang="ru-RU" sz="2100" spc="-1" strike="noStrike">
                <a:solidFill>
                  <a:srgbClr val="ffffff"/>
                </a:solidFill>
                <a:latin typeface="Arial"/>
              </a:rPr>
              <a:t> и    их использованием на практике.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1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1773360"/>
            <a:ext cx="792504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о в том, что римские цифры, несмотря на неудобство их использования, не выходят из употребления, и культурному человеку необходимо в известной степени уметь ими пользоваться. Эти цифры  употребляются для записи месяцев года, номеров томов и глав книг, на циферблате часов, записи дат событий и т.п. Поэтому вы должны уметь записывать римские цифры и правильно их поним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1:36:16Z</dcterms:created>
  <dc:creator>eXPerience</dc:creator>
  <dc:description/>
  <dc:language>en-US</dc:language>
  <cp:lastModifiedBy>Владелец</cp:lastModifiedBy>
  <dcterms:modified xsi:type="dcterms:W3CDTF">2015-02-12T20:09:23Z</dcterms:modified>
  <cp:revision>28</cp:revision>
  <dc:subject/>
  <dc:title>Слайд 1</dc:title>
</cp:coreProperties>
</file>