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CFA-8DCA-4B93-AE10-3F09E288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075-3FED-4550-9703-3B3AAB3D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EFB-9F29-41E6-AC53-7537C8E4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57F-D9FB-44E2-B143-CFD8870C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F989-C5A2-4F1E-A00F-3D958A0D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FEF7-CC8A-4E48-9540-3152D33A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67CD-A3E5-4C39-B43C-F19AF43F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33BF-8D8E-474C-A64D-F0865817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4A05-C5DD-417A-BC45-CF8CB64D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DFB4-5BAC-4829-8D39-EAE6D2C0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E75F-40DD-46F3-9B0B-D64470AB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654-4AD6-4A78-A23F-3BCD9957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AE86-8202-49D9-8EB8-91E331B7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03C1-1A06-4FF4-8FF9-4708328E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F37C-80AD-40F2-A31B-F3276B7B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D478-D703-4FFF-AC3D-F22ABDAC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E0F7-6099-41C9-BCDC-8430B70E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DEE-7992-4750-A551-0D3689F1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731-8FB0-464D-B6C2-0FA75905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281-C73D-4289-A18B-686080A0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CA1D-0DA7-4193-816C-4F5033F5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648-E527-4B36-8AEE-064DA59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97E-49A1-4A76-AE99-4D95D041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72F-8B07-4DBE-BA79-E2B843FC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DDD8-75FD-4C3A-8887-24EFF34578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0383-E05D-478C-8981-BE430843D9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egalink.ru/~agb/n/numerat.htm" TargetMode="External"/><Relationship Id="rId2" Type="http://schemas.openxmlformats.org/officeDocument/2006/relationships/hyperlink" Target="http://mashavph.narod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WordArt 4" descr=""/>
          <p:cNvPicPr/>
          <p:nvPr/>
        </p:nvPicPr>
        <p:blipFill>
          <a:blip r:embed="rId1"/>
          <a:stretch/>
        </p:blipFill>
        <p:spPr>
          <a:xfrm>
            <a:off x="244440" y="-23760"/>
            <a:ext cx="8697960" cy="3163680"/>
          </a:xfrm>
          <a:prstGeom prst="rect">
            <a:avLst/>
          </a:prstGeom>
          <a:ln w="0">
            <a:noFill/>
          </a:ln>
        </p:spPr>
      </p:pic>
      <p:pic>
        <p:nvPicPr>
          <p:cNvPr id="97" name="WordArt 5" descr=""/>
          <p:cNvPicPr/>
          <p:nvPr/>
        </p:nvPicPr>
        <p:blipFill>
          <a:blip r:embed="rId2"/>
          <a:stretch/>
        </p:blipFill>
        <p:spPr>
          <a:xfrm>
            <a:off x="212760" y="3645000"/>
            <a:ext cx="8736120" cy="2012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12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ирокое распространение получила система записи чисел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ая применялась более 2,5 тыс. лет назад в Древнем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име</a:t>
            </a:r>
            <a:br>
              <a:rPr sz="20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8400" y="2133360"/>
            <a:ext cx="839124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таблицу, в которой указаны римские цифры (их всего 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мские циф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V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значение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     5      10       50      100       500   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28760" y="4322880"/>
          <a:ext cx="8202600" cy="1177920"/>
        </p:xfrm>
        <a:graphic>
          <a:graphicData uri="http://schemas.openxmlformats.org/drawingml/2006/table">
            <a:tbl>
              <a:tblPr/>
              <a:tblGrid>
                <a:gridCol w="2203200"/>
                <a:gridCol w="541440"/>
                <a:gridCol w="650880"/>
                <a:gridCol w="830160"/>
                <a:gridCol w="901800"/>
                <a:gridCol w="941400"/>
                <a:gridCol w="1163520"/>
                <a:gridCol w="970200"/>
              </a:tblGrid>
              <a:tr h="117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4297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исхождение римских цифр связано с соответствующими латинскими словами, которые играли роль цифр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и,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 вэ,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икс,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це,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D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,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э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омощью этих букв, которые выполняли роль цифр, записывали любое число до милли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В Риме"/>
          <p:cNvPicPr/>
          <p:nvPr/>
        </p:nvPicPr>
        <p:blipFill>
          <a:blip r:embed="rId1"/>
          <a:stretch/>
        </p:blipFill>
        <p:spPr>
          <a:xfrm>
            <a:off x="6443640" y="2565360"/>
            <a:ext cx="1657440" cy="187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Римская X"/>
          <p:cNvPicPr/>
          <p:nvPr/>
        </p:nvPicPr>
        <p:blipFill>
          <a:blip r:embed="rId2"/>
          <a:stretch/>
        </p:blipFill>
        <p:spPr>
          <a:xfrm>
            <a:off x="826920" y="4149720"/>
            <a:ext cx="1343160" cy="1871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468360" y="126720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имские цифры возникли естественным путем. Римляне считали по пальцам. Один палец, два пальца, три пальца соответствовали римским  символам I, II и 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и X- эти две римские цифры взяты из человеческих р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332000" y="285084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имская цифра V (5) является выражением его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2340000" y="407304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имская цифра X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руки друг к другу (10 пальцев)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скрещенные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L и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латински 100 ( centum – сто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енту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Отсюда 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ьдесят составляет половину о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.  Похоже на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Римская C&gt; L"/>
          <p:cNvPicPr/>
          <p:nvPr/>
        </p:nvPicPr>
        <p:blipFill>
          <a:blip r:embed="rId1"/>
          <a:stretch/>
        </p:blipFill>
        <p:spPr>
          <a:xfrm>
            <a:off x="5148360" y="400536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 и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 латински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Mille –тысяч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аким образом, М -  100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0- "половину" 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этот раз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тикали, похо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&gt; Римско M D"/>
          <p:cNvPicPr/>
          <p:nvPr/>
        </p:nvPicPr>
        <p:blipFill>
          <a:blip r:embed="rId1"/>
          <a:stretch/>
        </p:blipFill>
        <p:spPr>
          <a:xfrm>
            <a:off x="4859280" y="2924280"/>
            <a:ext cx="352908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928440"/>
            <a:ext cx="7925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закрепления в памяти буквенных обозначений цифр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порядке убыван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мнемоническое прави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м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ные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оны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ит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2868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имскими цифрами пользовались очень долго. Еще в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в. в деловых бумагах разрешалось обозначать числа лишь римскими цифрами. До сих пор мы пользуемся этими цифрами для обозначения веков, например XXI в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2260080"/>
            <a:ext cx="7925040" cy="37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ая система записи чисел была неудобная – над числами трудно было выполнять арифметические действия. Ее вытеснила знакомая система записи чисел, появившаяся в Индии примерно 1400 лет назад. В этой системе все числа обозначались с помощью 10 цифр: 1,2,3,4,5,6,7,8,9.0. При этом значение цифры зависело от занимаемого ею места, от ее позиции. Поэтому такую систему записи чисел называют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озицио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Система записи и чтения римских цифр.</a:t>
            </a:r>
            <a:br>
              <a:rPr sz="38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записи чисел римские цифры располагаются, как правило, в порядке старшинства, но иногда этот порядок меняется, так как правило предусматривает,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что одна и та же цифра не должна повторяться в записи числа более трех раз подр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записывается так 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единица, поставленная слева, вычитается от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ицы, же, поставленные справа, прибавляются, поэтому 6,7,8 записываются т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VI, VII,VI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записывается как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11,12,13,14,15  как 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XI,   XII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XIII,XIV, XV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узнать, какое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числ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но римскими цифрами, достаточно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ложить  значения всех его циф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при этом, если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ладшая цифра окажется перед старшей, то значение этой младшей цифры вычитается из значения старш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9999ff"/>
                </a:solidFill>
                <a:latin typeface="Arial"/>
              </a:rPr>
              <a:t>Пример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-684360" y="3840120"/>
            <a:ext cx="968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85880" y="1243440"/>
            <a:ext cx="7429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XXXVI = 10+10+10+5+1 = 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XII   = 100+ 50 +10+2 =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L =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0 – 10 =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XL = 100+ ( 50 -10) = 1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ся с историей возникновения и развития римской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ать на основные недостатки и преимущества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ся пользоваться римской  системой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ширение математического кругозора учащихся и привитие интереса к предмету и развитие творческих способ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2 = 100 +1+1 = C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74 = 100+100+100+ 50+ 10+10 +(5-1)= CCCL XX I 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Запись большого числ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2963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ывается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X IXm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CXXX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«тысяча» от латинского слова «миле» - тыся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9999ff"/>
                </a:solidFill>
                <a:latin typeface="Arial"/>
              </a:rPr>
              <a:t>Тренировочные упражнения.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428480"/>
            <a:ext cx="7925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арабскими цифрами чис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XXII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XXXIV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,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XIV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DCLXVI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,     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Запишите римскими 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цифрами числа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24, 48, 1937, 444, 3527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одной книге указан такой год издания  </a:t>
            </a: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MDCCXLIX</a:t>
            </a:r>
            <a:r>
              <a:rPr b="0" lang="ru-RU" sz="6600" spc="-1" strike="noStrike">
                <a:solidFill>
                  <a:srgbClr val="ff0066"/>
                </a:solidFill>
                <a:latin typeface="Arial"/>
              </a:rPr>
              <a:t>.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Когда издана книга?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0" y="189000"/>
            <a:ext cx="86248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сок использованной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итературы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560" y="1599840"/>
            <a:ext cx="849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Елена Савченко «Знакомьтесь, римские цифры», № 24/2004 газеты "Начальная школа" Издательского дома "Первое сентября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www.megalink.ru/~agb/n/numerat.ht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mashavph.narod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 из Википедии — свободной энциклопед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лан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информации из различных источнико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аботка прак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менение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в урочной  и внеурочной деятельности по предмету матема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1. Из истории цифр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то не знает, когда впервые появились счет и числа. Но люди, занимаясь охотой, рыбной ловлей, сбором плодов, грибов, сталкивались с вопросами, которые сейчас решаются с помощью числа и счета. Жизнь требовала от людей не только умения считать предметы, но запоминать и записывать их число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умерация – это способ записывать числа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долгую историю человечества таких способов набралось много. Многие древние народы считали, как и мы, – десятками. Десятками считали египтяне, китайцы. Десятичную систему записи чисел, которой мы пользуемся сейчас, изобрели индусы 2000 лет назад.  Но кое-где пользовались и другими системами счисления. Те же китайцы в более отдаленные времена считали пятками, а индейцы племени майя – считали двадцатками. В основе системы счисления, принятой в Вавилоне, лежало число 60, а не 10, как у нас. Числа вавилоняне обозначали клинышкам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60-ричной системы связано с расчетами. У шумеров, населявших ранее территорию Вавилонского царства, были разные денежные единицы: мина и шекель. Мина- крупная единица, а делилась на две, три, а иногда и шесть частей. По стоимости шестая часть мины была приравнена 10 шекелям. Но все-таки запись больших чисел в древних нумерациях была не слишком-то удоб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зять билетик с египетской нумерацией, то число 1754 у них состоит из 17 знаков, а нам с вами достаточно четырех. Мы пользуемся арабской системой счисления и обозначаем числа с помощью цифр 1,2,3,4,5,6.7,8,9,0. Изобрели эту систему индийцы, а арабы познакомили европейцев с этим изобретением в начал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015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r>
              <a:rPr b="0" i="1" lang="ru-RU" sz="2100" spc="-1" strike="noStrike">
                <a:solidFill>
                  <a:srgbClr val="ffffff"/>
                </a:solidFill>
                <a:latin typeface="Arial"/>
              </a:rPr>
              <a:t>Сегодня вы подробно познакомитесь с римскими цифрами</a:t>
            </a:r>
            <a:br>
              <a:rPr sz="2100"/>
            </a:br>
            <a:r>
              <a:rPr b="0" i="1" lang="ru-RU" sz="2100" spc="-1" strike="noStrike">
                <a:solidFill>
                  <a:srgbClr val="ffffff"/>
                </a:solidFill>
                <a:latin typeface="Arial"/>
              </a:rPr>
              <a:t> и    их использованием на практике.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1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773360"/>
            <a:ext cx="792504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о в том, что римские цифры, несмотря на неудобство их использования, не выходят из употребления, и культурному человеку необходимо в известной степени уметь ими пользоваться. Эти цифры  употребляются для записи месяцев года, номеров томов и глав книг, на циферблате часов, записи дат событий и т.п. Поэтому вы должны уметь записывать римские цифры и правильно их поним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1:36:16Z</dcterms:created>
  <dc:creator>eXPerience</dc:creator>
  <dc:description/>
  <dc:language>en-US</dc:language>
  <cp:lastModifiedBy>Владелец</cp:lastModifiedBy>
  <dcterms:modified xsi:type="dcterms:W3CDTF">2015-02-12T20:09:23Z</dcterms:modified>
  <cp:revision>28</cp:revision>
  <dc:subject/>
  <dc:title>Слайд 1</dc:title>
</cp:coreProperties>
</file>