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F547-8557-4E8E-96DB-1F51AA3C8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E5C4-8CE8-4A5B-A5B0-FD398619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9AB1-5FA3-4D81-9775-95FCB9D39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38CF-61C1-4CCE-90FD-86F443EC5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14DA-B8F6-4683-B357-D4930A67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B340-2A59-45F4-AEDE-DEBBBEE6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2AAE-8F3A-44DE-8A3E-5CD1387E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184E-7333-4522-A5DC-EAD6016E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74C1-8D53-44C7-A4E1-A6C844D4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A1F1-A78D-41AC-9FA5-CAB290B2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C682-7BFF-4BF8-88E0-2E30DA3F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343F-69D3-4A8F-825B-D21E8507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6DA1-8096-452C-9444-8D06C806B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РОД и ДЕРЕВ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и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8360" y="1128600"/>
            <a:ext cx="7993080" cy="57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ращивание культурных раст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705440" cy="48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еревня окружена лес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9640" y="1116000"/>
            <a:ext cx="828036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РОД (многоэтажные дом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1438200"/>
            <a:ext cx="810108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сфальтированные дор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61976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воды и фабр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637236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щественный тран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4140360" cy="2754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00720" y="1197000"/>
            <a:ext cx="3384360" cy="2662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619280" y="3240000"/>
            <a:ext cx="540072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мятники, музеи, кинотеат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3558960" cy="5516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067280" y="1268280"/>
            <a:ext cx="4610160" cy="4508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116000" y="1700280"/>
            <a:ext cx="669600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газованность, мало зел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ло, Деревня (дом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5400720" cy="4118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319560" y="2519280"/>
            <a:ext cx="58244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селочные дор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712800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3T04:45:47Z</dcterms:created>
  <dc:creator>Таня</dc:creator>
  <dc:description/>
  <dc:language>en-US</dc:language>
  <cp:lastModifiedBy>Таня</cp:lastModifiedBy>
  <dcterms:modified xsi:type="dcterms:W3CDTF">2015-02-15T17:46:42Z</dcterms:modified>
  <cp:revision>3</cp:revision>
  <dc:subject/>
  <dc:title>ГОРОД и ДЕРЕВНЯ</dc:title>
</cp:coreProperties>
</file>