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9B4-14F7-4AD2-B539-AFC8ECD9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F3C-4F31-48CD-942A-CAE3E55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EBE-0AFE-4229-B3B7-38CFA9CC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D3E-32F9-4C26-AD2C-70830634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C7F-0D5F-47E6-A5BE-AE57297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6A7-A393-4588-9648-EBAD8EAE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4C9-CF2D-4BC7-A049-D428041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4AA-5B5C-45FD-B9DA-829AA1D9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EEC-81DC-40F3-AD48-CE75166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46E-9FB1-496C-B880-B5C783C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EE6-F21D-4080-AFA7-0D05165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4FE-40B5-49F7-9E02-70A167F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4B93-489F-452F-A88D-251890E3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и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128600"/>
            <a:ext cx="7993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ращивание культурных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ревня окружена ле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116000"/>
            <a:ext cx="82803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(многоэтажные 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8101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фальтирован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37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ествен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140360" cy="275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3384360" cy="266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19280" y="3240000"/>
            <a:ext cx="54007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, музеи, кинотеа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55896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10160" cy="450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азованность, мало зе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о, Деревня (дом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400720" cy="411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19560" y="2519280"/>
            <a:ext cx="5824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елочные дор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4:45:47Z</dcterms:created>
  <dc:creator>Таня</dc:creator>
  <dc:description/>
  <dc:language>en-US</dc:language>
  <cp:lastModifiedBy>Таня</cp:lastModifiedBy>
  <dcterms:modified xsi:type="dcterms:W3CDTF">2015-02-15T17:46:42Z</dcterms:modified>
  <cp:revision>3</cp:revision>
  <dc:subject/>
  <dc:title>ГОРОД и ДЕРЕВНЯ</dc:title>
</cp:coreProperties>
</file>