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219-69F3-4190-9AB4-C8664F5C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B99-238A-40C2-8DE8-64AF99E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AE7-5B69-4AA9-A184-35E457E0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F33-6B0C-470C-A6A1-3557F33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B4A-A37D-4163-9AB8-957EAAC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40E1-D406-4E62-84D1-8BF3D9E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23AB-DC51-4603-B043-F65D85F9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37F9-7513-4B00-917E-D7357E1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D011-D86D-4046-A069-E7BC4068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445-2CC5-41BB-BF20-2017198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E0C-0597-4B1F-9047-24B2575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A8-550B-4C11-8679-309449D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63AA-16B3-4D07-826A-EDBDCE4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1BFF-D300-49A0-91D3-1B2A748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C510-E481-471B-AF31-31469AE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72F-5070-445C-A6C0-F140A098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558-98C0-4478-B33B-2D605FCD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408-AD30-463A-ABD1-0E4F7963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D3C-9AC3-41F2-89EF-F7D59FD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B73-02E8-4A34-BB11-0B0027F0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330-DCE5-433B-9D73-BA5322A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BAB-E7E6-4FAF-872B-A760534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A29-4FD7-4929-8F34-6B9137F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B4B-B8B6-4B80-A898-30F042F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ff"/>
            </a:gs>
            <a:gs pos="50000">
              <a:srgbClr val="ffccff"/>
            </a:gs>
            <a:gs pos="100000">
              <a:srgbClr val="ff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F2A-F037-4DD3-8067-0709DB6DB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ff"/>
            </a:gs>
            <a:gs pos="50000">
              <a:srgbClr val="ffccff"/>
            </a:gs>
            <a:gs pos="100000">
              <a:srgbClr val="ff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99D8-6B86-4081-BD99-B673F4EF94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5714.vkontakte.ru/u2008214/140565107/x_d0e9e15f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nkreceptov.ru/pict/cokotuha-01.gif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bankreceptov.ru/pict/cokotuha-02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3.afisha.ru/Afisha7Files/UGPhotos/080924120228/080924132253/p_f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3.afisha.ru/Afisha7Files/UGPhotos/080924120228/080924132253/p_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tki.yandex.ru/users/tatyana2q8-medvedeva/view/345472/?page=22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fotki.yandex.ru/users/tatyana2q8-medvedeva/view/345458/?page=21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tatyana2q8-medvedeva/view/345456/?page=21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ы идём в гости </a:t>
            </a:r>
            <a:br>
              <a:rPr sz="44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Comic Sans MS"/>
              </a:rPr>
              <a:t>Учитель СБО :Ефимова  М.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0_54573_6f825aee_L"/>
          <p:cNvPicPr/>
          <p:nvPr/>
        </p:nvPicPr>
        <p:blipFill>
          <a:blip r:embed="rId1"/>
          <a:stretch/>
        </p:blipFill>
        <p:spPr>
          <a:xfrm>
            <a:off x="6039000" y="3716280"/>
            <a:ext cx="3105000" cy="3141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179280" y="260280"/>
            <a:ext cx="7920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Хоть не богат, а гостям рад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Хороший гость хозяину в почет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Что есть в печи, все на стол мечи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cc"/>
                </a:solidFill>
                <a:latin typeface="Comic Sans MS"/>
              </a:rPr>
              <a:t>Что поставят, то и кушай, а хозяина в доме слушай!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Comic Sans MS"/>
              </a:rPr>
              <a:t>Ешь – не кроши, а съешь – не проси (а больше не проси)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Гостям дважды радуются: встречая и провожая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ff"/>
                </a:solidFill>
                <a:latin typeface="Comic Sans MS"/>
              </a:rPr>
              <a:t>Гость не кость, за дверь не выкинешь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Умел в гости звать, умей и угощать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Comic Sans MS"/>
              </a:rPr>
              <a:t>Не дорог обед, — дорог привет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Comic Sans MS"/>
              </a:rPr>
              <a:t>Гостю щей не жалей, а погуще лей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В чужом доме не будь приметлив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                 </a:t>
            </a: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а будь приветлив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034e96876ec7967bc39545fbfa11052"/>
          <p:cNvPicPr/>
          <p:nvPr/>
        </p:nvPicPr>
        <p:blipFill>
          <a:blip r:embed="rId1"/>
          <a:stretch/>
        </p:blipFill>
        <p:spPr>
          <a:xfrm>
            <a:off x="250920" y="105264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0_54576_f98c5c49_L"/>
          <p:cNvPicPr/>
          <p:nvPr/>
        </p:nvPicPr>
        <p:blipFill>
          <a:blip r:embed="rId2"/>
          <a:stretch/>
        </p:blipFill>
        <p:spPr>
          <a:xfrm>
            <a:off x="5148360" y="2349360"/>
            <a:ext cx="324000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1995120" y="576612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Comic Sans MS"/>
              </a:rPr>
              <a:t>Какое у  тебя  настроение после занятия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Comic Sans MS"/>
              </a:rPr>
              <a:t>С кем тебе хочется пообщаться? Почем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34920" y="5373720"/>
            <a:ext cx="694044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а изба углами, а обед пирог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нас на Руси прежде гостю поднес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брый гость всегда  впор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75_dmoros_66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vinni"/>
          <p:cNvPicPr/>
          <p:nvPr/>
        </p:nvPicPr>
        <p:blipFill>
          <a:blip r:embed="rId1"/>
          <a:stretch/>
        </p:blipFill>
        <p:spPr>
          <a:xfrm>
            <a:off x="539640" y="333360"/>
            <a:ext cx="7263000" cy="482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1763640" y="5157720"/>
            <a:ext cx="677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какой книги отрывок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упредил ли Винни Пух  Кролика  о своём визите? Можно ли столько быть в гостях? Гостеприимным ли был Кролик?  Воспользовался ли Винни этим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бы вы поступили на месте Кролика?  -Винн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908000" y="5589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какой сказки эти герои? Каким был Малыш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м был Карлсон?  Что он делал неправильно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ли так себя вести? Как вы ведёте себя в гостя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26 из 165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49360"/>
            <a:ext cx="69850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Картинка 1 из 14593">
            <a:hlinkClick r:id="rId1"/>
          </p:cNvPr>
          <p:cNvPicPr/>
          <p:nvPr/>
        </p:nvPicPr>
        <p:blipFill>
          <a:blip r:embed="rId2"/>
          <a:srcRect l="4655" t="0" r="8416" b="0"/>
          <a:stretch/>
        </p:blipFill>
        <p:spPr>
          <a:xfrm>
            <a:off x="395280" y="907920"/>
            <a:ext cx="403236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Картинка 6 из 14593">
            <a:hlinkClick r:id="rId3"/>
          </p:cNvPr>
          <p:cNvPicPr/>
          <p:nvPr/>
        </p:nvPicPr>
        <p:blipFill>
          <a:blip r:embed="rId4"/>
          <a:srcRect l="11887" t="0" r="3439" b="0"/>
          <a:stretch/>
        </p:blipFill>
        <p:spPr>
          <a:xfrm>
            <a:off x="4427640" y="907920"/>
            <a:ext cx="410508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1883880" y="5084640"/>
            <a:ext cx="670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это за сказка? Кто автор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степриимной ли хозяйкой была Мух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м она угощала госте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м хотелось бы побыть у таких людей в гостях? Почему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х гостей вам приятно приглашать к себ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p_f">
            <a:hlinkClick r:id="rId1"/>
          </p:cNvPr>
          <p:cNvPicPr/>
          <p:nvPr/>
        </p:nvPicPr>
        <p:blipFill>
          <a:blip r:embed="rId2"/>
          <a:srcRect l="48869" t="33165" r="25433" b="13743"/>
          <a:stretch/>
        </p:blipFill>
        <p:spPr>
          <a:xfrm>
            <a:off x="6443640" y="1773360"/>
            <a:ext cx="2232000" cy="4319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8"/>
          <p:cNvSpPr/>
          <p:nvPr/>
        </p:nvSpPr>
        <p:spPr>
          <a:xfrm>
            <a:off x="2050920" y="620640"/>
            <a:ext cx="4321440" cy="6048360"/>
          </a:xfrm>
          <a:prstGeom prst="wedgeRoundRectCallout">
            <a:avLst>
              <a:gd name="adj1" fmla="val -56430"/>
              <a:gd name="adj2" fmla="val -41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ходить в гости желательно после приглаш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-в гостях веди себя скром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-принеси что-то  хорошее в дом, например, новости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Comic Sans MS"/>
              </a:rPr>
              <a:t>-долго не засиживай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omic Sans MS"/>
              </a:rPr>
              <a:t>поблагодари за приглашение, пригласи к себ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В древности, когда не было средств передачи информации, гость был единственным способом передачи вестей, знаний, мудр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9" descr="p_f">
            <a:hlinkClick r:id="rId3"/>
          </p:cNvPr>
          <p:cNvPicPr/>
          <p:nvPr/>
        </p:nvPicPr>
        <p:blipFill>
          <a:blip r:embed="rId4"/>
          <a:srcRect l="27294" t="33165" r="56951" b="13743"/>
          <a:stretch/>
        </p:blipFill>
        <p:spPr>
          <a:xfrm>
            <a:off x="250920" y="1125360"/>
            <a:ext cx="1512720" cy="43196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395280" y="0"/>
            <a:ext cx="1873080" cy="763560"/>
          </a:xfrm>
          <a:prstGeom prst="horizontalScroll">
            <a:avLst>
              <a:gd name="adj" fmla="val 216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Для гост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0"/>
          <p:cNvPicPr/>
          <p:nvPr/>
        </p:nvPicPr>
        <p:blipFill>
          <a:blip r:embed="rId1"/>
          <a:srcRect l="17581" t="0" r="23351" b="0"/>
          <a:stretch/>
        </p:blipFill>
        <p:spPr>
          <a:xfrm>
            <a:off x="6372360" y="1413000"/>
            <a:ext cx="2449440" cy="49370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2124000" y="404640"/>
            <a:ext cx="4032360" cy="6264360"/>
          </a:xfrm>
          <a:prstGeom prst="wedgeRoundRectCallout">
            <a:avLst>
              <a:gd name="adj1" fmla="val -53384"/>
              <a:gd name="adj2" fmla="val -16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9933ff"/>
                </a:solidFill>
                <a:latin typeface="Comic Sans MS"/>
              </a:rPr>
              <a:t>вежливо встречай гостей, даже если не ждёшь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- если нет возможности принять,- вежливо объясни ситуацию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- выясни потребности гостя, угости его , сделай его пребывание  у    тебя приятным (просмотр фото, видео,</a:t>
            </a: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чай,</a:t>
            </a: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бутерброд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Comic Sans MS"/>
              </a:rPr>
              <a:t>- не навязывайся  с предложения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Comic Sans MS"/>
              </a:rPr>
              <a:t>Пригласи ещё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*</a:t>
            </a:r>
            <a:r>
              <a:rPr b="0" lang="ru-RU" sz="1800" spc="-1" strike="noStrike">
                <a:solidFill>
                  <a:srgbClr val="9933ff"/>
                </a:solidFill>
                <a:latin typeface="Comic Sans MS"/>
              </a:rPr>
              <a:t>Для отказа используй обороты: «очень жаль, сожалею, нет возможности, в следующий раз» и др.</a:t>
            </a:r>
            <a:r>
              <a:rPr b="1" lang="ru-RU" sz="20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128"/>
          <p:cNvPicPr/>
          <p:nvPr/>
        </p:nvPicPr>
        <p:blipFill>
          <a:blip r:embed="rId2"/>
          <a:srcRect l="52401" t="1435" r="15242" b="0"/>
          <a:stretch/>
        </p:blipFill>
        <p:spPr>
          <a:xfrm>
            <a:off x="395280" y="2133720"/>
            <a:ext cx="1584360" cy="32400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8"/>
          <p:cNvSpPr/>
          <p:nvPr/>
        </p:nvSpPr>
        <p:spPr>
          <a:xfrm>
            <a:off x="179280" y="260280"/>
            <a:ext cx="2232000" cy="865080"/>
          </a:xfrm>
          <a:prstGeom prst="verticalScroll">
            <a:avLst>
              <a:gd name="adj" fmla="val 24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Для хозяев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_5457f_46219570_L">
            <a:hlinkClick r:id="rId1"/>
          </p:cNvPr>
          <p:cNvPicPr/>
          <p:nvPr/>
        </p:nvPicPr>
        <p:blipFill>
          <a:blip r:embed="rId2"/>
          <a:srcRect l="8199" t="12346" r="11647" b="7336"/>
          <a:stretch/>
        </p:blipFill>
        <p:spPr>
          <a:xfrm>
            <a:off x="6156360" y="2492280"/>
            <a:ext cx="2808360" cy="32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0_54571_69a67c0b_L">
            <a:hlinkClick r:id="rId3"/>
          </p:cNvPr>
          <p:cNvPicPr/>
          <p:nvPr/>
        </p:nvPicPr>
        <p:blipFill>
          <a:blip r:embed="rId4"/>
          <a:srcRect l="16006" t="0" r="8028" b="0"/>
          <a:stretch/>
        </p:blipFill>
        <p:spPr>
          <a:xfrm>
            <a:off x="250920" y="1268280"/>
            <a:ext cx="2735280" cy="43308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 rot="811200">
            <a:off x="2268360" y="1412640"/>
            <a:ext cx="3456000" cy="1773000"/>
          </a:xfrm>
          <a:prstGeom prst="cloudCallout">
            <a:avLst>
              <a:gd name="adj1" fmla="val -11162"/>
              <a:gd name="adj2" fmla="val 8882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жалуйста, будь добр, буду рад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"/>
          <p:cNvSpPr/>
          <p:nvPr/>
        </p:nvSpPr>
        <p:spPr>
          <a:xfrm rot="11762400">
            <a:off x="3276360" y="4149360"/>
            <a:ext cx="3456000" cy="2040120"/>
          </a:xfrm>
          <a:prstGeom prst="cloudCallout">
            <a:avLst>
              <a:gd name="adj1" fmla="val -18222"/>
              <a:gd name="adj2" fmla="val 748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пасибо, благодарю, приятно слыш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250920" y="0"/>
            <a:ext cx="4176720" cy="981000"/>
          </a:xfrm>
          <a:prstGeom prst="horizontalScroll">
            <a:avLst>
              <a:gd name="adj" fmla="val 236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диалог – приглаш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0_5456f_5f67a090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4608720" cy="51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0_54576_f98c5c49_L"/>
          <p:cNvPicPr/>
          <p:nvPr/>
        </p:nvPicPr>
        <p:blipFill>
          <a:blip r:embed="rId3"/>
          <a:stretch/>
        </p:blipFill>
        <p:spPr>
          <a:xfrm>
            <a:off x="4886280" y="2814480"/>
            <a:ext cx="4257720" cy="4043520"/>
          </a:xfrm>
          <a:prstGeom prst="rect">
            <a:avLst/>
          </a:prstGeom>
          <a:ln w="0">
            <a:noFill/>
          </a:ln>
        </p:spPr>
      </p:pic>
      <p:sp>
        <p:nvSpPr>
          <p:cNvPr id="177" name="PubOvalCallout"/>
          <p:cNvSpPr/>
          <p:nvPr/>
        </p:nvSpPr>
        <p:spPr>
          <a:xfrm>
            <a:off x="4211640" y="692280"/>
            <a:ext cx="3384720" cy="2887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ень жал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жалею, извин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т возможност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ледующий ра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язательно и д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79280" y="189000"/>
            <a:ext cx="4680000" cy="647640"/>
          </a:xfrm>
          <a:prstGeom prst="verticalScroll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диалог – вежливый отка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14:59Z</dcterms:created>
  <dc:creator>SamLab.ws</dc:creator>
  <dc:description/>
  <dc:language>en-US</dc:language>
  <cp:lastModifiedBy>Servise</cp:lastModifiedBy>
  <dcterms:modified xsi:type="dcterms:W3CDTF">2014-11-28T12:13:44Z</dcterms:modified>
  <cp:revision>8</cp:revision>
  <dc:subject/>
  <dc:title>Мы идём в гости  (внеклассное  занятие)</dc:title>
</cp:coreProperties>
</file>