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9BBC-F0F2-4BC7-BC9B-03D43D92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5321-F4F0-4290-9BEB-7BE50F71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B219-A025-48F3-BEE8-174D4440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0C95-9DBC-4E9D-9CA0-38AF9FB5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CFF5-F9B7-4146-BAB5-9D465AD8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85DC-FDC3-458A-AC13-3207366A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14F2-83EA-4576-9A7C-3AEA5723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6568-A109-4155-8483-C1C2B72E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AFD7-56F3-43D4-87E4-009F5C1D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3A91-C293-498D-A14F-CADCD980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5601-5ADA-486A-A541-B71CB55B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EBBF-3F5A-4A4E-A4BE-B80F8F7B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0AB7-F104-4C95-9434-0122B214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2D8E-B7A2-4D66-A0A7-ADE3DCAB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D7AD-9D76-4E51-A195-CA53C414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C941-59E0-45F2-8178-E991BF7F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A725-B2EA-48C6-9486-881CD23D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E35F-7158-421B-8DD7-5F8CE45F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7D8F-3899-4D3C-BB64-ECABCB03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457E-D16A-46EF-B2B0-E2378826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8791-50FF-4438-8168-6D1DDDDC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8071-0831-4D41-BDB3-9FB59A0E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0B4B-8EA6-40DC-BF0F-7526BEED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0204-BEB7-4DE0-930A-B42D13A6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1ff"/>
            </a:gs>
            <a:gs pos="50000">
              <a:srgbClr val="ffccff"/>
            </a:gs>
            <a:gs pos="100000">
              <a:srgbClr val="fff1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73C6-9CE6-4A8F-9D62-35CB64C97F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1ff"/>
            </a:gs>
            <a:gs pos="50000">
              <a:srgbClr val="ffccff"/>
            </a:gs>
            <a:gs pos="100000">
              <a:srgbClr val="fff1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A681-B9D6-4B78-91D3-D564796564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s5714.vkontakte.ru/u2008214/140565107/x_d0e9e15f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ankreceptov.ru/pict/cokotuha-01.gif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www.bankreceptov.ru/pict/cokotuha-02.gif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3.afisha.ru/Afisha7Files/UGPhotos/080924120228/080924132253/p_f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s3.afisha.ru/Afisha7Files/UGPhotos/080924120228/080924132253/p_f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otki.yandex.ru/users/tatyana2q8-medvedeva/view/345472/?page=22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fotki.yandex.ru/users/tatyana2q8-medvedeva/view/345458/?page=21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otki.yandex.ru/users/tatyana2q8-medvedeva/view/345456/?page=21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ы идём в гости </a:t>
            </a:r>
            <a:br>
              <a:rPr sz="4400"/>
            </a:b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Comic Sans MS"/>
              </a:rPr>
              <a:t>Учитель СБО :Ефимова  М.В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0_54573_6f825aee_L"/>
          <p:cNvPicPr/>
          <p:nvPr/>
        </p:nvPicPr>
        <p:blipFill>
          <a:blip r:embed="rId1"/>
          <a:stretch/>
        </p:blipFill>
        <p:spPr>
          <a:xfrm>
            <a:off x="6039000" y="3716280"/>
            <a:ext cx="3105000" cy="3141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179280" y="260280"/>
            <a:ext cx="7920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mic Sans MS"/>
              </a:rPr>
              <a:t>Хоть не богат, а гостям рад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Хороший гость хозяину в почет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dff"/>
                </a:solidFill>
                <a:latin typeface="Comic Sans MS"/>
              </a:rPr>
              <a:t>Что есть в печи, все на стол мечи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cc"/>
                </a:solidFill>
                <a:latin typeface="Comic Sans MS"/>
              </a:rPr>
              <a:t>Что поставят, то и кушай, а хозяина в доме слушай!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9ff"/>
                </a:solidFill>
                <a:latin typeface="Comic Sans MS"/>
              </a:rPr>
              <a:t>Ешь – не кроши, а съешь – не проси (а больше не проси)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mic Sans MS"/>
              </a:rPr>
              <a:t>Гостям дважды радуются: встречая и провожая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33ff"/>
                </a:solidFill>
                <a:latin typeface="Comic Sans MS"/>
              </a:rPr>
              <a:t>Гость не кость, за дверь не выкинешь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Умел в гости звать, умей и угощать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ff"/>
                </a:solidFill>
                <a:latin typeface="Comic Sans MS"/>
              </a:rPr>
              <a:t>Не дорог обед, — дорог привет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9ff"/>
                </a:solidFill>
                <a:latin typeface="Comic Sans MS"/>
              </a:rPr>
              <a:t>Гостю щей не жалей, а погуще лей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99"/>
                </a:solidFill>
                <a:latin typeface="Comic Sans MS"/>
              </a:rPr>
              <a:t>В чужом доме не будь приметлив,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99"/>
                </a:solidFill>
                <a:latin typeface="Comic Sans MS"/>
              </a:rPr>
              <a:t>                 </a:t>
            </a:r>
            <a:r>
              <a:rPr b="0" lang="ru-RU" sz="2600" spc="-1" strike="noStrike">
                <a:solidFill>
                  <a:srgbClr val="00cc99"/>
                </a:solidFill>
                <a:latin typeface="Comic Sans MS"/>
              </a:rPr>
              <a:t>а будь приветлив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0034e96876ec7967bc39545fbfa11052"/>
          <p:cNvPicPr/>
          <p:nvPr/>
        </p:nvPicPr>
        <p:blipFill>
          <a:blip r:embed="rId1"/>
          <a:stretch/>
        </p:blipFill>
        <p:spPr>
          <a:xfrm>
            <a:off x="250920" y="1052640"/>
            <a:ext cx="4103640" cy="424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0_54576_f98c5c49_L"/>
          <p:cNvPicPr/>
          <p:nvPr/>
        </p:nvPicPr>
        <p:blipFill>
          <a:blip r:embed="rId2"/>
          <a:stretch/>
        </p:blipFill>
        <p:spPr>
          <a:xfrm>
            <a:off x="5148360" y="2349360"/>
            <a:ext cx="3240000" cy="31798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1995120" y="5766120"/>
            <a:ext cx="64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ff"/>
                </a:solidFill>
                <a:latin typeface="Comic Sans MS"/>
              </a:rPr>
              <a:t>Какое у  тебя  настроение после занятия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ff"/>
                </a:solidFill>
                <a:latin typeface="Comic Sans MS"/>
              </a:rPr>
              <a:t>С кем тебе хочется пообщаться? Почему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834920" y="5373720"/>
            <a:ext cx="6940440" cy="11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асна изба углами, а обед пирог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 нас на Руси прежде гостю поднес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обрый гость всегда  впору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4" descr="75_dmoros_66"/>
          <p:cNvPicPr/>
          <p:nvPr/>
        </p:nvPicPr>
        <p:blipFill>
          <a:blip r:embed="rId1"/>
          <a:stretch/>
        </p:blipFill>
        <p:spPr>
          <a:xfrm>
            <a:off x="1619280" y="189000"/>
            <a:ext cx="5905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vinni"/>
          <p:cNvPicPr/>
          <p:nvPr/>
        </p:nvPicPr>
        <p:blipFill>
          <a:blip r:embed="rId1"/>
          <a:stretch/>
        </p:blipFill>
        <p:spPr>
          <a:xfrm>
            <a:off x="539640" y="333360"/>
            <a:ext cx="7263000" cy="4824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1763640" y="5157720"/>
            <a:ext cx="677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 какой книги отрывок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дупредил ли Винни Пух  Кролика  о своём визите? Можно ли столько быть в гостях? Гостеприимным ли был Кролик?  Воспользовался ли Винни этим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 бы вы поступили на месте Кролика?  -Винни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1908000" y="5589360"/>
            <a:ext cx="64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 какой сказки эти герои? Каким был Малыш?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им был Карлсон?  Что он делал неправильно?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ли так себя вести? Как вы ведёте себя в гостях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8" descr="Картинка 26 из 1659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549360"/>
            <a:ext cx="698508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Картинка 1 из 14593">
            <a:hlinkClick r:id="rId1"/>
          </p:cNvPr>
          <p:cNvPicPr/>
          <p:nvPr/>
        </p:nvPicPr>
        <p:blipFill>
          <a:blip r:embed="rId2"/>
          <a:srcRect l="4655" t="0" r="8416" b="0"/>
          <a:stretch/>
        </p:blipFill>
        <p:spPr>
          <a:xfrm>
            <a:off x="395280" y="907920"/>
            <a:ext cx="4032360" cy="3810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Картинка 6 из 14593">
            <a:hlinkClick r:id="rId3"/>
          </p:cNvPr>
          <p:cNvPicPr/>
          <p:nvPr/>
        </p:nvPicPr>
        <p:blipFill>
          <a:blip r:embed="rId4"/>
          <a:srcRect l="11887" t="0" r="3439" b="0"/>
          <a:stretch/>
        </p:blipFill>
        <p:spPr>
          <a:xfrm>
            <a:off x="4427640" y="907920"/>
            <a:ext cx="4105080" cy="38102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1883880" y="5084640"/>
            <a:ext cx="670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то это за сказка? Кто автор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остеприимной ли хозяйкой была Муха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ем она угощала гостей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ам хотелось бы побыть у таких людей в гостях? Почему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их гостей вам приятно приглашать к себе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p_f">
            <a:hlinkClick r:id="rId1"/>
          </p:cNvPr>
          <p:cNvPicPr/>
          <p:nvPr/>
        </p:nvPicPr>
        <p:blipFill>
          <a:blip r:embed="rId2"/>
          <a:srcRect l="48869" t="33165" r="25433" b="13743"/>
          <a:stretch/>
        </p:blipFill>
        <p:spPr>
          <a:xfrm>
            <a:off x="6443640" y="1773360"/>
            <a:ext cx="2232000" cy="431964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8"/>
          <p:cNvSpPr/>
          <p:nvPr/>
        </p:nvSpPr>
        <p:spPr>
          <a:xfrm>
            <a:off x="2050920" y="620640"/>
            <a:ext cx="4321440" cy="6048360"/>
          </a:xfrm>
          <a:prstGeom prst="wedgeRoundRectCallout">
            <a:avLst>
              <a:gd name="adj1" fmla="val -56430"/>
              <a:gd name="adj2" fmla="val -4199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приходить в гости желательно после приглашени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-в гостях веди себя скромн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-принеси что-то  хорошее в дом, например, новости*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Comic Sans MS"/>
              </a:rPr>
              <a:t>-долго не засиживайс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9933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Comic Sans MS"/>
              </a:rPr>
              <a:t>поблагодари за приглашение, пригласи к себ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9933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66ff"/>
                </a:solidFill>
                <a:latin typeface="Comic Sans MS"/>
              </a:rPr>
              <a:t>В древности, когда не было средств передачи информации, гость был единственным способом передачи вестей, знаний, мудрост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9" descr="p_f">
            <a:hlinkClick r:id="rId3"/>
          </p:cNvPr>
          <p:cNvPicPr/>
          <p:nvPr/>
        </p:nvPicPr>
        <p:blipFill>
          <a:blip r:embed="rId4"/>
          <a:srcRect l="27294" t="33165" r="56951" b="13743"/>
          <a:stretch/>
        </p:blipFill>
        <p:spPr>
          <a:xfrm>
            <a:off x="250920" y="1125360"/>
            <a:ext cx="1512720" cy="431964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1"/>
          <p:cNvSpPr/>
          <p:nvPr/>
        </p:nvSpPr>
        <p:spPr>
          <a:xfrm>
            <a:off x="395280" y="0"/>
            <a:ext cx="1873080" cy="763560"/>
          </a:xfrm>
          <a:prstGeom prst="horizontalScroll">
            <a:avLst>
              <a:gd name="adj" fmla="val 2162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Для гостей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20"/>
          <p:cNvPicPr/>
          <p:nvPr/>
        </p:nvPicPr>
        <p:blipFill>
          <a:blip r:embed="rId1"/>
          <a:srcRect l="17581" t="0" r="23351" b="0"/>
          <a:stretch/>
        </p:blipFill>
        <p:spPr>
          <a:xfrm>
            <a:off x="6372360" y="1413000"/>
            <a:ext cx="2449440" cy="493704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5"/>
          <p:cNvSpPr/>
          <p:nvPr/>
        </p:nvSpPr>
        <p:spPr>
          <a:xfrm>
            <a:off x="2124000" y="404640"/>
            <a:ext cx="4032360" cy="6264360"/>
          </a:xfrm>
          <a:prstGeom prst="wedgeRoundRectCallout">
            <a:avLst>
              <a:gd name="adj1" fmla="val -53384"/>
              <a:gd name="adj2" fmla="val -1699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Comic Sans MS"/>
              </a:rPr>
              <a:t>- </a:t>
            </a:r>
            <a:r>
              <a:rPr b="0" lang="ru-RU" sz="2000" spc="-1" strike="noStrike">
                <a:solidFill>
                  <a:srgbClr val="9933ff"/>
                </a:solidFill>
                <a:latin typeface="Comic Sans MS"/>
              </a:rPr>
              <a:t>вежливо встречай гостей, даже если не ждёшь и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- если нет возможности принять,- вежливо объясни ситуацию*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ff"/>
                </a:solidFill>
                <a:latin typeface="Comic Sans MS"/>
              </a:rPr>
              <a:t>- выясни потребности гостя, угости его , сделай его пребывание  у    тебя приятным (просмотр фото, видео,</a:t>
            </a:r>
            <a:r>
              <a:rPr b="0" lang="en-US" sz="20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99ff"/>
                </a:solidFill>
                <a:latin typeface="Comic Sans MS"/>
              </a:rPr>
              <a:t>чай,</a:t>
            </a:r>
            <a:r>
              <a:rPr b="0" lang="en-US" sz="20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99ff"/>
                </a:solidFill>
                <a:latin typeface="Comic Sans MS"/>
              </a:rPr>
              <a:t>бутерброды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Comic Sans MS"/>
              </a:rPr>
              <a:t>- не навязывайся  с предложениям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99cc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Comic Sans MS"/>
              </a:rPr>
              <a:t>Пригласи ещё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99cc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Comic Sans MS"/>
              </a:rPr>
              <a:t>*</a:t>
            </a:r>
            <a:r>
              <a:rPr b="0" lang="ru-RU" sz="1800" spc="-1" strike="noStrike">
                <a:solidFill>
                  <a:srgbClr val="9933ff"/>
                </a:solidFill>
                <a:latin typeface="Comic Sans MS"/>
              </a:rPr>
              <a:t>Для отказа используй обороты: «очень жаль, сожалею, нет возможности, в следующий раз» и др.</a:t>
            </a:r>
            <a:r>
              <a:rPr b="1" lang="ru-RU" sz="2000" spc="-1" strike="noStrike">
                <a:solidFill>
                  <a:srgbClr val="99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7" descr="128"/>
          <p:cNvPicPr/>
          <p:nvPr/>
        </p:nvPicPr>
        <p:blipFill>
          <a:blip r:embed="rId2"/>
          <a:srcRect l="52401" t="1435" r="15242" b="0"/>
          <a:stretch/>
        </p:blipFill>
        <p:spPr>
          <a:xfrm>
            <a:off x="395280" y="2133720"/>
            <a:ext cx="1584360" cy="324000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8"/>
          <p:cNvSpPr/>
          <p:nvPr/>
        </p:nvSpPr>
        <p:spPr>
          <a:xfrm>
            <a:off x="179280" y="260280"/>
            <a:ext cx="2232000" cy="865080"/>
          </a:xfrm>
          <a:prstGeom prst="verticalScroll">
            <a:avLst>
              <a:gd name="adj" fmla="val 2422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Для хозяев 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0_5457f_46219570_L">
            <a:hlinkClick r:id="rId1"/>
          </p:cNvPr>
          <p:cNvPicPr/>
          <p:nvPr/>
        </p:nvPicPr>
        <p:blipFill>
          <a:blip r:embed="rId2"/>
          <a:srcRect l="8199" t="12346" r="11647" b="7336"/>
          <a:stretch/>
        </p:blipFill>
        <p:spPr>
          <a:xfrm>
            <a:off x="6156360" y="2492280"/>
            <a:ext cx="2808360" cy="3284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0_54571_69a67c0b_L">
            <a:hlinkClick r:id="rId3"/>
          </p:cNvPr>
          <p:cNvPicPr/>
          <p:nvPr/>
        </p:nvPicPr>
        <p:blipFill>
          <a:blip r:embed="rId4"/>
          <a:srcRect l="16006" t="0" r="8028" b="0"/>
          <a:stretch/>
        </p:blipFill>
        <p:spPr>
          <a:xfrm>
            <a:off x="250920" y="1268280"/>
            <a:ext cx="2735280" cy="433080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7"/>
          <p:cNvSpPr/>
          <p:nvPr/>
        </p:nvSpPr>
        <p:spPr>
          <a:xfrm rot="811200">
            <a:off x="2268360" y="1412640"/>
            <a:ext cx="3456000" cy="1773000"/>
          </a:xfrm>
          <a:prstGeom prst="cloudCallout">
            <a:avLst>
              <a:gd name="adj1" fmla="val -11162"/>
              <a:gd name="adj2" fmla="val 8882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жалуйста, будь добр, буду рад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8"/>
          <p:cNvSpPr/>
          <p:nvPr/>
        </p:nvSpPr>
        <p:spPr>
          <a:xfrm rot="11762400">
            <a:off x="3276360" y="4149360"/>
            <a:ext cx="3456000" cy="2040120"/>
          </a:xfrm>
          <a:prstGeom prst="cloudCallout">
            <a:avLst>
              <a:gd name="adj1" fmla="val -18222"/>
              <a:gd name="adj2" fmla="val 7483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пасибо, благодарю, приятно слышат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AutoShape 11"/>
          <p:cNvSpPr/>
          <p:nvPr/>
        </p:nvSpPr>
        <p:spPr>
          <a:xfrm>
            <a:off x="250920" y="0"/>
            <a:ext cx="4176720" cy="981000"/>
          </a:xfrm>
          <a:prstGeom prst="horizontalScroll">
            <a:avLst>
              <a:gd name="adj" fmla="val 2361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ставь диалог – приглашение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0_5456f_5f67a090_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700280"/>
            <a:ext cx="4608720" cy="5157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0_54576_f98c5c49_L"/>
          <p:cNvPicPr/>
          <p:nvPr/>
        </p:nvPicPr>
        <p:blipFill>
          <a:blip r:embed="rId3"/>
          <a:stretch/>
        </p:blipFill>
        <p:spPr>
          <a:xfrm>
            <a:off x="4886280" y="2814480"/>
            <a:ext cx="4257720" cy="4043520"/>
          </a:xfrm>
          <a:prstGeom prst="rect">
            <a:avLst/>
          </a:prstGeom>
          <a:ln w="0">
            <a:noFill/>
          </a:ln>
        </p:spPr>
      </p:pic>
      <p:sp>
        <p:nvSpPr>
          <p:cNvPr id="177" name="PubOvalCallout"/>
          <p:cNvSpPr/>
          <p:nvPr/>
        </p:nvSpPr>
        <p:spPr>
          <a:xfrm>
            <a:off x="4211640" y="692280"/>
            <a:ext cx="3384720" cy="28875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чень жал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жалею, извини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т возможности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следующий ра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бязательно и д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179280" y="189000"/>
            <a:ext cx="4680000" cy="647640"/>
          </a:xfrm>
          <a:prstGeom prst="verticalScroll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ставь диалог – вежливый отказ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16:14:59Z</dcterms:created>
  <dc:creator>SamLab.ws</dc:creator>
  <dc:description/>
  <dc:language>en-US</dc:language>
  <cp:lastModifiedBy>Servise</cp:lastModifiedBy>
  <dcterms:modified xsi:type="dcterms:W3CDTF">2014-11-28T12:13:44Z</dcterms:modified>
  <cp:revision>8</cp:revision>
  <dc:subject/>
  <dc:title>Мы идём в гости  (внеклассное  занятие)</dc:title>
</cp:coreProperties>
</file>