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5DC-6DA3-418C-8068-2F8D2BC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134-7C8B-4C02-A9F3-2EACE191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9D3-AF23-4B6B-88B1-8693F920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08F-B04B-41A1-B2A9-FE034EC8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FC4-561C-4F1F-B792-201E8C86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D35-FB09-445B-98C6-C5E18A1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94E-98C0-45F8-AC8E-FDD9654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3FA-0CD8-4308-B7D8-8E6DEF5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B6E-4F08-46AE-9D1A-4C23125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FB6-50EA-47D8-9282-8A3DD06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4EB-FBA8-4920-A753-F554A71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945-0D5D-4942-8913-C6DBEB0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4471-F062-488D-B7B3-6A7D676C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1" descr=""/>
          <p:cNvPicPr/>
          <p:nvPr/>
        </p:nvPicPr>
        <p:blipFill>
          <a:blip r:embed="rId1"/>
          <a:stretch/>
        </p:blipFill>
        <p:spPr>
          <a:xfrm>
            <a:off x="2603520" y="365040"/>
            <a:ext cx="3936960" cy="1451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1555920" y="1752480"/>
            <a:ext cx="6032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10580" t="7067" r="11980" b="7180"/>
          <a:stretch/>
        </p:blipFill>
        <p:spPr>
          <a:xfrm>
            <a:off x="1400040" y="985680"/>
            <a:ext cx="6229440" cy="4872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rcRect l="7560" t="6467" r="14643" b="10137"/>
          <a:stretch/>
        </p:blipFill>
        <p:spPr>
          <a:xfrm>
            <a:off x="1157400" y="957240"/>
            <a:ext cx="6257880" cy="4729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rcRect l="7261" t="6889" r="11834" b="7783"/>
          <a:stretch/>
        </p:blipFill>
        <p:spPr>
          <a:xfrm>
            <a:off x="1114560" y="971640"/>
            <a:ext cx="6543720" cy="4857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rcRect l="7560" t="6139" r="15178" b="8281"/>
          <a:stretch/>
        </p:blipFill>
        <p:spPr>
          <a:xfrm>
            <a:off x="1157400" y="928800"/>
            <a:ext cx="6215040" cy="4871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rcRect l="9688" t="11178" r="13225" b="10199"/>
          <a:stretch/>
        </p:blipFill>
        <p:spPr>
          <a:xfrm>
            <a:off x="1328760" y="1219320"/>
            <a:ext cx="6200640" cy="446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rcRect l="7970" t="7737" r="8126" b="7598"/>
          <a:stretch/>
        </p:blipFill>
        <p:spPr>
          <a:xfrm>
            <a:off x="1171440" y="1014480"/>
            <a:ext cx="6786720" cy="4829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7912" t="5714" r="9509" b="5854"/>
          <a:stretch/>
        </p:blipFill>
        <p:spPr>
          <a:xfrm>
            <a:off x="1185840" y="914400"/>
            <a:ext cx="6643800" cy="5014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5785" t="6214" r="13046" b="9884"/>
          <a:stretch/>
        </p:blipFill>
        <p:spPr>
          <a:xfrm>
            <a:off x="1014480" y="942840"/>
            <a:ext cx="6529320" cy="475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070" t="5381" r="9688" b="6779"/>
          <a:stretch/>
        </p:blipFill>
        <p:spPr>
          <a:xfrm>
            <a:off x="957240" y="885960"/>
            <a:ext cx="6858000" cy="5000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6673" t="7891" r="10558" b="8533"/>
          <a:stretch/>
        </p:blipFill>
        <p:spPr>
          <a:xfrm>
            <a:off x="1085760" y="1028880"/>
            <a:ext cx="6658200" cy="4757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rcRect l="6137" t="7467" r="11980" b="6843"/>
          <a:stretch/>
        </p:blipFill>
        <p:spPr>
          <a:xfrm>
            <a:off x="1042920" y="1028880"/>
            <a:ext cx="658656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5731" t="6988" r="9540" b="7347"/>
          <a:stretch/>
        </p:blipFill>
        <p:spPr>
          <a:xfrm>
            <a:off x="990720" y="971640"/>
            <a:ext cx="6852960" cy="48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rcRect l="5428" t="5031" r="7716" b="6944"/>
          <a:stretch/>
        </p:blipFill>
        <p:spPr>
          <a:xfrm>
            <a:off x="985680" y="885960"/>
            <a:ext cx="6986880" cy="49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rcRect l="5037" t="5691" r="9955" b="6595"/>
          <a:stretch/>
        </p:blipFill>
        <p:spPr>
          <a:xfrm>
            <a:off x="914400" y="928800"/>
            <a:ext cx="6915240" cy="4943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4289" t="6305" r="8555" b="5694"/>
          <a:stretch/>
        </p:blipFill>
        <p:spPr>
          <a:xfrm>
            <a:off x="914400" y="928800"/>
            <a:ext cx="69724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rcRect l="5959" t="8330" r="11445" b="7016"/>
          <a:stretch/>
        </p:blipFill>
        <p:spPr>
          <a:xfrm>
            <a:off x="1028880" y="1057320"/>
            <a:ext cx="6643440" cy="4809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rcRect l="4541" t="5564" r="11628" b="6675"/>
          <a:stretch/>
        </p:blipFill>
        <p:spPr>
          <a:xfrm>
            <a:off x="914400" y="900000"/>
            <a:ext cx="6743880" cy="498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"/>
          <p:cNvPicPr/>
          <p:nvPr/>
        </p:nvPicPr>
        <p:blipFill>
          <a:blip r:embed="rId1"/>
          <a:srcRect l="6137" t="6315" r="11802" b="7180"/>
          <a:stretch/>
        </p:blipFill>
        <p:spPr>
          <a:xfrm>
            <a:off x="1042920" y="942840"/>
            <a:ext cx="6600960" cy="4915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rcRect l="7793" t="6139" r="14486" b="7531"/>
          <a:stretch/>
        </p:blipFill>
        <p:spPr>
          <a:xfrm>
            <a:off x="1157400" y="928800"/>
            <a:ext cx="6286320" cy="4914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user</cp:lastModifiedBy>
  <dcterms:modified xsi:type="dcterms:W3CDTF">2015-02-16T17:56:36Z</dcterms:modified>
  <cp:revision>16</cp:revision>
  <dc:subject/>
  <dc:title>Slide 1</dc:title>
</cp:coreProperties>
</file>