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21.wmf" ContentType="image/x-wmf"/>
  <Override PartName="/ppt/media/image4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5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6DF-0C08-472D-A201-86BC253B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356-D8C3-4440-A5EF-B033794D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D6E-5773-4697-86A2-675BE28E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459-E725-47B6-8E7D-D6C3CBA7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011-2CD9-4027-9C02-E7B1A90F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69F8-BE23-4229-A012-D2C9EC9C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705-A180-4EBE-AE0F-C0D664D2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DDBE-223F-4A71-BE5F-E56155CF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6DA-92C7-4CC6-85CF-33CA1E53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450-A07E-4254-93B4-AA1B980A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EBB-0E3B-48BF-A43F-BC455FC3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D22-4B1B-4513-ABDD-C5081582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7E6D-70B8-416C-8F08-FE0A6E81D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кутник 1" descr=""/>
          <p:cNvPicPr/>
          <p:nvPr/>
        </p:nvPicPr>
        <p:blipFill>
          <a:blip r:embed="rId1"/>
          <a:stretch/>
        </p:blipFill>
        <p:spPr>
          <a:xfrm>
            <a:off x="2603520" y="365040"/>
            <a:ext cx="3936960" cy="1451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1555920" y="1752480"/>
            <a:ext cx="603216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"/>
          <p:cNvPicPr/>
          <p:nvPr/>
        </p:nvPicPr>
        <p:blipFill>
          <a:blip r:embed="rId1"/>
          <a:srcRect l="10580" t="7067" r="11980" b="7180"/>
          <a:stretch/>
        </p:blipFill>
        <p:spPr>
          <a:xfrm>
            <a:off x="1400040" y="985680"/>
            <a:ext cx="6229440" cy="4872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6705720" y="24382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ck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/>
          <p:cNvPicPr/>
          <p:nvPr/>
        </p:nvPicPr>
        <p:blipFill>
          <a:blip r:embed="rId1"/>
          <a:srcRect l="7560" t="6467" r="14643" b="10137"/>
          <a:stretch/>
        </p:blipFill>
        <p:spPr>
          <a:xfrm>
            <a:off x="1157400" y="957240"/>
            <a:ext cx="6257880" cy="4729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838080" y="11430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nd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"/>
          <p:cNvPicPr/>
          <p:nvPr/>
        </p:nvPicPr>
        <p:blipFill>
          <a:blip r:embed="rId1"/>
          <a:srcRect l="7261" t="6889" r="11834" b="7783"/>
          <a:stretch/>
        </p:blipFill>
        <p:spPr>
          <a:xfrm>
            <a:off x="1114560" y="971640"/>
            <a:ext cx="6543720" cy="4857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914400" y="12952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ing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"/>
          <p:cNvPicPr/>
          <p:nvPr/>
        </p:nvPicPr>
        <p:blipFill>
          <a:blip r:embed="rId1"/>
          <a:srcRect l="7560" t="6139" r="15178" b="8281"/>
          <a:stretch/>
        </p:blipFill>
        <p:spPr>
          <a:xfrm>
            <a:off x="1157400" y="928800"/>
            <a:ext cx="6215040" cy="4871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838080" y="12193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m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9" descr=""/>
          <p:cNvPicPr/>
          <p:nvPr/>
        </p:nvPicPr>
        <p:blipFill>
          <a:blip r:embed="rId1"/>
          <a:srcRect l="9688" t="11178" r="13225" b="10199"/>
          <a:stretch/>
        </p:blipFill>
        <p:spPr>
          <a:xfrm>
            <a:off x="1328760" y="1219320"/>
            <a:ext cx="6200640" cy="4467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609480" y="1219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lbow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"/>
          <p:cNvPicPr/>
          <p:nvPr/>
        </p:nvPicPr>
        <p:blipFill>
          <a:blip r:embed="rId1"/>
          <a:srcRect l="7970" t="7737" r="8126" b="7598"/>
          <a:stretch/>
        </p:blipFill>
        <p:spPr>
          <a:xfrm>
            <a:off x="1171440" y="1014480"/>
            <a:ext cx="6786720" cy="48290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990720" y="35053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ne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7912" t="5714" r="9509" b="5854"/>
          <a:stretch/>
        </p:blipFill>
        <p:spPr>
          <a:xfrm>
            <a:off x="1185840" y="914400"/>
            <a:ext cx="6643800" cy="5014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914400" y="48769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ould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5785" t="6214" r="13046" b="9884"/>
          <a:stretch/>
        </p:blipFill>
        <p:spPr>
          <a:xfrm>
            <a:off x="1014480" y="942840"/>
            <a:ext cx="6529320" cy="475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6172200" y="28195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ack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5070" t="5381" r="9688" b="6779"/>
          <a:stretch/>
        </p:blipFill>
        <p:spPr>
          <a:xfrm>
            <a:off x="957240" y="885960"/>
            <a:ext cx="6858000" cy="5000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066680" y="464832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o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6673" t="7891" r="10558" b="8533"/>
          <a:stretch/>
        </p:blipFill>
        <p:spPr>
          <a:xfrm>
            <a:off x="1085760" y="1028880"/>
            <a:ext cx="6658200" cy="47574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6019920" y="17524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o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1"/>
          <a:srcRect l="6137" t="7467" r="11980" b="6843"/>
          <a:stretch/>
        </p:blipFill>
        <p:spPr>
          <a:xfrm>
            <a:off x="1042920" y="1028880"/>
            <a:ext cx="6586560" cy="4829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838080" y="44956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ead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5731" t="6988" r="9540" b="7347"/>
          <a:stretch/>
        </p:blipFill>
        <p:spPr>
          <a:xfrm>
            <a:off x="990720" y="971640"/>
            <a:ext cx="6852960" cy="4886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990720" y="28195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"/>
          <p:cNvPicPr/>
          <p:nvPr/>
        </p:nvPicPr>
        <p:blipFill>
          <a:blip r:embed="rId1"/>
          <a:srcRect l="5428" t="5031" r="7716" b="6944"/>
          <a:stretch/>
        </p:blipFill>
        <p:spPr>
          <a:xfrm>
            <a:off x="985680" y="885960"/>
            <a:ext cx="6986880" cy="4971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6705720" y="11430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i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rcRect l="5037" t="5691" r="9955" b="6595"/>
          <a:stretch/>
        </p:blipFill>
        <p:spPr>
          <a:xfrm>
            <a:off x="914400" y="928800"/>
            <a:ext cx="6915240" cy="4943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914400" y="441972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c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"/>
          <p:cNvPicPr/>
          <p:nvPr/>
        </p:nvPicPr>
        <p:blipFill>
          <a:blip r:embed="rId1"/>
          <a:srcRect l="4289" t="6305" r="8555" b="5694"/>
          <a:stretch/>
        </p:blipFill>
        <p:spPr>
          <a:xfrm>
            <a:off x="914400" y="928800"/>
            <a:ext cx="697248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7086600" y="40384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s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rcRect l="5959" t="8330" r="11445" b="7016"/>
          <a:stretch/>
        </p:blipFill>
        <p:spPr>
          <a:xfrm>
            <a:off x="1028880" y="1057320"/>
            <a:ext cx="6643440" cy="4809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6934320" y="5105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a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rcRect l="4541" t="5564" r="11628" b="6675"/>
          <a:stretch/>
        </p:blipFill>
        <p:spPr>
          <a:xfrm>
            <a:off x="914400" y="900000"/>
            <a:ext cx="6743880" cy="4986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7391520" y="37339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y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5" descr=""/>
          <p:cNvPicPr/>
          <p:nvPr/>
        </p:nvPicPr>
        <p:blipFill>
          <a:blip r:embed="rId1"/>
          <a:srcRect l="6137" t="6315" r="11802" b="7180"/>
          <a:stretch/>
        </p:blipFill>
        <p:spPr>
          <a:xfrm>
            <a:off x="1042920" y="942840"/>
            <a:ext cx="6600960" cy="4915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762120" y="27432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ut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"/>
          <p:cNvPicPr/>
          <p:nvPr/>
        </p:nvPicPr>
        <p:blipFill>
          <a:blip r:embed="rId1"/>
          <a:srcRect l="7793" t="6139" r="14486" b="7531"/>
          <a:stretch/>
        </p:blipFill>
        <p:spPr>
          <a:xfrm>
            <a:off x="1157400" y="928800"/>
            <a:ext cx="6286320" cy="4914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914400" y="44956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eet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0:54:36Z</dcterms:created>
  <dc:creator>User</dc:creator>
  <dc:description/>
  <dc:language>en-US</dc:language>
  <cp:lastModifiedBy>user</cp:lastModifiedBy>
  <dcterms:modified xsi:type="dcterms:W3CDTF">2015-02-16T17:56:36Z</dcterms:modified>
  <cp:revision>16</cp:revision>
  <dc:subject/>
  <dc:title>Slide 1</dc:title>
</cp:coreProperties>
</file>