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0BE-A894-4B6F-B04A-4B11C05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952-31A9-4C29-B352-49880D45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963-23E5-4A5A-B2FE-17659A78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A17-6F75-43C9-8CDA-2205B3B2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C2F-5B0E-4118-AB1B-B463EF37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96B-F060-4E0A-BB54-A3847C31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A23-BB15-4F4C-9BC9-6F1D59BB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58F-211B-4259-B88D-7171A3B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372-51C1-44A0-BA43-B99A2D04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0CF-02AF-4EF9-9472-76A6005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F21-540A-478E-A7D8-745015B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25C-5ED9-4F0C-A78D-8B17F2FA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B15-E96A-4E8C-8CBA-0D47A34C6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71720" y="1357200"/>
            <a:ext cx="698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Правописание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Н-НН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362412"/>
                  </a:solidFill>
                  <a:miter/>
                </a:ln>
                <a:solidFill>
                  <a:srgbClr val="de5a00">
                    <a:alpha val="70000"/>
                  </a:srgbClr>
                </a:solidFill>
                <a:latin typeface="Arial"/>
              </a:rPr>
              <a:t>Трудные случаи</a:t>
            </a:r>
            <a:endParaRPr b="1" lang="en-US" sz="1800" spc="1" strike="noStrike">
              <a:ln w="50760">
                <a:solidFill>
                  <a:srgbClr val="362412"/>
                </a:solidFill>
                <a:miter/>
              </a:ln>
              <a:solidFill>
                <a:srgbClr val="de5a00">
                  <a:alpha val="7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924360" y="1413000"/>
            <a:ext cx="13683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Н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2637000"/>
            <a:ext cx="26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ышл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ш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д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др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рон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635280" y="2637000"/>
            <a:ext cx="446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ый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ажёный 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щёное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е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ваный 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аное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стантивированн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3132000" y="1341360"/>
            <a:ext cx="230364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НН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23493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чая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не)виденный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ых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не)слыша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чая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га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жида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недреманное око, желанный, жема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ящ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ненадёванный, благоуханный, деланный, читанный, считанный, боронённый, чеканный, чванный, штукатуренный, окаянный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дл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1557360"/>
            <a:ext cx="7848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 прилагательные СОХРАНЯЮТ количество 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латотка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гладкокраше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, свежемороже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кл.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ерочинный, доморощ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лаг. на -ва´ренный, -куренный, -гонны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15573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я меры и степени (абсолютно, очень и т.д.) НЕ ДАЮТ двух букв Н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бсолютно некраш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вершенно нестри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755640" y="692280"/>
            <a:ext cx="756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СОЧЕТАНИЯ С УСИЛИТЕЛЬНЫМИ ПОВТОРАМИ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4360" y="2567160"/>
            <a:ext cx="7848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торой части столько же Н, сколько и в первой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тира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стира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ла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глаже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шё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-перерешё</a:t>
            </a: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2626920" y="1412640"/>
            <a:ext cx="3600360" cy="936720"/>
            <a:chOff x="2626920" y="1412640"/>
            <a:chExt cx="3600360" cy="936720"/>
          </a:xfrm>
        </p:grpSpPr>
        <p:sp>
          <p:nvSpPr>
            <p:cNvPr id="94" name="AutoShape 4"/>
            <p:cNvSpPr/>
            <p:nvPr/>
          </p:nvSpPr>
          <p:spPr>
            <a:xfrm rot="10800000">
              <a:off x="2626920" y="1412280"/>
              <a:ext cx="3600360" cy="936360"/>
            </a:xfrm>
            <a:prstGeom prst="downArrowCallout">
              <a:avLst>
                <a:gd name="adj1" fmla="val 33576"/>
                <a:gd name="adj2" fmla="val 54436"/>
                <a:gd name="adj3" fmla="val 18944"/>
                <a:gd name="adj4" fmla="val 66667"/>
              </a:avLst>
            </a:prstGeom>
            <a:solidFill>
              <a:srgbClr val="de5a00">
                <a:alpha val="23000"/>
              </a:srgbClr>
            </a:solidFill>
            <a:ln w="60480">
              <a:solidFill>
                <a:srgbClr val="3624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5"/>
            <p:cNvSpPr txBox="1"/>
            <p:nvPr/>
          </p:nvSpPr>
          <p:spPr>
            <a:xfrm>
              <a:off x="3203640" y="1844640"/>
              <a:ext cx="244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62412"/>
                    </a:solidFill>
                    <a:miter/>
                  </a:ln>
                  <a:solidFill>
                    <a:srgbClr val="de5a00">
                      <a:alpha val="84000"/>
                    </a:srgbClr>
                  </a:solidFill>
                  <a:latin typeface="Arial"/>
                </a:rPr>
                <a:t>много раз</a:t>
              </a:r>
              <a:endParaRPr b="1" lang="en-US" sz="1800" spc="1" strike="noStrike">
                <a:ln w="31680">
                  <a:solidFill>
                    <a:srgbClr val="362412"/>
                  </a:solidFill>
                  <a:miter/>
                </a:ln>
                <a:solidFill>
                  <a:srgbClr val="de5a00">
                    <a:alpha val="84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042920" y="692280"/>
            <a:ext cx="6985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ОТНОСИТЕЛЬНЫЕ ПРИЛАГАТЕЛЬНЫ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4005360"/>
            <a:ext cx="252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ебр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с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н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Я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ч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211640" y="3257640"/>
            <a:ext cx="4249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Исключ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кв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кв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н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611280" y="2997360"/>
            <a:ext cx="259236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-АН, -Я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pic>
        <p:nvPicPr>
          <p:cNvPr id="46" name="Picture 10" descr="cnh"/>
          <p:cNvPicPr/>
          <p:nvPr/>
        </p:nvPicPr>
        <p:blipFill>
          <a:blip r:embed="rId1"/>
          <a:stretch/>
        </p:blipFill>
        <p:spPr>
          <a:xfrm rot="1089000">
            <a:off x="3209400" y="1303200"/>
            <a:ext cx="2889360" cy="231012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826920" y="1455840"/>
            <a:ext cx="7561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(обозначающие, из чего сделано...)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692280"/>
            <a:ext cx="6985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РАЗЛИЧАЕМ ПО СМЫСЛУ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03640" y="1973160"/>
            <a:ext cx="36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ям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нный, пропитанный маслом; запачканный мас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леный блин; масленые ру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ереносн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бы подернутый масло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енный, сластолюбивый (о взгляде, глаз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ереносное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стивый, заискивающ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леный голос; масленая улы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684360" y="1397160"/>
            <a:ext cx="345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маслЯно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5002200" y="1397160"/>
            <a:ext cx="345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маслЕны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8360" y="1973160"/>
            <a:ext cx="395928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оящий из масла; относящийся к мас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ое пятно; масляный ч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ющий на масле, с помощью масла; предназначенный для ма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ый насос; масляная лампа; масляный ба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енный красками, растертыми на мас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ая живопи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щий ма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яные ла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Именные прилагательные 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 непроизводной основой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87280" y="2492280"/>
            <a:ext cx="23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Ю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ЗЕЛЁ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УМ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Д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РЬ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ПЬ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ПРЯ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СВ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ЕДИ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2412"/>
                </a:solidFill>
                <a:latin typeface="Arial"/>
              </a:rPr>
              <a:t>БУЛА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24360" y="278136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АЗАНИЙ, САЗА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разованы с помощью суффик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Именные прилагательные 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 двумя суффиксами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55640" y="258912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ца – овч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овч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ь – бы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бы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ый – стар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стар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бь – глуб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глуб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ст – хол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хол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ый – це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цел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ой – пу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ы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– пус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ЫН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826920" y="1455840"/>
            <a:ext cx="7561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существительных на -МЯ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4360" y="2611440"/>
            <a:ext cx="32400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е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ЕН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2349360"/>
            <a:ext cx="3025800" cy="3751560"/>
          </a:xfrm>
          <a:prstGeom prst="rect">
            <a:avLst/>
          </a:prstGeom>
          <a:solidFill>
            <a:srgbClr val="de5a00">
              <a:alpha val="10000"/>
            </a:srgbClr>
          </a:solidFill>
          <a:ln w="66600">
            <a:solidFill>
              <a:srgbClr val="36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СКЛОНЯЕМЫЕ СУЩЕСТВ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 – в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я – с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я – т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емя – пл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мя – вы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мя – зна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емя – б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я – стре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мя – пла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- им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двувидовых глаголов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4360" y="2611440"/>
            <a:ext cx="777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знённый, рождённый, помолвленный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бещанны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4941720"/>
            <a:ext cx="7632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стальные двувидовые глаголы считать глаголами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несов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ВНИМАНИЕ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От двувидовых глаголов: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1280" y="378936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 бо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И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 б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аненый2"/>
          <p:cNvPicPr/>
          <p:nvPr/>
        </p:nvPicPr>
        <p:blipFill>
          <a:blip r:embed="rId1"/>
          <a:stretch/>
        </p:blipFill>
        <p:spPr>
          <a:xfrm>
            <a:off x="4643280" y="3357720"/>
            <a:ext cx="3745080" cy="2668320"/>
          </a:xfrm>
          <a:prstGeom prst="rect">
            <a:avLst/>
          </a:prstGeom>
          <a:ln w="25560">
            <a:solidFill>
              <a:srgbClr val="362412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755640" y="24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стальные двувидовые глаголы считать глаголами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есо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1835280" y="69228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62412"/>
                  </a:solidFill>
                  <a:miter/>
                </a:ln>
                <a:solidFill>
                  <a:srgbClr val="ff9900">
                    <a:alpha val="45000"/>
                  </a:srgbClr>
                </a:solidFill>
                <a:latin typeface="Arial"/>
              </a:rPr>
              <a:t>ЗАПОМНИТЬ</a:t>
            </a:r>
            <a:endParaRPr b="1" lang="en-US" sz="1800" spc="1" strike="noStrike">
              <a:ln w="28440">
                <a:solidFill>
                  <a:srgbClr val="362412"/>
                </a:solidFill>
                <a:miter/>
              </a:ln>
              <a:solidFill>
                <a:srgbClr val="ff9900">
                  <a:alpha val="4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55640" y="2421000"/>
            <a:ext cx="18003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и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826920" y="1455840"/>
            <a:ext cx="75614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Бесприставочные глаголы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совершенного вида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203640" y="2421000"/>
            <a:ext cx="28083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ш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пл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нё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ч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иж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щ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5940360" y="2565360"/>
            <a:ext cx="287280" cy="3743280"/>
          </a:xfrm>
          <a:custGeom>
            <a:avLst/>
            <a:gdLst>
              <a:gd name="textAreaLeft" fmla="*/ 0 w 287280"/>
              <a:gd name="textAreaRight" fmla="*/ 201600 w 287280"/>
              <a:gd name="textAreaTop" fmla="*/ 91440 h 3743280"/>
              <a:gd name="textAreaBottom" fmla="*/ 365184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9"/>
                  <a:pt x="21600" y="1057"/>
                </a:cubicBezTo>
                <a:lnTo>
                  <a:pt x="21600" y="20543"/>
                </a:lnTo>
                <a:cubicBezTo>
                  <a:pt x="21600" y="21072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6588000" y="2997360"/>
            <a:ext cx="1533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62412"/>
                  </a:solidFill>
                  <a:miter/>
                </a:ln>
                <a:solidFill>
                  <a:srgbClr val="de5a00"/>
                </a:solidFill>
                <a:latin typeface="Arial"/>
              </a:rPr>
              <a:t>всегда</a:t>
            </a:r>
            <a:endParaRPr b="1" lang="en-US" sz="1800" spc="1" strike="noStrike">
              <a:ln w="25560">
                <a:solidFill>
                  <a:srgbClr val="362412"/>
                </a:solidFill>
                <a:miter/>
              </a:ln>
              <a:solidFill>
                <a:srgbClr val="de5a00"/>
              </a:solidFill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6588000" y="3716280"/>
            <a:ext cx="15336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62412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Н</a:t>
            </a:r>
            <a:endParaRPr b="1" lang="en-US" sz="1800" spc="1" strike="noStrike">
              <a:ln w="38160">
                <a:solidFill>
                  <a:srgbClr val="362412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3:42:51Z</dcterms:created>
  <dc:creator>Козлов Виктор</dc:creator>
  <dc:description/>
  <dc:language>en-US</dc:language>
  <cp:lastModifiedBy>Татьяна</cp:lastModifiedBy>
  <dcterms:modified xsi:type="dcterms:W3CDTF">2015-02-19T12:56:30Z</dcterms:modified>
  <cp:revision>92</cp:revision>
  <dc:subject/>
  <dc:title>Слайд 1</dc:title>
</cp:coreProperties>
</file>