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F38-A8B9-4C1F-9C1B-41C381D2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1EE-5B21-482E-8CBB-199677CF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783-3A6C-4027-A450-AF811906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1D3-3BA0-4879-84B9-6514629B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5E0-CCCA-4732-8580-79B4924C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334-485F-49E7-A4A5-44525617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40D-49F2-4093-8C95-08746FAA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471-14D9-4360-9459-42D6320D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B9F-6035-4AB1-9CFA-B7903FFD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324-E993-4530-860B-AFC928C7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D74-0099-4044-972E-FE1653D4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AD2-F8DA-4FC2-8989-FAD9604F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5B1C-2528-44FD-A392-54A76C72E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71720" y="1357200"/>
            <a:ext cx="698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362412"/>
                  </a:solidFill>
                  <a:miter/>
                </a:ln>
                <a:solidFill>
                  <a:srgbClr val="de5a00">
                    <a:alpha val="70000"/>
                  </a:srgbClr>
                </a:solidFill>
                <a:latin typeface="Arial"/>
              </a:rPr>
              <a:t>Правописание</a:t>
            </a:r>
            <a:endParaRPr b="1" lang="en-US" sz="1800" spc="1" strike="noStrike">
              <a:ln w="50760">
                <a:solidFill>
                  <a:srgbClr val="362412"/>
                </a:solidFill>
                <a:miter/>
              </a:ln>
              <a:solidFill>
                <a:srgbClr val="de5a00">
                  <a:alpha val="7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362412"/>
                  </a:solidFill>
                  <a:miter/>
                </a:ln>
                <a:solidFill>
                  <a:srgbClr val="de5a00">
                    <a:alpha val="70000"/>
                  </a:srgbClr>
                </a:solidFill>
                <a:latin typeface="Arial"/>
              </a:rPr>
              <a:t>Н-НН</a:t>
            </a:r>
            <a:endParaRPr b="1" lang="en-US" sz="1800" spc="1" strike="noStrike">
              <a:ln w="50760">
                <a:solidFill>
                  <a:srgbClr val="362412"/>
                </a:solidFill>
                <a:miter/>
              </a:ln>
              <a:solidFill>
                <a:srgbClr val="de5a00">
                  <a:alpha val="7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362412"/>
                  </a:solidFill>
                  <a:miter/>
                </a:ln>
                <a:solidFill>
                  <a:srgbClr val="de5a00">
                    <a:alpha val="70000"/>
                  </a:srgbClr>
                </a:solidFill>
                <a:latin typeface="Arial"/>
              </a:rPr>
              <a:t>Трудные случаи</a:t>
            </a:r>
            <a:endParaRPr b="1" lang="en-US" sz="1800" spc="1" strike="noStrike">
              <a:ln w="50760">
                <a:solidFill>
                  <a:srgbClr val="362412"/>
                </a:solidFill>
                <a:miter/>
              </a:ln>
              <a:solidFill>
                <a:srgbClr val="de5a00">
                  <a:alpha val="7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3924360" y="1413000"/>
            <a:ext cx="136836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Н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6920" y="2637000"/>
            <a:ext cx="26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ышл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ш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др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др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рон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635280" y="2637000"/>
            <a:ext cx="4465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ый б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ажёный от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щёное 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ен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ваный 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аное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стантивированн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3132000" y="1341360"/>
            <a:ext cx="230364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НН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234936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чая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не)виденный,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ых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не)слышанный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чая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га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ожи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недреманное око, желанный, жеманный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ящ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ненадёванный, благоуханный, деланный, читанный, считанный, боронённый, чеканный, чванный, штукатуренный, окаянный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дл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1557360"/>
            <a:ext cx="78483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ые прилагательные СОХРАНЯЮТ количество 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латотка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гладкокраше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, свежемороже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кл.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ерочинный, доморощен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лаг. на -ва´ренный, -куренный, -гонны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4360" y="155736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ечия меры и степени (абсолютно, очень и т.д.) НЕ ДАЮТ двух букв Н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бсолютно некраш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овершенно нестриж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755640" y="692280"/>
            <a:ext cx="7561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СОЧЕТАНИЯ С УСИЛИТЕЛЬНЫМИ ПОВТОРАМИ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4360" y="2567160"/>
            <a:ext cx="7848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торой части столько же Н, сколько и в первой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тира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-перестира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лаж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-переглаж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шё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-перерешё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2626920" y="1412640"/>
            <a:ext cx="3600360" cy="936720"/>
            <a:chOff x="2626920" y="1412640"/>
            <a:chExt cx="3600360" cy="936720"/>
          </a:xfrm>
        </p:grpSpPr>
        <p:sp>
          <p:nvSpPr>
            <p:cNvPr id="94" name="AutoShape 4"/>
            <p:cNvSpPr/>
            <p:nvPr/>
          </p:nvSpPr>
          <p:spPr>
            <a:xfrm rot="10800000">
              <a:off x="2626920" y="1412280"/>
              <a:ext cx="3600360" cy="936360"/>
            </a:xfrm>
            <a:prstGeom prst="downArrowCallout">
              <a:avLst>
                <a:gd name="adj1" fmla="val 33576"/>
                <a:gd name="adj2" fmla="val 54436"/>
                <a:gd name="adj3" fmla="val 18944"/>
                <a:gd name="adj4" fmla="val 66667"/>
              </a:avLst>
            </a:prstGeom>
            <a:solidFill>
              <a:srgbClr val="de5a00">
                <a:alpha val="23000"/>
              </a:srgbClr>
            </a:solidFill>
            <a:ln w="60480">
              <a:solidFill>
                <a:srgbClr val="3624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WordArt 5"/>
            <p:cNvSpPr txBox="1"/>
            <p:nvPr/>
          </p:nvSpPr>
          <p:spPr>
            <a:xfrm>
              <a:off x="3203640" y="1844640"/>
              <a:ext cx="244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362412"/>
                    </a:solidFill>
                    <a:miter/>
                  </a:ln>
                  <a:solidFill>
                    <a:srgbClr val="de5a00">
                      <a:alpha val="84000"/>
                    </a:srgbClr>
                  </a:solidFill>
                  <a:latin typeface="Arial"/>
                </a:rPr>
                <a:t>много раз</a:t>
              </a:r>
              <a:endParaRPr b="1" lang="en-US" sz="1800" spc="1" strike="noStrike">
                <a:ln w="31680">
                  <a:solidFill>
                    <a:srgbClr val="362412"/>
                  </a:solidFill>
                  <a:miter/>
                </a:ln>
                <a:solidFill>
                  <a:srgbClr val="de5a00">
                    <a:alpha val="84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042920" y="692280"/>
            <a:ext cx="6985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ОТНОСИТЕЛЬНЫЕ ПРИЛАГАТЕЛЬНЫ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4360" y="4005360"/>
            <a:ext cx="252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А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ебр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Я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с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Я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ин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Я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ч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А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211640" y="3257640"/>
            <a:ext cx="4249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Исключе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юкв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кв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ом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н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611280" y="2997360"/>
            <a:ext cx="259236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-АН, -ЯН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</p:txBody>
      </p:sp>
      <p:pic>
        <p:nvPicPr>
          <p:cNvPr id="46" name="Picture 10" descr="cnh"/>
          <p:cNvPicPr/>
          <p:nvPr/>
        </p:nvPicPr>
        <p:blipFill>
          <a:blip r:embed="rId1"/>
          <a:stretch/>
        </p:blipFill>
        <p:spPr>
          <a:xfrm rot="1089000">
            <a:off x="3209400" y="1303200"/>
            <a:ext cx="2889360" cy="231012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826920" y="1455840"/>
            <a:ext cx="75614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(обозначающие, из чего сделано...)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692280"/>
            <a:ext cx="6985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РАЗЛИЧАЕМ ПО СМЫСЛУ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003640" y="1973160"/>
            <a:ext cx="3600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ямое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нный, пропитанный маслом; запачканный масл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леный блин; масленые ру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ереносное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бы подернутый масло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енный, сластолюбивый (о взгляде, глаз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ереносное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ьстивый, заискивающ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леный голос; масленая улы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684360" y="1397160"/>
            <a:ext cx="345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маслЯной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5002200" y="1397160"/>
            <a:ext cx="345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маслЕный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8360" y="1973160"/>
            <a:ext cx="395928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оящий из масла; относящийся к мас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ое пятно; масляный ча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ющий на масле, с помощью масла; предназначенный для ма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ый насос; масляная лампа; масляный ба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ненный красками, растертыми на мас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ая живопис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щий ма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ые ла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Именные прилагательные 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с непроизводной основой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87280" y="2492280"/>
            <a:ext cx="23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Ю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ЗЕЛЁ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С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РУМ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РД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РЬ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ПЬ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ПР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СВ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ЕДИ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БУЛА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24360" y="2781360"/>
            <a:ext cx="45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АЗАНИЙ, САЗА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бразованы с помощью суффик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Именные прилагательные 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с двумя суффиксами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55640" y="258912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ца – овч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овч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ь – бы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бы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ый – стар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стар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убь – глуб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глуб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ст – хол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хол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ый – це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це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стой – пу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ы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– пу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Ы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826920" y="1455840"/>
            <a:ext cx="7561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От существительных на -МЯ: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84360" y="2611440"/>
            <a:ext cx="32400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е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2349360"/>
            <a:ext cx="3025800" cy="3751560"/>
          </a:xfrm>
          <a:prstGeom prst="rect">
            <a:avLst/>
          </a:prstGeom>
          <a:solidFill>
            <a:srgbClr val="de5a00">
              <a:alpha val="10000"/>
            </a:srgbClr>
          </a:solidFill>
          <a:ln w="66600">
            <a:solidFill>
              <a:srgbClr val="362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СКЛОНЯЕМЫЕ СУЩЕСТВ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 – вр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я – с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я – т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емя – пл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мя – вы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мя – зна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емя – бр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я – стр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мя – пла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- и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От двувидовых глаголов: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4360" y="2611440"/>
            <a:ext cx="777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гд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азнённый, рождённый, помолвленный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бещанны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4360" y="4941720"/>
            <a:ext cx="7632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стальные двувидовые глаголы считать глаголами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несов.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От двувидовых глаголов: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11280" y="3789360"/>
            <a:ext cx="41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 бо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И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в б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аненый2"/>
          <p:cNvPicPr/>
          <p:nvPr/>
        </p:nvPicPr>
        <p:blipFill>
          <a:blip r:embed="rId1"/>
          <a:stretch/>
        </p:blipFill>
        <p:spPr>
          <a:xfrm>
            <a:off x="4643280" y="3357720"/>
            <a:ext cx="3745080" cy="2668320"/>
          </a:xfrm>
          <a:prstGeom prst="rect">
            <a:avLst/>
          </a:prstGeom>
          <a:ln w="25560">
            <a:solidFill>
              <a:srgbClr val="362412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>
            <a:off x="755640" y="249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остальные двувидовые глаголы считать глаголами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есо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55640" y="2421000"/>
            <a:ext cx="180036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ос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шит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с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Бесприставочные глаголы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совершенного вида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203640" y="2421000"/>
            <a:ext cx="28083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ош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шё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ё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пл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нё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иж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щ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5940360" y="2565360"/>
            <a:ext cx="287280" cy="3743280"/>
          </a:xfrm>
          <a:custGeom>
            <a:avLst/>
            <a:gdLst>
              <a:gd name="textAreaLeft" fmla="*/ 0 w 287280"/>
              <a:gd name="textAreaRight" fmla="*/ 201600 w 287280"/>
              <a:gd name="textAreaTop" fmla="*/ 91440 h 3743280"/>
              <a:gd name="textAreaBottom" fmla="*/ 365184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29"/>
                  <a:pt x="21600" y="1057"/>
                </a:cubicBezTo>
                <a:lnTo>
                  <a:pt x="21600" y="20543"/>
                </a:lnTo>
                <a:cubicBezTo>
                  <a:pt x="21600" y="21072"/>
                  <a:pt x="10800" y="21600"/>
                  <a:pt x="0" y="21600"/>
                </a:cubicBezTo>
              </a:path>
            </a:pathLst>
          </a:custGeom>
          <a:noFill/>
          <a:ln w="66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2"/>
          <p:cNvSpPr txBox="1"/>
          <p:nvPr/>
        </p:nvSpPr>
        <p:spPr>
          <a:xfrm>
            <a:off x="6588000" y="2997360"/>
            <a:ext cx="1533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всегда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79" name="WordArt 13"/>
          <p:cNvSpPr txBox="1"/>
          <p:nvPr/>
        </p:nvSpPr>
        <p:spPr>
          <a:xfrm>
            <a:off x="6588000" y="3716280"/>
            <a:ext cx="15336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362412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Н</a:t>
            </a:r>
            <a:endParaRPr b="1" lang="en-US" sz="1800" spc="1" strike="noStrike">
              <a:ln w="38160">
                <a:solidFill>
                  <a:srgbClr val="362412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3:42:51Z</dcterms:created>
  <dc:creator>Козлов Виктор</dc:creator>
  <dc:description/>
  <dc:language>en-US</dc:language>
  <cp:lastModifiedBy>Татьяна</cp:lastModifiedBy>
  <dcterms:modified xsi:type="dcterms:W3CDTF">2015-02-19T12:56:30Z</dcterms:modified>
  <cp:revision>92</cp:revision>
  <dc:subject/>
  <dc:title>Слайд 1</dc:title>
</cp:coreProperties>
</file>