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862-C792-41A3-B28C-C063F07E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55A-196B-4912-A586-E0FA877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541-3B2D-4964-9FBE-E03C6476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C84-644B-45CC-B1C7-F7E58273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6ED-1D0B-4793-892D-AFC2037C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2CF-9BA6-4DB0-BDF3-9017A0C1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E52-8060-458E-BC58-C3EB4234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19C-A304-4FB1-B60F-2BFF788D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668-CE84-4D60-B875-28710293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294-C7F8-4A42-A6E1-CD8D24C2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A3A-61F7-439C-97ED-95C198C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4F1-8D07-49F7-A506-332900E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F1D5-6D45-4430-80CB-E5FE611C5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71720" y="1357200"/>
            <a:ext cx="698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Правописание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Н-НН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Трудные случаи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3924360" y="1413000"/>
            <a:ext cx="13683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Н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6920" y="2637000"/>
            <a:ext cx="26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ышл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ш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д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д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рон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635280" y="2637000"/>
            <a:ext cx="446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ый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ажёный о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щёное 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е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ваный 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аное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стантивированн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3132000" y="1341360"/>
            <a:ext cx="230364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НН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234936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чая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не)виденный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ых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не)слыша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чая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га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жи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недреманное око, желанный, жема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ящ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ненадёванный, благоуханный, деланный, читанный, считанный, боронённый, чеканный, чванный, штукатуренный, окая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дл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1557360"/>
            <a:ext cx="78483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 прилагательные СОХРАНЯЮТ количество 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латотка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гладкокраше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, свежемороже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кл.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ерочинный, доморощ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лаг. на -ва´ренный, -куренный, -гонны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155736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я меры и степени (абсолютно, очень и т.д.) НЕ ДАЮТ двух букв Н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бсолютно некраш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вершенно нестри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755640" y="692280"/>
            <a:ext cx="756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СОЧЕТАНИЯ С УСИЛИТЕЛЬНЫМИ ПОВТОРАМИ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4360" y="2567160"/>
            <a:ext cx="7848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торой части столько же Н, сколько и в первой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тира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стира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ла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гла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шё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решё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2626920" y="1412640"/>
            <a:ext cx="3600360" cy="936720"/>
            <a:chOff x="2626920" y="1412640"/>
            <a:chExt cx="3600360" cy="936720"/>
          </a:xfrm>
        </p:grpSpPr>
        <p:sp>
          <p:nvSpPr>
            <p:cNvPr id="94" name="AutoShape 4"/>
            <p:cNvSpPr/>
            <p:nvPr/>
          </p:nvSpPr>
          <p:spPr>
            <a:xfrm rot="10800000">
              <a:off x="2626920" y="1412280"/>
              <a:ext cx="3600360" cy="936360"/>
            </a:xfrm>
            <a:prstGeom prst="downArrowCallout">
              <a:avLst>
                <a:gd name="adj1" fmla="val 33576"/>
                <a:gd name="adj2" fmla="val 54436"/>
                <a:gd name="adj3" fmla="val 18944"/>
                <a:gd name="adj4" fmla="val 66667"/>
              </a:avLst>
            </a:prstGeom>
            <a:solidFill>
              <a:srgbClr val="de5a00">
                <a:alpha val="23000"/>
              </a:srgbClr>
            </a:solidFill>
            <a:ln w="60480">
              <a:solidFill>
                <a:srgbClr val="3624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WordArt 5"/>
            <p:cNvSpPr txBox="1"/>
            <p:nvPr/>
          </p:nvSpPr>
          <p:spPr>
            <a:xfrm>
              <a:off x="3203640" y="1844640"/>
              <a:ext cx="244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62412"/>
                    </a:solidFill>
                    <a:miter/>
                  </a:ln>
                  <a:solidFill>
                    <a:srgbClr val="de5a00">
                      <a:alpha val="84000"/>
                    </a:srgbClr>
                  </a:solidFill>
                  <a:latin typeface="Arial"/>
                </a:rPr>
                <a:t>много раз</a:t>
              </a:r>
              <a:endParaRPr b="1" lang="en-US" sz="1800" spc="1" strike="noStrike">
                <a:ln w="31680">
                  <a:solidFill>
                    <a:srgbClr val="362412"/>
                  </a:solidFill>
                  <a:miter/>
                </a:ln>
                <a:solidFill>
                  <a:srgbClr val="de5a00">
                    <a:alpha val="84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042920" y="692280"/>
            <a:ext cx="6985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ОТНОСИТЕЛЬНЫЕ ПРИЛАГАТЕЛЬНЫ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4005360"/>
            <a:ext cx="252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ебр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с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ин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ч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211640" y="3257640"/>
            <a:ext cx="4249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Исключе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кв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кв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ом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н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611280" y="2997360"/>
            <a:ext cx="259236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-АН, -Я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pic>
        <p:nvPicPr>
          <p:cNvPr id="46" name="Picture 10" descr="cnh"/>
          <p:cNvPicPr/>
          <p:nvPr/>
        </p:nvPicPr>
        <p:blipFill>
          <a:blip r:embed="rId1"/>
          <a:stretch/>
        </p:blipFill>
        <p:spPr>
          <a:xfrm rot="1089000">
            <a:off x="3209400" y="1303200"/>
            <a:ext cx="2889360" cy="231012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826920" y="1455840"/>
            <a:ext cx="7561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(обозначающие, из чего сделано...)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692280"/>
            <a:ext cx="6985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РАЗЛИЧАЕМ ПО СМЫСЛУ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03640" y="1973160"/>
            <a:ext cx="360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ям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нный, пропитанный маслом; запачканный мас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леный блин; масленые ру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ереносн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бы подернутый масло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енный, сластолюбивый (о взгляде, глаз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ереносн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ьстивый, заискивающ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леный голос; масленая улы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684360" y="1397160"/>
            <a:ext cx="345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маслЯно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5002200" y="1397160"/>
            <a:ext cx="345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маслЕны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8360" y="1973160"/>
            <a:ext cx="395928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оящий из масла; относящийся к мас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ое пятно; масляный ч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ющий на масле, с помощью масла; предназначенный для ма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ый насос; масляная лампа; масляный ба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енный красками, растертыми на мас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ая живопи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щий ма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ые ла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Именные прилагательные 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 непроизводной осново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87280" y="2492280"/>
            <a:ext cx="23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Ю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ЗЕЛЁ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УМ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Д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Ь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ПЬ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ПР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СВ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ЕДИ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БУЛА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24360" y="278136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АЗАНИЙ, САЗА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бразованы с помощью суффик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Именные прилагательные 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 двумя суффиксами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55640" y="258912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ца – овч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овч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ь – бы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бы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ый – стар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стар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убь – глуб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глуб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ст – хол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хол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ый – це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це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ой – пу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ы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– пу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Ы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826920" y="1455840"/>
            <a:ext cx="7561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существительных на -МЯ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84360" y="2611440"/>
            <a:ext cx="32400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2349360"/>
            <a:ext cx="3025800" cy="3751560"/>
          </a:xfrm>
          <a:prstGeom prst="rect">
            <a:avLst/>
          </a:prstGeom>
          <a:solidFill>
            <a:srgbClr val="de5a00">
              <a:alpha val="10000"/>
            </a:srgbClr>
          </a:solidFill>
          <a:ln w="66600">
            <a:solidFill>
              <a:srgbClr val="362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СКЛОНЯЕМЫЕ СУЩЕСТВ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 – в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я – с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я – т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емя – пл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мя – вы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мя – зна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емя – б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я – ст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мя – пла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- и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двувидовых глаголов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4360" y="2611440"/>
            <a:ext cx="777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гд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знённый, рождённый, помолвленный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бещанны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4941720"/>
            <a:ext cx="7632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стальные двувидовые глаголы считать глаголами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несов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двувидовых глаголов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1280" y="378936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 бо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И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 б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аненый2"/>
          <p:cNvPicPr/>
          <p:nvPr/>
        </p:nvPicPr>
        <p:blipFill>
          <a:blip r:embed="rId1"/>
          <a:stretch/>
        </p:blipFill>
        <p:spPr>
          <a:xfrm>
            <a:off x="4643280" y="3357720"/>
            <a:ext cx="3745080" cy="2668320"/>
          </a:xfrm>
          <a:prstGeom prst="rect">
            <a:avLst/>
          </a:prstGeom>
          <a:ln w="25560">
            <a:solidFill>
              <a:srgbClr val="362412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755640" y="24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остальные двувидовые глаголы считать глаголами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есо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55640" y="2421000"/>
            <a:ext cx="18003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о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ит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Бесприставочные глаголы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овершенного вида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203640" y="2421000"/>
            <a:ext cx="28083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ош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пл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н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иж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щ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5940360" y="2565360"/>
            <a:ext cx="287280" cy="3743280"/>
          </a:xfrm>
          <a:custGeom>
            <a:avLst/>
            <a:gdLst>
              <a:gd name="textAreaLeft" fmla="*/ 0 w 287280"/>
              <a:gd name="textAreaRight" fmla="*/ 201600 w 287280"/>
              <a:gd name="textAreaTop" fmla="*/ 91440 h 3743280"/>
              <a:gd name="textAreaBottom" fmla="*/ 365184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9"/>
                  <a:pt x="21600" y="1057"/>
                </a:cubicBezTo>
                <a:lnTo>
                  <a:pt x="21600" y="20543"/>
                </a:lnTo>
                <a:cubicBezTo>
                  <a:pt x="21600" y="21072"/>
                  <a:pt x="10800" y="21600"/>
                  <a:pt x="0" y="21600"/>
                </a:cubicBezTo>
              </a:path>
            </a:pathLst>
          </a:custGeom>
          <a:noFill/>
          <a:ln w="66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6588000" y="2997360"/>
            <a:ext cx="1533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всегда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9" name="WordArt 13"/>
          <p:cNvSpPr txBox="1"/>
          <p:nvPr/>
        </p:nvSpPr>
        <p:spPr>
          <a:xfrm>
            <a:off x="6588000" y="3716280"/>
            <a:ext cx="15336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62412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Н</a:t>
            </a:r>
            <a:endParaRPr b="1" lang="en-US" sz="1800" spc="1" strike="noStrike">
              <a:ln w="38160">
                <a:solidFill>
                  <a:srgbClr val="362412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3:42:51Z</dcterms:created>
  <dc:creator>Козлов Виктор</dc:creator>
  <dc:description/>
  <dc:language>en-US</dc:language>
  <cp:lastModifiedBy>Татьяна</cp:lastModifiedBy>
  <dcterms:modified xsi:type="dcterms:W3CDTF">2015-02-19T12:56:30Z</dcterms:modified>
  <cp:revision>92</cp:revision>
  <dc:subject/>
  <dc:title>Слайд 1</dc:title>
</cp:coreProperties>
</file>