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CFB-0C7D-4B85-94EE-19877C27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37F-ED15-4EE9-B1A1-E5EF8417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F58E1-A22F-4D50-9699-D7B08D60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71A69-935C-4190-A0AB-2AE9693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D9195-E996-4C43-A2C1-0CDC884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7AE5C-2F3F-4D3C-AAC1-1A61180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E00F7-926E-4ACD-BC21-50070566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EA105-150F-4523-93EF-C89DE94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BD24-9D75-4922-BA47-06FF737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B4D0E-8B0B-4443-85CF-3C5EA5ED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53E6D-E854-4CC3-B54E-633131FD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CEC-A2CA-46A1-864C-69289ED5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713-B22C-4A54-93A6-0F89D1D0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696-3FC4-4711-8A4D-D9A9BD61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F951-59FD-4669-A07B-4C4F662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AA97-8BBE-4CF6-A265-81906819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F34F-6AA4-4013-9AA8-4481A5B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96D-2F8F-4BFE-BBB2-DF305E2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BF6-0D9F-4174-BAFF-2E72D64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FF12-D8A6-4FB8-8130-2B8994B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80F-BACE-4AEC-9AB6-3C08898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3374-0E0E-4156-ACCE-BF2FDC8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EC1-285D-4B5F-98BD-5C40CF2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0F4B-BDC3-49C2-9E82-51AE843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350-2764-4A0A-9AA7-CFCE8F7F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A6B-2821-4CDB-A5E6-AA7972D5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A875-B308-4F94-A033-470342F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84A3-A678-4DDA-BADE-B6DCE909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1933-60B2-4F1D-8D7B-CCB604ED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961E-D954-40FB-9F35-9294205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69B0-0A65-4085-8EF6-77BA8AD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542-F5A3-42FB-9504-B2DEC1A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F980-9C67-46F7-81F8-06AC5C1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E566-193C-4F09-89E2-E57ED9B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3250-7020-499A-9640-A66844D2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5492-9D27-4F27-81D3-369E0C7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365B-70A5-48C1-AF2F-A4E1366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C4F5-E066-430B-84E5-337882C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F192-730E-4BA9-86D5-86B7E2C8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000E-0AFA-4442-9C8B-319CAF0B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882D-C200-4EFA-AF78-252EAD0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1840-862B-40FB-96CF-9E3B08F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A3C-23FF-4174-AC60-EFD8487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39CC-3ED3-4CDD-9D12-0D912344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85B1-B59A-4912-A9A6-7F92931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9621-2143-4574-AF5E-DB801054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5056-7DA7-4B2F-9004-0019722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47E4-6271-44E9-9E0B-4158384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292F-98EB-4B8E-B1DD-F646816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B044-E192-47E6-B188-B5937114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5841-5701-4A37-98E8-01902E8A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2F43-5731-43BC-81EE-EB450DD9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E4FA-092B-4EC8-B1C7-B099D5A0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BF1-5384-4FF6-A96F-22E1A60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9E21-F987-45C7-A008-8332CC28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636A-DEE7-4AA4-9E28-1F82EF73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9B86-709B-4C1B-819A-6A91DC4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BBE8F-332D-4C9D-8AF3-A3D01E03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A50B-7492-4004-B86A-1AE7BF0E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9F67-5D60-4082-A95C-E59EDC8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4077-D655-4779-993D-9414A02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59F7F-03EF-454A-B174-F3F11C8D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B15C-3113-4411-A13E-D972FBA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6C2A-DD77-4A5E-BC37-6688D6D0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71C-4B88-4120-8997-4028F37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EA2A-8AFF-4D42-8674-85466E07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7C03-B290-4D04-884A-4E0665E8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1B3D-7978-4F1D-95D9-5410516B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F263-D68F-420D-9D8B-56FB98F0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AD51-79D3-45B0-831E-45DF996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E8BC-5C9F-4EC0-A0C2-D94B91B4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A4005-92D2-4B79-B1E0-BE01AF2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9967-DF4F-4F98-8C61-67EE2CF0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F87D-21F2-4441-9B54-DA9A5FF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9654-3541-433E-B86A-4725E378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4CD-EA73-4EEA-BB1E-8A65A6E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403A-D707-4213-8381-86445CEB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0666-975C-4715-9573-F0140B7C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2C82-BFF8-4A66-84FC-3CA12AD4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8536-5302-4C70-A2E8-C8E32F1A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4188-2C15-4F82-A5BD-810A6993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1EFC-425F-4033-A5F0-5E530BC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9B9DB-1CC8-40E8-95C7-3F4220B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F17A-109B-4113-838F-2761A87E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732A2-E455-421E-916D-13AE207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483E-6A57-4EA0-9BC1-E5F85ED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BBF-6AF9-432E-B958-C5DE057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8238-7EF3-4ABA-8D3C-DC1F485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F66B-B101-4AF7-B65C-5155220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714C-5B6B-43A5-A087-11F54FB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B75C-5946-454E-AC48-7E0B140E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62F9-7830-4168-AB23-2A45BDFC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1ADC5-5336-488B-8E69-E4CF3250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34DA-EAB2-4BBD-90CC-14B0652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D698-043D-4D43-8C51-E222002B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05462-6FB1-4B54-AC3E-80CDFF4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63C09-66D1-4240-9D3E-58AA6E8A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259-3458-47B8-9F63-9503198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5D37D-532E-4B6E-8ABA-9084E9EF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DB4DA-523D-467E-AE44-94E6ABF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BDDD-45CC-46B6-8D85-A6DBC61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B237-DCE8-4FE7-928C-6A1609A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AD54-E659-408F-BCCA-FBE0584A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FAD7-1D74-427D-B7B4-ADA62495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731F-F4FB-4BB0-A9FA-1AAFF9E0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CEDB9-CAB8-4A74-ACB9-30373960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DE85-ECA3-4332-85E6-895DEAE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C68B1-34D1-422A-87E6-60D8EADA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722A-35B3-4EA8-9479-1350A4B5083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348-7DFA-4EF0-8579-E3E8E41116B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CB86-5BCF-48F3-AB60-B86DD3EC430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67A-7C58-4C44-BE85-6DFE5FD672F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FBF8-2D54-4D1F-AE6A-64412503C02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986-83DE-4FB3-9812-F1D70D20136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989-7629-4929-A6A3-340CA92BAC6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A2B-3E4F-4269-AEDA-AEFC18F80F1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FB5-12A3-4134-BF4B-3E3BE4B7B8C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79280" y="38606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Franklin Gothic Book"/>
              </a:rPr>
              <a:t>ДЕНЬ   ПРИВЕТСТВИЙ</a:t>
            </a:r>
            <a:r>
              <a:rPr b="0" i="1" lang="ru-RU" sz="20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Педагог-психолог Босенко С.М., 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" descr="C:\Users\Моха\Desktop\images (1).jpg"/>
          <p:cNvPicPr/>
          <p:nvPr/>
        </p:nvPicPr>
        <p:blipFill>
          <a:blip r:embed="rId1"/>
          <a:stretch/>
        </p:blipFill>
        <p:spPr>
          <a:xfrm>
            <a:off x="3348000" y="476280"/>
            <a:ext cx="5367240" cy="402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Users\Моха\Desktop\Толерантность\Жесты\3-1.jpg"/>
          <p:cNvPicPr/>
          <p:nvPr/>
        </p:nvPicPr>
        <p:blipFill>
          <a:blip r:embed="rId1"/>
          <a:stretch/>
        </p:blipFill>
        <p:spPr>
          <a:xfrm>
            <a:off x="5508720" y="260280"/>
            <a:ext cx="3314520" cy="4981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Моха\Desktop\Толерантность\Жесты\3-2.jpg"/>
          <p:cNvPicPr/>
          <p:nvPr/>
        </p:nvPicPr>
        <p:blipFill>
          <a:blip r:embed="rId2"/>
          <a:stretch/>
        </p:blipFill>
        <p:spPr>
          <a:xfrm>
            <a:off x="324000" y="1628640"/>
            <a:ext cx="2954160" cy="497232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324000" y="3333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Салом алейкум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мир 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851280" y="544500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Валейкум ассалом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и вам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C:\Users\Моха\Desktop\Толерантность\Жесты\4-2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15000" cy="4438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2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Привет -- </a:t>
            </a: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konnichi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Моха\Desktop\Толерантность\Жесты\6-2.jpg"/>
          <p:cNvPicPr/>
          <p:nvPr/>
        </p:nvPicPr>
        <p:blipFill>
          <a:blip r:embed="rId1"/>
          <a:stretch/>
        </p:blipFill>
        <p:spPr>
          <a:xfrm>
            <a:off x="5435640" y="1125360"/>
            <a:ext cx="3314520" cy="537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7" name="Picture 3" descr="C:\Users\Моха\Desktop\Толерантность\Жесты\6-3.jpg"/>
          <p:cNvPicPr/>
          <p:nvPr/>
        </p:nvPicPr>
        <p:blipFill>
          <a:blip r:embed="rId2"/>
          <a:stretch/>
        </p:blipFill>
        <p:spPr>
          <a:xfrm>
            <a:off x="395280" y="333360"/>
            <a:ext cx="2232000" cy="422928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395280" y="4797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Намаст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                 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при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Users\Моха\Desktop\Толерантность\Жесты\6-2.jpg"/>
          <p:cNvPicPr/>
          <p:nvPr/>
        </p:nvPicPr>
        <p:blipFill>
          <a:blip r:embed="rId3"/>
          <a:stretch/>
        </p:blipFill>
        <p:spPr>
          <a:xfrm>
            <a:off x="5435640" y="1052640"/>
            <a:ext cx="33145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C:\Users\Моха\Desktop\Толерантность\Жесты\7-2.jpg"/>
          <p:cNvPicPr/>
          <p:nvPr/>
        </p:nvPicPr>
        <p:blipFill>
          <a:blip r:embed="rId1"/>
          <a:stretch/>
        </p:blipFill>
        <p:spPr>
          <a:xfrm>
            <a:off x="2627280" y="549360"/>
            <a:ext cx="3821040" cy="295092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1042920" y="4869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Franklin Gothic Book"/>
              </a:rPr>
              <a:t>HIN  CHAO -- </a:t>
            </a:r>
            <a:r>
              <a:rPr b="0" lang="ru-RU" sz="5400" spc="-1" strike="noStrike">
                <a:solidFill>
                  <a:srgbClr val="0070c0"/>
                </a:solidFill>
                <a:latin typeface="Franklin Gothic Book"/>
              </a:rPr>
              <a:t>при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 rot="799800">
            <a:off x="4274280" y="4946760"/>
            <a:ext cx="453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f6fc6"/>
                </a:solidFill>
                <a:latin typeface="Arial"/>
              </a:rPr>
              <a:t>GOOD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395280" y="26028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55a839"/>
                </a:solidFill>
                <a:latin typeface="Arial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 rot="1233600">
            <a:off x="4105080" y="2282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 rot="20017800">
            <a:off x="113760" y="1160640"/>
            <a:ext cx="69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Arial"/>
              </a:rPr>
              <a:t>GUTEN 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6084720" y="119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GUTEN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 rot="19570800">
            <a:off x="4685400" y="2704320"/>
            <a:ext cx="43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7026"/>
                </a:solidFill>
                <a:latin typeface="Arial Black"/>
              </a:rPr>
              <a:t>HE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3059280" y="2708280"/>
            <a:ext cx="151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 rot="18853200">
            <a:off x="-373680" y="4104360"/>
            <a:ext cx="43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GOOD 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C:\Users\Моха\Desktop\Пожелания\Монгол.jpg"/>
          <p:cNvPicPr/>
          <p:nvPr/>
        </p:nvPicPr>
        <p:blipFill>
          <a:blip r:embed="rId1"/>
          <a:stretch/>
        </p:blipFill>
        <p:spPr>
          <a:xfrm>
            <a:off x="5003640" y="1628640"/>
            <a:ext cx="4032360" cy="3044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Users\Моха\Desktop\Пожелания\Юрта.jpg"/>
          <p:cNvPicPr/>
          <p:nvPr/>
        </p:nvPicPr>
        <p:blipFill>
          <a:blip r:embed="rId2"/>
          <a:stretch/>
        </p:blipFill>
        <p:spPr>
          <a:xfrm>
            <a:off x="2268360" y="333360"/>
            <a:ext cx="3619800" cy="260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Моха\Desktop\Пожелания\Пила.jpg"/>
          <p:cNvPicPr/>
          <p:nvPr/>
        </p:nvPicPr>
        <p:blipFill>
          <a:blip r:embed="rId3"/>
          <a:stretch/>
        </p:blipFill>
        <p:spPr>
          <a:xfrm>
            <a:off x="250920" y="3500280"/>
            <a:ext cx="4572000" cy="19512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25092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--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Чтобы ваша пила была ост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"/>
          <p:cNvSpPr/>
          <p:nvPr/>
        </p:nvSpPr>
        <p:spPr>
          <a:xfrm>
            <a:off x="6084720" y="260280"/>
            <a:ext cx="28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Franklin Gothic Book"/>
              </a:rPr>
              <a:t>Обычаи монгольского на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3" descr="C:\Users\Моха\Desktop\Пожелания\Д1.jpg"/>
          <p:cNvPicPr/>
          <p:nvPr/>
        </p:nvPicPr>
        <p:blipFill>
          <a:blip r:embed="rId1"/>
          <a:stretch/>
        </p:blipFill>
        <p:spPr>
          <a:xfrm>
            <a:off x="395280" y="333360"/>
            <a:ext cx="3313080" cy="2490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C:\Users\Моха\Desktop\Пожелания\Доярка.jpg"/>
          <p:cNvPicPr/>
          <p:nvPr/>
        </p:nvPicPr>
        <p:blipFill>
          <a:blip r:embed="rId2"/>
          <a:stretch/>
        </p:blipFill>
        <p:spPr>
          <a:xfrm>
            <a:off x="1258920" y="3213000"/>
            <a:ext cx="5157720" cy="34322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4067280" y="40464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-- Пусть у вашей кор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будет м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мол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:\Users\Моха\Desktop\Пожелания\Обед.jpg"/>
          <p:cNvPicPr/>
          <p:nvPr/>
        </p:nvPicPr>
        <p:blipFill>
          <a:blip r:embed="rId1"/>
          <a:stretch/>
        </p:blipFill>
        <p:spPr>
          <a:xfrm>
            <a:off x="324000" y="692280"/>
            <a:ext cx="8466120" cy="41767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4"/>
          <p:cNvSpPr/>
          <p:nvPr/>
        </p:nvSpPr>
        <p:spPr>
          <a:xfrm>
            <a:off x="324000" y="544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-- Пусть ваша еда будет вку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"/>
          <p:cNvSpPr/>
          <p:nvPr/>
        </p:nvSpPr>
        <p:spPr>
          <a:xfrm>
            <a:off x="6227640" y="189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Игра «Пожелание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C:\Users\Моха\Desktop\Пожелания\Муз 1.jpg"/>
          <p:cNvPicPr/>
          <p:nvPr/>
        </p:nvPicPr>
        <p:blipFill>
          <a:blip r:embed="rId1"/>
          <a:stretch/>
        </p:blipFill>
        <p:spPr>
          <a:xfrm>
            <a:off x="108000" y="4365720"/>
            <a:ext cx="2919240" cy="2324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C:\Users\Моха\Desktop\Пожелания\Сап 2.jpg"/>
          <p:cNvPicPr/>
          <p:nvPr/>
        </p:nvPicPr>
        <p:blipFill>
          <a:blip r:embed="rId2"/>
          <a:stretch/>
        </p:blipFill>
        <p:spPr>
          <a:xfrm rot="20806200">
            <a:off x="3027240" y="423720"/>
            <a:ext cx="2916360" cy="194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C:\Users\Моха\Desktop\Пожелания\Порт 2.jpg"/>
          <p:cNvPicPr/>
          <p:nvPr/>
        </p:nvPicPr>
        <p:blipFill>
          <a:blip r:embed="rId3"/>
          <a:stretch/>
        </p:blipFill>
        <p:spPr>
          <a:xfrm rot="21169800">
            <a:off x="6084720" y="450828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C:\Users\Моха\Desktop\Пожелания\Парик.jpg"/>
          <p:cNvPicPr/>
          <p:nvPr/>
        </p:nvPicPr>
        <p:blipFill>
          <a:blip r:embed="rId4"/>
          <a:stretch/>
        </p:blipFill>
        <p:spPr>
          <a:xfrm rot="284400">
            <a:off x="6156360" y="1412640"/>
            <a:ext cx="2879640" cy="269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C:\Users\Моха\Desktop\Пожелания\Мед 5.jpg"/>
          <p:cNvPicPr/>
          <p:nvPr/>
        </p:nvPicPr>
        <p:blipFill>
          <a:blip r:embed="rId5"/>
          <a:stretch/>
        </p:blipFill>
        <p:spPr>
          <a:xfrm rot="872400">
            <a:off x="530280" y="366480"/>
            <a:ext cx="1878120" cy="36003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C:\Users\Моха\Desktop\Пожелания\Худ.jpg"/>
          <p:cNvPicPr/>
          <p:nvPr/>
        </p:nvPicPr>
        <p:blipFill>
          <a:blip r:embed="rId6"/>
          <a:stretch/>
        </p:blipFill>
        <p:spPr>
          <a:xfrm>
            <a:off x="2771640" y="2565360"/>
            <a:ext cx="3121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6516720" y="189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Пожелание успе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C:\Users\Моха\Desktop\Пожелания\Врач.jpg"/>
          <p:cNvPicPr/>
          <p:nvPr/>
        </p:nvPicPr>
        <p:blipFill>
          <a:blip r:embed="rId1"/>
          <a:stretch/>
        </p:blipFill>
        <p:spPr>
          <a:xfrm>
            <a:off x="108000" y="115920"/>
            <a:ext cx="2087640" cy="3006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C:\Users\Моха\Desktop\Пожелания\Сап.jpg"/>
          <p:cNvPicPr/>
          <p:nvPr/>
        </p:nvPicPr>
        <p:blipFill>
          <a:blip r:embed="rId2"/>
          <a:stretch/>
        </p:blipFill>
        <p:spPr>
          <a:xfrm>
            <a:off x="1908000" y="2205000"/>
            <a:ext cx="1808280" cy="2448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Users\Моха\Desktop\Пожелания\Пар2.jpg"/>
          <p:cNvPicPr/>
          <p:nvPr/>
        </p:nvPicPr>
        <p:blipFill>
          <a:blip r:embed="rId3"/>
          <a:stretch/>
        </p:blipFill>
        <p:spPr>
          <a:xfrm>
            <a:off x="3276720" y="260280"/>
            <a:ext cx="2857320" cy="2381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C:\Users\Моха\Desktop\Пожелания\Порт.jpg"/>
          <p:cNvPicPr/>
          <p:nvPr/>
        </p:nvPicPr>
        <p:blipFill>
          <a:blip r:embed="rId4"/>
          <a:stretch/>
        </p:blipFill>
        <p:spPr>
          <a:xfrm>
            <a:off x="6156360" y="836640"/>
            <a:ext cx="2600280" cy="2857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C:\Users\Моха\Desktop\Пожелания\Худ (2).jpg"/>
          <p:cNvPicPr/>
          <p:nvPr/>
        </p:nvPicPr>
        <p:blipFill>
          <a:blip r:embed="rId5"/>
          <a:stretch/>
        </p:blipFill>
        <p:spPr>
          <a:xfrm>
            <a:off x="3851280" y="378936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C:\Users\Моха\Desktop\Пожелания\Муз.jpg"/>
          <p:cNvPicPr/>
          <p:nvPr/>
        </p:nvPicPr>
        <p:blipFill>
          <a:blip r:embed="rId6"/>
          <a:stretch/>
        </p:blipFill>
        <p:spPr>
          <a:xfrm>
            <a:off x="108000" y="3429000"/>
            <a:ext cx="1665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Моха\Desktop\ПРИВЕТСТВИЯ\начало\Порт1.jpg"/>
          <p:cNvPicPr/>
          <p:nvPr/>
        </p:nvPicPr>
        <p:blipFill>
          <a:blip r:embed="rId1"/>
          <a:stretch/>
        </p:blipFill>
        <p:spPr>
          <a:xfrm>
            <a:off x="108000" y="404640"/>
            <a:ext cx="8889840" cy="5892840"/>
          </a:xfrm>
          <a:prstGeom prst="rect">
            <a:avLst/>
          </a:prstGeom>
          <a:ln w="0">
            <a:noFill/>
          </a:ln>
        </p:spPr>
      </p:pic>
      <p:pic>
        <p:nvPicPr>
          <p:cNvPr id="402" name="Инструментальный Ансамбль П - У В. Осинского - Рок-Н-Ролл [с сайта www.ololo.fm].mp3" descr=""/>
          <p:cNvPicPr/>
          <p:nvPr/>
        </p:nvPicPr>
        <p:blipFill>
          <a:blip r:embed="rId2"/>
          <a:stretch/>
        </p:blipFill>
        <p:spPr>
          <a:xfrm>
            <a:off x="7451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39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2"/>
          <p:cNvSpPr/>
          <p:nvPr/>
        </p:nvSpPr>
        <p:spPr>
          <a:xfrm>
            <a:off x="6227640" y="18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Театр эмо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C:\Users\Моха\Desktop\Пожелания\Р1.jpg"/>
          <p:cNvPicPr/>
          <p:nvPr/>
        </p:nvPicPr>
        <p:blipFill>
          <a:blip r:embed="rId1"/>
          <a:stretch/>
        </p:blipFill>
        <p:spPr>
          <a:xfrm>
            <a:off x="324000" y="404640"/>
            <a:ext cx="1866600" cy="1562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C:\Users\Моха\Desktop\Пожелания\Гр.jpg"/>
          <p:cNvPicPr/>
          <p:nvPr/>
        </p:nvPicPr>
        <p:blipFill>
          <a:blip r:embed="rId2"/>
          <a:stretch/>
        </p:blipFill>
        <p:spPr>
          <a:xfrm>
            <a:off x="2268360" y="1628640"/>
            <a:ext cx="1935360" cy="1935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C:\Users\Моха\Desktop\Пожелания\гн.jpg"/>
          <p:cNvPicPr/>
          <p:nvPr/>
        </p:nvPicPr>
        <p:blipFill>
          <a:blip r:embed="rId3"/>
          <a:srcRect l="19241" t="0" r="0" b="0"/>
          <a:stretch/>
        </p:blipFill>
        <p:spPr>
          <a:xfrm>
            <a:off x="4284720" y="2708280"/>
            <a:ext cx="2114640" cy="1743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C:\Users\Моха\Desktop\Пожелания\У.jpg"/>
          <p:cNvPicPr/>
          <p:nvPr/>
        </p:nvPicPr>
        <p:blipFill>
          <a:blip r:embed="rId4"/>
          <a:stretch/>
        </p:blipFill>
        <p:spPr>
          <a:xfrm>
            <a:off x="6516720" y="4365720"/>
            <a:ext cx="2376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8" descr="C:\Users\Моха\Desktop\Толерантность\Жесты\7-2.jpg"/>
          <p:cNvPicPr/>
          <p:nvPr/>
        </p:nvPicPr>
        <p:blipFill>
          <a:blip r:embed="rId1"/>
          <a:stretch/>
        </p:blipFill>
        <p:spPr>
          <a:xfrm rot="21161400">
            <a:off x="6910560" y="1531800"/>
            <a:ext cx="2104920" cy="2122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Users\Моха\Desktop\Приветствия фото + текст\u28182471.jpg"/>
          <p:cNvPicPr/>
          <p:nvPr/>
        </p:nvPicPr>
        <p:blipFill>
          <a:blip r:embed="rId2"/>
          <a:srcRect l="0" t="8638" r="0" b="0"/>
          <a:stretch/>
        </p:blipFill>
        <p:spPr>
          <a:xfrm>
            <a:off x="2556000" y="115920"/>
            <a:ext cx="1800000" cy="2475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Users\Моха\Desktop\Толерантность\Жесты\1.jpg"/>
          <p:cNvPicPr/>
          <p:nvPr/>
        </p:nvPicPr>
        <p:blipFill>
          <a:blip r:embed="rId3"/>
          <a:stretch/>
        </p:blipFill>
        <p:spPr>
          <a:xfrm rot="20844000">
            <a:off x="286920" y="849240"/>
            <a:ext cx="2409840" cy="2895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C:\Users\Моха\Desktop\Приветствия фото + текст\ptg00460508.jpg"/>
          <p:cNvPicPr/>
          <p:nvPr/>
        </p:nvPicPr>
        <p:blipFill>
          <a:blip r:embed="rId4"/>
          <a:stretch/>
        </p:blipFill>
        <p:spPr>
          <a:xfrm rot="591600">
            <a:off x="477720" y="3779640"/>
            <a:ext cx="1925640" cy="288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Моха\Desktop\Толерантность\Жесты\2.jpg"/>
          <p:cNvPicPr/>
          <p:nvPr/>
        </p:nvPicPr>
        <p:blipFill>
          <a:blip r:embed="rId5"/>
          <a:stretch/>
        </p:blipFill>
        <p:spPr>
          <a:xfrm>
            <a:off x="4859280" y="189000"/>
            <a:ext cx="2209680" cy="2857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Моха\Desktop\Приветствия фото + текст\ITF034067.jpg"/>
          <p:cNvPicPr/>
          <p:nvPr/>
        </p:nvPicPr>
        <p:blipFill>
          <a:blip r:embed="rId6"/>
          <a:stretch/>
        </p:blipFill>
        <p:spPr>
          <a:xfrm>
            <a:off x="2705040" y="2523960"/>
            <a:ext cx="2881440" cy="4334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Users\Моха\Desktop\Толерантность\Жесты\6-2.jpg"/>
          <p:cNvPicPr/>
          <p:nvPr/>
        </p:nvPicPr>
        <p:blipFill>
          <a:blip r:embed="rId7"/>
          <a:stretch/>
        </p:blipFill>
        <p:spPr>
          <a:xfrm rot="20879400">
            <a:off x="6140160" y="3793680"/>
            <a:ext cx="1733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C:\Users\Моха\Desktop\Пожелания\Спасибо2.jpg"/>
          <p:cNvPicPr/>
          <p:nvPr/>
        </p:nvPicPr>
        <p:blipFill>
          <a:blip r:embed="rId1"/>
          <a:stretch/>
        </p:blipFill>
        <p:spPr>
          <a:xfrm>
            <a:off x="1619280" y="2492280"/>
            <a:ext cx="5943600" cy="39499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3"/>
          <p:cNvSpPr/>
          <p:nvPr/>
        </p:nvSpPr>
        <p:spPr>
          <a:xfrm>
            <a:off x="468360" y="692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Franklin Gothic Book"/>
              </a:rPr>
              <a:t>СПАСИБО ЗА УВЛЕКАТЕЛЬНУЮ ИГР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Вступление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Моха\Desktop\Приветствия фото + текст\Мульт4.jpg"/>
          <p:cNvPicPr/>
          <p:nvPr/>
        </p:nvPicPr>
        <p:blipFill>
          <a:blip r:embed="rId1"/>
          <a:stretch/>
        </p:blipFill>
        <p:spPr>
          <a:xfrm>
            <a:off x="360360" y="333360"/>
            <a:ext cx="6480000" cy="47512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468360" y="5445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-- ………………………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-- …..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C:\Users\Моха\Desktop\Приветствия фото + текст\Мауг1.jpg"/>
          <p:cNvPicPr/>
          <p:nvPr/>
        </p:nvPicPr>
        <p:blipFill>
          <a:blip r:embed="rId1"/>
          <a:stretch/>
        </p:blipFill>
        <p:spPr>
          <a:xfrm>
            <a:off x="179280" y="260280"/>
            <a:ext cx="8801280" cy="39607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179280" y="537372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Franklin Gothic Book"/>
              </a:rPr>
              <a:t>-- Мы одной крови, вы и 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C:\Users\Моха\Desktop\Приветствия фото + текст\Избушка 2.jpg"/>
          <p:cNvPicPr/>
          <p:nvPr/>
        </p:nvPicPr>
        <p:blipFill>
          <a:blip r:embed="rId1"/>
          <a:stretch/>
        </p:blipFill>
        <p:spPr>
          <a:xfrm>
            <a:off x="3838680" y="333360"/>
            <a:ext cx="4871880" cy="6191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250920" y="333360"/>
            <a:ext cx="338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-- Избушка, избу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встань к лесу зад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ко мне перед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Мне в тебя лезть, хлеба е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Users\Моха\Desktop\Приветствия фото + текст\Карл3.jpg"/>
          <p:cNvPicPr/>
          <p:nvPr/>
        </p:nvPicPr>
        <p:blipFill>
          <a:blip r:embed="rId1"/>
          <a:stretch/>
        </p:blipFill>
        <p:spPr>
          <a:xfrm>
            <a:off x="468360" y="476280"/>
            <a:ext cx="5411880" cy="4032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2050920" y="4508640"/>
            <a:ext cx="68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-- При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Franklin Gothic Book"/>
              </a:rPr>
              <a:t>Можно мне здесь на минуточку приземл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 rot="20425800">
            <a:off x="466920" y="4762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omic Sans MS"/>
              </a:rPr>
              <a:t>Прив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 rot="720000">
            <a:off x="461160" y="3389400"/>
            <a:ext cx="835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andara"/>
              </a:rPr>
              <a:t>Здравствуй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 rot="874800">
            <a:off x="3821400" y="1471680"/>
            <a:ext cx="52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ranklin Gothic Book"/>
              </a:rPr>
              <a:t>Рад вас виде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 rot="21062400">
            <a:off x="586800" y="4797360"/>
            <a:ext cx="617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Bookman Old Style"/>
                <a:ea typeface="Arabic Typesetting"/>
              </a:rPr>
              <a:t>Добрый де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95280" y="23493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000"/>
                </a:solidFill>
                <a:latin typeface="Franklin Gothic Book"/>
              </a:rPr>
              <a:t>ДОБРОЕ УТ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6300720" y="18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Franklin Gothic Book"/>
              </a:rPr>
              <a:t>Игра «Собери привет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Моха\Desktop\Приветствия фото + текст\ptg01814946.jpg"/>
          <p:cNvPicPr/>
          <p:nvPr/>
        </p:nvPicPr>
        <p:blipFill>
          <a:blip r:embed="rId1"/>
          <a:stretch/>
        </p:blipFill>
        <p:spPr>
          <a:xfrm>
            <a:off x="4859280" y="404640"/>
            <a:ext cx="3529080" cy="4491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684360" y="551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Franklin Gothic Book"/>
              </a:rPr>
              <a:t>SELAMAT -- </a:t>
            </a:r>
            <a:r>
              <a:rPr b="0" lang="ru-RU" sz="3600" spc="-1" strike="noStrike">
                <a:solidFill>
                  <a:srgbClr val="0070c0"/>
                </a:solidFill>
                <a:latin typeface="Franklin Gothic Book"/>
              </a:rPr>
              <a:t>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21:14:24Z</dcterms:created>
  <dc:creator>Моха</dc:creator>
  <dc:description/>
  <dc:language>en-US</dc:language>
  <cp:lastModifiedBy>Моха</cp:lastModifiedBy>
  <dcterms:modified xsi:type="dcterms:W3CDTF">2015-02-20T18:58:34Z</dcterms:modified>
  <cp:revision>61</cp:revision>
  <dc:subject/>
  <dc:title>Слайд 1</dc:title>
</cp:coreProperties>
</file>