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AB0-7772-452A-99AE-5F408C87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ABC-748B-4597-9F19-D33D957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443B4-8CBE-4A6D-BFC4-68DF501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7515C-9885-4049-BD72-08D2A4A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3119B-3FFE-4DD0-A44A-FCA030EC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92B3-5C40-4106-9880-D6AAFD55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B0162-B3DB-4AEB-AF46-7B8461C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716E-9E6D-486B-ACCA-23F28CC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420EF-9170-4899-B789-606E14B6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DFECB-74F6-432A-BB2F-66A7A8BA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061B6-7D77-4C6D-A07F-76520BE9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D21-15EC-47AB-913D-C5659E6F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787-A267-4F59-A593-242A2C9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2F5-FB80-4840-ADEB-32DC497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2AA7-4368-4BD9-ABF0-BCF9416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0B61-F9FC-4364-898E-557AFFC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8180-BFFA-488B-B64B-6D2D9FE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F79A-D228-4BC7-86E0-2994CAAD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E0CB-F54B-4272-99C4-31E8F22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4D6F-92ED-44EE-9203-3ABF2638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E95-7B46-4BD9-9FC7-29B2913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20DD-BA1A-4B91-BF46-0F2EB2B7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5CD4-809E-4641-A4B6-67DDE67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5BE-91AF-414F-9A53-40DCCD5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B009-335D-49D5-B8C3-E0682D91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3A8B-9EB9-40EE-B962-FA6C7985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FDE4-E597-4AA7-B997-84BFBC89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00C7-582B-4418-A3FD-22A4F88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1B23-C521-408C-9AF9-5E622DF0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8284-823A-4A32-ABB1-60DD234F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3A3A-7EDB-4236-8715-924D62A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B14-B369-40CC-95FA-BE388B66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7965-7F8D-4F1D-9D62-53A0E6F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47F5-6B58-43E7-B039-645C7185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080E-D970-497F-93B0-6DB8371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B81B-EEC2-451B-864F-7EB2FEE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39D8-980A-4A21-BA2A-F7014FA9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4281-6B22-488A-B63D-531AB388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69AD-0B34-4874-B909-52BA2CB2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5CB7-4879-4474-B267-1A1AE00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B5B7-C054-489B-95CD-C53ED36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96AC-9A10-4DA8-8809-9CBE910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07C-8C77-4843-91AA-AD9501F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82CC-B454-4D36-ABC9-E2A5ED5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D475-1BC0-4BC8-A361-FC65E82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85C7-C081-4A56-B5A4-D20DB834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6DBA-F4E6-4BDE-8DF4-22F03C4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02E9-FCC9-463D-832A-9EFDC40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38DC-6F03-49F6-88DA-72567DC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DD46-BC70-4712-A90B-64F6BA5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77E3-1812-42A1-A335-80DEDFA1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EE2D-0368-4661-9154-9E328B4F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2FF2-548C-40FB-AFDD-73521547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3D2-5291-4003-877E-25BE266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98BC-4381-4D41-AE15-2CB4C5B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14D7-124E-4B69-8DB9-3D4028EE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4820-5F74-48FD-B33B-F500589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2BEF-6B7B-4D21-A94F-19A903DE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A58B-2F09-4F52-BBF0-E8F6067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E338-638E-4CB4-AEAC-67D998F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9827-E706-44FE-B972-9EEEE42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A434-8EF0-4FCA-9370-DB92FDA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E5A9-256F-4309-B371-BC1E5F9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E5CE-8FF5-495E-BBA0-A80ABA5F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107-B6FF-439B-9E63-E0A3A6FF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C6D7-9F4F-45AB-B462-9A4AEB0A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2D96A-3B9D-4AE9-9A16-D7CCDA9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FA5B-C45F-48C6-86E0-12C9C20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7540-15F9-422B-BAAA-17BA833A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18B5-22EA-49C1-821B-76CD0F5E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7017-3D58-497A-A854-3F53100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D311-68C5-406B-9184-2772E639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A6872-6BF8-4A55-90A3-1AD5D67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C212-FD61-4F33-A9C3-D454124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8BFE-392B-4C0D-91DF-9906B66E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0FE-456C-429E-A1C3-23C65EC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BC4E-F16D-406F-88DD-20A76A5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F24D-6030-4134-834F-357FF560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09AFA-4775-43DC-AC00-FF7CAF5B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47426-0A44-4BCB-A943-984AA3B4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53E4-6875-4AF9-8201-7C5A533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343A4-2A82-443D-AC7A-DF7AF9E3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DA0B-7F1B-48B8-BA43-48AF468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0C980-B57B-4A15-BC61-156CDD1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02707-E654-4032-95A0-04B0B1DD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4D6C3-4DDC-457A-95CE-A5EF2F2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87C-56B9-4ACA-B652-35C8F93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B62F-427D-468D-902C-7D895168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BE8F-D979-4628-85FF-ECC2D78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AA1A-7C42-4EAF-A993-DD2E007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1DC0-E5A7-4BB8-B8D9-99F15043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090A-81B5-4E95-B853-D0FD226D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2505-CB57-4AAA-8811-85ED757B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8194-AF82-4D58-91D3-3EF2FD7D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2088-B16D-4EA5-8D8C-DBB30922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804B-8C8F-49AA-936B-E47B44D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BB69-41DE-4D38-92AA-5077CF8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BC0-70EF-49E0-ADCB-B77A287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12256-F8FE-486A-972E-E54D78C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EE5F-A4AA-43BA-A158-920018C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5087-FE85-4BCD-9CCA-D69A014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8148-6C45-4592-B5BB-A1BA3D5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ECF05-5C56-425F-9CFA-C1FC285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D7E74-A1D8-4572-BD50-E97569A4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2663D-062C-4ED2-9648-CBF2370C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74FD6-E26A-447B-BC6D-9E10A486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FE837-663B-4B15-BF8F-73B367C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4323-B9AB-4E9D-8DFB-AA32A2AB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3F8-8F83-4942-A93E-6FE4B3D0A64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9065-1182-4D27-9363-25EF4011E10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425-36F8-45D4-BD9B-AF9B9E91893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E31-9422-4520-AA0C-17A3C89996B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343-4F01-4170-A7CD-2F4A60FC8EF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EF7-7BAA-4F67-9346-A83437DA86F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57AC-6169-4821-B943-62D99B5A5D9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CEA-2DF5-4E8D-B871-D6A4B2649F2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8B3-5843-4D8F-A48E-DE42DAF0165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79280" y="38606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Franklin Gothic Book"/>
              </a:rPr>
              <a:t>ДЕНЬ   ПРИВЕТСТВИЙ</a:t>
            </a:r>
            <a:r>
              <a:rPr b="0" i="1" lang="ru-RU" sz="20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Педагог-психолог Босенко С.М., 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C:\Users\Моха\Desktop\images (1).jpg"/>
          <p:cNvPicPr/>
          <p:nvPr/>
        </p:nvPicPr>
        <p:blipFill>
          <a:blip r:embed="rId1"/>
          <a:stretch/>
        </p:blipFill>
        <p:spPr>
          <a:xfrm>
            <a:off x="3348000" y="476280"/>
            <a:ext cx="5367240" cy="402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Users\Моха\Desktop\Толерантность\Жесты\3-1.jpg"/>
          <p:cNvPicPr/>
          <p:nvPr/>
        </p:nvPicPr>
        <p:blipFill>
          <a:blip r:embed="rId1"/>
          <a:stretch/>
        </p:blipFill>
        <p:spPr>
          <a:xfrm>
            <a:off x="5508720" y="260280"/>
            <a:ext cx="3314520" cy="4981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Моха\Desktop\Толерантность\Жесты\3-2.jpg"/>
          <p:cNvPicPr/>
          <p:nvPr/>
        </p:nvPicPr>
        <p:blipFill>
          <a:blip r:embed="rId2"/>
          <a:stretch/>
        </p:blipFill>
        <p:spPr>
          <a:xfrm>
            <a:off x="324000" y="1628640"/>
            <a:ext cx="2954160" cy="49723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324000" y="3333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Салом алейкум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мир 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851280" y="5445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Валейкум ассалом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и вам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Моха\Desktop\Толерантность\Жесты\4-2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15000" cy="4438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2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Привет -- </a:t>
            </a: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konnichi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Моха\Desktop\Толерантность\Жесты\6-2.jpg"/>
          <p:cNvPicPr/>
          <p:nvPr/>
        </p:nvPicPr>
        <p:blipFill>
          <a:blip r:embed="rId1"/>
          <a:stretch/>
        </p:blipFill>
        <p:spPr>
          <a:xfrm>
            <a:off x="5435640" y="1125360"/>
            <a:ext cx="3314520" cy="537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7" name="Picture 3" descr="C:\Users\Моха\Desktop\Толерантность\Жесты\6-3.jpg"/>
          <p:cNvPicPr/>
          <p:nvPr/>
        </p:nvPicPr>
        <p:blipFill>
          <a:blip r:embed="rId2"/>
          <a:stretch/>
        </p:blipFill>
        <p:spPr>
          <a:xfrm>
            <a:off x="395280" y="333360"/>
            <a:ext cx="2232000" cy="422928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395280" y="4797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Намаст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при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Users\Моха\Desktop\Толерантность\Жесты\6-2.jpg"/>
          <p:cNvPicPr/>
          <p:nvPr/>
        </p:nvPicPr>
        <p:blipFill>
          <a:blip r:embed="rId3"/>
          <a:stretch/>
        </p:blipFill>
        <p:spPr>
          <a:xfrm>
            <a:off x="5435640" y="1052640"/>
            <a:ext cx="33145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C:\Users\Моха\Desktop\Толерантность\Жесты\7-2.jpg"/>
          <p:cNvPicPr/>
          <p:nvPr/>
        </p:nvPicPr>
        <p:blipFill>
          <a:blip r:embed="rId1"/>
          <a:stretch/>
        </p:blipFill>
        <p:spPr>
          <a:xfrm>
            <a:off x="2627280" y="549360"/>
            <a:ext cx="3821040" cy="295092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1042920" y="4869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Franklin Gothic Book"/>
              </a:rPr>
              <a:t>HIN  CHAO -- </a:t>
            </a:r>
            <a:r>
              <a:rPr b="0" lang="ru-RU" sz="5400" spc="-1" strike="noStrike">
                <a:solidFill>
                  <a:srgbClr val="0070c0"/>
                </a:solidFill>
                <a:latin typeface="Franklin Gothic Book"/>
              </a:rPr>
              <a:t>при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 rot="799800">
            <a:off x="4274280" y="4946760"/>
            <a:ext cx="453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f6fc6"/>
                </a:solidFill>
                <a:latin typeface="Arial"/>
              </a:rPr>
              <a:t>GOOD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395280" y="26028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5a839"/>
                </a:solidFill>
                <a:latin typeface="Arial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 rot="1233600">
            <a:off x="4105080" y="2282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 rot="20017800">
            <a:off x="113760" y="116064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Arial"/>
              </a:rPr>
              <a:t>GUTEN 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084720" y="119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GUTEN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 rot="19570800">
            <a:off x="4685400" y="2704320"/>
            <a:ext cx="43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7026"/>
                </a:solidFill>
                <a:latin typeface="Arial Black"/>
              </a:rPr>
              <a:t>HE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3059280" y="2708280"/>
            <a:ext cx="151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 rot="18853200">
            <a:off x="-373680" y="4104360"/>
            <a:ext cx="43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GOOD 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C:\Users\Моха\Desktop\Пожелания\Монгол.jpg"/>
          <p:cNvPicPr/>
          <p:nvPr/>
        </p:nvPicPr>
        <p:blipFill>
          <a:blip r:embed="rId1"/>
          <a:stretch/>
        </p:blipFill>
        <p:spPr>
          <a:xfrm>
            <a:off x="5003640" y="1628640"/>
            <a:ext cx="4032360" cy="3044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Users\Моха\Desktop\Пожелания\Юрта.jpg"/>
          <p:cNvPicPr/>
          <p:nvPr/>
        </p:nvPicPr>
        <p:blipFill>
          <a:blip r:embed="rId2"/>
          <a:stretch/>
        </p:blipFill>
        <p:spPr>
          <a:xfrm>
            <a:off x="2268360" y="333360"/>
            <a:ext cx="3619800" cy="260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Моха\Desktop\Пожелания\Пила.jpg"/>
          <p:cNvPicPr/>
          <p:nvPr/>
        </p:nvPicPr>
        <p:blipFill>
          <a:blip r:embed="rId3"/>
          <a:stretch/>
        </p:blipFill>
        <p:spPr>
          <a:xfrm>
            <a:off x="250920" y="3500280"/>
            <a:ext cx="4572000" cy="19512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25092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--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Чтобы ваша пила была 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6084720" y="26028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Franklin Gothic Book"/>
              </a:rPr>
              <a:t>Обычаи монгольского на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3" descr="C:\Users\Моха\Desktop\Пожелания\Д1.jpg"/>
          <p:cNvPicPr/>
          <p:nvPr/>
        </p:nvPicPr>
        <p:blipFill>
          <a:blip r:embed="rId1"/>
          <a:stretch/>
        </p:blipFill>
        <p:spPr>
          <a:xfrm>
            <a:off x="395280" y="333360"/>
            <a:ext cx="3313080" cy="2490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C:\Users\Моха\Desktop\Пожелания\Доярка.jpg"/>
          <p:cNvPicPr/>
          <p:nvPr/>
        </p:nvPicPr>
        <p:blipFill>
          <a:blip r:embed="rId2"/>
          <a:stretch/>
        </p:blipFill>
        <p:spPr>
          <a:xfrm>
            <a:off x="1258920" y="3213000"/>
            <a:ext cx="5157720" cy="34322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4067280" y="40464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-- Пусть у вашей кор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будет м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мол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:\Users\Моха\Desktop\Пожелания\Обед.jpg"/>
          <p:cNvPicPr/>
          <p:nvPr/>
        </p:nvPicPr>
        <p:blipFill>
          <a:blip r:embed="rId1"/>
          <a:stretch/>
        </p:blipFill>
        <p:spPr>
          <a:xfrm>
            <a:off x="324000" y="692280"/>
            <a:ext cx="8466120" cy="41767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4"/>
          <p:cNvSpPr/>
          <p:nvPr/>
        </p:nvSpPr>
        <p:spPr>
          <a:xfrm>
            <a:off x="324000" y="544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-- Пусть ваша еда будет вку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"/>
          <p:cNvSpPr/>
          <p:nvPr/>
        </p:nvSpPr>
        <p:spPr>
          <a:xfrm>
            <a:off x="6227640" y="189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Игра «Пожелание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C:\Users\Моха\Desktop\Пожелания\Муз 1.jpg"/>
          <p:cNvPicPr/>
          <p:nvPr/>
        </p:nvPicPr>
        <p:blipFill>
          <a:blip r:embed="rId1"/>
          <a:stretch/>
        </p:blipFill>
        <p:spPr>
          <a:xfrm>
            <a:off x="108000" y="4365720"/>
            <a:ext cx="2919240" cy="2324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C:\Users\Моха\Desktop\Пожелания\Сап 2.jpg"/>
          <p:cNvPicPr/>
          <p:nvPr/>
        </p:nvPicPr>
        <p:blipFill>
          <a:blip r:embed="rId2"/>
          <a:stretch/>
        </p:blipFill>
        <p:spPr>
          <a:xfrm rot="20806200">
            <a:off x="3027240" y="423720"/>
            <a:ext cx="2916360" cy="194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C:\Users\Моха\Desktop\Пожелания\Порт 2.jpg"/>
          <p:cNvPicPr/>
          <p:nvPr/>
        </p:nvPicPr>
        <p:blipFill>
          <a:blip r:embed="rId3"/>
          <a:stretch/>
        </p:blipFill>
        <p:spPr>
          <a:xfrm rot="21169800">
            <a:off x="6084720" y="450828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C:\Users\Моха\Desktop\Пожелания\Парик.jpg"/>
          <p:cNvPicPr/>
          <p:nvPr/>
        </p:nvPicPr>
        <p:blipFill>
          <a:blip r:embed="rId4"/>
          <a:stretch/>
        </p:blipFill>
        <p:spPr>
          <a:xfrm rot="284400">
            <a:off x="6156360" y="1412640"/>
            <a:ext cx="2879640" cy="269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C:\Users\Моха\Desktop\Пожелания\Мед 5.jpg"/>
          <p:cNvPicPr/>
          <p:nvPr/>
        </p:nvPicPr>
        <p:blipFill>
          <a:blip r:embed="rId5"/>
          <a:stretch/>
        </p:blipFill>
        <p:spPr>
          <a:xfrm rot="872400">
            <a:off x="530280" y="366480"/>
            <a:ext cx="1878120" cy="36003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C:\Users\Моха\Desktop\Пожелания\Худ.jpg"/>
          <p:cNvPicPr/>
          <p:nvPr/>
        </p:nvPicPr>
        <p:blipFill>
          <a:blip r:embed="rId6"/>
          <a:stretch/>
        </p:blipFill>
        <p:spPr>
          <a:xfrm>
            <a:off x="2771640" y="2565360"/>
            <a:ext cx="3121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6516720" y="189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Пожелание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C:\Users\Моха\Desktop\Пожелания\Врач.jpg"/>
          <p:cNvPicPr/>
          <p:nvPr/>
        </p:nvPicPr>
        <p:blipFill>
          <a:blip r:embed="rId1"/>
          <a:stretch/>
        </p:blipFill>
        <p:spPr>
          <a:xfrm>
            <a:off x="108000" y="115920"/>
            <a:ext cx="2087640" cy="3006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Моха\Desktop\Пожелания\Сап.jpg"/>
          <p:cNvPicPr/>
          <p:nvPr/>
        </p:nvPicPr>
        <p:blipFill>
          <a:blip r:embed="rId2"/>
          <a:stretch/>
        </p:blipFill>
        <p:spPr>
          <a:xfrm>
            <a:off x="1908000" y="2205000"/>
            <a:ext cx="1808280" cy="2448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Users\Моха\Desktop\Пожелания\Пар2.jpg"/>
          <p:cNvPicPr/>
          <p:nvPr/>
        </p:nvPicPr>
        <p:blipFill>
          <a:blip r:embed="rId3"/>
          <a:stretch/>
        </p:blipFill>
        <p:spPr>
          <a:xfrm>
            <a:off x="3276720" y="260280"/>
            <a:ext cx="2857320" cy="2381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C:\Users\Моха\Desktop\Пожелания\Порт.jpg"/>
          <p:cNvPicPr/>
          <p:nvPr/>
        </p:nvPicPr>
        <p:blipFill>
          <a:blip r:embed="rId4"/>
          <a:stretch/>
        </p:blipFill>
        <p:spPr>
          <a:xfrm>
            <a:off x="6156360" y="836640"/>
            <a:ext cx="2600280" cy="2857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C:\Users\Моха\Desktop\Пожелания\Худ (2).jpg"/>
          <p:cNvPicPr/>
          <p:nvPr/>
        </p:nvPicPr>
        <p:blipFill>
          <a:blip r:embed="rId5"/>
          <a:stretch/>
        </p:blipFill>
        <p:spPr>
          <a:xfrm>
            <a:off x="3851280" y="378936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C:\Users\Моха\Desktop\Пожелания\Муз.jpg"/>
          <p:cNvPicPr/>
          <p:nvPr/>
        </p:nvPicPr>
        <p:blipFill>
          <a:blip r:embed="rId6"/>
          <a:stretch/>
        </p:blipFill>
        <p:spPr>
          <a:xfrm>
            <a:off x="108000" y="3429000"/>
            <a:ext cx="1665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Моха\Desktop\ПРИВЕТСТВИЯ\начало\Порт1.jpg"/>
          <p:cNvPicPr/>
          <p:nvPr/>
        </p:nvPicPr>
        <p:blipFill>
          <a:blip r:embed="rId1"/>
          <a:stretch/>
        </p:blipFill>
        <p:spPr>
          <a:xfrm>
            <a:off x="108000" y="404640"/>
            <a:ext cx="8889840" cy="5892840"/>
          </a:xfrm>
          <a:prstGeom prst="rect">
            <a:avLst/>
          </a:prstGeom>
          <a:ln w="0">
            <a:noFill/>
          </a:ln>
        </p:spPr>
      </p:pic>
      <p:pic>
        <p:nvPicPr>
          <p:cNvPr id="402" name="Инструментальный Ансамбль П - У В. Осинского - Рок-Н-Ролл [с сайта www.ololo.fm].mp3" descr=""/>
          <p:cNvPicPr/>
          <p:nvPr/>
        </p:nvPicPr>
        <p:blipFill>
          <a:blip r:embed="rId2"/>
          <a:stretch/>
        </p:blipFill>
        <p:spPr>
          <a:xfrm>
            <a:off x="7451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39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2"/>
          <p:cNvSpPr/>
          <p:nvPr/>
        </p:nvSpPr>
        <p:spPr>
          <a:xfrm>
            <a:off x="6227640" y="18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Театр эмо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C:\Users\Моха\Desktop\Пожелания\Р1.jpg"/>
          <p:cNvPicPr/>
          <p:nvPr/>
        </p:nvPicPr>
        <p:blipFill>
          <a:blip r:embed="rId1"/>
          <a:stretch/>
        </p:blipFill>
        <p:spPr>
          <a:xfrm>
            <a:off x="324000" y="404640"/>
            <a:ext cx="1866600" cy="1562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C:\Users\Моха\Desktop\Пожелания\Гр.jpg"/>
          <p:cNvPicPr/>
          <p:nvPr/>
        </p:nvPicPr>
        <p:blipFill>
          <a:blip r:embed="rId2"/>
          <a:stretch/>
        </p:blipFill>
        <p:spPr>
          <a:xfrm>
            <a:off x="2268360" y="1628640"/>
            <a:ext cx="1935360" cy="1935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Моха\Desktop\Пожелания\гн.jpg"/>
          <p:cNvPicPr/>
          <p:nvPr/>
        </p:nvPicPr>
        <p:blipFill>
          <a:blip r:embed="rId3"/>
          <a:srcRect l="19241" t="0" r="0" b="0"/>
          <a:stretch/>
        </p:blipFill>
        <p:spPr>
          <a:xfrm>
            <a:off x="4284720" y="2708280"/>
            <a:ext cx="2114640" cy="1743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C:\Users\Моха\Desktop\Пожелания\У.jpg"/>
          <p:cNvPicPr/>
          <p:nvPr/>
        </p:nvPicPr>
        <p:blipFill>
          <a:blip r:embed="rId4"/>
          <a:stretch/>
        </p:blipFill>
        <p:spPr>
          <a:xfrm>
            <a:off x="6516720" y="4365720"/>
            <a:ext cx="2376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8" descr="C:\Users\Моха\Desktop\Толерантность\Жесты\7-2.jpg"/>
          <p:cNvPicPr/>
          <p:nvPr/>
        </p:nvPicPr>
        <p:blipFill>
          <a:blip r:embed="rId1"/>
          <a:stretch/>
        </p:blipFill>
        <p:spPr>
          <a:xfrm rot="21161400">
            <a:off x="6910560" y="1531800"/>
            <a:ext cx="2104920" cy="2122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Users\Моха\Desktop\Приветствия фото + текст\u28182471.jpg"/>
          <p:cNvPicPr/>
          <p:nvPr/>
        </p:nvPicPr>
        <p:blipFill>
          <a:blip r:embed="rId2"/>
          <a:srcRect l="0" t="8638" r="0" b="0"/>
          <a:stretch/>
        </p:blipFill>
        <p:spPr>
          <a:xfrm>
            <a:off x="2556000" y="115920"/>
            <a:ext cx="1800000" cy="2475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Users\Моха\Desktop\Толерантность\Жесты\1.jpg"/>
          <p:cNvPicPr/>
          <p:nvPr/>
        </p:nvPicPr>
        <p:blipFill>
          <a:blip r:embed="rId3"/>
          <a:stretch/>
        </p:blipFill>
        <p:spPr>
          <a:xfrm rot="20844000">
            <a:off x="286920" y="849240"/>
            <a:ext cx="2409840" cy="2895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C:\Users\Моха\Desktop\Приветствия фото + текст\ptg00460508.jpg"/>
          <p:cNvPicPr/>
          <p:nvPr/>
        </p:nvPicPr>
        <p:blipFill>
          <a:blip r:embed="rId4"/>
          <a:stretch/>
        </p:blipFill>
        <p:spPr>
          <a:xfrm rot="591600">
            <a:off x="477720" y="3779640"/>
            <a:ext cx="1925640" cy="288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Моха\Desktop\Толерантность\Жесты\2.jpg"/>
          <p:cNvPicPr/>
          <p:nvPr/>
        </p:nvPicPr>
        <p:blipFill>
          <a:blip r:embed="rId5"/>
          <a:stretch/>
        </p:blipFill>
        <p:spPr>
          <a:xfrm>
            <a:off x="4859280" y="189000"/>
            <a:ext cx="2209680" cy="2857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Моха\Desktop\Приветствия фото + текст\ITF034067.jpg"/>
          <p:cNvPicPr/>
          <p:nvPr/>
        </p:nvPicPr>
        <p:blipFill>
          <a:blip r:embed="rId6"/>
          <a:stretch/>
        </p:blipFill>
        <p:spPr>
          <a:xfrm>
            <a:off x="2705040" y="2523960"/>
            <a:ext cx="2881440" cy="4334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Users\Моха\Desktop\Толерантность\Жесты\6-2.jpg"/>
          <p:cNvPicPr/>
          <p:nvPr/>
        </p:nvPicPr>
        <p:blipFill>
          <a:blip r:embed="rId7"/>
          <a:stretch/>
        </p:blipFill>
        <p:spPr>
          <a:xfrm rot="20879400">
            <a:off x="6140160" y="3793680"/>
            <a:ext cx="1733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C:\Users\Моха\Desktop\Пожелания\Спасибо2.jpg"/>
          <p:cNvPicPr/>
          <p:nvPr/>
        </p:nvPicPr>
        <p:blipFill>
          <a:blip r:embed="rId1"/>
          <a:stretch/>
        </p:blipFill>
        <p:spPr>
          <a:xfrm>
            <a:off x="1619280" y="2492280"/>
            <a:ext cx="5943600" cy="39499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3"/>
          <p:cNvSpPr/>
          <p:nvPr/>
        </p:nvSpPr>
        <p:spPr>
          <a:xfrm>
            <a:off x="468360" y="692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Franklin Gothic Book"/>
              </a:rPr>
              <a:t>СПАСИБО ЗА УВЛЕКАТЕЛЬНУЮ ИГР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Вступление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Моха\Desktop\Приветствия фото + текст\Мульт4.jpg"/>
          <p:cNvPicPr/>
          <p:nvPr/>
        </p:nvPicPr>
        <p:blipFill>
          <a:blip r:embed="rId1"/>
          <a:stretch/>
        </p:blipFill>
        <p:spPr>
          <a:xfrm>
            <a:off x="360360" y="333360"/>
            <a:ext cx="6480000" cy="47512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468360" y="5445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-- ………………………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-- …..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C:\Users\Моха\Desktop\Приветствия фото + текст\Мауг1.jpg"/>
          <p:cNvPicPr/>
          <p:nvPr/>
        </p:nvPicPr>
        <p:blipFill>
          <a:blip r:embed="rId1"/>
          <a:stretch/>
        </p:blipFill>
        <p:spPr>
          <a:xfrm>
            <a:off x="179280" y="260280"/>
            <a:ext cx="8801280" cy="39607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179280" y="537372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Franklin Gothic Book"/>
              </a:rPr>
              <a:t>-- Мы одной крови, вы и 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C:\Users\Моха\Desktop\Приветствия фото + текст\Избушка 2.jpg"/>
          <p:cNvPicPr/>
          <p:nvPr/>
        </p:nvPicPr>
        <p:blipFill>
          <a:blip r:embed="rId1"/>
          <a:stretch/>
        </p:blipFill>
        <p:spPr>
          <a:xfrm>
            <a:off x="3838680" y="333360"/>
            <a:ext cx="4871880" cy="6191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250920" y="333360"/>
            <a:ext cx="338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-- Избушка, избу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встань к лесу зад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ко мне перед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Мне в тебя лезть, хлеба е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Users\Моха\Desktop\Приветствия фото + текст\Карл3.jpg"/>
          <p:cNvPicPr/>
          <p:nvPr/>
        </p:nvPicPr>
        <p:blipFill>
          <a:blip r:embed="rId1"/>
          <a:stretch/>
        </p:blipFill>
        <p:spPr>
          <a:xfrm>
            <a:off x="468360" y="476280"/>
            <a:ext cx="5411880" cy="4032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2050920" y="4508640"/>
            <a:ext cx="68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-- При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Можно мне здесь на минуточку приземл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 rot="20425800">
            <a:off x="466920" y="4762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Прив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 rot="720000">
            <a:off x="461160" y="3389400"/>
            <a:ext cx="835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ndara"/>
              </a:rPr>
              <a:t>Здравствуй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 rot="874800">
            <a:off x="3821400" y="1471680"/>
            <a:ext cx="52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ranklin Gothic Book"/>
              </a:rPr>
              <a:t>Рад вас виде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 rot="21062400">
            <a:off x="586800" y="4797360"/>
            <a:ext cx="617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Bookman Old Style"/>
                <a:ea typeface="Arabic Typesetting"/>
              </a:rPr>
              <a:t>Добрый де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95280" y="23493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000"/>
                </a:solidFill>
                <a:latin typeface="Franklin Gothic Book"/>
              </a:rPr>
              <a:t>ДОБРОЕ УТ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630072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Собери привет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Моха\Desktop\Приветствия фото + текст\ptg01814946.jpg"/>
          <p:cNvPicPr/>
          <p:nvPr/>
        </p:nvPicPr>
        <p:blipFill>
          <a:blip r:embed="rId1"/>
          <a:stretch/>
        </p:blipFill>
        <p:spPr>
          <a:xfrm>
            <a:off x="4859280" y="404640"/>
            <a:ext cx="3529080" cy="4491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684360" y="551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SELAMAT --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21:14:24Z</dcterms:created>
  <dc:creator>Моха</dc:creator>
  <dc:description/>
  <dc:language>en-US</dc:language>
  <cp:lastModifiedBy>Моха</cp:lastModifiedBy>
  <dcterms:modified xsi:type="dcterms:W3CDTF">2015-02-20T18:58:34Z</dcterms:modified>
  <cp:revision>61</cp:revision>
  <dc:subject/>
  <dc:title>Слайд 1</dc:title>
</cp:coreProperties>
</file>