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096-D15D-4966-9141-842A27D7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E17-C45B-4E1B-8BDB-833F9EA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E98-C8C8-4781-885B-65AE32A4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DDC-387D-42B9-BFB9-58D41B4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A8F-8823-490C-8A89-7D8D2197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ECD-F1AC-4E15-9DA4-9D01C22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839-0C09-491D-8B8A-4505664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218-1999-4DB7-9756-7996725A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90F-99B4-475F-97C3-AA7C36A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AD0-1E3D-4644-868C-DF84D50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B30-DEB2-43A6-86CC-284FA65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001-F639-447F-8123-0078BAF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e3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71A9-6DEF-4BBC-B908-AE8CAC804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1\Desktop\61712312_prive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77280" y="981000"/>
            <a:ext cx="325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Calibri"/>
              </a:rPr>
              <a:t>Исәнм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Хаталарны төзәт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Яз көне без бакчада эшләячәксе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Яз көне 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б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бакчада эшләячәк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б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Алар бүген кунакка барачакс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Алар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бүген кунакка барачак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лар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ин миңа туп бирерб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ин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миңа туп бирер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ең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ез миңа хат язербы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миңа хат язар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ы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Как ты с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шь о том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ака его обязательно полюби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Эт аны яратач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зможно собака встретит его виляя хво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 аны койрыгын болгап каршы алы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Как ты с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шь о том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день рождения родители подарят тебе соба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Туган көнемә әти-әниләрем эт бүләк итәчә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Твоя собака будет очен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 умной и красив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ff0000"/>
                </a:solidFill>
                <a:latin typeface="Calibri"/>
              </a:rPr>
              <a:t>Минем этем бик акыллы һәм матур булача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Летом, возможно, поедешь в деревн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ff0000"/>
                </a:solidFill>
                <a:latin typeface="Calibri"/>
              </a:rPr>
              <a:t>Мин җәен авылга барырмы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Өй э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илгеле һәм билгесез киләчәк заманда 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шатлан, яшә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фигыльләрен зат-сан белән төрләнд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Йомгакла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8" descr="5555555"/>
          <p:cNvPicPr/>
          <p:nvPr/>
        </p:nvPicPr>
        <p:blipFill>
          <a:blip r:embed="rId1"/>
          <a:stretch/>
        </p:blipFill>
        <p:spPr>
          <a:xfrm>
            <a:off x="826920" y="17002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340000" y="1773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Дәрес материалын бик әйбәт үзләштердем, хәтта иптәшләремә дә булыша алам.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411280" y="3573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Әйбәт эшлим, материалны аңла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8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695520" cy="574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2484360" y="4869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Әйбәт эшлим, ләкин иптәшемнең ярдәменә каршы килм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Тырышлык булса, уңышлар да булыр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Calibri"/>
              </a:rPr>
              <a:t>Если старат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tt-RU" sz="4400" spc="-1" strike="noStrike">
                <a:solidFill>
                  <a:srgbClr val="000000"/>
                </a:solidFill>
                <a:latin typeface="Calibri"/>
              </a:rPr>
              <a:t>ся, удача прид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Сау булыгы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Рәхмә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Сүз төркемнә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Исем: укучы, дәфтәр, э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йфат: ихтирамлы, ярдәмчел, з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ан: биш, икен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Хәзерге заман: белә, ук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илгеле үткән заман: себерде, юды, аш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Инфинитив: барырга, суыртыр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оерык фигыль: сора, булыш, кай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Бу укучы күп беләчәк, чөнки ул күп ук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"Этот ученик будет много знать, потому что много читает"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ле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беләчә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Этот глагол обозначает действие, которое совершится в буду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щем обязательно</a:t>
            </a: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. Эта форма образуется с помощью окончаний –ачак, -әчәк, -ячак, -ячәк, отвечает на вопрос нишләячәк? Что сдел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исеннән беләчәк – Собака узнает его по запа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ем мине күргәч шатланачак.  -  Моя собака увидев меня обрадует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сез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беле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Этот глагол обозначает действие, о совершении которого не уверены. Эта форма образуется с помощью окончаний –р, -ыр/-ер,-ар/-әр, отвечает на вопрос нишләр? Что сдел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исеннән белер – Собака (возмо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но) узнает его по запа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күргәч шатланыр.  - собака увидев его (может быть)  обрадует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ле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щее определённое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время меняется по лицам и чис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ин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мын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Я напиш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ң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Ты напиш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л  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        Он напиш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ез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ыз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Мы напиш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ез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з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Вы напиш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лар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нар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Они напи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ле                                      билгесез</a:t>
            </a:r>
            <a:br>
              <a:rPr sz="4000"/>
            </a:b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                         киләчәк зам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мы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ин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Ул            бар-а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Без 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б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ез 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Алар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л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мы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ин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Ул           бар-ы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Без 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б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ез 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Алар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л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ле киләчәк заман ясап языгы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57200"/>
            <a:ext cx="4114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к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</a:t>
            </a:r>
            <a:r>
              <a:rPr b="1" lang="tt-RU" sz="26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сез киләчәк заман ясап языгы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57200"/>
            <a:ext cx="4114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к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ы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</a:t>
            </a:r>
            <a:r>
              <a:rPr b="1" lang="tt-RU" sz="26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р</a:t>
            </a: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6:04:43Z</dcterms:created>
  <dc:creator>Айгуль</dc:creator>
  <dc:description/>
  <dc:language>en-US</dc:language>
  <cp:lastModifiedBy>Айгуль</cp:lastModifiedBy>
  <dcterms:modified xsi:type="dcterms:W3CDTF">2015-02-24T13:15:52Z</dcterms:modified>
  <cp:revision>27</cp:revision>
  <dc:subject/>
  <dc:title>Слайд 1</dc:title>
</cp:coreProperties>
</file>